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90F-D596-41BB-89BF-568B8D85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949-E2BE-4E45-939C-3A246E85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CD8-806E-4A6A-8AFB-A7486245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B7E-7A2F-4114-B396-913F4794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57D-7F06-4339-921E-722FBFD2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AB8-DBF5-4D2D-908E-98F78FD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F97-DDAC-4542-94B9-F7CEB23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53E-96E6-4C20-B726-D0F1B7AB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93A-EF9D-463E-A659-46FA2BD0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1A1-E965-4F29-AC3C-FF650DF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3AF-62C7-4894-B38D-6A30C4F5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397-CE33-4F78-87F6-3A047F35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3E4F-B1F2-46D8-A808-46F434909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4280" y="4143240"/>
            <a:ext cx="6715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«Соль друг- соль вра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437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дготовила: воспитатель: ЛАТЫПОВА А.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без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s://fs00.infourok.ru/images/doc/254/258680/1/img21.jpg"/>
          <p:cNvPicPr/>
          <p:nvPr/>
        </p:nvPicPr>
        <p:blipFill>
          <a:blip r:embed="rId1"/>
          <a:srcRect l="62307" t="60677" r="13772" b="8331"/>
          <a:stretch/>
        </p:blipFill>
        <p:spPr>
          <a:xfrm>
            <a:off x="428760" y="3143160"/>
            <a:ext cx="3456000" cy="335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5" name="Picture 6" descr="http://900igr.net/up/datai/120771/0010-003-.jpg"/>
          <p:cNvPicPr/>
          <p:nvPr/>
        </p:nvPicPr>
        <p:blipFill>
          <a:blip r:embed="rId2"/>
          <a:stretch/>
        </p:blipFill>
        <p:spPr>
          <a:xfrm>
            <a:off x="2500200" y="357120"/>
            <a:ext cx="457200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6" name="Picture 8" descr="http://s-malyshevoy.ru/wp-content/uploads/2011/03/ispolzovanie-soli-v-bytu.jpg"/>
          <p:cNvPicPr/>
          <p:nvPr/>
        </p:nvPicPr>
        <p:blipFill>
          <a:blip r:embed="rId3"/>
          <a:stretch/>
        </p:blipFill>
        <p:spPr>
          <a:xfrm>
            <a:off x="5143680" y="3286080"/>
            <a:ext cx="3571560" cy="357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642960" y="357120"/>
            <a:ext cx="8143920" cy="610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«СОЛ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F:\image.jpg"/>
          <p:cNvPicPr/>
          <p:nvPr/>
        </p:nvPicPr>
        <p:blipFill>
          <a:blip r:embed="rId3"/>
          <a:stretch/>
        </p:blipFill>
        <p:spPr>
          <a:xfrm>
            <a:off x="2143080" y="1536840"/>
            <a:ext cx="6762960" cy="5067000"/>
          </a:xfrm>
          <a:prstGeom prst="rect">
            <a:avLst/>
          </a:prstGeom>
          <a:ln w="5724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«Виды со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F:\img7.jpg"/>
          <p:cNvPicPr/>
          <p:nvPr/>
        </p:nvPicPr>
        <p:blipFill>
          <a:blip r:embed="rId2"/>
          <a:stretch/>
        </p:blipFill>
        <p:spPr>
          <a:xfrm>
            <a:off x="2000160" y="1500120"/>
            <a:ext cx="6858000" cy="5143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-1077480"/>
            <a:ext cx="8571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6cec"/>
              </a:solidFill>
              <a:latin typeface="Book Antiqua"/>
            </a:endParaRPr>
          </a:p>
        </p:txBody>
      </p:sp>
      <p:pic>
        <p:nvPicPr>
          <p:cNvPr id="50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0" y="514368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F:\img5.jpg"/>
          <p:cNvPicPr/>
          <p:nvPr/>
        </p:nvPicPr>
        <p:blipFill>
          <a:blip r:embed="rId2"/>
          <a:stretch/>
        </p:blipFill>
        <p:spPr>
          <a:xfrm>
            <a:off x="1000080" y="214200"/>
            <a:ext cx="7072200" cy="530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71800" y="156600"/>
            <a:ext cx="2000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6cec"/>
              </a:solidFill>
              <a:latin typeface="Book Antiqua"/>
            </a:endParaRPr>
          </a:p>
        </p:txBody>
      </p:sp>
      <p:pic>
        <p:nvPicPr>
          <p:cNvPr id="53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0" y="5000760"/>
            <a:ext cx="1500120" cy="1568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s017.radikal.ru/i415/1206/34/cff589cac538.jpg"/>
          <p:cNvPicPr/>
          <p:nvPr/>
        </p:nvPicPr>
        <p:blipFill>
          <a:blip r:embed="rId2"/>
          <a:stretch/>
        </p:blipFill>
        <p:spPr>
          <a:xfrm>
            <a:off x="857160" y="285840"/>
            <a:ext cx="7602480" cy="5214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71800" y="419760"/>
            <a:ext cx="33573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6cec"/>
              </a:solidFill>
              <a:latin typeface="Book Antiqua"/>
            </a:endParaRPr>
          </a:p>
        </p:txBody>
      </p:sp>
      <p:pic>
        <p:nvPicPr>
          <p:cNvPr id="56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428760" y="514368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fs01.infourok.ru/images/doc/7/8990/img5.jpg"/>
          <p:cNvPicPr/>
          <p:nvPr/>
        </p:nvPicPr>
        <p:blipFill>
          <a:blip r:embed="rId2"/>
          <a:srcRect l="13740" t="17244" r="0" b="3451"/>
          <a:stretch/>
        </p:blipFill>
        <p:spPr>
          <a:xfrm>
            <a:off x="1143000" y="571680"/>
            <a:ext cx="7215120" cy="4929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s://agronomu.com/media/res/3/4/7/2/6/34726.ora82o.600.jpg"/>
          <p:cNvPicPr/>
          <p:nvPr/>
        </p:nvPicPr>
        <p:blipFill>
          <a:blip r:embed="rId1"/>
          <a:stretch/>
        </p:blipFill>
        <p:spPr>
          <a:xfrm>
            <a:off x="285840" y="214200"/>
            <a:ext cx="4265640" cy="285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9" name="Picture 2" descr="http://optzilla.ru/media/uploads/goods/fb/0b/4a/0b/18315371/1469301760968.jpg"/>
          <p:cNvPicPr/>
          <p:nvPr/>
        </p:nvPicPr>
        <p:blipFill>
          <a:blip r:embed="rId2"/>
          <a:stretch/>
        </p:blipFill>
        <p:spPr>
          <a:xfrm>
            <a:off x="357120" y="3286080"/>
            <a:ext cx="4846680" cy="32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Picture 6" descr="http://files.ub.ua/ist/?r=3&amp;h=250&amp;w=250&amp;f=/article/article/4/269748_552117_1438243440.jpg"/>
          <p:cNvPicPr/>
          <p:nvPr/>
        </p:nvPicPr>
        <p:blipFill>
          <a:blip r:embed="rId3"/>
          <a:stretch/>
        </p:blipFill>
        <p:spPr>
          <a:xfrm>
            <a:off x="5143680" y="714240"/>
            <a:ext cx="3714480" cy="3643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Содержимое 3" descr="буратино.jpg"/>
          <p:cNvPicPr/>
          <p:nvPr/>
        </p:nvPicPr>
        <p:blipFill>
          <a:blip r:embed="rId4"/>
          <a:stretch/>
        </p:blipFill>
        <p:spPr>
          <a:xfrm>
            <a:off x="6500880" y="5000760"/>
            <a:ext cx="13492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img20.jpg"/>
          <p:cNvPicPr/>
          <p:nvPr/>
        </p:nvPicPr>
        <p:blipFill>
          <a:blip r:embed="rId1"/>
          <a:stretch/>
        </p:blipFill>
        <p:spPr>
          <a:xfrm>
            <a:off x="642960" y="357120"/>
            <a:ext cx="7929720" cy="594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900igr.net/datas/khimija/Volshebnaja-sol/0011-011-Ispolzovanie-soli-v-narodnoj-meditsine.jpg"/>
          <p:cNvPicPr/>
          <p:nvPr/>
        </p:nvPicPr>
        <p:blipFill>
          <a:blip r:embed="rId1"/>
          <a:stretch/>
        </p:blipFill>
        <p:spPr>
          <a:xfrm>
            <a:off x="262080" y="357120"/>
            <a:ext cx="8453160" cy="6340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1-10-08T09:23:48Z</dcterms:modified>
  <cp:revision>23</cp:revision>
  <dc:subject/>
  <dc:title>Слайд 1</dc:title>
</cp:coreProperties>
</file>