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4101-CBFE-44B5-837B-75710E27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B52-7AAF-4DAD-866A-0362E669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7CA5-4BDE-40D5-BA04-8DDE29B3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420-C5B2-4DF0-8804-19EF675A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E975-ECFD-4309-AC1F-90652EB3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F365-7843-47A9-87C7-0BDB7A9E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1F9-AA9A-4CEC-9D84-7FF55B92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5B1-0BF9-42DF-8E91-5C84F1C8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406-19B4-440C-B6CB-72478955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844-174A-47ED-B37F-663D71D3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437A-72AF-4533-BFE7-6F8836B5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AF2E-6FBD-46EF-9592-B637CB3E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A802-4CBB-4A65-8182-2D19806311B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519A-2AFC-4D1C-AAAD-B78A86835F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47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ожите пластилин, который будете использовать в работе. Нам понадобится белый, голубой, зеленый и их оттен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5B3B-47DE-43D6-8CFD-3378A784D5E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s://creativebaby.ru/wp-content/uploads/2018/07/IMG_8707.jpg"/>
          <p:cNvPicPr/>
          <p:nvPr/>
        </p:nvPicPr>
        <p:blipFill>
          <a:blip r:embed="rId1"/>
          <a:srcRect l="0" t="0" r="0" b="3743"/>
          <a:stretch/>
        </p:blipFill>
        <p:spPr>
          <a:xfrm>
            <a:off x="4284720" y="1557360"/>
            <a:ext cx="4137120" cy="4724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s://creativebaby.ru/wp-content/uploads/2018/07/IMG_8750.jpg"/>
          <p:cNvPicPr/>
          <p:nvPr/>
        </p:nvPicPr>
        <p:blipFill>
          <a:blip r:embed="rId2"/>
          <a:srcRect l="0" t="0" r="0" b="6242"/>
          <a:stretch/>
        </p:blipFill>
        <p:spPr>
          <a:xfrm>
            <a:off x="611280" y="2492280"/>
            <a:ext cx="302400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таем жгутик из оттенков зеленого пластилина и сделаем стебелек.  Лишнее обрезаем стек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AD2C-1D8D-4F9C-9BBA-4DFBE1DDFC4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s://creativebaby.ru/wp-content/uploads/2018/07/IMG_8710-12.jpg"/>
          <p:cNvPicPr/>
          <p:nvPr/>
        </p:nvPicPr>
        <p:blipFill>
          <a:blip r:embed="rId1"/>
          <a:srcRect l="0" t="0" r="0" b="7547"/>
          <a:stretch/>
        </p:blipFill>
        <p:spPr>
          <a:xfrm>
            <a:off x="527040" y="1628640"/>
            <a:ext cx="861696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024E-65C0-4DCD-879D-8FEA4893499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611280" y="260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чала заполняем листик посередине, потом два верхних. Стеком делаем прожи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s://creativebaby.ru/wp-content/uploads/2018/07/IMG_8728-31.jpg"/>
          <p:cNvPicPr/>
          <p:nvPr/>
        </p:nvPicPr>
        <p:blipFill>
          <a:blip r:embed="rId1"/>
          <a:srcRect l="0" t="0" r="0" b="5462"/>
          <a:stretch/>
        </p:blipFill>
        <p:spPr>
          <a:xfrm>
            <a:off x="3851280" y="1197000"/>
            <a:ext cx="4489560" cy="551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s://creativebaby.ru/wp-content/uploads/2018/07/IMG_8750.jpg"/>
          <p:cNvPicPr/>
          <p:nvPr/>
        </p:nvPicPr>
        <p:blipFill>
          <a:blip r:embed="rId2"/>
          <a:srcRect l="0" t="0" r="0" b="6242"/>
          <a:stretch/>
        </p:blipFill>
        <p:spPr>
          <a:xfrm>
            <a:off x="395280" y="2276640"/>
            <a:ext cx="324000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74AE-BE99-4FBC-8FF2-AA132211524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900000" y="404640"/>
            <a:ext cx="60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ваем цветок сверху чаше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creativebaby.ru/wp-content/uploads/2018/07/IMG_8732.jpg"/>
          <p:cNvPicPr/>
          <p:nvPr/>
        </p:nvPicPr>
        <p:blipFill>
          <a:blip r:embed="rId1"/>
          <a:srcRect l="0" t="0" r="0" b="4602"/>
          <a:stretch/>
        </p:blipFill>
        <p:spPr>
          <a:xfrm>
            <a:off x="3708360" y="1125360"/>
            <a:ext cx="4246560" cy="540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s://creativebaby.ru/wp-content/uploads/2018/07/IMG_8750.jpg"/>
          <p:cNvPicPr/>
          <p:nvPr/>
        </p:nvPicPr>
        <p:blipFill>
          <a:blip r:embed="rId2"/>
          <a:srcRect l="0" t="0" r="0" b="6242"/>
          <a:stretch/>
        </p:blipFill>
        <p:spPr>
          <a:xfrm>
            <a:off x="395280" y="2133720"/>
            <a:ext cx="3151080" cy="3751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5:31:36Z</dcterms:created>
  <dc:creator>Татьяна</dc:creator>
  <dc:description/>
  <dc:language>en-US</dc:language>
  <cp:lastModifiedBy>79170182502</cp:lastModifiedBy>
  <dcterms:modified xsi:type="dcterms:W3CDTF">2022-04-19T18:19:22Z</dcterms:modified>
  <cp:revision>31</cp:revision>
  <dc:subject/>
  <dc:title>Слайд 1</dc:title>
</cp:coreProperties>
</file>