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C2E-5BA3-423D-B852-00CD9431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E0C-D9F7-4A3F-9E36-B3385FC0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8AF-B2E2-4622-ACCB-889801B5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623-31B2-4024-BC55-D3DF7C60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7D2-9566-4D98-ACCF-A01F42F9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A18-68D4-46B4-B00C-B32D438A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D0E-C1B8-4A37-8A27-58481B7A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C5C-77D4-4588-9ABE-0F250D63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868-4F83-407A-AEEE-1CAE8AD9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B2E-F217-462C-A4E1-5EC7FAC4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571-6B21-4297-A5DB-55C76BFE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1A8-77C3-408A-A4FA-55D48D7C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57C2-2FA3-4FF1-B10C-B4BFE29CB6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623D-70C1-4CBD-B50F-3E3DD532E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47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е пластилин, который будете использовать в работе. Нам понадобится белый, голубой, зеленый и их оттен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2EC8-FEC5-4C22-A58F-F6F15CB9C47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s://creativebaby.ru/wp-content/uploads/2018/07/IMG_8707.jpg"/>
          <p:cNvPicPr/>
          <p:nvPr/>
        </p:nvPicPr>
        <p:blipFill>
          <a:blip r:embed="rId1"/>
          <a:srcRect l="0" t="0" r="0" b="3743"/>
          <a:stretch/>
        </p:blipFill>
        <p:spPr>
          <a:xfrm>
            <a:off x="4284720" y="1557360"/>
            <a:ext cx="4137120" cy="4724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611280" y="2492280"/>
            <a:ext cx="30240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таем жгутик из оттенков зеленого пластилина и сделаем стебелек.  Лишнее обрезаем стек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5795-38A3-43BF-8AD9-AA00A6DA438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creativebaby.ru/wp-content/uploads/2018/07/IMG_8710-12.jpg"/>
          <p:cNvPicPr/>
          <p:nvPr/>
        </p:nvPicPr>
        <p:blipFill>
          <a:blip r:embed="rId1"/>
          <a:srcRect l="0" t="0" r="0" b="7547"/>
          <a:stretch/>
        </p:blipFill>
        <p:spPr>
          <a:xfrm>
            <a:off x="527040" y="1628640"/>
            <a:ext cx="86169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53E6-223D-4F64-9C0F-FBF0FD0025E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11280" y="260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заполняем листик посередине, потом два верхних. Стеком делаем прож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s://creativebaby.ru/wp-content/uploads/2018/07/IMG_8728-31.jpg"/>
          <p:cNvPicPr/>
          <p:nvPr/>
        </p:nvPicPr>
        <p:blipFill>
          <a:blip r:embed="rId1"/>
          <a:srcRect l="0" t="0" r="0" b="5462"/>
          <a:stretch/>
        </p:blipFill>
        <p:spPr>
          <a:xfrm>
            <a:off x="3851280" y="1197000"/>
            <a:ext cx="4489560" cy="551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395280" y="2276640"/>
            <a:ext cx="324000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BAC0-B490-4735-A062-8D7430192EF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900000" y="404640"/>
            <a:ext cx="60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ваем цветок сверху чаше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creativebaby.ru/wp-content/uploads/2018/07/IMG_8732.jpg"/>
          <p:cNvPicPr/>
          <p:nvPr/>
        </p:nvPicPr>
        <p:blipFill>
          <a:blip r:embed="rId1"/>
          <a:srcRect l="0" t="0" r="0" b="4602"/>
          <a:stretch/>
        </p:blipFill>
        <p:spPr>
          <a:xfrm>
            <a:off x="3708360" y="1125360"/>
            <a:ext cx="4246560" cy="540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creativebaby.ru/wp-content/uploads/2018/07/IMG_8750.jpg"/>
          <p:cNvPicPr/>
          <p:nvPr/>
        </p:nvPicPr>
        <p:blipFill>
          <a:blip r:embed="rId2"/>
          <a:srcRect l="0" t="0" r="0" b="6242"/>
          <a:stretch/>
        </p:blipFill>
        <p:spPr>
          <a:xfrm>
            <a:off x="395280" y="2133720"/>
            <a:ext cx="3151080" cy="375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31:36Z</dcterms:created>
  <dc:creator>Татьяна</dc:creator>
  <dc:description/>
  <dc:language>en-US</dc:language>
  <cp:lastModifiedBy>79170182502</cp:lastModifiedBy>
  <dcterms:modified xsi:type="dcterms:W3CDTF">2022-04-19T18:19:22Z</dcterms:modified>
  <cp:revision>31</cp:revision>
  <dc:subject/>
  <dc:title>Слайд 1</dc:title>
</cp:coreProperties>
</file>