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A1C-E293-4C93-B294-3FB40A32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7A7-4FA7-4540-82C6-98C84E6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317-B6FB-42BA-8DC9-98824A0B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1A3-B65D-49BA-BACF-EF82EBBD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F71-14DE-4E83-A2AE-B756C030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8B9-37B9-4EF0-85D8-B4FB922E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59D-4A86-4898-9C6F-FBD5158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82D-B0FB-41D9-A4FA-A9D44AE0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C0F-4DBB-479A-9202-30421E4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E9A-2C75-4A7D-B8C0-03353CD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9A9-7B36-4BCB-A7DB-1246A87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35C-8974-4035-BAD1-F55BC42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BC3-9247-4BAF-928C-E8CDB7382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90720" y="380880"/>
            <a:ext cx="6781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о-приклад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048120" y="16002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057400" y="25146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АЙКАЛ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Бурятская мелодия Дангинам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449568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горьева Т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03040" y="762120"/>
            <a:ext cx="416592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07080" y="2286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ля убраны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ванова Г.А. 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876920" y="3435480"/>
            <a:ext cx="3757320" cy="3147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31920" y="5638680"/>
            <a:ext cx="415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йкальская рябина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Живопись В.М. Мироне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9040" y="5791320"/>
            <a:ext cx="3036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зьмин В. А. Живо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915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14400" y="624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. Приближение гроз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М.Мироненко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257880" cy="6362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553080" y="2058480"/>
            <a:ext cx="259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рен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Осипов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00200" y="6299280"/>
            <a:ext cx="50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Шторм на Байкале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Кунц.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068840" y="601992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 ручья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Сысоева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культуры коренных народов Прибайкалья http://bur-culture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айкалье http://pribaikal.ru/irkutsk-crafts-list/gallery/0/4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вестные личности Иркутской области  http://www.school40.ru/raboti/saiti/Melnikova(lihnost)/lihnosti%20Irkutska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еВед   http://kraeved38.blogspot.com/p/blog-page_1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819520" y="314280"/>
            <a:ext cx="6095880" cy="530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2280" y="1938240"/>
            <a:ext cx="2895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анно из конского воло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удожник А.Алсат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художника находятся в частных коллекциях России, США, Германии, украшают интерьеры туристических баз на Байкале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95520" cy="643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692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митрий Будажаб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онзовая п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автора находятся в буддийских храмах Бурятии, буддийских  центрах России, Германии, Индии, Италии, а также в частных собраниях Иркутска и Москв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953600" y="8676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74960" cy="647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124440" y="1400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ев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478920" y="64299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172920" y="431640"/>
            <a:ext cx="21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к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400800" y="131436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рисов Г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ерам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257800" y="3763800"/>
            <a:ext cx="3395520" cy="2732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978640" y="5562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576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54320" y="1219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Геолог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257800" y="3886200"/>
            <a:ext cx="326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кут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мнерезная пластика. Зеленый, белый и коричневый нефриты; ортоамфиболит, лазурит, раухтопаз, горный хрусталь, мраморный оникс, техническая яшма, серебро,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72744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867280" y="3657600"/>
            <a:ext cx="2878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раж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орный хрусталь, раухтопаз-цитрин, серебро, позо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52600" y="2055960"/>
            <a:ext cx="4082760" cy="279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55800" y="5181480"/>
            <a:ext cx="327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корпион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лагородный серпентинит, хрусталь, белое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440160" cy="2400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419720" y="1600200"/>
            <a:ext cx="327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литка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. Даниловце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лый нефрит, хрусталь, черные бриллианты, сереб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3120" y="3809880"/>
            <a:ext cx="38736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321280" y="4343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Жук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325520" y="51148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стень. Серебро, нефрит, гранатит, выпиливание, гравировка. 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36112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639040" y="990720"/>
            <a:ext cx="24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ангел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8672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ронина С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3:31:21Z</dcterms:created>
  <dc:creator>User</dc:creator>
  <dc:description/>
  <dc:language>en-US</dc:language>
  <cp:lastModifiedBy>Татьяна</cp:lastModifiedBy>
  <dcterms:modified xsi:type="dcterms:W3CDTF">2022-04-20T15:44:2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