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106-816F-473A-A74B-DB721498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1A4-D440-4361-B54C-3E29980E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FF4-43ED-4958-90A2-5685C779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D46-99A1-44C3-B68F-48F4AAFF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CA1-A322-47C7-8C49-C35534D1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C1A-4BB1-4D63-A4D2-D0334FC8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6F6-C475-42EB-BB22-EB04D240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E3B-B9BD-4C7E-A9A7-1DF49C8D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7CA-67F4-4C8A-9A98-E1C5C969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128-F455-4F8A-B1B1-4B526CD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53A-D04D-4321-9074-34C3B0D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B22-837B-4301-8948-5233AB09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5DDF-09BF-4BF9-9F73-6740F9094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90720" y="380880"/>
            <a:ext cx="678168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оративно-приклад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048120" y="16002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кусств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057400" y="2514600"/>
            <a:ext cx="5410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БАЙКАЛЬ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Бурятская мелодия Дангинамни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"/>
          <p:cNvSpPr/>
          <p:nvPr/>
        </p:nvSpPr>
        <p:spPr>
          <a:xfrm>
            <a:off x="4495680" y="5638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игорьева Т.С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льный 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ДОУ № 1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03040" y="762120"/>
            <a:ext cx="416592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07080" y="2286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оля убраны.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ванова Г.А.  Живопис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876920" y="3435480"/>
            <a:ext cx="3757320" cy="3147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331920" y="5638680"/>
            <a:ext cx="415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Байкальская рябина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Живопись В.М. Миронен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9604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689040" y="5791320"/>
            <a:ext cx="3036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ркут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узьмин В. А. Живопис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9151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914400" y="62474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ркут. Приближение грозы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М.Мироненко,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257880" cy="6362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6553080" y="2058480"/>
            <a:ext cx="2590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рен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Осипов.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618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600200" y="6299280"/>
            <a:ext cx="50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Шторм на Байкале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. Кунц. Живопись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623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068840" y="6019920"/>
            <a:ext cx="39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 ручья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Сысоева.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нтр культуры коренных народов Прибайкалья http://bur-culture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байкалье http://pribaikal.ru/irkutsk-crafts-list/gallery/0/47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вестные личности Иркутской области  http://www.school40.ru/raboti/saiti/Melnikova(lihnost)/lihnosti%20Irkutska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раеВед   http://kraeved38.blogspot.com/p/blog-page_12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819520" y="314280"/>
            <a:ext cx="6095880" cy="5303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52280" y="1938240"/>
            <a:ext cx="28958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анно из конского волос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Художник А.Алсат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художника находятся в частных коллекциях России, США, Германии, украшают интерьеры туристических баз на Байкале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295520" cy="64389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876920" y="43434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митрий Будажаб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ронзовая пла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ы автора находятся в буддийских храмах Бурятии, буддийских  центрах России, Германии, Индии, Италии, а также в частных собраниях Иркутска и Москвы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953600" y="86760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Маль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74960" cy="647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4114800" cy="6191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124440" y="140076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Деву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478920" y="64299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о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80880" y="33192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172920" y="431640"/>
            <a:ext cx="215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бирский к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6400800" y="1314360"/>
            <a:ext cx="19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орисов Г.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ерам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257800" y="3763800"/>
            <a:ext cx="3395520" cy="27324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"/>
          <p:cNvSpPr/>
          <p:nvPr/>
        </p:nvSpPr>
        <p:spPr>
          <a:xfrm>
            <a:off x="2978640" y="55627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57600" cy="6095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954320" y="121932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Геолог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257800" y="3886200"/>
            <a:ext cx="326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акут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мнерезная пластика. Зеленый, белый и коричневый нефриты; ортоамфиболит, лазурит, раухтопаз, горный хрусталь, мраморный оникс, техническая яшма, серебро, золото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727440" cy="2590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5867280" y="3657600"/>
            <a:ext cx="2878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тражение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орный хрусталь, раухтопаз-цитрин, серебро, позо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52600" y="2055960"/>
            <a:ext cx="4082760" cy="2798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55800" y="5181480"/>
            <a:ext cx="3276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корпион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лагородный серпентинит, хрусталь, белое золото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440160" cy="24001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4419720" y="1600200"/>
            <a:ext cx="3276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Улитка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. Даниловце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елый нефрит, хрусталь, черные бриллианты, сереб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4713120" y="3809880"/>
            <a:ext cx="3873600" cy="27100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2321280" y="43434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Жук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1325520" y="5114880"/>
            <a:ext cx="26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стень. Серебро, нефрит, гранатит, выпиливание, гравировка. 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361120" cy="6400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5639040" y="990720"/>
            <a:ext cx="24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ибирский ангел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86728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оронина С. 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13:31:21Z</dcterms:created>
  <dc:creator>User</dc:creator>
  <dc:description/>
  <dc:language>en-US</dc:language>
  <cp:lastModifiedBy>Татьяна</cp:lastModifiedBy>
  <dcterms:modified xsi:type="dcterms:W3CDTF">2022-04-20T15:44:2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