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9D2-317E-46B5-8334-DF6A1E26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9EBF-DFCA-4DB1-91E7-3AFD3862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667A-B894-4DA7-AC6F-33F27797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9953-06A8-4857-A5D0-19423D72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CF45-E1CC-4C3B-BB1A-6A3DD9B8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368A-BE5B-4B69-86D5-E7F71C82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BAF3-334B-4EB6-B674-7446CFF1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FC77-2C95-49B2-B669-5732535A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7534-C3A3-4A69-8B10-A6E9F1E4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70D3-7D2B-4005-A992-7D41C1C5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0927-607B-44EE-A58B-09FDDF17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FC13-44E9-471D-A4B0-9C68E678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5DD0-3EF1-4DEA-871F-6B4DF3CA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7598-C783-473B-AC16-56F0C418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3C42-B40D-48EF-8250-E58819F4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897C-37FC-40CA-8746-292250DB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40F5-C1C3-4E22-B103-3B377EB3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64327-6024-4720-B442-A33424BF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6E4B9-9EB2-4BCF-8247-0B134F34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9DE45-172C-4099-BA67-F95070C8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90068-8FE4-4CFD-90AE-D34561CD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46326-536B-46D7-8ABC-10494AE3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39F-F139-441E-8AB5-5A701ECE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078F-5882-41F0-A6A3-4B75D8E9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6681C-A9A9-4B09-A39C-F7881AFA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4A927-FF56-4692-A5F4-3E9C2444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CD2BD-53B2-4E02-9A64-6FBBF5C8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03B08-0F7E-4423-8DE2-81F56F63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CA0DC-74A4-47E0-9A0A-4B22E839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511AC-16F3-4193-86A3-1BCDB367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80918-FA19-4749-8AB8-9ECDF13C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56C8B-AD4E-4B82-BD77-8B57E312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5735B-80EC-47A6-8B3E-CE1A0C95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B7A-041E-4BB4-9DC7-3370AE5C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95C7F-D51C-477F-BE17-F62771C0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ABBB3-2DD9-4663-83C2-F7DCCEDA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51246-13A6-4D24-9B35-FABC5261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701F6-C39D-4D0E-9E9C-4E851B02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215FD-AB0A-407C-BA8A-83B211DB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D5236-C0FE-497A-8CEB-3CA9FF9A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7AB08-1EBB-4E39-BDB7-32CF7EE5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081F2-DAE3-4E16-B1F8-74C6B561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7EB3B-D854-4B8D-BAB1-341419A3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8FFF9-F6AB-4C19-A113-F510BAE1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D93-75BC-42A1-AC3B-40742F42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9220E-E1AB-4A5E-990B-6C56040D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6182B-DD81-4DB4-A6F4-027BDB3D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2DDDA-6AA8-4D3B-A6FD-D0E537E7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41D22-5A36-4068-B607-6CBED7FC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16D6A-2EFB-43CB-B9D6-856B5154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122F1-0F23-4D15-A065-E32B9E78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3882E-AA7D-4878-B46E-BE8D8DEE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8DD9A-5F04-45AF-A1F3-9B68571B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E0806-FB1B-4AF2-8E5E-59C53268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8086D-6919-4493-8659-13E34D61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BF61-3292-46AD-BE93-AAB6E3C8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E711A-2009-4569-A8D9-5B3AFD45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F3F92-0555-46F3-9A62-24EA9277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F486E-7751-4438-BE6D-D1D27055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3967E-A3B0-4633-9526-72CE5157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006EE-FBC3-48AE-BEB4-FE0AEC1C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EC0D3-C23E-4D76-82C2-5853A29D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D4CDB-69A4-4A86-92CA-E2848D21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C5A1C-7C92-472A-98EB-8CEEBA0E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CB32E-2998-4218-A368-7E215CAC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8E55B-1C13-4552-B2C2-47149393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C9E2-5831-4F4E-B449-FB44A19A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6D56A-CD6A-4B69-B1C7-F9941289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D4B58-6B62-4576-91F8-C5308BD4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28EC7-0133-4654-B5BC-4A9E9D7D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1DDC1-D448-4213-82ED-78DF875F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FCDD4-29A0-4A6E-AE87-79C64A2B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37286-E7F1-40DF-860E-2CA548AF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DB375-FF4F-4FDE-8B9C-3FB08C42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778D1-DEF0-4296-98C5-28563AC2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3A4CC-4329-4D62-90C4-AD397FA8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C99D6-CC63-4A51-8C5F-5E963CBF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FCA2-1AF9-4FED-9C6F-2D03B495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C61C4-BAB9-499B-9015-B0162639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1487B-8561-4670-A931-C695AEA5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21488-97FC-4F4B-9242-82B8CD4E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82D1C-FD96-4C38-AF78-84E73C01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15900-DD8D-4D96-8713-4223C1AC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0390-D0FA-4174-8D14-F1E439C8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DA70-C473-4409-A7EE-E4DDA3968C66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8D30-513E-4CB2-B6D8-55BEA4CAED6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214E-484B-4F08-AAC6-40CA175345C8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0BAF-08AA-4956-B85D-6BAEEFA5DC5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1207-BB60-4ABD-B536-24BC0A7286CD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5E1F-7294-4587-A11C-51105ED5972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ABFE-DF4C-4D26-82E3-1FACEB7AA482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7981-AF39-4587-B8DD-3B62121F04A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1DCD-50CC-4BE1-8E85-B64377795333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CC8C-526E-4781-AC09-EEE9752DA75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D65A-B38C-45E1-9BF9-062D3D9A2EB0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C438-F477-4A8D-A3C8-896BE78AA2B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8B28-1F33-4373-865A-88E30C9EEAC2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1EBE-6D55-4950-A2E9-EDC5F3648DF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755640" y="2492280"/>
            <a:ext cx="784872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АРТИКУЛЯЦИОННАЯ ГИМНАСТИК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Провела и подготовила учитель-логопед МАДОУ д/с №74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Петрова Елена Станиславовна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rcRect l="0" t="0" r="0" b="11583"/>
          <a:stretch/>
        </p:blipFill>
        <p:spPr>
          <a:xfrm>
            <a:off x="2935440" y="1523880"/>
            <a:ext cx="3273120" cy="4041720"/>
          </a:xfrm>
          <a:prstGeom prst="rect">
            <a:avLst/>
          </a:prstGeom>
          <a:ln w="0">
            <a:noFill/>
          </a:ln>
        </p:spPr>
      </p:pic>
      <p:sp>
        <p:nvSpPr>
          <p:cNvPr id="360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0A66-BF8C-41BC-9A7A-C3183CBF9436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Рот открыть, улыбнуться. Кончиком язычка касаясь губ, провести по кругу в одну сторону, потом в другую. Следить за тем, чтобы подбородок не двигался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1"/>
          <a:srcRect l="0" t="0" r="0" b="11583"/>
          <a:stretch/>
        </p:blipFill>
        <p:spPr>
          <a:xfrm>
            <a:off x="2965320" y="1523880"/>
            <a:ext cx="3213360" cy="4041720"/>
          </a:xfrm>
          <a:prstGeom prst="rect">
            <a:avLst/>
          </a:prstGeom>
          <a:ln w="0">
            <a:noFill/>
          </a:ln>
        </p:spPr>
      </p:pic>
      <p:sp>
        <p:nvSpPr>
          <p:cNvPr id="363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CFD8-DD8C-4393-897F-9DB92816CF14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ndara"/>
              </a:rPr>
              <a:t>Рот раскрыть, улыбнуться. Высунуть язычок. Поднимать широкий язычок на верхнюю губу, опускать на нижнюю. Следить за тем, чтобы подбородок не двигался.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rcRect l="0" t="0" r="0" b="7835"/>
          <a:stretch/>
        </p:blipFill>
        <p:spPr>
          <a:xfrm>
            <a:off x="2898720" y="1523880"/>
            <a:ext cx="3346560" cy="4213440"/>
          </a:xfrm>
          <a:prstGeom prst="rect">
            <a:avLst/>
          </a:prstGeom>
          <a:ln w="0">
            <a:noFill/>
          </a:ln>
        </p:spPr>
      </p:pic>
      <p:sp>
        <p:nvSpPr>
          <p:cNvPr id="366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29F4-06F9-43AE-A73E-F7F9484271DA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ndara"/>
              </a:rPr>
              <a:t>Рот открыть, улыбнуться. Зацепиться кончиком язычка за нижними зубами, спинку язычка выгнуть. Удерживать данное положение 3-5 секунд.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rcRect l="0" t="0" r="0" b="6087"/>
          <a:stretch/>
        </p:blipFill>
        <p:spPr>
          <a:xfrm>
            <a:off x="2876400" y="1523880"/>
            <a:ext cx="3391200" cy="4294440"/>
          </a:xfrm>
          <a:prstGeom prst="rect">
            <a:avLst/>
          </a:prstGeom>
          <a:ln w="0">
            <a:noFill/>
          </a:ln>
        </p:spPr>
      </p:pic>
      <p:sp>
        <p:nvSpPr>
          <p:cNvPr id="369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AC15-6052-4EBC-853D-049B3F90A3E9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ndara"/>
              </a:rPr>
              <a:t>Рот открыть. Щелкать языком, присасывая его к небу. Следить за тем, чтобы подбородок не двигался.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СПАСИБО ЗА РАБОТУ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Калининград 2020 г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9AE2-272A-4E2A-AB58-AEAC2FE04204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Цель артикуляционной гимнастики – выработка правильных, полноценных движений артикуляционных органов (языка, губ, нижней челюсти), необходимых для правильного произношения звуко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Задачи – развитие подвижности языка, развитие достаточной подвижности губ, развитие умения удерживать нижнюю челюсть в определенном положении, что важно для звук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8B40-DD83-4C89-AC44-A614FD3C235C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2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rcRect l="0" t="0" r="0" b="7087"/>
          <a:stretch/>
        </p:blipFill>
        <p:spPr>
          <a:xfrm>
            <a:off x="2921040" y="1523880"/>
            <a:ext cx="3301920" cy="4248360"/>
          </a:xfrm>
          <a:prstGeom prst="rect">
            <a:avLst/>
          </a:prstGeom>
          <a:ln w="0">
            <a:noFill/>
          </a:ln>
        </p:spPr>
      </p:pic>
      <p:sp>
        <p:nvSpPr>
          <p:cNvPr id="339" name="Номер слайда 3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0D93-BFAE-4601-BF4E-F330F5EDAAD5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Спокойно открыть рот, подержать его 3-5 секунд, медленно закрыть рот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rcRect l="0" t="0" r="0" b="9084"/>
          <a:stretch/>
        </p:blipFill>
        <p:spPr>
          <a:xfrm>
            <a:off x="2935440" y="1523880"/>
            <a:ext cx="3598560" cy="4569120"/>
          </a:xfrm>
          <a:prstGeom prst="rect">
            <a:avLst/>
          </a:prstGeom>
          <a:ln w="0">
            <a:noFill/>
          </a:ln>
        </p:spPr>
      </p:pic>
      <p:sp>
        <p:nvSpPr>
          <p:cNvPr id="342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BD2A-8048-4996-BCD7-A8D30A726B9E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Растянуть губы в улыбку, показать все зубки. Челюсти сомкнуты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3" descr=""/>
          <p:cNvPicPr/>
          <p:nvPr/>
        </p:nvPicPr>
        <p:blipFill>
          <a:blip r:embed="rId1"/>
          <a:srcRect l="0" t="0" r="0" b="5331"/>
          <a:stretch/>
        </p:blipFill>
        <p:spPr>
          <a:xfrm>
            <a:off x="2927520" y="1523880"/>
            <a:ext cx="3471840" cy="4569120"/>
          </a:xfrm>
          <a:prstGeom prst="rect">
            <a:avLst/>
          </a:prstGeom>
          <a:ln w="0">
            <a:noFill/>
          </a:ln>
        </p:spPr>
      </p:pic>
      <p:sp>
        <p:nvSpPr>
          <p:cNvPr id="345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D376-E33D-4E3E-AE19-ABA75ECA75A4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Вытянуть губы вперед в виде трубы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3289320" y="2674800"/>
            <a:ext cx="2573280" cy="3451320"/>
          </a:xfrm>
          <a:prstGeom prst="rect">
            <a:avLst/>
          </a:prstGeom>
          <a:ln w="0">
            <a:noFill/>
          </a:ln>
        </p:spPr>
      </p:pic>
      <p:sp>
        <p:nvSpPr>
          <p:cNvPr id="348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F241-EFE1-49CA-9F34-49CCE77BBFE8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ndara"/>
              </a:rPr>
              <a:t>Втянуть щечки между в полость рта, губы сомкнуты. Удерживать щечки внутри полости рта в течение 3-5 секунд.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3387600" y="2674800"/>
            <a:ext cx="2376720" cy="3451320"/>
          </a:xfrm>
          <a:prstGeom prst="rect">
            <a:avLst/>
          </a:prstGeom>
          <a:ln w="0">
            <a:noFill/>
          </a:ln>
        </p:spPr>
      </p:pic>
      <p:sp>
        <p:nvSpPr>
          <p:cNvPr id="351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582C-F2F8-4804-96EF-00A8A02F26A0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Надуть щечки, удерживать воздух внутри полости рта в течение 3-5 секунд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2962440" y="1523880"/>
            <a:ext cx="3219120" cy="4087800"/>
          </a:xfrm>
          <a:prstGeom prst="rect">
            <a:avLst/>
          </a:prstGeom>
          <a:ln w="0">
            <a:noFill/>
          </a:ln>
        </p:spPr>
      </p:pic>
      <p:sp>
        <p:nvSpPr>
          <p:cNvPr id="354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45B7-4CD1-4A0C-8281-14945F39E424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Открыть рот, высунуть узкий напряженный язычок . Удерживать напряжение 3-5 секунд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rcRect l="0" t="0" r="0" b="10331"/>
          <a:stretch/>
        </p:blipFill>
        <p:spPr>
          <a:xfrm>
            <a:off x="2948040" y="1523880"/>
            <a:ext cx="3620880" cy="4569120"/>
          </a:xfrm>
          <a:prstGeom prst="rect">
            <a:avLst/>
          </a:prstGeom>
          <a:ln w="0">
            <a:noFill/>
          </a:ln>
        </p:spPr>
      </p:pic>
      <p:sp>
        <p:nvSpPr>
          <p:cNvPr id="357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DDF1-F34A-47B8-B57B-14A6597DE453}" type="slidenum">
              <a:rPr b="0" lang="ru-RU" sz="1000" spc="-1" strike="noStrike">
                <a:solidFill>
                  <a:srgbClr val="073e87"/>
                </a:solidFill>
                <a:latin typeface="Constanti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Рот открыть, Поднять язычок к верхним «бугорочкам» (альвеолам), Стучать язычком по нёбу; «д-д-д-д-д-д-д». Упражнение выполнять на выходе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6T11:32:38Z</dcterms:created>
  <dc:creator>Asus</dc:creator>
  <dc:description/>
  <dc:language>en-US</dc:language>
  <cp:lastModifiedBy>user</cp:lastModifiedBy>
  <dcterms:modified xsi:type="dcterms:W3CDTF">2022-04-20T11:13:36Z</dcterms:modified>
  <cp:revision>30</cp:revision>
  <dc:subject/>
  <dc:title>ГБУЗ КО "ГОРОДСКАЯ ДЕТСКАЯ ПОЛИКЛИНИКА №2</dc:title>
</cp:coreProperties>
</file>