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56B-C569-48F5-9D57-AB58E98E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BAB-5768-4769-9814-2B9A57C8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CF9-9D7B-4260-85F1-709DBC4E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845-4D14-4D4C-BA95-550105E6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FA0D-179B-4096-8F1E-F1F7108A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8635-3793-438D-A245-93CCDF4A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7839-155C-49ED-8F90-28AAFEE6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47B1-6A95-466D-8976-BF20C61D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B9ED-3B90-4E22-9E33-C6CC3791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0F1A-89EE-4D29-B6F1-1F55BE7B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57E7-7065-4416-8A97-E7E5A3FE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19B-4447-4F46-BD83-C6FD3F72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EF17-D77C-44F7-B14B-CED9043B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826F-AC00-42C7-B069-755F2DEF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EC07-DCC2-4299-8184-D0D91D69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6991-7F80-4D4C-90E3-3A67F124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7604-98C2-401F-BA13-7CE11CFC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665B-1173-4527-B534-4AFA7061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6BD2-6289-451E-AD58-FDE5283A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A97D-6EA4-41D7-9D84-93351B14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5550D-3C24-4199-9500-DE063773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0E4E4-E837-432B-8309-A89F9636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E1F-9A2F-4C63-A717-75AF14AA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D68B7-DA07-4496-A810-55DE0962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E6C37-81A0-47FE-B049-5555B1A6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AB80C-4726-4DBB-9D93-7DB8816C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AD022-DC95-4EAD-97EF-35695809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144B9-D91C-458B-929A-ECEC69E4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63645-A4EA-439A-B811-9956F8A5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B6516-889B-47FB-A6BC-D80E8245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F87D2-7475-416E-A527-5FCC3A9C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5E42C-F55B-444A-9502-9DAD05F1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79182-B31E-4C12-9860-4DEDADD7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8DD-F5AE-4717-AF60-B35C97BC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9674C-546B-4746-824B-355AE8AC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CA665-0CE4-44A3-993A-FDC7DE9D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9652D-6FD9-4B2B-A95F-BC993441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CCC62-218B-4545-BE70-6C0B2E97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4B552-9ED6-4406-8184-A92C18A1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DBCF4-74D0-4E9D-B03C-B48A7BD9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120E2-6B47-455E-A442-1F07B2C7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D0770-8947-4E69-83A4-146CAC71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3BFE6-605C-46C0-81C1-AB837CDF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36E37-5444-4479-AA6C-1480EA0F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353-7D20-4C80-9485-3DF404F9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129D8-E922-43EF-ACB6-BA1AB0EA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64A8D-4059-474E-85C9-BA17EF32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C89A9-F97E-4AEE-B739-27B27572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5B9D2-FB66-4742-B2C5-9F9DA459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09FB0-B24B-42FD-B712-08A655A7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4CAC3-DC93-4BB1-A755-F3C9FE95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A4193-0180-40B5-9FDE-AABABF2D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3C57F-E58E-45B1-B2FF-66ED5D01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2509C-A3F5-421E-ABBE-87DEBB2B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99BB0-443B-47D6-B2D9-14D1700C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6D6-4BA7-4939-B4AA-77A9DFB2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B879F-3B97-479B-BB26-F9821AD4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904CD-14F9-4880-8725-3B975E91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DED47-54DC-48E9-A602-814F9D43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6B43A-D207-4F9B-A53B-EEFB43CF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CF938-3904-4181-B366-6297F262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78305-476A-42D9-BA2B-EC42E4A9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6C56E-22EF-4AC3-B438-50A6AF6C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264C1-FD63-4FDC-9CA8-A11C8D85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DDAD7-64B2-465F-882D-5F53FC35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2E925-C7D2-4210-91DE-EDEDA1A4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443B-D969-43FF-AF5A-7661478C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481DA-950C-4C00-B1BF-42BCA862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125D0-A9E8-489D-85CC-7441600C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28157-F3C7-40DD-9345-0C8EC050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45F52-C74A-420F-A20D-2ACC91BB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73BCC-AEB3-4A86-8E8E-9E6F5537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790AA-64D1-4A6B-B981-DC3F9DAC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9D43B-AF0E-46D7-A7FB-47C59F91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24F3C-7C25-48DC-B587-812CFE0F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5CE0F-4DD3-4813-ABF2-D6206FA8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99362-3A97-4096-911C-E2BAC5C2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B44-0441-4C2C-B442-75745639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6CD41-550C-4551-9867-373D6DE8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0871F-5D57-4982-B46E-C8ADBD48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07E33-4AC1-4DE2-BE1E-C0D7B375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3C212-E68F-432E-982E-81E68F2B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4DA1A-A78C-4A6B-ACD8-1FA3C2EA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2A9-A96F-4EB2-AC5E-ABDAA393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979A-1709-44DC-BF8D-6759F2B60C4A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ED3E-BA72-4A0D-8BD8-9D7AD8DD64A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FC19-7CC5-49FC-A507-7BCEB462ABE2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C844-4982-4153-902A-635826F1573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6D83-F8C8-4DC1-8B1F-EF9761FDEBAF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7745-5F3D-4DAC-BDDA-A042F6AFF34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BF61-A84B-4DAE-93E7-79197FAEB899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E29C-3B87-449D-93D6-E99325015DD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5B31-7FAB-44D8-BC4A-F6DE7FDE5691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32EA-8C2D-4B7D-8D33-4A27070A22C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9417-6F82-4781-9D7F-F1F88627D647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24F3-DCB9-4D0E-9C3F-C18CECF55EB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7030-1A04-423E-8A1C-69CB10E9166F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7EB3-3C3A-48C0-948D-B1226F11ED9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755640" y="2492280"/>
            <a:ext cx="78487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АРТИКУЛЯЦИОННАЯ ГИМНАСТИК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Провела и подготовила учитель-логопед МАДОУ д/с №74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Петрова Елена Станиславовна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rcRect l="0" t="0" r="0" b="11583"/>
          <a:stretch/>
        </p:blipFill>
        <p:spPr>
          <a:xfrm>
            <a:off x="2935440" y="1523880"/>
            <a:ext cx="3273120" cy="4041720"/>
          </a:xfrm>
          <a:prstGeom prst="rect">
            <a:avLst/>
          </a:prstGeom>
          <a:ln w="0">
            <a:noFill/>
          </a:ln>
        </p:spPr>
      </p:pic>
      <p:sp>
        <p:nvSpPr>
          <p:cNvPr id="360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79B9-8091-43CF-8951-4D697F706333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Рот открыть, улыбнуться. Кончиком язычка касаясь губ, провести по кругу в одну сторону, потом в другую. Следить за тем, чтобы подбородок не двигался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/>
          <a:srcRect l="0" t="0" r="0" b="11583"/>
          <a:stretch/>
        </p:blipFill>
        <p:spPr>
          <a:xfrm>
            <a:off x="2965320" y="1523880"/>
            <a:ext cx="3213360" cy="4041720"/>
          </a:xfrm>
          <a:prstGeom prst="rect">
            <a:avLst/>
          </a:prstGeom>
          <a:ln w="0">
            <a:noFill/>
          </a:ln>
        </p:spPr>
      </p:pic>
      <p:sp>
        <p:nvSpPr>
          <p:cNvPr id="363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3B82-D53E-4A5D-BD89-45D8C16459F3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ndara"/>
              </a:rPr>
              <a:t>Рот раскрыть, улыбнуться. Высунуть язычок. Поднимать широкий язычок на верхнюю губу, опускать на нижнюю. Следить за тем, чтобы подбородок не двигался.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rcRect l="0" t="0" r="0" b="7835"/>
          <a:stretch/>
        </p:blipFill>
        <p:spPr>
          <a:xfrm>
            <a:off x="2898720" y="1523880"/>
            <a:ext cx="3346560" cy="4213440"/>
          </a:xfrm>
          <a:prstGeom prst="rect">
            <a:avLst/>
          </a:prstGeom>
          <a:ln w="0">
            <a:noFill/>
          </a:ln>
        </p:spPr>
      </p:pic>
      <p:sp>
        <p:nvSpPr>
          <p:cNvPr id="366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AA70-686B-482B-B157-8F018CA4965C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ndara"/>
              </a:rPr>
              <a:t>Рот открыть, улыбнуться. Зацепиться кончиком язычка за нижними зубами, спинку язычка выгнуть. Удерживать данное положение 3-5 секунд.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rcRect l="0" t="0" r="0" b="6087"/>
          <a:stretch/>
        </p:blipFill>
        <p:spPr>
          <a:xfrm>
            <a:off x="2876400" y="1523880"/>
            <a:ext cx="3391200" cy="4294440"/>
          </a:xfrm>
          <a:prstGeom prst="rect">
            <a:avLst/>
          </a:prstGeom>
          <a:ln w="0">
            <a:noFill/>
          </a:ln>
        </p:spPr>
      </p:pic>
      <p:sp>
        <p:nvSpPr>
          <p:cNvPr id="369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99D9-A041-4F4F-812B-2D7D68A346BE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ndara"/>
              </a:rPr>
              <a:t>Рот открыть. Щелкать языком, присасывая его к небу. Следить за тем, чтобы подбородок не двигался.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СПАСИБО ЗА РАБОТУ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Калининград 2020 г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31D1-6DF0-4DA2-807D-9B1739D9314B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Цель артикуляционной гимнастики – выработка правильных, полноценных движений артикуляционных органов (языка, губ, нижней челюсти), необходимых для правильного произношения звук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Задачи – развитие подвижности языка, развитие достаточной подвижности губ, развитие умения удерживать нижнюю челюсть в определенном положении, что важно для звук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D46B-F788-4CAD-BDB4-ACFCDFE8A85F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2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rcRect l="0" t="0" r="0" b="7087"/>
          <a:stretch/>
        </p:blipFill>
        <p:spPr>
          <a:xfrm>
            <a:off x="2921040" y="1523880"/>
            <a:ext cx="3301920" cy="4248360"/>
          </a:xfrm>
          <a:prstGeom prst="rect">
            <a:avLst/>
          </a:prstGeom>
          <a:ln w="0">
            <a:noFill/>
          </a:ln>
        </p:spPr>
      </p:pic>
      <p:sp>
        <p:nvSpPr>
          <p:cNvPr id="339" name="Номер слайда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E61A-5D50-4C48-90BD-FC7E42A2B2BE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Спокойно открыть рот, подержать его 3-5 секунд, медленно закрыть рот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rcRect l="0" t="0" r="0" b="9084"/>
          <a:stretch/>
        </p:blipFill>
        <p:spPr>
          <a:xfrm>
            <a:off x="2935440" y="1523880"/>
            <a:ext cx="3598560" cy="4569120"/>
          </a:xfrm>
          <a:prstGeom prst="rect">
            <a:avLst/>
          </a:prstGeom>
          <a:ln w="0">
            <a:noFill/>
          </a:ln>
        </p:spPr>
      </p:pic>
      <p:sp>
        <p:nvSpPr>
          <p:cNvPr id="342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D61A-6B7A-4373-BE05-0A28555DCF11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Растянуть губы в улыбку, показать все зубки. Челюсти сомкнуты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"/>
          <p:cNvPicPr/>
          <p:nvPr/>
        </p:nvPicPr>
        <p:blipFill>
          <a:blip r:embed="rId1"/>
          <a:srcRect l="0" t="0" r="0" b="5331"/>
          <a:stretch/>
        </p:blipFill>
        <p:spPr>
          <a:xfrm>
            <a:off x="2927520" y="1523880"/>
            <a:ext cx="3471840" cy="4569120"/>
          </a:xfrm>
          <a:prstGeom prst="rect">
            <a:avLst/>
          </a:prstGeom>
          <a:ln w="0">
            <a:noFill/>
          </a:ln>
        </p:spPr>
      </p:pic>
      <p:sp>
        <p:nvSpPr>
          <p:cNvPr id="345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3473-BC18-49D9-93E2-1AE95E394910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Вытянуть губы вперед в виде трубы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3289320" y="2674800"/>
            <a:ext cx="2573280" cy="3451320"/>
          </a:xfrm>
          <a:prstGeom prst="rect">
            <a:avLst/>
          </a:prstGeom>
          <a:ln w="0">
            <a:noFill/>
          </a:ln>
        </p:spPr>
      </p:pic>
      <p:sp>
        <p:nvSpPr>
          <p:cNvPr id="348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978D-69E5-4A47-B733-C8C4BCA60D67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ndara"/>
              </a:rPr>
              <a:t>Втянуть щечки между в полость рта, губы сомкнуты. Удерживать щечки внутри полости рта в течение 3-5 секунд.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387600" y="2674800"/>
            <a:ext cx="2376720" cy="3451320"/>
          </a:xfrm>
          <a:prstGeom prst="rect">
            <a:avLst/>
          </a:prstGeom>
          <a:ln w="0">
            <a:noFill/>
          </a:ln>
        </p:spPr>
      </p:pic>
      <p:sp>
        <p:nvSpPr>
          <p:cNvPr id="351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E3C7-160B-4587-B17E-C4D68DFF3B19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Надуть щечки, удерживать воздух внутри полости рта в течение 3-5 секунд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2962440" y="1523880"/>
            <a:ext cx="3219120" cy="4087800"/>
          </a:xfrm>
          <a:prstGeom prst="rect">
            <a:avLst/>
          </a:prstGeom>
          <a:ln w="0">
            <a:noFill/>
          </a:ln>
        </p:spPr>
      </p:pic>
      <p:sp>
        <p:nvSpPr>
          <p:cNvPr id="354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784E-A528-4A68-A03F-425D83145A8D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Открыть рот, высунуть узкий напряженный язычок . Удерживать напряжение 3-5 секунд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rcRect l="0" t="0" r="0" b="10331"/>
          <a:stretch/>
        </p:blipFill>
        <p:spPr>
          <a:xfrm>
            <a:off x="2948040" y="1523880"/>
            <a:ext cx="3620880" cy="4569120"/>
          </a:xfrm>
          <a:prstGeom prst="rect">
            <a:avLst/>
          </a:prstGeom>
          <a:ln w="0">
            <a:noFill/>
          </a:ln>
        </p:spPr>
      </p:pic>
      <p:sp>
        <p:nvSpPr>
          <p:cNvPr id="357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D595-90D2-4D06-B7BA-61DEE998D853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Рот открыть, Поднять язычок к верхним «бугорочкам» (альвеолам), Стучать язычком по нёбу; «д-д-д-д-д-д-д». Упражнение выполнять на выходе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6T11:32:38Z</dcterms:created>
  <dc:creator>Asus</dc:creator>
  <dc:description/>
  <dc:language>en-US</dc:language>
  <cp:lastModifiedBy>user</cp:lastModifiedBy>
  <dcterms:modified xsi:type="dcterms:W3CDTF">2022-04-20T11:13:36Z</dcterms:modified>
  <cp:revision>30</cp:revision>
  <dc:subject/>
  <dc:title>ГБУЗ КО "ГОРОДСКАЯ ДЕТСКАЯ ПОЛИКЛИНИКА №2</dc:title>
</cp:coreProperties>
</file>