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399-6FF2-436D-8833-E557ED75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91E-F865-4366-9248-7D9ACA22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0E9-45C3-449F-9AB3-2766FF57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815-807C-44D2-9765-21A5D9CB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77C1-08B2-4EBC-9210-3203508B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E18D-DBCF-4B61-B455-A9713A23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8E7D-004C-422A-AAE2-1B87F4DE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7731-E3E0-4C53-9256-0BE2F929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431F-C33E-4CEE-AD25-0636D396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0F15-3E19-4161-B87A-6F23400C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31EC-2008-4C7E-8CF8-610681EC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175-64EA-44D3-A2BF-13FAD881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4345-5BA5-4817-B3AB-CB17DED0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0BA9-97AE-4C14-8D19-543DCAC4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34B5-05F8-4662-AFF9-3744D8B4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F2C6-27BC-42AA-9210-3D9009F5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54240"/>
            <a:ext cx="264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CB31-A4EE-43AA-8838-CC83604F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0174-6EAA-4B33-A028-4A4FE319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218-D7BE-4E55-A5FA-4EB0B6BD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547-F45E-4119-9F91-14A3A5EE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58840"/>
            <a:ext cx="73152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D4F-C9D7-4D84-95E9-1D6834BD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515-DD36-4B8A-A3D1-FE2A7638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424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FB2-F59C-44A8-A515-C04789EE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4240"/>
            <a:ext cx="822960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A16-782C-4FD3-99E0-EF2B2FAE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2286000" y="0"/>
            <a:ext cx="2287440" cy="6857640"/>
            <a:chOff x="2286000" y="0"/>
            <a:chExt cx="2287440" cy="6857640"/>
          </a:xfrm>
        </p:grpSpPr>
        <p:sp>
          <p:nvSpPr>
            <p:cNvPr id="1" name="Rectangle 8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2668680" y="0"/>
              <a:ext cx="1671480" cy="68576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2286000" y="0"/>
              <a:ext cx="2287440" cy="685764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11"/>
          <p:cNvGrpSpPr/>
          <p:nvPr/>
        </p:nvGrpSpPr>
        <p:grpSpPr>
          <a:xfrm>
            <a:off x="4575240" y="0"/>
            <a:ext cx="2286000" cy="5136840"/>
            <a:chOff x="4575240" y="0"/>
            <a:chExt cx="2286000" cy="5136840"/>
          </a:xfrm>
        </p:grpSpPr>
        <p:sp>
          <p:nvSpPr>
            <p:cNvPr id="5" name="Rectangle 12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4575240" y="0"/>
              <a:ext cx="1285920" cy="5136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5240" y="0"/>
              <a:ext cx="2286000" cy="513684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6858000" y="0"/>
            <a:ext cx="2286000" cy="6830280"/>
            <a:chOff x="6858000" y="0"/>
            <a:chExt cx="2286000" cy="6830280"/>
          </a:xfrm>
        </p:grpSpPr>
        <p:sp>
          <p:nvSpPr>
            <p:cNvPr id="9" name="Rectangle 16"/>
            <p:cNvSpPr/>
            <p:nvPr/>
          </p:nvSpPr>
          <p:spPr>
            <a:xfrm>
              <a:off x="6858000" y="0"/>
              <a:ext cx="177840" cy="5825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17"/>
            <p:cNvGrpSpPr/>
            <p:nvPr/>
          </p:nvGrpSpPr>
          <p:grpSpPr>
            <a:xfrm>
              <a:off x="6858000" y="0"/>
              <a:ext cx="2286000" cy="6830280"/>
              <a:chOff x="6858000" y="0"/>
              <a:chExt cx="2286000" cy="6830280"/>
            </a:xfrm>
          </p:grpSpPr>
          <p:sp>
            <p:nvSpPr>
              <p:cNvPr id="11" name="Rectangle 18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9"/>
              <p:cNvSpPr/>
              <p:nvPr/>
            </p:nvSpPr>
            <p:spPr>
              <a:xfrm>
                <a:off x="8604360" y="0"/>
                <a:ext cx="539640" cy="5825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20"/>
              <p:cNvSpPr/>
              <p:nvPr/>
            </p:nvSpPr>
            <p:spPr>
              <a:xfrm>
                <a:off x="6858000" y="0"/>
                <a:ext cx="2286000" cy="683028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2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" name="Group 21"/>
          <p:cNvGrpSpPr/>
          <p:nvPr/>
        </p:nvGrpSpPr>
        <p:grpSpPr>
          <a:xfrm>
            <a:off x="0" y="0"/>
            <a:ext cx="2286000" cy="5135040"/>
            <a:chOff x="0" y="0"/>
            <a:chExt cx="2286000" cy="5135040"/>
          </a:xfrm>
        </p:grpSpPr>
        <p:sp>
          <p:nvSpPr>
            <p:cNvPr id="15" name="Rectangle 22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3"/>
            <p:cNvSpPr/>
            <p:nvPr/>
          </p:nvSpPr>
          <p:spPr>
            <a:xfrm>
              <a:off x="2124000" y="0"/>
              <a:ext cx="16200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4"/>
            <p:cNvSpPr/>
            <p:nvPr/>
          </p:nvSpPr>
          <p:spPr>
            <a:xfrm>
              <a:off x="0" y="0"/>
              <a:ext cx="771480" cy="51350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5"/>
            <p:cNvSpPr/>
            <p:nvPr/>
          </p:nvSpPr>
          <p:spPr>
            <a:xfrm>
              <a:off x="0" y="0"/>
              <a:ext cx="2286000" cy="51350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2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45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20" name="Rectangle 26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7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8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9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DF89-DA00-4026-AC98-2EC9E7AD1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" name="Group 46"/>
          <p:cNvGrpSpPr/>
          <p:nvPr/>
        </p:nvGrpSpPr>
        <p:grpSpPr>
          <a:xfrm>
            <a:off x="0" y="175680"/>
            <a:ext cx="7696080" cy="1117800"/>
            <a:chOff x="0" y="175680"/>
            <a:chExt cx="7696080" cy="1117800"/>
          </a:xfrm>
        </p:grpSpPr>
        <p:grpSp>
          <p:nvGrpSpPr>
            <p:cNvPr id="29" name="Rectangle 39"/>
            <p:cNvGrpSpPr/>
            <p:nvPr/>
          </p:nvGrpSpPr>
          <p:grpSpPr>
            <a:xfrm>
              <a:off x="0" y="1200600"/>
              <a:ext cx="7696080" cy="91440"/>
              <a:chOff x="0" y="1200600"/>
              <a:chExt cx="7696080" cy="91440"/>
            </a:xfrm>
          </p:grpSpPr>
          <p:pic>
            <p:nvPicPr>
              <p:cNvPr id="30" name="Rectangle 39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200600"/>
                <a:ext cx="769608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" name=""/>
              <p:cNvSpPr/>
              <p:nvPr/>
            </p:nvSpPr>
            <p:spPr>
              <a:xfrm rot="16200000">
                <a:off x="3802680" y="-2601360"/>
                <a:ext cx="87480" cy="769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Group 44"/>
            <p:cNvGrpSpPr/>
            <p:nvPr/>
          </p:nvGrpSpPr>
          <p:grpSpPr>
            <a:xfrm>
              <a:off x="0" y="175680"/>
              <a:ext cx="6865920" cy="1117800"/>
              <a:chOff x="0" y="175680"/>
              <a:chExt cx="6865920" cy="1117800"/>
            </a:xfrm>
          </p:grpSpPr>
          <p:sp>
            <p:nvSpPr>
              <p:cNvPr id="33" name="Rectangle 41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" name="Rectangle 42"/>
              <p:cNvGrpSpPr/>
              <p:nvPr/>
            </p:nvGrpSpPr>
            <p:grpSpPr>
              <a:xfrm>
                <a:off x="0" y="175680"/>
                <a:ext cx="5855040" cy="261720"/>
                <a:chOff x="0" y="175680"/>
                <a:chExt cx="5855040" cy="261720"/>
              </a:xfrm>
            </p:grpSpPr>
            <p:pic>
              <p:nvPicPr>
                <p:cNvPr id="35" name="Rectangle 4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0" y="176040"/>
                  <a:ext cx="5854320" cy="26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" name=""/>
                <p:cNvSpPr/>
                <p:nvPr/>
              </p:nvSpPr>
              <p:spPr>
                <a:xfrm rot="16200000">
                  <a:off x="2796120" y="-2620440"/>
                  <a:ext cx="261720" cy="585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" name="Rectangle 43"/>
              <p:cNvSpPr/>
              <p:nvPr/>
            </p:nvSpPr>
            <p:spPr>
              <a:xfrm rot="16200000">
                <a:off x="2873880" y="-2698200"/>
                <a:ext cx="1117800" cy="68659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3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PlaceHolder 5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7"/>
          <p:cNvSpPr/>
          <p:nvPr/>
        </p:nvSpPr>
        <p:spPr>
          <a:xfrm>
            <a:off x="0" y="6751800"/>
            <a:ext cx="9144000" cy="10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5"/>
          <p:cNvGrpSpPr/>
          <p:nvPr/>
        </p:nvGrpSpPr>
        <p:grpSpPr>
          <a:xfrm>
            <a:off x="2286000" y="0"/>
            <a:ext cx="2287440" cy="4960800"/>
            <a:chOff x="2286000" y="0"/>
            <a:chExt cx="2287440" cy="4960800"/>
          </a:xfrm>
        </p:grpSpPr>
        <p:sp>
          <p:nvSpPr>
            <p:cNvPr id="78" name="Rectangle 8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4"/>
            <p:cNvSpPr/>
            <p:nvPr/>
          </p:nvSpPr>
          <p:spPr>
            <a:xfrm>
              <a:off x="2668680" y="0"/>
              <a:ext cx="1671480" cy="49608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e1595c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2286000" y="0"/>
              <a:ext cx="2287440" cy="4960800"/>
            </a:xfrm>
            <a:prstGeom prst="rect">
              <a:avLst/>
            </a:prstGeom>
            <a:gradFill rotWithShape="0">
              <a:gsLst>
                <a:gs pos="0">
                  <a:srgbClr val="e1595c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9"/>
          <p:cNvGrpSpPr/>
          <p:nvPr/>
        </p:nvGrpSpPr>
        <p:grpSpPr>
          <a:xfrm>
            <a:off x="4575240" y="0"/>
            <a:ext cx="2286000" cy="3716280"/>
            <a:chOff x="4575240" y="0"/>
            <a:chExt cx="2286000" cy="3716280"/>
          </a:xfrm>
        </p:grpSpPr>
        <p:sp>
          <p:nvSpPr>
            <p:cNvPr id="82" name="Rectangle 12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3"/>
            <p:cNvSpPr/>
            <p:nvPr/>
          </p:nvSpPr>
          <p:spPr>
            <a:xfrm>
              <a:off x="4575240" y="0"/>
              <a:ext cx="1285920" cy="37162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80e05a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0"/>
            <p:cNvSpPr/>
            <p:nvPr/>
          </p:nvSpPr>
          <p:spPr>
            <a:xfrm>
              <a:off x="4575240" y="0"/>
              <a:ext cx="2286000" cy="3716280"/>
            </a:xfrm>
            <a:prstGeom prst="rect">
              <a:avLst/>
            </a:prstGeom>
            <a:gradFill rotWithShape="0">
              <a:gsLst>
                <a:gs pos="0">
                  <a:srgbClr val="80e05a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0"/>
          <p:cNvGrpSpPr/>
          <p:nvPr/>
        </p:nvGrpSpPr>
        <p:grpSpPr>
          <a:xfrm>
            <a:off x="6858000" y="0"/>
            <a:ext cx="2286000" cy="4941720"/>
            <a:chOff x="6858000" y="0"/>
            <a:chExt cx="2286000" cy="4941720"/>
          </a:xfrm>
        </p:grpSpPr>
        <p:sp>
          <p:nvSpPr>
            <p:cNvPr id="86" name="Rectangle 11"/>
            <p:cNvSpPr/>
            <p:nvPr/>
          </p:nvSpPr>
          <p:spPr>
            <a:xfrm>
              <a:off x="6858000" y="0"/>
              <a:ext cx="177840" cy="4214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4ba5e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38"/>
            <p:cNvGrpSpPr/>
            <p:nvPr/>
          </p:nvGrpSpPr>
          <p:grpSpPr>
            <a:xfrm>
              <a:off x="6858000" y="0"/>
              <a:ext cx="2286000" cy="4941720"/>
              <a:chOff x="6858000" y="0"/>
              <a:chExt cx="2286000" cy="4941720"/>
            </a:xfrm>
          </p:grpSpPr>
          <p:sp>
            <p:nvSpPr>
              <p:cNvPr id="88" name="Rectangle 9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8604360" y="0"/>
                <a:ext cx="539640" cy="4214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4ba5ef">
                      <a:alpha val="7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6858000" y="0"/>
                <a:ext cx="2286000" cy="4941720"/>
              </a:xfrm>
              <a:prstGeom prst="rect">
                <a:avLst/>
              </a:prstGeom>
              <a:gradFill rotWithShape="0">
                <a:gsLst>
                  <a:gs pos="0">
                    <a:srgbClr val="4ba5e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34"/>
          <p:cNvGrpSpPr/>
          <p:nvPr/>
        </p:nvGrpSpPr>
        <p:grpSpPr>
          <a:xfrm>
            <a:off x="0" y="0"/>
            <a:ext cx="2286000" cy="3714840"/>
            <a:chOff x="0" y="0"/>
            <a:chExt cx="2286000" cy="3714840"/>
          </a:xfrm>
        </p:grpSpPr>
        <p:sp>
          <p:nvSpPr>
            <p:cNvPr id="92" name="Rectangle 7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5"/>
            <p:cNvSpPr/>
            <p:nvPr/>
          </p:nvSpPr>
          <p:spPr>
            <a:xfrm>
              <a:off x="2124000" y="0"/>
              <a:ext cx="16200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0" y="0"/>
              <a:ext cx="771480" cy="371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50000">
                  <a:srgbClr val="fca304">
                    <a:alpha val="7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2"/>
            <p:cNvSpPr/>
            <p:nvPr/>
          </p:nvSpPr>
          <p:spPr>
            <a:xfrm>
              <a:off x="0" y="0"/>
              <a:ext cx="2286000" cy="3714840"/>
            </a:xfrm>
            <a:prstGeom prst="rect">
              <a:avLst/>
            </a:prstGeom>
            <a:gradFill rotWithShape="0">
              <a:gsLst>
                <a:gs pos="0">
                  <a:srgbClr val="fca304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41"/>
          <p:cNvGrpSpPr/>
          <p:nvPr/>
        </p:nvGrpSpPr>
        <p:grpSpPr>
          <a:xfrm>
            <a:off x="0" y="0"/>
            <a:ext cx="9144000" cy="171360"/>
            <a:chOff x="0" y="0"/>
            <a:chExt cx="9144000" cy="171360"/>
          </a:xfrm>
        </p:grpSpPr>
        <p:sp>
          <p:nvSpPr>
            <p:cNvPr id="97" name="Rectangle 24"/>
            <p:cNvSpPr/>
            <p:nvPr/>
          </p:nvSpPr>
          <p:spPr>
            <a:xfrm>
              <a:off x="0" y="0"/>
              <a:ext cx="2286000" cy="171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2286000" y="0"/>
              <a:ext cx="2287440" cy="171360"/>
            </a:xfrm>
            <a:prstGeom prst="rect">
              <a:avLst/>
            </a:prstGeom>
            <a:solidFill>
              <a:srgbClr val="e15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4575240" y="0"/>
              <a:ext cx="2286000" cy="171360"/>
            </a:xfrm>
            <a:prstGeom prst="rect">
              <a:avLst/>
            </a:prstGeom>
            <a:solidFill>
              <a:srgbClr val="80e0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6858000" y="0"/>
              <a:ext cx="2286000" cy="171360"/>
            </a:xfrm>
            <a:prstGeom prst="rect">
              <a:avLst/>
            </a:prstGeom>
            <a:solidFill>
              <a:srgbClr val="4ba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28" descr="1"/>
          <p:cNvPicPr/>
          <p:nvPr/>
        </p:nvPicPr>
        <p:blipFill>
          <a:blip r:embed="rId2"/>
          <a:srcRect l="0" t="0" r="20135" b="0"/>
          <a:stretch/>
        </p:blipFill>
        <p:spPr>
          <a:xfrm>
            <a:off x="7164360" y="907920"/>
            <a:ext cx="1979640" cy="388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9" descr="2"/>
          <p:cNvPicPr/>
          <p:nvPr/>
        </p:nvPicPr>
        <p:blipFill>
          <a:blip r:embed="rId3"/>
          <a:srcRect l="0" t="0" r="16923" b="0"/>
          <a:stretch/>
        </p:blipFill>
        <p:spPr>
          <a:xfrm>
            <a:off x="5062680" y="1268280"/>
            <a:ext cx="1795320" cy="273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0" descr="3"/>
          <p:cNvPicPr/>
          <p:nvPr/>
        </p:nvPicPr>
        <p:blipFill>
          <a:blip r:embed="rId4"/>
          <a:srcRect l="0" t="0" r="18696" b="0"/>
          <a:stretch/>
        </p:blipFill>
        <p:spPr>
          <a:xfrm>
            <a:off x="314280" y="692280"/>
            <a:ext cx="1973160" cy="364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1" descr="4"/>
          <p:cNvPicPr/>
          <p:nvPr/>
        </p:nvPicPr>
        <p:blipFill>
          <a:blip r:embed="rId5"/>
          <a:stretch/>
        </p:blipFill>
        <p:spPr>
          <a:xfrm>
            <a:off x="2496960" y="374760"/>
            <a:ext cx="2071800" cy="4998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7855200" y="23976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1676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662904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000640" y="6476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DEB1-0A26-4E89-B836-0C62F37E8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15200" cy="15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 Math"/>
                <a:ea typeface="Cambria Math"/>
              </a:rPr>
              <a:t>Читательская грамотность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mbria Math"/>
                <a:ea typeface="Cambria Math"/>
              </a:rPr>
              <a:t>как ключ ко всем видам функциональной грамот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Объект 3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5"/>
          <p:cNvSpPr/>
          <p:nvPr/>
        </p:nvSpPr>
        <p:spPr>
          <a:xfrm>
            <a:off x="785880" y="3571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вопросов и заданий по математ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Users\1\Desktop\несплошные тексты\нннн.png"/>
          <p:cNvPicPr/>
          <p:nvPr/>
        </p:nvPicPr>
        <p:blipFill>
          <a:blip r:embed="rId2"/>
          <a:srcRect l="8932" t="2807" r="10655" b="6045"/>
          <a:stretch/>
        </p:blipFill>
        <p:spPr>
          <a:xfrm>
            <a:off x="6786720" y="785880"/>
            <a:ext cx="19587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14" name="Прямоугольник 8"/>
          <p:cNvSpPr/>
          <p:nvPr/>
        </p:nvSpPr>
        <p:spPr>
          <a:xfrm>
            <a:off x="357120" y="1428840"/>
            <a:ext cx="842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стоимость бил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окупки билета у тебя осталось 25 рублей. Смож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 ты купить ещё один билет для своего друг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Твой младший брат пяти лет хочет пойти с тобой в муз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шь ли ты взять его с соб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ётся ли тебе платить дополнительно за услу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овода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Начало экскурсии в 15 часов. Мама хочет тебя встретить. Во сколько ей надо подойти к музе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Прочитайте номер билета. Какой номер у предыдущего биле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Сколько цифр в записи этого чис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Объект 3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5"/>
          <p:cNvSpPr/>
          <p:nvPr/>
        </p:nvSpPr>
        <p:spPr>
          <a:xfrm>
            <a:off x="785880" y="3571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вопросов и заданий по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Users\1\Desktop\несплошные тексты\нннн.png"/>
          <p:cNvPicPr/>
          <p:nvPr/>
        </p:nvPicPr>
        <p:blipFill>
          <a:blip r:embed="rId2"/>
          <a:srcRect l="8932" t="2807" r="10655" b="6045"/>
          <a:stretch/>
        </p:blipFill>
        <p:spPr>
          <a:xfrm>
            <a:off x="6715080" y="857160"/>
            <a:ext cx="1959120" cy="235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19" name="Прямоугольник 8"/>
          <p:cNvSpPr/>
          <p:nvPr/>
        </p:nvSpPr>
        <p:spPr>
          <a:xfrm>
            <a:off x="1571760" y="857160"/>
            <a:ext cx="5286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 грамматические зад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части р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оценные – 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ль – 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ются  – 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 –  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ши из текста одно имя существительное собственное 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бери синоним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–   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агается – 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бери антони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ы –  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 – __________________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 –  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5"/>
          <p:cNvSpPr/>
          <p:nvPr/>
        </p:nvSpPr>
        <p:spPr>
          <a:xfrm>
            <a:off x="785880" y="3571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вопросов и зад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Users\1\Desktop\несплошные тексты\нннн.png"/>
          <p:cNvPicPr/>
          <p:nvPr/>
        </p:nvPicPr>
        <p:blipFill>
          <a:blip r:embed="rId2"/>
          <a:srcRect l="8932" t="2807" r="10655" b="6045"/>
          <a:stretch/>
        </p:blipFill>
        <p:spPr>
          <a:xfrm>
            <a:off x="6786720" y="785880"/>
            <a:ext cx="1958760" cy="2357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24" name="Прямоугольник 5"/>
          <p:cNvSpPr/>
          <p:nvPr/>
        </p:nvSpPr>
        <p:spPr>
          <a:xfrm>
            <a:off x="357120" y="92880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ьте верные утверждения значком 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28760" y="1357200"/>
          <a:ext cx="6286320" cy="1594080"/>
        </p:xfrm>
        <a:graphic>
          <a:graphicData uri="http://schemas.openxmlformats.org/drawingml/2006/table">
            <a:tbl>
              <a:tblPr/>
              <a:tblGrid>
                <a:gridCol w="5713200"/>
                <a:gridCol w="573120"/>
              </a:tblGrid>
              <a:tr h="315720"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Продолжительность экскурсии  – 1 час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Музей находится в Москв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Можно сделать фотографии экспона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Осматривал выставку под руководством экскурсов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27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 Вход на выставку свободны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Прямоугольник 8"/>
          <p:cNvSpPr/>
          <p:nvPr/>
        </p:nvSpPr>
        <p:spPr>
          <a:xfrm>
            <a:off x="785880" y="335772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увидеть на выставк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верные отв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ив их знаком 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643040" y="4357800"/>
          <a:ext cx="2500200" cy="1892160"/>
        </p:xfrm>
        <a:graphic>
          <a:graphicData uri="http://schemas.openxmlformats.org/drawingml/2006/table">
            <a:tbl>
              <a:tblPr/>
              <a:tblGrid>
                <a:gridCol w="1714680"/>
                <a:gridCol w="785520"/>
              </a:tblGrid>
              <a:tr h="631080">
                <a:tc>
                  <a:txBody>
                    <a:bodyPr lIns="68760" rIns="27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Антикварная меб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Старинные книг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273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Драгоценные кам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27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Прямоугольник 10"/>
          <p:cNvSpPr/>
          <p:nvPr/>
        </p:nvSpPr>
        <p:spPr>
          <a:xfrm>
            <a:off x="428616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жно или нельзя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 слова  в 2 коло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929120" y="4357800"/>
          <a:ext cx="3616560" cy="1593720"/>
        </p:xfrm>
        <a:graphic>
          <a:graphicData uri="http://schemas.openxmlformats.org/drawingml/2006/table">
            <a:tbl>
              <a:tblPr/>
              <a:tblGrid>
                <a:gridCol w="1779480"/>
                <a:gridCol w="1837080"/>
              </a:tblGrid>
              <a:tr h="317520">
                <a:tc>
                  <a:txBody>
                    <a:bodyPr lIns="68760" rIns="73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73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ЛЬЗ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73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Объект 3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5"/>
          <p:cNvSpPr/>
          <p:nvPr/>
        </p:nvSpPr>
        <p:spPr>
          <a:xfrm>
            <a:off x="785880" y="3571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вопросов и зад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C:\Users\1\Desktop\несплошные тексты\нннн.png"/>
          <p:cNvPicPr/>
          <p:nvPr/>
        </p:nvPicPr>
        <p:blipFill>
          <a:blip r:embed="rId2"/>
          <a:srcRect l="8932" t="2807" r="10655" b="6045"/>
          <a:stretch/>
        </p:blipFill>
        <p:spPr>
          <a:xfrm>
            <a:off x="6858000" y="714240"/>
            <a:ext cx="1959120" cy="235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34" name="Прямоугольник 6"/>
          <p:cNvSpPr/>
          <p:nvPr/>
        </p:nvSpPr>
        <p:spPr>
          <a:xfrm>
            <a:off x="357120" y="1357200"/>
            <a:ext cx="8286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музей-выставку ты можешь посетить по этому билет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аходится музей-выставка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аходится вход в музе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ы ожидаешь увидеть в экспозиции музе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ювелирные укра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бразцы современного оруж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рагоценные кам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хочешь написать заметку в школьную газету о посещении музея и берёшь с собой фотоаппарат. Какие снимки ты сможешь сделать? 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бя большая сумка и зонт. Где ты сможешь оставить свои вещ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, что с нами не было маленьких детей. 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57200" y="1523520"/>
            <a:ext cx="8229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523520"/>
            <a:ext cx="8229600" cy="46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https://avatars.mds.yandex.net/get-zen_doc/1926164/pub_5e9a973498c2d801bbb13000_5e9aa02624270736479faef2/scale_2400"/>
          <p:cNvPicPr/>
          <p:nvPr/>
        </p:nvPicPr>
        <p:blipFill>
          <a:blip r:embed="rId2"/>
          <a:srcRect l="3984" t="3682" r="6766" b="2580"/>
          <a:stretch/>
        </p:blipFill>
        <p:spPr>
          <a:xfrm>
            <a:off x="1655640" y="476280"/>
            <a:ext cx="6120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54040" y="885960"/>
            <a:ext cx="822960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Укажите варианты ответов, в которых даны верные характеристики фрагмента текста. Запишите номера этих от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2) Вводные слова, используемые в тексте, указывают на источник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920" y="114120"/>
            <a:ext cx="749016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  <a:ea typeface="Cambria"/>
              </a:rPr>
              <a:t>Задание 1 ЕГЭ по русскому язык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4" descr=""/>
          <p:cNvPicPr/>
          <p:nvPr/>
        </p:nvPicPr>
        <p:blipFill>
          <a:blip r:embed="rId1"/>
          <a:srcRect l="31100" t="48562" r="31100" b="39199"/>
          <a:stretch/>
        </p:blipFill>
        <p:spPr>
          <a:xfrm>
            <a:off x="347760" y="2276640"/>
            <a:ext cx="84484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4883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  <a:ea typeface="Cambria"/>
              </a:rPr>
              <a:t>Выход в открытый космос. 5 класс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(РЭШ. Электронный банк заданий для оценки функциональной грамотности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3960" y="3284640"/>
          <a:ext cx="8229600" cy="1758960"/>
        </p:xfrm>
        <a:graphic>
          <a:graphicData uri="http://schemas.openxmlformats.org/drawingml/2006/table">
            <a:tbl>
              <a:tblPr/>
              <a:tblGrid>
                <a:gridCol w="681120"/>
                <a:gridCol w="7548480"/>
              </a:tblGrid>
              <a:tr h="4395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быть родственником А. А. Леонову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находиться в открытом космосе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чествовать А.А. Леонова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становиться членом отряда космонавтов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1"/>
          <p:cNvSpPr/>
          <p:nvPr/>
        </p:nvSpPr>
        <p:spPr>
          <a:xfrm>
            <a:off x="453960" y="1276200"/>
            <a:ext cx="829476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62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1. В тексте говорится, что японцы ввели необычное слово «леонить». Опираясь на текст, определите, какое значение они закрепили за этим сло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Отметьте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один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 вер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4883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  <a:ea typeface="Cambria"/>
              </a:rPr>
              <a:t>Выход в открытый космос. 5 класс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(РЭШ. Электронный банк заданий для оценки функциональной грамотности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453960" y="1345680"/>
            <a:ext cx="8294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62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ерны ли приведённые ниже утвержд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метьт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Верно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Неверно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ля каждого утвер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3960" y="2541600"/>
          <a:ext cx="8229600" cy="3970440"/>
        </p:xfrm>
        <a:graphic>
          <a:graphicData uri="http://schemas.openxmlformats.org/drawingml/2006/table">
            <a:tbl>
              <a:tblPr/>
              <a:tblGrid>
                <a:gridCol w="6238800"/>
                <a:gridCol w="1032120"/>
                <a:gridCol w="958680"/>
              </a:tblGrid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Является ли данное утверждение верным или неверны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Не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Между приходом Леонова в отряд космонавтов и его выходом в открытый космос прошло 5 лет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Леонов уверен, что вся слава первого выхода в космос должна принадлежать только ем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Леонов никогда не вспоминал о своём детстве и своей ю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Леонов совершил два полёта в космо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Первый полёт в космос Леонов совершил на корабле «Восход-2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4883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  <a:ea typeface="Cambria"/>
              </a:rPr>
              <a:t>Выход в открытый космос. 5 класс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Cambria"/>
              </a:rPr>
              <a:t>(РЭШ. Электронный банк заданий для оценки функциональной грамотности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453960" y="1345680"/>
            <a:ext cx="8294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620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ерны ли приведённые ниже утвержд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метьт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Верно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Неверно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ля каждого утвер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3960" y="2541600"/>
          <a:ext cx="8229600" cy="3970440"/>
        </p:xfrm>
        <a:graphic>
          <a:graphicData uri="http://schemas.openxmlformats.org/drawingml/2006/table">
            <a:tbl>
              <a:tblPr/>
              <a:tblGrid>
                <a:gridCol w="6238800"/>
                <a:gridCol w="1032120"/>
                <a:gridCol w="958680"/>
              </a:tblGrid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Является ли данное утверждение верным или неверны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Неве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Между приходом Леонова в отряд космонавтов и его выходом в открытый космос прошло 5 лет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Леонов уверен, что вся слава первого выхода в космос должна принадлежать только ем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Леонов никогда не вспоминал о своём детстве и своей юност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Леонов совершил два полёта в космо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Первый полёт в космос Леонов совершил на корабле «Восход-2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3" name="Овал 3"/>
          <p:cNvGrpSpPr/>
          <p:nvPr/>
        </p:nvGrpSpPr>
        <p:grpSpPr>
          <a:xfrm>
            <a:off x="6991200" y="3328920"/>
            <a:ext cx="568440" cy="566640"/>
            <a:chOff x="6991200" y="3328920"/>
            <a:chExt cx="568440" cy="566640"/>
          </a:xfrm>
        </p:grpSpPr>
        <p:pic>
          <p:nvPicPr>
            <p:cNvPr id="164" name="Овал 3" descr=""/>
            <p:cNvPicPr/>
            <p:nvPr/>
          </p:nvPicPr>
          <p:blipFill>
            <a:blip r:embed="rId1"/>
            <a:stretch/>
          </p:blipFill>
          <p:spPr>
            <a:xfrm>
              <a:off x="6991200" y="3328920"/>
              <a:ext cx="5684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110360" y="3424320"/>
              <a:ext cx="324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Овал 5"/>
          <p:cNvGrpSpPr/>
          <p:nvPr/>
        </p:nvGrpSpPr>
        <p:grpSpPr>
          <a:xfrm>
            <a:off x="7900920" y="4767120"/>
            <a:ext cx="566640" cy="567000"/>
            <a:chOff x="7900920" y="4767120"/>
            <a:chExt cx="566640" cy="567000"/>
          </a:xfrm>
        </p:grpSpPr>
        <p:pic>
          <p:nvPicPr>
            <p:cNvPr id="167" name="Овал 5" descr=""/>
            <p:cNvPicPr/>
            <p:nvPr/>
          </p:nvPicPr>
          <p:blipFill>
            <a:blip r:embed="rId2"/>
            <a:stretch/>
          </p:blipFill>
          <p:spPr>
            <a:xfrm>
              <a:off x="7900920" y="4767120"/>
              <a:ext cx="56664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8023320" y="486396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Овал 6"/>
          <p:cNvGrpSpPr/>
          <p:nvPr/>
        </p:nvGrpSpPr>
        <p:grpSpPr>
          <a:xfrm>
            <a:off x="7900920" y="4121280"/>
            <a:ext cx="566640" cy="566640"/>
            <a:chOff x="7900920" y="4121280"/>
            <a:chExt cx="566640" cy="566640"/>
          </a:xfrm>
        </p:grpSpPr>
        <p:pic>
          <p:nvPicPr>
            <p:cNvPr id="170" name="Овал 6" descr=""/>
            <p:cNvPicPr/>
            <p:nvPr/>
          </p:nvPicPr>
          <p:blipFill>
            <a:blip r:embed="rId3"/>
            <a:stretch/>
          </p:blipFill>
          <p:spPr>
            <a:xfrm>
              <a:off x="7900920" y="4121280"/>
              <a:ext cx="5666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8023320" y="4216320"/>
              <a:ext cx="323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7"/>
          <p:cNvGrpSpPr/>
          <p:nvPr/>
        </p:nvGrpSpPr>
        <p:grpSpPr>
          <a:xfrm>
            <a:off x="6918480" y="5340240"/>
            <a:ext cx="568080" cy="567000"/>
            <a:chOff x="6918480" y="5340240"/>
            <a:chExt cx="568080" cy="567000"/>
          </a:xfrm>
        </p:grpSpPr>
        <p:pic>
          <p:nvPicPr>
            <p:cNvPr id="173" name="Овал 7" descr=""/>
            <p:cNvPicPr/>
            <p:nvPr/>
          </p:nvPicPr>
          <p:blipFill>
            <a:blip r:embed="rId4"/>
            <a:stretch/>
          </p:blipFill>
          <p:spPr>
            <a:xfrm>
              <a:off x="6918480" y="5340240"/>
              <a:ext cx="56808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042320" y="544032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Овал 8"/>
          <p:cNvGrpSpPr/>
          <p:nvPr/>
        </p:nvGrpSpPr>
        <p:grpSpPr>
          <a:xfrm>
            <a:off x="6918480" y="5919840"/>
            <a:ext cx="568080" cy="566640"/>
            <a:chOff x="6918480" y="5919840"/>
            <a:chExt cx="568080" cy="566640"/>
          </a:xfrm>
        </p:grpSpPr>
        <p:pic>
          <p:nvPicPr>
            <p:cNvPr id="176" name="Овал 8" descr=""/>
            <p:cNvPicPr/>
            <p:nvPr/>
          </p:nvPicPr>
          <p:blipFill>
            <a:blip r:embed="rId5"/>
            <a:stretch/>
          </p:blipFill>
          <p:spPr>
            <a:xfrm>
              <a:off x="6918480" y="5919840"/>
              <a:ext cx="5680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042320" y="6016680"/>
              <a:ext cx="323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2128680" y="5060880"/>
            <a:ext cx="6021360" cy="738000"/>
            <a:chOff x="2128680" y="5060880"/>
            <a:chExt cx="6021360" cy="738000"/>
          </a:xfrm>
        </p:grpSpPr>
        <p:sp>
          <p:nvSpPr>
            <p:cNvPr id="179" name="AutoShape 3"/>
            <p:cNvSpPr/>
            <p:nvPr/>
          </p:nvSpPr>
          <p:spPr>
            <a:xfrm>
              <a:off x="2128680" y="5060880"/>
              <a:ext cx="6021360" cy="738000"/>
            </a:xfrm>
            <a:prstGeom prst="roundRect">
              <a:avLst>
                <a:gd name="adj" fmla="val 16667"/>
              </a:avLst>
            </a:prstGeom>
            <a:solidFill>
              <a:srgbClr val="4ba5ef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4"/>
            <p:cNvSpPr/>
            <p:nvPr/>
          </p:nvSpPr>
          <p:spPr>
            <a:xfrm>
              <a:off x="2177280" y="5087160"/>
              <a:ext cx="5951520" cy="32616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ba5e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13"/>
          <p:cNvSpPr/>
          <p:nvPr/>
        </p:nvSpPr>
        <p:spPr>
          <a:xfrm>
            <a:off x="2273400" y="5086440"/>
            <a:ext cx="5788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бый уровень мотивации способствует быстрой утомляемости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  <a:ea typeface="Cambria"/>
              </a:rPr>
              <a:t>АКТУАЛЬНОСТ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Группа 3"/>
          <p:cNvGrpSpPr/>
          <p:nvPr/>
        </p:nvGrpSpPr>
        <p:grpSpPr>
          <a:xfrm>
            <a:off x="1760400" y="3835440"/>
            <a:ext cx="6413760" cy="957960"/>
            <a:chOff x="1760400" y="3835440"/>
            <a:chExt cx="6413760" cy="957960"/>
          </a:xfrm>
        </p:grpSpPr>
        <p:grpSp>
          <p:nvGrpSpPr>
            <p:cNvPr id="184" name="Group 6"/>
            <p:cNvGrpSpPr/>
            <p:nvPr/>
          </p:nvGrpSpPr>
          <p:grpSpPr>
            <a:xfrm>
              <a:off x="2103120" y="3835440"/>
              <a:ext cx="6043320" cy="839520"/>
              <a:chOff x="2103120" y="3835440"/>
              <a:chExt cx="6043320" cy="839520"/>
            </a:xfrm>
          </p:grpSpPr>
          <p:sp>
            <p:nvSpPr>
              <p:cNvPr id="185" name="AutoShape 7"/>
              <p:cNvSpPr/>
              <p:nvPr/>
            </p:nvSpPr>
            <p:spPr>
              <a:xfrm>
                <a:off x="2103120" y="3835440"/>
                <a:ext cx="6043320" cy="839520"/>
              </a:xfrm>
              <a:prstGeom prst="roundRect">
                <a:avLst>
                  <a:gd name="adj" fmla="val 16667"/>
                </a:avLst>
              </a:prstGeom>
              <a:solidFill>
                <a:srgbClr val="fca304"/>
              </a:soli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2152080" y="3865320"/>
                <a:ext cx="5973120" cy="371160"/>
              </a:xfrm>
              <a:prstGeom prst="roundRect">
                <a:avLst>
                  <a:gd name="adj" fmla="val 31505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fca304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9"/>
            <p:cNvSpPr/>
            <p:nvPr/>
          </p:nvSpPr>
          <p:spPr>
            <a:xfrm>
              <a:off x="2261160" y="3876480"/>
              <a:ext cx="591300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епонимание прочитанного делает невозможным применение знаний на практике  и в жиз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8"/>
            <p:cNvSpPr/>
            <p:nvPr/>
          </p:nvSpPr>
          <p:spPr>
            <a:xfrm>
              <a:off x="1760400" y="3942360"/>
              <a:ext cx="685800" cy="686520"/>
            </a:xfrm>
            <a:prstGeom prst="diamond">
              <a:avLst/>
            </a:prstGeom>
            <a:solidFill>
              <a:srgbClr val="fca304"/>
            </a:solidFill>
            <a:ln w="25560">
              <a:solidFill>
                <a:srgbClr val="ffffff"/>
              </a:solidFill>
              <a:miter/>
            </a:ln>
            <a:effectLst>
              <a:outerShdw dist="7632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9"/>
            <p:cNvSpPr/>
            <p:nvPr/>
          </p:nvSpPr>
          <p:spPr>
            <a:xfrm>
              <a:off x="1915920" y="404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20"/>
          <p:cNvSpPr/>
          <p:nvPr/>
        </p:nvSpPr>
        <p:spPr>
          <a:xfrm>
            <a:off x="1790640" y="5084640"/>
            <a:ext cx="685800" cy="685800"/>
          </a:xfrm>
          <a:prstGeom prst="diamond">
            <a:avLst/>
          </a:prstGeom>
          <a:solidFill>
            <a:srgbClr val="4ba5ef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1946880" y="5183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Группа 1"/>
          <p:cNvGrpSpPr/>
          <p:nvPr/>
        </p:nvGrpSpPr>
        <p:grpSpPr>
          <a:xfrm>
            <a:off x="1708200" y="1441440"/>
            <a:ext cx="6381360" cy="825120"/>
            <a:chOff x="1708200" y="1441440"/>
            <a:chExt cx="6381360" cy="825120"/>
          </a:xfrm>
        </p:grpSpPr>
        <p:grpSp>
          <p:nvGrpSpPr>
            <p:cNvPr id="193" name="Group 22"/>
            <p:cNvGrpSpPr/>
            <p:nvPr/>
          </p:nvGrpSpPr>
          <p:grpSpPr>
            <a:xfrm>
              <a:off x="2068200" y="1441440"/>
              <a:ext cx="6021360" cy="825120"/>
              <a:chOff x="2068200" y="1441440"/>
              <a:chExt cx="6021360" cy="825120"/>
            </a:xfrm>
          </p:grpSpPr>
          <p:sp>
            <p:nvSpPr>
              <p:cNvPr id="194" name="AutoShape 23"/>
              <p:cNvSpPr/>
              <p:nvPr/>
            </p:nvSpPr>
            <p:spPr>
              <a:xfrm>
                <a:off x="2068200" y="1441440"/>
                <a:ext cx="6021360" cy="825120"/>
              </a:xfrm>
              <a:prstGeom prst="roundRect">
                <a:avLst>
                  <a:gd name="adj" fmla="val 16667"/>
                </a:avLst>
              </a:prstGeom>
              <a:solidFill>
                <a:srgbClr val="80e05a"/>
              </a:solidFill>
              <a:ln w="28440">
                <a:solidFill>
                  <a:srgbClr val="ffffff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4"/>
              <p:cNvSpPr/>
              <p:nvPr/>
            </p:nvSpPr>
            <p:spPr>
              <a:xfrm>
                <a:off x="2116800" y="1470960"/>
                <a:ext cx="5951520" cy="364680"/>
              </a:xfrm>
              <a:prstGeom prst="roundRect">
                <a:avLst>
                  <a:gd name="adj" fmla="val 31505"/>
                </a:avLst>
              </a:prstGeom>
              <a:gradFill rotWithShape="0">
                <a:gsLst>
                  <a:gs pos="0">
                    <a:srgbClr val="ffffff">
                      <a:alpha val="70196"/>
                    </a:srgbClr>
                  </a:gs>
                  <a:gs pos="100000">
                    <a:srgbClr val="80e05a">
                      <a:alpha val="7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25"/>
            <p:cNvSpPr/>
            <p:nvPr/>
          </p:nvSpPr>
          <p:spPr>
            <a:xfrm>
              <a:off x="2452680" y="1519200"/>
              <a:ext cx="5077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Низкая скорость чтения влечёт за собой дефицит времени на уро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26"/>
            <p:cNvSpPr/>
            <p:nvPr/>
          </p:nvSpPr>
          <p:spPr>
            <a:xfrm>
              <a:off x="1708200" y="1534680"/>
              <a:ext cx="685440" cy="685440"/>
            </a:xfrm>
            <a:prstGeom prst="diamond">
              <a:avLst/>
            </a:prstGeom>
            <a:solidFill>
              <a:srgbClr val="80e05a"/>
            </a:solidFill>
            <a:ln w="25560">
              <a:solidFill>
                <a:srgbClr val="ffffff"/>
              </a:solidFill>
              <a:miter/>
            </a:ln>
            <a:effectLst>
              <a:outerShdw dist="76320" dir="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7"/>
            <p:cNvSpPr/>
            <p:nvPr/>
          </p:nvSpPr>
          <p:spPr>
            <a:xfrm>
              <a:off x="1894320" y="1683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0"/>
          <p:cNvGrpSpPr/>
          <p:nvPr/>
        </p:nvGrpSpPr>
        <p:grpSpPr>
          <a:xfrm>
            <a:off x="2085840" y="2606760"/>
            <a:ext cx="6043320" cy="855360"/>
            <a:chOff x="2085840" y="2606760"/>
            <a:chExt cx="6043320" cy="855360"/>
          </a:xfrm>
        </p:grpSpPr>
        <p:sp>
          <p:nvSpPr>
            <p:cNvPr id="200" name="AutoShape 11"/>
            <p:cNvSpPr/>
            <p:nvPr/>
          </p:nvSpPr>
          <p:spPr>
            <a:xfrm>
              <a:off x="2085840" y="2606760"/>
              <a:ext cx="6043320" cy="855360"/>
            </a:xfrm>
            <a:prstGeom prst="roundRect">
              <a:avLst>
                <a:gd name="adj" fmla="val 16667"/>
              </a:avLst>
            </a:prstGeom>
            <a:solidFill>
              <a:srgbClr val="e1595c"/>
            </a:solidFill>
            <a:ln w="284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2"/>
            <p:cNvSpPr/>
            <p:nvPr/>
          </p:nvSpPr>
          <p:spPr>
            <a:xfrm>
              <a:off x="2134800" y="2637360"/>
              <a:ext cx="5973120" cy="378000"/>
            </a:xfrm>
            <a:prstGeom prst="roundRect">
              <a:avLst>
                <a:gd name="adj" fmla="val 31505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1595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AutoShape 16"/>
          <p:cNvSpPr/>
          <p:nvPr/>
        </p:nvSpPr>
        <p:spPr>
          <a:xfrm>
            <a:off x="1743120" y="2693880"/>
            <a:ext cx="685800" cy="790560"/>
          </a:xfrm>
          <a:prstGeom prst="diamond">
            <a:avLst/>
          </a:prstGeom>
          <a:solidFill>
            <a:srgbClr val="e1595c"/>
          </a:solidFill>
          <a:ln w="25560">
            <a:solidFill>
              <a:srgbClr val="ffffff"/>
            </a:solidFill>
            <a:miter/>
          </a:ln>
          <a:effectLst>
            <a:outerShdw dist="76320" dir="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1935360" y="2813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400480" y="2681280"/>
            <a:ext cx="5717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лабый уровень восприятия и понимания содержания  дает низкое качество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mbria"/>
                <a:ea typeface="Cambria"/>
              </a:rPr>
              <a:t>Человек лучше усваивает визуальную информаци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34100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Пользователи читают ¼ текста на веб-странице, остальное воспринимают визу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Наличие цветной картинки на 80% повышает вероятность того, что текст рядом с ней не будет про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90% информации обрабатывается мозгом в визуаль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Текстовые этикетки понятны на 70%, а этикетки с картинками – на 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Люди пересказывают 80 % того, что видели или делали, 20% того, что читали и только 10% того, что слышал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73152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523520"/>
            <a:ext cx="8229600" cy="465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ello_html_m19cab38e.jpg"/>
          <p:cNvPicPr/>
          <p:nvPr/>
        </p:nvPicPr>
        <p:blipFill>
          <a:blip r:embed="rId2"/>
          <a:stretch/>
        </p:blipFill>
        <p:spPr>
          <a:xfrm>
            <a:off x="1495440" y="239760"/>
            <a:ext cx="615312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5:01:50Z</dcterms:created>
  <dc:creator>UserHp</dc:creator>
  <dc:description/>
  <dc:language>en-US</dc:language>
  <cp:lastModifiedBy>Admin</cp:lastModifiedBy>
  <dcterms:modified xsi:type="dcterms:W3CDTF">2022-04-17T13:05:17Z</dcterms:modified>
  <cp:revision>142</cp:revision>
  <dc:subject/>
  <dc:title>ThemeGallery PowerTemplate</dc:title>
</cp:coreProperties>
</file>