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C68-950E-4923-94E0-A2C0FFA2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3AB-CB27-4AFD-B67A-38B82250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419-CB56-4111-BE6A-0DC7B4DF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8E6-D8AD-4C84-9764-F5EED499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75CB-080A-450D-B25D-BD08870A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1DCA-A9E5-4272-9D7F-742446DB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516E-585B-4FFF-88A8-A3B44BC4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5B56-D1C3-41F6-9463-C887C782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4D87-65FB-4483-9F22-383C472C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98CA-B8DD-43DE-868D-89BCF092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3120-E56C-4276-9B81-F2781D7A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7CF-7E3F-4A86-AD41-3E5C1644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ED2C-F8A2-4923-9A77-6F3733B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251D-DB90-4EEF-A0B7-969383F3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112F-A789-47E0-801E-E28280E3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0BE7-1773-44F6-A87B-1B48439F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B6EE-5F31-488C-941B-73EFE701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F82-F8F7-4E23-8D6A-83CC5CCA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2F1-C6FF-4DE7-98B2-5536D469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D3B-F6AD-407E-A6ED-0DC03F93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091-AED4-42BF-BA8B-CE0F7FFE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7AB-07E3-4A2C-958C-C1E32219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66C-E1CB-46BA-B41B-E8197371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48B-B1FF-40F0-B188-3C4A3A1E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F732-C681-43A5-A94F-8FC91E1E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5680"/>
            <a:ext cx="7696080" cy="1117800"/>
            <a:chOff x="0" y="175680"/>
            <a:chExt cx="7696080" cy="111780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200600"/>
              <a:ext cx="7696080" cy="91440"/>
              <a:chOff x="0" y="1200600"/>
              <a:chExt cx="7696080" cy="9144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200600"/>
                <a:ext cx="769608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2680" y="-2601360"/>
                <a:ext cx="87480" cy="76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0" y="175680"/>
              <a:ext cx="6865920" cy="1117800"/>
              <a:chOff x="0" y="175680"/>
              <a:chExt cx="6865920" cy="111780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0" y="175680"/>
                <a:ext cx="5855040" cy="261720"/>
                <a:chOff x="0" y="175680"/>
                <a:chExt cx="5855040" cy="26172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76040"/>
                  <a:ext cx="585432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796120" y="-2620440"/>
                  <a:ext cx="261720" cy="58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3582-4874-4B5A-AC7A-12C863BF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152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 Math"/>
                <a:ea typeface="Cambria Math"/>
              </a:rPr>
              <a:t>Читательская грамотность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mbria Math"/>
                <a:ea typeface="Cambria Math"/>
              </a:rPr>
              <a:t>как ключ ко всем видам функциональной грамот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Объект 3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вопросов и заданий по матема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Users\1\Desktop\несплошные тексты\нннн.png"/>
          <p:cNvPicPr/>
          <p:nvPr/>
        </p:nvPicPr>
        <p:blipFill>
          <a:blip r:embed="rId2"/>
          <a:srcRect l="8932" t="2807" r="10655" b="6045"/>
          <a:stretch/>
        </p:blipFill>
        <p:spPr>
          <a:xfrm>
            <a:off x="6786720" y="785880"/>
            <a:ext cx="19587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4" name="Прямоугольник 8"/>
          <p:cNvSpPr/>
          <p:nvPr/>
        </p:nvSpPr>
        <p:spPr>
          <a:xfrm>
            <a:off x="357120" y="1428840"/>
            <a:ext cx="842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стоимость бил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окупки билета у тебя осталось 25 рублей. Смож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ты купить ещё один билет для своего друг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Твой младший брат пяти лет хочет пойти с тобой в муз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шь ли ты взять его с соб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ётся ли тебе платить дополнительно за услу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овода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Начало экскурсии в 15 часов. Мама хочет тебя встретить. Во сколько ей надо подойти к музе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Прочитайте номер билета. Какой номер у предыдущего биле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Сколько цифр в записи этого чис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Объект 3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5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вопросов и заданий 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1\Desktop\несплошные тексты\нннн.png"/>
          <p:cNvPicPr/>
          <p:nvPr/>
        </p:nvPicPr>
        <p:blipFill>
          <a:blip r:embed="rId2"/>
          <a:srcRect l="8932" t="2807" r="10655" b="6045"/>
          <a:stretch/>
        </p:blipFill>
        <p:spPr>
          <a:xfrm>
            <a:off x="6715080" y="857160"/>
            <a:ext cx="1959120" cy="235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9" name="Прямоугольник 8"/>
          <p:cNvSpPr/>
          <p:nvPr/>
        </p:nvSpPr>
        <p:spPr>
          <a:xfrm>
            <a:off x="1571760" y="857160"/>
            <a:ext cx="528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 грамматические зад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части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оценные – 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ль –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ются  – 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 – 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 из текста одно имя существительное собственное 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бери синоним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–   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агается – 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бери антони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ы –  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 – 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 – 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5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вопросов и зад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1\Desktop\несплошные тексты\нннн.png"/>
          <p:cNvPicPr/>
          <p:nvPr/>
        </p:nvPicPr>
        <p:blipFill>
          <a:blip r:embed="rId2"/>
          <a:srcRect l="8932" t="2807" r="10655" b="6045"/>
          <a:stretch/>
        </p:blipFill>
        <p:spPr>
          <a:xfrm>
            <a:off x="6786720" y="785880"/>
            <a:ext cx="19587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4" name="Прямоугольник 5"/>
          <p:cNvSpPr/>
          <p:nvPr/>
        </p:nvSpPr>
        <p:spPr>
          <a:xfrm>
            <a:off x="357120" y="92880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верные утверждения значком 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28760" y="1357200"/>
          <a:ext cx="6286320" cy="1594080"/>
        </p:xfrm>
        <a:graphic>
          <a:graphicData uri="http://schemas.openxmlformats.org/drawingml/2006/table">
            <a:tbl>
              <a:tblPr/>
              <a:tblGrid>
                <a:gridCol w="5713200"/>
                <a:gridCol w="573120"/>
              </a:tblGrid>
              <a:tr h="31572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одолжительность экскурсии  – 1 час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Музей находится в Москв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Можно сделать фотографии экспона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Осматривал выставку под руководством экскурсов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27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 Вход на выставку свобод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Прямоугольник 8"/>
          <p:cNvSpPr/>
          <p:nvPr/>
        </p:nvSpPr>
        <p:spPr>
          <a:xfrm>
            <a:off x="785880" y="335772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увидеть на выстав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верные отв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в их знаком 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643040" y="4357800"/>
          <a:ext cx="2500200" cy="1892160"/>
        </p:xfrm>
        <a:graphic>
          <a:graphicData uri="http://schemas.openxmlformats.org/drawingml/2006/table">
            <a:tbl>
              <a:tblPr/>
              <a:tblGrid>
                <a:gridCol w="1714680"/>
                <a:gridCol w="785520"/>
              </a:tblGrid>
              <a:tr h="631080">
                <a:tc>
                  <a:txBody>
                    <a:bodyPr lIns="68760" rIns="27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Антикварная меб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Старинные книг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27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Драгоценные кам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Прямоугольник 10"/>
          <p:cNvSpPr/>
          <p:nvPr/>
        </p:nvSpPr>
        <p:spPr>
          <a:xfrm>
            <a:off x="428616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жно или нельзя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слова  в 2 коло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929120" y="4357800"/>
          <a:ext cx="3616560" cy="1593720"/>
        </p:xfrm>
        <a:graphic>
          <a:graphicData uri="http://schemas.openxmlformats.org/drawingml/2006/table">
            <a:tbl>
              <a:tblPr/>
              <a:tblGrid>
                <a:gridCol w="1779480"/>
                <a:gridCol w="1837080"/>
              </a:tblGrid>
              <a:tr h="317520">
                <a:tc>
                  <a:txBody>
                    <a:bodyPr lIns="68760" rIns="73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ЬЗ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вопросов и зад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1\Desktop\несплошные тексты\нннн.png"/>
          <p:cNvPicPr/>
          <p:nvPr/>
        </p:nvPicPr>
        <p:blipFill>
          <a:blip r:embed="rId2"/>
          <a:srcRect l="8932" t="2807" r="10655" b="6045"/>
          <a:stretch/>
        </p:blipFill>
        <p:spPr>
          <a:xfrm>
            <a:off x="6858000" y="714240"/>
            <a:ext cx="1959120" cy="235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4" name="Прямоугольник 6"/>
          <p:cNvSpPr/>
          <p:nvPr/>
        </p:nvSpPr>
        <p:spPr>
          <a:xfrm>
            <a:off x="357120" y="1357200"/>
            <a:ext cx="8286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музей-выставку ты можешь посетить по этому билет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ходится музей-выставка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ходится вход в музе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ы ожидаешь увидеть в экспозиции музе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ювелирные укра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бразцы современного оруж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рагоценные кам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хочешь написать заметку в школьную газету о посещении музея и берёшь с собой фотоаппарат. Какие снимки ты сможешь сделать?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бя большая сумка и зонт. Где ты сможешь оставить свои вещ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, что с нами не было маленьких детей.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8229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8229600" cy="46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s://avatars.mds.yandex.net/get-zen_doc/1926164/pub_5e9a973498c2d801bbb13000_5e9aa02624270736479faef2/scale_2400"/>
          <p:cNvPicPr/>
          <p:nvPr/>
        </p:nvPicPr>
        <p:blipFill>
          <a:blip r:embed="rId2"/>
          <a:srcRect l="3984" t="3682" r="6766" b="2580"/>
          <a:stretch/>
        </p:blipFill>
        <p:spPr>
          <a:xfrm>
            <a:off x="1655640" y="476280"/>
            <a:ext cx="6120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54040" y="885960"/>
            <a:ext cx="822960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Укажите варианты ответов, в которых даны верные характеристики фрагмента текста. Запишите номера этих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2) Вводные слова, используемые в тексте, указывают на источник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114120"/>
            <a:ext cx="749016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  <a:ea typeface="Cambria"/>
              </a:rPr>
              <a:t>Задание 1 ЕГЭ по русскому язык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"/>
          <p:cNvPicPr/>
          <p:nvPr/>
        </p:nvPicPr>
        <p:blipFill>
          <a:blip r:embed="rId1"/>
          <a:srcRect l="31100" t="48562" r="31100" b="39199"/>
          <a:stretch/>
        </p:blipFill>
        <p:spPr>
          <a:xfrm>
            <a:off x="347760" y="2276640"/>
            <a:ext cx="84484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88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  <a:ea typeface="Cambria"/>
              </a:rPr>
              <a:t>Выход в открытый космос. 5 класс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(РЭШ. Электронный банк заданий для оценки функциональной грамотности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3960" y="3284640"/>
          <a:ext cx="8229600" cy="1758960"/>
        </p:xfrm>
        <a:graphic>
          <a:graphicData uri="http://schemas.openxmlformats.org/drawingml/2006/table">
            <a:tbl>
              <a:tblPr/>
              <a:tblGrid>
                <a:gridCol w="681120"/>
                <a:gridCol w="7548480"/>
              </a:tblGrid>
              <a:tr h="4395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быть родственником А. А. Леонову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находиться в открытом космосе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чествовать А.А. Леонова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становиться членом отряда космонавтов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1"/>
          <p:cNvSpPr/>
          <p:nvPr/>
        </p:nvSpPr>
        <p:spPr>
          <a:xfrm>
            <a:off x="453960" y="1276200"/>
            <a:ext cx="82947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1. В тексте говорится, что японцы ввели необычное слово «леонить». Опираясь на текст, определите, какое значение они закрепили за этим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Отметьте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один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 вер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88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  <a:ea typeface="Cambria"/>
              </a:rPr>
              <a:t>Выход в открытый космос. 5 класс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(РЭШ. Электронный банк заданий для оценки функциональной грамотности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453960" y="1345680"/>
            <a:ext cx="8294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ерны ли приведённые ниже утвержд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метьт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ерно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Неверно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ля каждого утвер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3960" y="2541600"/>
          <a:ext cx="8229600" cy="3970440"/>
        </p:xfrm>
        <a:graphic>
          <a:graphicData uri="http://schemas.openxmlformats.org/drawingml/2006/table">
            <a:tbl>
              <a:tblPr/>
              <a:tblGrid>
                <a:gridCol w="6238800"/>
                <a:gridCol w="1032120"/>
                <a:gridCol w="958680"/>
              </a:tblGrid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Является ли данное утверждение верным или неверны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Не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Между приходом Леонова в отряд космонавтов и его выходом в открытый космос прошло 5 ле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уверен, что вся слава первого выхода в космос должна принадлежать только ем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никогда не вспоминал о своём детстве и своей ю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совершил два полёта в космо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Первый полёт в космос Леонов совершил на корабле «Восход-2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88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  <a:ea typeface="Cambria"/>
              </a:rPr>
              <a:t>Выход в открытый космос. 5 класс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(РЭШ. Электронный банк заданий для оценки функциональной грамотности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453960" y="1345680"/>
            <a:ext cx="8294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ерны ли приведённые ниже утвержд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метьт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ерно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Неверно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ля каждого утвер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3960" y="2541600"/>
          <a:ext cx="8229600" cy="3970440"/>
        </p:xfrm>
        <a:graphic>
          <a:graphicData uri="http://schemas.openxmlformats.org/drawingml/2006/table">
            <a:tbl>
              <a:tblPr/>
              <a:tblGrid>
                <a:gridCol w="6238800"/>
                <a:gridCol w="1032120"/>
                <a:gridCol w="958680"/>
              </a:tblGrid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Является ли данное утверждение верным или неверны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Не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Между приходом Леонова в отряд космонавтов и его выходом в открытый космос прошло 5 ле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уверен, что вся слава первого выхода в космос должна принадлежать только ем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никогда не вспоминал о своём детстве и своей ю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совершил два полёта в космо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Первый полёт в космос Леонов совершил на корабле «Восход-2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3" name="Овал 3"/>
          <p:cNvGrpSpPr/>
          <p:nvPr/>
        </p:nvGrpSpPr>
        <p:grpSpPr>
          <a:xfrm>
            <a:off x="6991200" y="3328920"/>
            <a:ext cx="568440" cy="566640"/>
            <a:chOff x="6991200" y="3328920"/>
            <a:chExt cx="568440" cy="566640"/>
          </a:xfrm>
        </p:grpSpPr>
        <p:pic>
          <p:nvPicPr>
            <p:cNvPr id="164" name="Овал 3" descr=""/>
            <p:cNvPicPr/>
            <p:nvPr/>
          </p:nvPicPr>
          <p:blipFill>
            <a:blip r:embed="rId1"/>
            <a:stretch/>
          </p:blipFill>
          <p:spPr>
            <a:xfrm>
              <a:off x="6991200" y="3328920"/>
              <a:ext cx="5684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110360" y="3424320"/>
              <a:ext cx="32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Овал 5"/>
          <p:cNvGrpSpPr/>
          <p:nvPr/>
        </p:nvGrpSpPr>
        <p:grpSpPr>
          <a:xfrm>
            <a:off x="7900920" y="4767120"/>
            <a:ext cx="566640" cy="567000"/>
            <a:chOff x="7900920" y="4767120"/>
            <a:chExt cx="566640" cy="567000"/>
          </a:xfrm>
        </p:grpSpPr>
        <p:pic>
          <p:nvPicPr>
            <p:cNvPr id="167" name="Овал 5" descr=""/>
            <p:cNvPicPr/>
            <p:nvPr/>
          </p:nvPicPr>
          <p:blipFill>
            <a:blip r:embed="rId2"/>
            <a:stretch/>
          </p:blipFill>
          <p:spPr>
            <a:xfrm>
              <a:off x="7900920" y="4767120"/>
              <a:ext cx="5666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023320" y="486396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Овал 6"/>
          <p:cNvGrpSpPr/>
          <p:nvPr/>
        </p:nvGrpSpPr>
        <p:grpSpPr>
          <a:xfrm>
            <a:off x="7900920" y="4121280"/>
            <a:ext cx="566640" cy="566640"/>
            <a:chOff x="7900920" y="4121280"/>
            <a:chExt cx="566640" cy="566640"/>
          </a:xfrm>
        </p:grpSpPr>
        <p:pic>
          <p:nvPicPr>
            <p:cNvPr id="170" name="Овал 6" descr=""/>
            <p:cNvPicPr/>
            <p:nvPr/>
          </p:nvPicPr>
          <p:blipFill>
            <a:blip r:embed="rId3"/>
            <a:stretch/>
          </p:blipFill>
          <p:spPr>
            <a:xfrm>
              <a:off x="7900920" y="4121280"/>
              <a:ext cx="5666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023320" y="4216320"/>
              <a:ext cx="323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7"/>
          <p:cNvGrpSpPr/>
          <p:nvPr/>
        </p:nvGrpSpPr>
        <p:grpSpPr>
          <a:xfrm>
            <a:off x="6918480" y="5340240"/>
            <a:ext cx="568080" cy="567000"/>
            <a:chOff x="6918480" y="5340240"/>
            <a:chExt cx="568080" cy="567000"/>
          </a:xfrm>
        </p:grpSpPr>
        <p:pic>
          <p:nvPicPr>
            <p:cNvPr id="173" name="Овал 7" descr=""/>
            <p:cNvPicPr/>
            <p:nvPr/>
          </p:nvPicPr>
          <p:blipFill>
            <a:blip r:embed="rId4"/>
            <a:stretch/>
          </p:blipFill>
          <p:spPr>
            <a:xfrm>
              <a:off x="6918480" y="5340240"/>
              <a:ext cx="5680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042320" y="544032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Овал 8"/>
          <p:cNvGrpSpPr/>
          <p:nvPr/>
        </p:nvGrpSpPr>
        <p:grpSpPr>
          <a:xfrm>
            <a:off x="6918480" y="5919840"/>
            <a:ext cx="568080" cy="566640"/>
            <a:chOff x="6918480" y="5919840"/>
            <a:chExt cx="568080" cy="566640"/>
          </a:xfrm>
        </p:grpSpPr>
        <p:pic>
          <p:nvPicPr>
            <p:cNvPr id="176" name="Овал 8" descr=""/>
            <p:cNvPicPr/>
            <p:nvPr/>
          </p:nvPicPr>
          <p:blipFill>
            <a:blip r:embed="rId5"/>
            <a:stretch/>
          </p:blipFill>
          <p:spPr>
            <a:xfrm>
              <a:off x="6918480" y="5919840"/>
              <a:ext cx="5680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042320" y="6016680"/>
              <a:ext cx="323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2128680" y="5060880"/>
            <a:ext cx="6021360" cy="738000"/>
            <a:chOff x="2128680" y="5060880"/>
            <a:chExt cx="6021360" cy="738000"/>
          </a:xfrm>
        </p:grpSpPr>
        <p:sp>
          <p:nvSpPr>
            <p:cNvPr id="179" name="AutoShape 3"/>
            <p:cNvSpPr/>
            <p:nvPr/>
          </p:nvSpPr>
          <p:spPr>
            <a:xfrm>
              <a:off x="2128680" y="5060880"/>
              <a:ext cx="6021360" cy="73800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"/>
            <p:cNvSpPr/>
            <p:nvPr/>
          </p:nvSpPr>
          <p:spPr>
            <a:xfrm>
              <a:off x="2177280" y="5087160"/>
              <a:ext cx="5951520" cy="32616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13"/>
          <p:cNvSpPr/>
          <p:nvPr/>
        </p:nvSpPr>
        <p:spPr>
          <a:xfrm>
            <a:off x="2273400" y="5086440"/>
            <a:ext cx="578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бый уровень мотивации способствует быстрой утомляемост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  <a:ea typeface="Cambria"/>
              </a:rPr>
              <a:t>АКТУАЛЬНОСТ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Группа 3"/>
          <p:cNvGrpSpPr/>
          <p:nvPr/>
        </p:nvGrpSpPr>
        <p:grpSpPr>
          <a:xfrm>
            <a:off x="1760400" y="3835440"/>
            <a:ext cx="6413760" cy="957960"/>
            <a:chOff x="1760400" y="3835440"/>
            <a:chExt cx="6413760" cy="957960"/>
          </a:xfrm>
        </p:grpSpPr>
        <p:grpSp>
          <p:nvGrpSpPr>
            <p:cNvPr id="184" name="Group 6"/>
            <p:cNvGrpSpPr/>
            <p:nvPr/>
          </p:nvGrpSpPr>
          <p:grpSpPr>
            <a:xfrm>
              <a:off x="2103120" y="3835440"/>
              <a:ext cx="6043320" cy="839520"/>
              <a:chOff x="2103120" y="3835440"/>
              <a:chExt cx="6043320" cy="839520"/>
            </a:xfrm>
          </p:grpSpPr>
          <p:sp>
            <p:nvSpPr>
              <p:cNvPr id="185" name="AutoShape 7"/>
              <p:cNvSpPr/>
              <p:nvPr/>
            </p:nvSpPr>
            <p:spPr>
              <a:xfrm>
                <a:off x="2103120" y="3835440"/>
                <a:ext cx="6043320" cy="839520"/>
              </a:xfrm>
              <a:prstGeom prst="roundRect">
                <a:avLst>
                  <a:gd name="adj" fmla="val 16667"/>
                </a:avLst>
              </a:prstGeom>
              <a:solidFill>
                <a:srgbClr val="fca304"/>
              </a:soli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2152080" y="3865320"/>
                <a:ext cx="5973120" cy="371160"/>
              </a:xfrm>
              <a:prstGeom prst="roundRect">
                <a:avLst>
                  <a:gd name="adj" fmla="val 31505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ca304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9"/>
            <p:cNvSpPr/>
            <p:nvPr/>
          </p:nvSpPr>
          <p:spPr>
            <a:xfrm>
              <a:off x="2261160" y="3876480"/>
              <a:ext cx="591300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епонимание прочитанного делает невозможным применение знаний на практике  и в жиз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1760400" y="3942360"/>
              <a:ext cx="685800" cy="686520"/>
            </a:xfrm>
            <a:prstGeom prst="diamond">
              <a:avLst/>
            </a:prstGeom>
            <a:solidFill>
              <a:srgbClr val="fca304"/>
            </a:solidFill>
            <a:ln w="25560">
              <a:solidFill>
                <a:srgbClr val="ffffff"/>
              </a:solidFill>
              <a:miter/>
            </a:ln>
            <a:effectLst>
              <a:outerShdw dist="7632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1915920" y="404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20"/>
          <p:cNvSpPr/>
          <p:nvPr/>
        </p:nvSpPr>
        <p:spPr>
          <a:xfrm>
            <a:off x="1790640" y="50846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1946880" y="518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1"/>
          <p:cNvGrpSpPr/>
          <p:nvPr/>
        </p:nvGrpSpPr>
        <p:grpSpPr>
          <a:xfrm>
            <a:off x="1708200" y="1441440"/>
            <a:ext cx="6381360" cy="825120"/>
            <a:chOff x="1708200" y="1441440"/>
            <a:chExt cx="6381360" cy="825120"/>
          </a:xfrm>
        </p:grpSpPr>
        <p:grpSp>
          <p:nvGrpSpPr>
            <p:cNvPr id="193" name="Group 22"/>
            <p:cNvGrpSpPr/>
            <p:nvPr/>
          </p:nvGrpSpPr>
          <p:grpSpPr>
            <a:xfrm>
              <a:off x="2068200" y="1441440"/>
              <a:ext cx="6021360" cy="825120"/>
              <a:chOff x="2068200" y="1441440"/>
              <a:chExt cx="6021360" cy="825120"/>
            </a:xfrm>
          </p:grpSpPr>
          <p:sp>
            <p:nvSpPr>
              <p:cNvPr id="194" name="AutoShape 23"/>
              <p:cNvSpPr/>
              <p:nvPr/>
            </p:nvSpPr>
            <p:spPr>
              <a:xfrm>
                <a:off x="2068200" y="1441440"/>
                <a:ext cx="6021360" cy="825120"/>
              </a:xfrm>
              <a:prstGeom prst="roundRect">
                <a:avLst>
                  <a:gd name="adj" fmla="val 16667"/>
                </a:avLst>
              </a:prstGeom>
              <a:solidFill>
                <a:srgbClr val="80e05a"/>
              </a:soli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4"/>
              <p:cNvSpPr/>
              <p:nvPr/>
            </p:nvSpPr>
            <p:spPr>
              <a:xfrm>
                <a:off x="2116800" y="1470960"/>
                <a:ext cx="5951520" cy="364680"/>
              </a:xfrm>
              <a:prstGeom prst="roundRect">
                <a:avLst>
                  <a:gd name="adj" fmla="val 31505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80e05a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25"/>
            <p:cNvSpPr/>
            <p:nvPr/>
          </p:nvSpPr>
          <p:spPr>
            <a:xfrm>
              <a:off x="2452680" y="1519200"/>
              <a:ext cx="5077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Низкая скорость чтения влечёт за собой дефицит времени на уро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6"/>
            <p:cNvSpPr/>
            <p:nvPr/>
          </p:nvSpPr>
          <p:spPr>
            <a:xfrm>
              <a:off x="1708200" y="1534680"/>
              <a:ext cx="685440" cy="685440"/>
            </a:xfrm>
            <a:prstGeom prst="diamond">
              <a:avLst/>
            </a:prstGeom>
            <a:solidFill>
              <a:srgbClr val="80e05a"/>
            </a:solidFill>
            <a:ln w="25560">
              <a:solidFill>
                <a:srgbClr val="ffffff"/>
              </a:solidFill>
              <a:miter/>
            </a:ln>
            <a:effectLst>
              <a:outerShdw dist="7632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7"/>
            <p:cNvSpPr/>
            <p:nvPr/>
          </p:nvSpPr>
          <p:spPr>
            <a:xfrm>
              <a:off x="1894320" y="168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"/>
          <p:cNvGrpSpPr/>
          <p:nvPr/>
        </p:nvGrpSpPr>
        <p:grpSpPr>
          <a:xfrm>
            <a:off x="2085840" y="2606760"/>
            <a:ext cx="6043320" cy="855360"/>
            <a:chOff x="2085840" y="2606760"/>
            <a:chExt cx="6043320" cy="855360"/>
          </a:xfrm>
        </p:grpSpPr>
        <p:sp>
          <p:nvSpPr>
            <p:cNvPr id="200" name="AutoShape 11"/>
            <p:cNvSpPr/>
            <p:nvPr/>
          </p:nvSpPr>
          <p:spPr>
            <a:xfrm>
              <a:off x="2085840" y="2606760"/>
              <a:ext cx="6043320" cy="85536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2"/>
            <p:cNvSpPr/>
            <p:nvPr/>
          </p:nvSpPr>
          <p:spPr>
            <a:xfrm>
              <a:off x="2134800" y="2637360"/>
              <a:ext cx="5973120" cy="37800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16"/>
          <p:cNvSpPr/>
          <p:nvPr/>
        </p:nvSpPr>
        <p:spPr>
          <a:xfrm>
            <a:off x="1743120" y="2693880"/>
            <a:ext cx="685800" cy="79056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1935360" y="281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400480" y="2681280"/>
            <a:ext cx="5717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лабый уровень восприятия и понимания содержания  дает низкое качество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  <a:ea typeface="Cambria"/>
              </a:rPr>
              <a:t>Человек лучше усваивает визуальную информац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34100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Пользователи читают ¼ текста на веб-странице, остальное воспринимают визу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Наличие цветной картинки на 80% повышает вероятность того, что текст рядом с ней не будет про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90% информации обрабатывается мозгом в визуа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Текстовые этикетки понятны на 70%, а этикетки с картинками – на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Люди пересказывают 80 % того, что видели или делали, 20% того, что читали и только 10% того, что слышал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8229600" cy="465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ello_html_m19cab38e.jpg"/>
          <p:cNvPicPr/>
          <p:nvPr/>
        </p:nvPicPr>
        <p:blipFill>
          <a:blip r:embed="rId2"/>
          <a:stretch/>
        </p:blipFill>
        <p:spPr>
          <a:xfrm>
            <a:off x="1495440" y="239760"/>
            <a:ext cx="615312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5:01:50Z</dcterms:created>
  <dc:creator>UserHp</dc:creator>
  <dc:description/>
  <dc:language>en-US</dc:language>
  <cp:lastModifiedBy>Admin</cp:lastModifiedBy>
  <dcterms:modified xsi:type="dcterms:W3CDTF">2022-04-17T13:05:17Z</dcterms:modified>
  <cp:revision>142</cp:revision>
  <dc:subject/>
  <dc:title>ThemeGallery PowerTemplate</dc:title>
</cp:coreProperties>
</file>