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3D8-AE5F-45EF-9D36-EEACF33A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F91-460E-4A2D-AC4F-706DDB13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78E-5DD8-40FD-98DA-C180BD1D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FCA-A69F-4B56-B6CE-5A09A37A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518B-A414-4566-80C8-A8C012B2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5359-EF92-41EC-9B12-13FEAB0A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9539-BA32-4330-BE25-AC938073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326A-AF81-40EF-A62C-33223D73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8E5C-D0EE-4806-B772-7EEE4389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BD9E-04EA-455C-95F1-2E439DA0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DE80-CDF1-4E6F-896D-62F9EEB9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59F-D13A-4CAF-92BA-CC9E0B5D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053A-C995-42F6-93BB-55548815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0796-BDDC-4EEF-8B31-5D23EB3C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A2B5-2209-4395-B011-5876B438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2DD8-0F6B-4ED8-8D74-9B2A8C13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F3B8-5268-489D-A41F-F09C69D7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B5C-7862-45B0-87C4-4F6FB41C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1B4-46D6-446D-8C73-42FFD648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387-C7BB-408F-AE38-D0DF9CEE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B38-5613-471B-AC9F-1EB8F0B7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A8D-8B51-441E-94AA-44891196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851-EB39-4449-ADEF-D5D50760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353-98D0-40BB-BBA4-7E274754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4328-5DDE-407E-8753-E4B44E12B08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515E-A322-4932-9C96-B6BD94022EF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alend.ru/day/3-24/" TargetMode="External"/><Relationship Id="rId2" Type="http://schemas.openxmlformats.org/officeDocument/2006/relationships/hyperlink" Target="http://www.calend.ru/day/10-17/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дготовка к ЕГЭ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Языковые нормы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люч к тесту по орфоэпи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бал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á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ь, за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ú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дно, столяр, т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ó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рты, дос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ý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г, катал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ó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г, дог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ó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р, пул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ó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ер, крас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ú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ее, танц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ó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щица, язык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ó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ая (колбаса),срѐдства, там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ó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жня, отч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á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алл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64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До 5 – «2»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С 6 до 9 – «3»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С 10 до 12 – «4»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13, 14 – «5»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орфологические нор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орфологические нормы определяют, какую из образованных форм различных частей речи можно считать правильно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Имя существительное: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при образовании формы род. падежа мн. числа сущ.-ых, многие сущ. муж. рода имеют нулевое окончание. (чулок, румын, ватт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Имя прилагательное: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неправильное образование форм сравнительной и превосходной степеней прил-х, соединение простой и сложной форм сравнительной степени прил-х. (более лучшее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Глагол: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группа глаголов, которые не образуют формы 1-го лица ед. числа настоящего и будущего времени (победить, ощутить). Употребить эти глаголы можно при использовании описательной конструкции (попытаюсь победить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Имя числительное: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 числ-х от 50 до 80 и от 200 до 900 склоняются обе части (двумястами, пятистами). В составных порядковых числ-х склоняется только последний компонент (пятьсот двадцать пятый). В составных кол-х и дробных числ-х склоняются все его компоненты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Тест по морфологическим нормам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Отметьте предложения с нарушением морфологических норм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идоров, ты настоящий засоня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лнечное Баку ждет гостей фестивал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 обоих девушек телефоны начинались на одну цифр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рок отменили: учительница на бюллетн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Лексические нор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авильно определяем лексическое значение сло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личаем пароним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блюдаем нормы лексической сочетаем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леоназмы – «лишние» сло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автология – неоправданное употребление однокоренных слов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ечевые ошиб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гласование существительного с производным предлог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Он действовал вопреки предписа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Благодаря непогоде урожай собран небольш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407880"/>
            <a:ext cx="800244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чины речевых ошибок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епонимание значения слов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ексическая сочетаемость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потребление омонимов, синонимов, паронимов, многозначных слов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ногословие (плеоназмы, тавтология)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ексическая неполнота высказывания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овые слов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лова иноязычного происхождения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иалектизмы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говорная и просторечная лексик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офессиональные жаргонизмы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Фразеологизмы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лише, штамп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нтаксические нор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правильное употребление деепричастий и деепричастных оборотов в предложен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еепричастный оборот не употребляется в бессоюзном предложен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Поднявшись по крутому склону горы, перед нами открылся великолепный вид на мор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интаксические нормы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ормы управл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правление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– вид подчинительной связи, при котором зависимое слово ставится в определенном падеж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Ученые хотели вникнуть и познать все тайны природ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согласованность часто наблюдается в предложениях с причастными оборот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Пришлось пробираться сквозь заросли, постоянно заслоняющими нам дорог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Тест по синтаксическим нормам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Выберите грамматически правильное продолжение предлож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Делая домашние задания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асто играет музы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стоит отвлекатьс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олжно использоваться правильное освещени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ною было написано хорошее сочинени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пиграф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ращаться с языком кое-как- значит и мыслить кое-как: неточно, приблизительно, неверн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.Н.Толст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Тест по синтаксическим нормам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каком предложении придаточную часть нельзя заменить причастным оборотом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) Облик Ореста Кипренского наиболее полно соответствовал представлениям литераторов о том, каким должен быть живописец-романтик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2) В 1827 году появились два самых известных портрета А.С.Пушкина, которые были написаны О. Кипренским и В.Тропининым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3) Пушкин показан на портрете в модном сюртуке и в плаще, который накинут на плечо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) Пушкин очень ценил портрет, который выполнил Кипренски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ценивание за тесты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35280" y="1774800"/>
            <a:ext cx="5905440" cy="39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17-20 б – «5»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15-16 б – «4»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11-14 б – «3»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иже 10 – «2»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cc00"/>
                </a:solidFill>
                <a:latin typeface="Verdana"/>
              </a:rPr>
              <a:t>Спасибо 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cc00"/>
                </a:solidFill>
                <a:latin typeface="Verdana"/>
              </a:rPr>
              <a:t>за работу на уроке!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Рисунок 1" descr="http://upload.wikimedia.org/wikipedia/commons/b/b0/Zheldor_Kuragino-Kyzyl.gif"/>
          <p:cNvPicPr/>
          <p:nvPr/>
        </p:nvPicPr>
        <p:blipFill>
          <a:blip r:embed="rId1"/>
          <a:stretch/>
        </p:blipFill>
        <p:spPr>
          <a:xfrm>
            <a:off x="1835280" y="333360"/>
            <a:ext cx="5041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Рисунок 5" descr="http://www.metronsk.ru/img/issues/169a4289211563ed559012042b124554.jpg"/>
          <p:cNvPicPr/>
          <p:nvPr/>
        </p:nvPicPr>
        <p:blipFill>
          <a:blip r:embed="rId1"/>
          <a:stretch/>
        </p:blipFill>
        <p:spPr>
          <a:xfrm>
            <a:off x="1476360" y="549360"/>
            <a:ext cx="568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Орест Кипрен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знаменитый русский художник-портретис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24 март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1782 —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7 октября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1836 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1403280" y="1628640"/>
          <a:ext cx="640728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628640"/>
                    <a:ext cx="64072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Языковые нор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304920" y="2286000"/>
            <a:ext cx="2361960" cy="9907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орфоэпическ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971800" y="2286000"/>
            <a:ext cx="2819520" cy="9907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грамматическ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6172200" y="228600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интаксическ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2057400" y="4572000"/>
            <a:ext cx="2209680" cy="990720"/>
          </a:xfrm>
          <a:prstGeom prst="ellipse">
            <a:avLst/>
          </a:prstGeom>
          <a:solidFill>
            <a:srgbClr val="339966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морфологическ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4952880" y="4572000"/>
            <a:ext cx="2286000" cy="990720"/>
          </a:xfrm>
          <a:prstGeom prst="ellipse">
            <a:avLst/>
          </a:prstGeom>
          <a:solidFill>
            <a:srgbClr val="339966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лексическ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2209680" y="304920"/>
            <a:ext cx="4724640" cy="914400"/>
          </a:xfrm>
          <a:prstGeom prst="rect">
            <a:avLst/>
          </a:prstGeom>
          <a:solidFill>
            <a:srgbClr val="339966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Языковые нор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419720" y="1219320"/>
            <a:ext cx="0" cy="106668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H="1">
            <a:off x="1600200" y="1219320"/>
            <a:ext cx="1828800" cy="106668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5562720" y="1219320"/>
            <a:ext cx="1828800" cy="106668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3048120" y="3276720"/>
            <a:ext cx="1295280" cy="129528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4343400" y="3276720"/>
            <a:ext cx="1676520" cy="129528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Норма (лат) языковая –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щепринятые и узаконенные правила, установки, образцы и пр. в использовании язы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рфоэпические нор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рфоэпия – это раздел науки, посвященный нормам литературного произнош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Эти нормы фиксируются в орфоэпических словарях русского язы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ст по орфоэп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Определите место ударения в словах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аловать, завидно, столяр, торты, досуг, каталог, договор, пуловер, красивее, танцовщица, языковая (колбаса),средства, таможня, отчасти.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0:11:26Z</dcterms:created>
  <dc:creator>ф</dc:creator>
  <dc:description/>
  <dc:language>en-US</dc:language>
  <cp:lastModifiedBy>Позитроника</cp:lastModifiedBy>
  <dcterms:modified xsi:type="dcterms:W3CDTF">2012-03-28T07:45:41Z</dcterms:modified>
  <cp:revision>33</cp:revision>
  <dc:subject/>
  <dc:title>Подготовка к ЕГЭ</dc:title>
</cp:coreProperties>
</file>