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DF5-7DE5-4BC1-A735-868F0849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8C8-5A1F-4048-8870-535B90C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B9F-3143-42F0-A729-3ADAB2AF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2EA-A8A5-4A0F-9370-C0EA0552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4C64-5101-4D6A-9D07-83CD8707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8096-F74B-46F1-B6BC-793DDCBC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8CF5-44F2-499A-B0E0-41DD167C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4A2-4AD6-44A4-8428-ACEF7DCB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3B92-2792-4761-881E-16B9A13A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08C5-4516-4C7C-B6E4-6D7F8DDF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359B-6EE5-4C70-B180-73E1AD1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E0E-619D-42E2-8E00-1BC47BBA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1C4E-C2C7-417A-9FBF-EF72E7E8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0D3-326C-4009-93F6-8A7746A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89B6-33D0-4F90-BE1C-8D992335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DB2E-97D6-414F-B06E-667AA5F3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B0EC-E656-48A1-81AE-01E9760E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A83-F2EC-4C24-8373-02FDA456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334-EA6C-4792-A563-5BC5B9D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CEBA-453E-48AC-9203-5792538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DB4-723F-4967-A1F7-3A740DB2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F33-BEAB-4CCC-8B54-98462A69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C88-48F5-488E-9DD6-4558A17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195-8B19-4439-9704-A6E3C80D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4480-6869-42C2-B0C9-1F58DB4282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A278-FA1D-4D61-9D86-0F18451601E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alend.ru/day/3-24/" TargetMode="External"/><Relationship Id="rId2" Type="http://schemas.openxmlformats.org/officeDocument/2006/relationships/hyperlink" Target="http://www.calend.ru/day/10-17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готовка к ЕГЭ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Verdana"/>
              </a:rPr>
              <a:t>Языковые нормы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люч к тесту по орфоэпи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бал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á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ь, за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ú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дно, столяр, т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рты, дос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ý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, катал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г, догов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р, пул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ер, крас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ú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ее, танц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щица, язык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ая (колбаса),срѐдства, там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ó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жня, отч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á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Балл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7280" y="1599840"/>
            <a:ext cx="64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До 5 – «2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 6 до 9 – «3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С 10 до 12 – «4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Verdana"/>
              </a:rPr>
              <a:t>13, 14 – «5»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орфолог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Морфологические нормы определяют, какую из образованных форм различных частей речи можно считать правильно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существительное: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при образовании формы род. падежа мн. числа сущ.-ых, многие сущ. муж. рода имеют нулевое окончание. (чулок, румын, ватт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прилагательное: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неправильное образование форм сравнительной и превосходной степеней прил-х, соединение простой и сложной форм сравнительной степени прил-х. (более лучшее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Глагол: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группа глаголов, которые не образуют формы 1-го лица ед. числа настоящего и будущего времени (победить, ощутить). Употребить эти глаголы можно при использовании описательной конструкции (попытаюсь победить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Verdana"/>
              </a:rPr>
              <a:t>Имя числительное: </a:t>
            </a: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У числ-х от 50 до 80 и от 200 до 900 склоняются обе части (двумястами, пятистами). В составных порядковых числ-х склоняется только последний компонент (пятьсот двадцать пятый). В составных кол-х и дробных числ-х склоняются все его компоненты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ест по морфологическим нормам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Отметьте предложения с нарушением морфологических норм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идоров, ты настоящий засоня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лнечное Баку ждет гостей фестивал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 обоих девушек телефоны начинались на одну цифр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рок отменили: учительница на бюллетн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екс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равильно определяем лексическое значение сл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личаем пароним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блюдаем нормы лексической сочетаем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Плеоназмы – «лишние» сло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Тавтология – неоправданное употребление однокоренных слов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ечевые ошиб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огласование существительного с производным предлог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Он действовал вопреки предпис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Verdana"/>
              </a:rPr>
              <a:t>Благодаря непогоде урожай собран небольш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407880"/>
            <a:ext cx="800244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речевых ошибок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онимание значения слов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ксическая сочетаемость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Употребление омонимов, синонимов, паронимов, многозначных слов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ногословие (плеоназмы, тавтология)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ексическая неполнота высказыва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овые слов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лова иноязычного происхождения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иалект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говорная и просторечная лексик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офессиональные жаргон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разеологизм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лише, штамп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интакс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правильное употребление деепричастий и деепричастных оборотов в предлож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еепричастный оборот не употребляется в бессоюзном предложени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Поднявшись по крутому склону горы, перед нами открылся великолепный вид на мор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интаксические нормы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ормы управл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Управление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– вид подчинительной связи, при котором зависимое слово ставится в определенном падеж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Ученые хотели вникнуть и познать все тайны природ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согласованность часто наблюдается в предложениях с причастными оборот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Пришлось пробираться сквозь заросли, постоянно заслоняющими нам дорогу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ст по синтаксическим норма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ыберите грамматически правильное продолжение предлож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aeaea"/>
                </a:solidFill>
                <a:latin typeface="Verdana"/>
              </a:rPr>
              <a:t>Делая домашние задания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асто играет музык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стоит отвлека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олжно использоваться правильное освещ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ною было написано хорошее сочинение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пиграф урока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ращаться с языком кое-как- значит и мыслить кое-как: неточно, приблизительно, неверн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А.Н.Толст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Тест по синтаксическим норма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каком предложении придаточную часть нельзя заменить причастным оборотом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) Облик Ореста Кипренского наиболее полно соответствовал представлениям литераторов о том, каким должен быть живописец-романтик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) В 1827 году появились два самых известных портрета А.С.Пушкина, которые были написаны О. Кипренским и В.Тропининым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) Пушкин показан на портрете в модном сюртуке и в плаще, который накинут на плечо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) Пушкин очень ценил портрет, который выполнил Кипренск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ценивание за тесты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35280" y="1774800"/>
            <a:ext cx="590544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7-20 б – «5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5-16 б – «4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11-14 б – «3»;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иже 10 – «2»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Verdana"/>
              </a:rPr>
              <a:t>Спасибо 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cc00"/>
                </a:solidFill>
                <a:latin typeface="Verdana"/>
              </a:rPr>
              <a:t>за работу на уроке!</a:t>
            </a: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Рисунок 1" descr="http://upload.wikimedia.org/wikipedia/commons/b/b0/Zheldor_Kuragino-Kyzyl.gif"/>
          <p:cNvPicPr/>
          <p:nvPr/>
        </p:nvPicPr>
        <p:blipFill>
          <a:blip r:embed="rId1"/>
          <a:stretch/>
        </p:blipFill>
        <p:spPr>
          <a:xfrm>
            <a:off x="1835280" y="333360"/>
            <a:ext cx="50418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Рисунок 5" descr="http://www.metronsk.ru/img/issues/169a4289211563ed559012042b124554.jpg"/>
          <p:cNvPicPr/>
          <p:nvPr/>
        </p:nvPicPr>
        <p:blipFill>
          <a:blip r:embed="rId1"/>
          <a:stretch/>
        </p:blipFill>
        <p:spPr>
          <a:xfrm>
            <a:off x="1476360" y="549360"/>
            <a:ext cx="5688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Орест Кипренский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знаменитый русский художник-портретис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24 марта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1782 —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17 октября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1836 </a:t>
            </a:r>
            <a:br>
              <a:rPr sz="2400"/>
            </a:b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212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403280" y="1628640"/>
          <a:ext cx="640728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628640"/>
                    <a:ext cx="64072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Языковы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304920" y="2286000"/>
            <a:ext cx="2361960" cy="99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рфоэп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971800" y="2286000"/>
            <a:ext cx="2819520" cy="99072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раммат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172200" y="2286000"/>
            <a:ext cx="2666880" cy="91440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интакс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057400" y="4572000"/>
            <a:ext cx="2209680" cy="99072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орфолог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952880" y="4572000"/>
            <a:ext cx="2286000" cy="99072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лексическ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209680" y="304920"/>
            <a:ext cx="4724640" cy="914400"/>
          </a:xfrm>
          <a:prstGeom prst="rect">
            <a:avLst/>
          </a:prstGeom>
          <a:solidFill>
            <a:srgbClr val="339966"/>
          </a:solidFill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зыковые нор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4419720" y="1219320"/>
            <a:ext cx="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H="1">
            <a:off x="1600200" y="1219320"/>
            <a:ext cx="182880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5562720" y="1219320"/>
            <a:ext cx="1828800" cy="10666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>
            <a:off x="3048120" y="3276720"/>
            <a:ext cx="1295280" cy="12952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343400" y="3276720"/>
            <a:ext cx="1676520" cy="129528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орма (лат) языковая –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щепринятые и узаконенные правила, установки, образцы и пр. в использовании язы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рфоэпические нор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рфоэпия – это раздел науки, посвященный нормам литературного произнош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Эти нормы фиксируются в орфоэпических словарях русского язы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ст по орфоэп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Определите место ударения в словах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баловать, завидно, столяр, торты, досуг, каталог, договор, пуловер, красивее, танцовщица, языковая (колбаса),средства, таможня, отчасти.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0:11:26Z</dcterms:created>
  <dc:creator>ф</dc:creator>
  <dc:description/>
  <dc:language>en-US</dc:language>
  <cp:lastModifiedBy>Позитроника</cp:lastModifiedBy>
  <dcterms:modified xsi:type="dcterms:W3CDTF">2012-03-28T07:45:41Z</dcterms:modified>
  <cp:revision>33</cp:revision>
  <dc:subject/>
  <dc:title>Подготовка к ЕГЭ</dc:title>
</cp:coreProperties>
</file>