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6D0-4D60-459F-840F-2D55CD00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5AA-248E-49CE-B725-2235D8B0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621-C1D1-45BE-AAC8-0804D9F2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767-F69C-42E3-A212-8156798E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0CA-F483-431B-8FD0-E23870B1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BAF-600B-4102-BFCE-874326F9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9A1-7351-48A1-B8A7-A22D2B85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B37-7031-4D7E-9FBB-66B07AAC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09F-3A2E-470A-8E8D-363CFB99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20F-43F1-4E8C-9FA0-D7D257A9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83B-4436-4939-AA58-607F597C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C23-54D9-442F-BC85-4B7AAE54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8092-F42E-4708-AA0B-70128D797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3011400" y="1200240"/>
            <a:ext cx="5767560" cy="304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987640" y="4797360"/>
            <a:ext cx="56484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66"/>
                </a:solidFill>
                <a:latin typeface="Constantia"/>
              </a:rPr>
              <a:t>Орлова Галина Викторовн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66"/>
                </a:solidFill>
                <a:latin typeface="Constantia"/>
              </a:rPr>
              <a:t>воспитатель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784600" y="1224000"/>
            <a:ext cx="626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 1.Познакомить детей с российским праздником День космонав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Развитие познавательной активности детей, расширение знаний о космосе, солнечной системе, планете Земля, закрепление знаний о первом космонавте Ю. Гагар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395280" y="3178080"/>
            <a:ext cx="86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бразовательные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Познакомить детей с российским праздником День космонав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витие познавательной активности детей, расширение знаний о космосе, солнечной системе, планете Земля, закрепление знаний о первом космонавте Ю. Гагар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Развивающие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 Развивать творческое воображение, фантазию, умение импровиз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витие познавательных и интеллектуальных способностей детей, их творческого потенц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.Воспитательные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 Воспитывать взаимопомощь, доброжелательного отношения друг к другу, гордость за людей данной профессии, к своей Ро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итание бережного отношения к тому, что есть на нашей плане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2484360" y="1700280"/>
            <a:ext cx="64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ес к Космосу пробуждается у человека весьма рано, буквально с первых шагов. Загадки Вселенной будоражат воображение всегда, с раннего детства до старости. Сол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уна, звезды – это одновременно так близко, и в то же время так далеко. Вспомните свое детство, как интересно было смотреть в ночное небо. Как поддержать интерес ребенка к неизведанному? Данный проект направлен на развитие кругозора детей, формирование у них познавательной активности, воспитание патриотических чувств (гордость за российских космонавтов – первооткрывателей космо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0000" y="764640"/>
            <a:ext cx="68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2050920" y="1052640"/>
            <a:ext cx="68421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Этап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подготовительны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ервоначальных знаний детей о космосе; Подобрать фото - коллекцию о космосе; Подготовить презентации о космосе, солнечной системе, космонавтах; Подготовить раскраски в соответствии с возрас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Основ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еседы с деть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мы знаем о космосе», «Солнце – источник жизни на Земле», «Первые попытки покорения космоса», и др. Работа с родителями по теме проекта; Консультации «Знакомим ребенка с космосом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 12 апреля – День космонавтики; Организация сюжетно – ролевых, дидактических, подвижных игр; Организация выставки работ: рисование «Ракеты»; рисование губкой «Планеты», рисование ватными палочками «Космические объекты»; лепка «Ракета»; выставка макетов «Космос» (родители с деть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Заключитель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е «Мы – космонавты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0" y="-6516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4392720" y="76212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5640" y="229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Фотоотчёт</a:t>
            </a:r>
            <a:br>
              <a:rPr sz="44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радиционная техника рисования, леп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4"/>
          <a:stretch/>
        </p:blipFill>
        <p:spPr>
          <a:xfrm>
            <a:off x="1036800" y="189000"/>
            <a:ext cx="3240000" cy="2585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"/>
          <p:cNvPicPr/>
          <p:nvPr/>
        </p:nvPicPr>
        <p:blipFill>
          <a:blip r:embed="rId5"/>
          <a:stretch/>
        </p:blipFill>
        <p:spPr>
          <a:xfrm>
            <a:off x="6369120" y="3506760"/>
            <a:ext cx="2168280" cy="2892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6"/>
          <a:srcRect l="-8076" t="0" r="0" b="0"/>
          <a:stretch/>
        </p:blipFill>
        <p:spPr>
          <a:xfrm>
            <a:off x="324000" y="3467160"/>
            <a:ext cx="4751280" cy="2932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"/>
          <p:cNvPicPr/>
          <p:nvPr/>
        </p:nvPicPr>
        <p:blipFill>
          <a:blip r:embed="rId7"/>
          <a:stretch/>
        </p:blipFill>
        <p:spPr>
          <a:xfrm>
            <a:off x="6135840" y="16020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23760" y="23760"/>
            <a:ext cx="165744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3821040" y="2444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84360" y="235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формление стен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4"/>
          <a:stretch/>
        </p:blipFill>
        <p:spPr>
          <a:xfrm>
            <a:off x="100080" y="2217600"/>
            <a:ext cx="4048200" cy="44532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4572000" y="3403440"/>
            <a:ext cx="4356000" cy="3267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987880" y="235080"/>
            <a:ext cx="282924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23760" y="23760"/>
            <a:ext cx="1657440" cy="165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632720" y="4724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50960" y="299700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звлечение «Мы космонавты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4"/>
          <a:stretch/>
        </p:blipFill>
        <p:spPr>
          <a:xfrm>
            <a:off x="6111720" y="473040"/>
            <a:ext cx="2668680" cy="2639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"/>
          <p:cNvPicPr/>
          <p:nvPr/>
        </p:nvPicPr>
        <p:blipFill>
          <a:blip r:embed="rId5"/>
          <a:stretch/>
        </p:blipFill>
        <p:spPr>
          <a:xfrm>
            <a:off x="3165480" y="330120"/>
            <a:ext cx="2571840" cy="2808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"/>
          <p:cNvPicPr/>
          <p:nvPr/>
        </p:nvPicPr>
        <p:blipFill>
          <a:blip r:embed="rId6"/>
          <a:stretch/>
        </p:blipFill>
        <p:spPr>
          <a:xfrm>
            <a:off x="324000" y="392760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"/>
          <p:cNvPicPr/>
          <p:nvPr/>
        </p:nvPicPr>
        <p:blipFill>
          <a:blip r:embed="rId7"/>
          <a:stretch/>
        </p:blipFill>
        <p:spPr>
          <a:xfrm>
            <a:off x="262080" y="730080"/>
            <a:ext cx="2666880" cy="2432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"/>
          <p:cNvPicPr/>
          <p:nvPr/>
        </p:nvPicPr>
        <p:blipFill>
          <a:blip r:embed="rId8"/>
          <a:stretch/>
        </p:blipFill>
        <p:spPr>
          <a:xfrm>
            <a:off x="4917960" y="3981600"/>
            <a:ext cx="258768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23760" y="23760"/>
            <a:ext cx="1657440" cy="165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380360" y="270036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5240" y="294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боты родителей с деть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4"/>
          <a:stretch/>
        </p:blipFill>
        <p:spPr>
          <a:xfrm>
            <a:off x="5292720" y="396720"/>
            <a:ext cx="3419640" cy="2565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"/>
          <p:cNvPicPr/>
          <p:nvPr/>
        </p:nvPicPr>
        <p:blipFill>
          <a:blip r:embed="rId5"/>
          <a:stretch/>
        </p:blipFill>
        <p:spPr>
          <a:xfrm>
            <a:off x="974880" y="3844800"/>
            <a:ext cx="3563640" cy="2673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6"/>
          <a:stretch/>
        </p:blipFill>
        <p:spPr>
          <a:xfrm>
            <a:off x="2039760" y="304920"/>
            <a:ext cx="2789280" cy="27367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7"/>
          <a:stretch/>
        </p:blipFill>
        <p:spPr>
          <a:xfrm>
            <a:off x="5292720" y="4092480"/>
            <a:ext cx="3073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23760" y="23760"/>
            <a:ext cx="1657440" cy="165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3821040" y="2444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360" y="51573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4"/>
          <a:stretch/>
        </p:blipFill>
        <p:spPr>
          <a:xfrm>
            <a:off x="2343240" y="406440"/>
            <a:ext cx="6332400" cy="4751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5"/>
          <a:stretch/>
        </p:blipFill>
        <p:spPr>
          <a:xfrm>
            <a:off x="5986440" y="3760920"/>
            <a:ext cx="33656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20:21:28Z</dcterms:created>
  <dc:creator>DAY</dc:creator>
  <dc:description/>
  <dc:language>en-US</dc:language>
  <cp:lastModifiedBy>windows 8</cp:lastModifiedBy>
  <dcterms:modified xsi:type="dcterms:W3CDTF">2022-04-20T07:49:54Z</dcterms:modified>
  <cp:revision>19</cp:revision>
  <dc:subject/>
  <dc:title>Слайд 1</dc:title>
</cp:coreProperties>
</file>