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gif" ContentType="image/gif"/>
  <Override PartName="/ppt/media/image5.jpeg" ContentType="image/jpeg"/>
  <Override PartName="/ppt/media/image4.jpeg" ContentType="image/jpeg"/>
  <Override PartName="/ppt/media/image2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CF9B-8CDC-49E7-8423-240454ED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9B7A-4119-4A14-A654-084D4D12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39A6-3D90-4750-8CB6-9E31C8A27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3C2F-A088-43D0-AE47-52948533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AA2D-D82A-455B-9C33-2FAAF2F0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7D21-0C6B-401B-9722-CFE9FA8E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11D7-7339-4AF0-847E-2E51FD73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5E7E-FF40-495E-9FE4-D088E12F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55C8-3E47-4CF4-A20F-37028B8D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36DE-41F9-4169-978D-ED2CAC26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167B-4F21-4DD2-AD4F-FFC5D437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0A87-2CED-4697-AB42-7CE53B4F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54B7-B517-4DDE-9C4E-6220A316D2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3011400" y="1200240"/>
            <a:ext cx="5767560" cy="3043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987640" y="4797360"/>
            <a:ext cx="56484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66"/>
                </a:solidFill>
                <a:latin typeface="Constantia"/>
              </a:rPr>
              <a:t>Орлова Галина Викторовн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66"/>
                </a:solidFill>
                <a:latin typeface="Constantia"/>
              </a:rPr>
              <a:t>воспитатель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2784600" y="1224000"/>
            <a:ext cx="6265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Цель</a:t>
            </a: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: 1.Познакомить детей с российским праздником День космонавт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.Развитие познавательной активности детей, расширение знаний о космосе, солнечной системе, планете Земля, закрепление знаний о первом космонавте Ю. Гагар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2"/>
          <p:cNvSpPr/>
          <p:nvPr/>
        </p:nvSpPr>
        <p:spPr>
          <a:xfrm>
            <a:off x="395280" y="3178080"/>
            <a:ext cx="8640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.</a:t>
            </a:r>
            <a:r>
              <a:rPr b="0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Образовательные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:Познакомить детей с российским праздником День космонав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азвитие познавательной активности детей, расширение знаний о космосе, солнечной системе, планете Земля, закрепление знаний о первом космонавте Ю. Гагар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.</a:t>
            </a:r>
            <a:r>
              <a:rPr b="0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Развивающие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: Развивать творческое воображение, фантазию, умение импровизир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азвитие познавательных и интеллектуальных способностей детей, их творческого потенциа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.Воспитательные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: Воспитывать взаимопомощь, доброжелательного отношения друг к другу, гордость за людей данной профессии, к своей Род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оспитание бережного отношения к тому, что есть на нашей плане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3"/>
          <p:cNvSpPr/>
          <p:nvPr/>
        </p:nvSpPr>
        <p:spPr>
          <a:xfrm>
            <a:off x="2484360" y="1700280"/>
            <a:ext cx="64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терес к Космосу пробуждается у человека весьма рано, буквально с первых шагов. Загадки Вселенной будоражат воображение всегда, с раннего детства до старости. Солнц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уна, звезды – это одновременно так близко, и в то же время так далеко. Вспомните свое детство, как интересно было смотреть в ночное небо. Как поддержать интерес ребенка к неизведанному? Данный проект направлен на развитие кругозора детей, формирование у них познавательной активности, воспитание патриотических чувств (гордость за российских космонавтов – первооткрывателей космос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0000" y="764640"/>
            <a:ext cx="68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Актуальность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2"/>
          <p:cNvSpPr/>
          <p:nvPr/>
        </p:nvSpPr>
        <p:spPr>
          <a:xfrm>
            <a:off x="2050920" y="1052640"/>
            <a:ext cx="684216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Этапы реализации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этап подготовительны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первоначальных знаний детей о космосе; Подобрать фото - коллекцию о космосе; Подготовить презентации о космосе, солнечной системе, космонавтах; Подготовить раскраски в соответствии с возрас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этап Основн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Беседы с деть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 мы знаем о космосе», «Солнце – источник жизни на Земле», «Первые попытки покорения космоса», и др. Работа с родителями по теме проекта; Консультации «Знакомим ребенка с космосом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 12 апреля – День космонавтики; Организация сюжетно – ролевых, дидактических, подвижных игр; Организация выставки работ: рисование «Ракеты»; рисование губкой «Планеты», рисование ватными палочками «Космические объекты»; лепка «Ракета»; выставка макетов «Космос» (родители с деть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п Заключительн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лечение «Мы – космонавты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http://barselit.ru/images/males/gf.gif"/>
          <p:cNvPicPr/>
          <p:nvPr/>
        </p:nvPicPr>
        <p:blipFill>
          <a:blip r:embed="rId2"/>
          <a:stretch/>
        </p:blipFill>
        <p:spPr>
          <a:xfrm>
            <a:off x="0" y="-65160"/>
            <a:ext cx="1655640" cy="165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http://barselit.ru/images/males/gf.gif"/>
          <p:cNvPicPr/>
          <p:nvPr/>
        </p:nvPicPr>
        <p:blipFill>
          <a:blip r:embed="rId3"/>
          <a:stretch/>
        </p:blipFill>
        <p:spPr>
          <a:xfrm>
            <a:off x="4392720" y="76212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55640" y="229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Фотоотчёт</a:t>
            </a:r>
            <a:br>
              <a:rPr sz="4400"/>
            </a:b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традиционная техника рисования, леп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2" descr=""/>
          <p:cNvPicPr/>
          <p:nvPr/>
        </p:nvPicPr>
        <p:blipFill>
          <a:blip r:embed="rId4"/>
          <a:stretch/>
        </p:blipFill>
        <p:spPr>
          <a:xfrm>
            <a:off x="1036800" y="189000"/>
            <a:ext cx="3240000" cy="25858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3" descr=""/>
          <p:cNvPicPr/>
          <p:nvPr/>
        </p:nvPicPr>
        <p:blipFill>
          <a:blip r:embed="rId5"/>
          <a:stretch/>
        </p:blipFill>
        <p:spPr>
          <a:xfrm>
            <a:off x="6369120" y="3506760"/>
            <a:ext cx="2168280" cy="28926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"/>
          <p:cNvPicPr/>
          <p:nvPr/>
        </p:nvPicPr>
        <p:blipFill>
          <a:blip r:embed="rId6"/>
          <a:srcRect l="-8076" t="0" r="0" b="0"/>
          <a:stretch/>
        </p:blipFill>
        <p:spPr>
          <a:xfrm>
            <a:off x="324000" y="3467160"/>
            <a:ext cx="4751280" cy="29322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"/>
          <p:cNvPicPr/>
          <p:nvPr/>
        </p:nvPicPr>
        <p:blipFill>
          <a:blip r:embed="rId7"/>
          <a:stretch/>
        </p:blipFill>
        <p:spPr>
          <a:xfrm>
            <a:off x="6135840" y="160200"/>
            <a:ext cx="273672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http://barselit.ru/images/males/gf.gif"/>
          <p:cNvPicPr/>
          <p:nvPr/>
        </p:nvPicPr>
        <p:blipFill>
          <a:blip r:embed="rId2"/>
          <a:stretch/>
        </p:blipFill>
        <p:spPr>
          <a:xfrm>
            <a:off x="23760" y="23760"/>
            <a:ext cx="1657440" cy="1655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http://barselit.ru/images/males/gf.gif"/>
          <p:cNvPicPr/>
          <p:nvPr/>
        </p:nvPicPr>
        <p:blipFill>
          <a:blip r:embed="rId3"/>
          <a:stretch/>
        </p:blipFill>
        <p:spPr>
          <a:xfrm>
            <a:off x="3821040" y="24444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84360" y="235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формление стенд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3" descr=""/>
          <p:cNvPicPr/>
          <p:nvPr/>
        </p:nvPicPr>
        <p:blipFill>
          <a:blip r:embed="rId4"/>
          <a:stretch/>
        </p:blipFill>
        <p:spPr>
          <a:xfrm>
            <a:off x="100080" y="2217600"/>
            <a:ext cx="4048200" cy="44532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5"/>
          <a:stretch/>
        </p:blipFill>
        <p:spPr>
          <a:xfrm>
            <a:off x="4572000" y="3403440"/>
            <a:ext cx="4356000" cy="32673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6"/>
          <a:stretch/>
        </p:blipFill>
        <p:spPr>
          <a:xfrm>
            <a:off x="5987880" y="235080"/>
            <a:ext cx="2829240" cy="24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http://barselit.ru/images/males/gf.gif"/>
          <p:cNvPicPr/>
          <p:nvPr/>
        </p:nvPicPr>
        <p:blipFill>
          <a:blip r:embed="rId2"/>
          <a:stretch/>
        </p:blipFill>
        <p:spPr>
          <a:xfrm>
            <a:off x="23760" y="23760"/>
            <a:ext cx="1657440" cy="1655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http://barselit.ru/images/males/gf.gif"/>
          <p:cNvPicPr/>
          <p:nvPr/>
        </p:nvPicPr>
        <p:blipFill>
          <a:blip r:embed="rId3"/>
          <a:stretch/>
        </p:blipFill>
        <p:spPr>
          <a:xfrm>
            <a:off x="7632720" y="472428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50960" y="299700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Развлечение «Мы космонавты!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1" descr=""/>
          <p:cNvPicPr/>
          <p:nvPr/>
        </p:nvPicPr>
        <p:blipFill>
          <a:blip r:embed="rId4"/>
          <a:stretch/>
        </p:blipFill>
        <p:spPr>
          <a:xfrm>
            <a:off x="6111720" y="473040"/>
            <a:ext cx="2668680" cy="26398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6" descr=""/>
          <p:cNvPicPr/>
          <p:nvPr/>
        </p:nvPicPr>
        <p:blipFill>
          <a:blip r:embed="rId5"/>
          <a:stretch/>
        </p:blipFill>
        <p:spPr>
          <a:xfrm>
            <a:off x="3165480" y="330120"/>
            <a:ext cx="2571840" cy="28083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7" descr=""/>
          <p:cNvPicPr/>
          <p:nvPr/>
        </p:nvPicPr>
        <p:blipFill>
          <a:blip r:embed="rId6"/>
          <a:stretch/>
        </p:blipFill>
        <p:spPr>
          <a:xfrm>
            <a:off x="324000" y="3927600"/>
            <a:ext cx="3635280" cy="27273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9" descr=""/>
          <p:cNvPicPr/>
          <p:nvPr/>
        </p:nvPicPr>
        <p:blipFill>
          <a:blip r:embed="rId7"/>
          <a:stretch/>
        </p:blipFill>
        <p:spPr>
          <a:xfrm>
            <a:off x="262080" y="730080"/>
            <a:ext cx="2666880" cy="24321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0" descr=""/>
          <p:cNvPicPr/>
          <p:nvPr/>
        </p:nvPicPr>
        <p:blipFill>
          <a:blip r:embed="rId8"/>
          <a:stretch/>
        </p:blipFill>
        <p:spPr>
          <a:xfrm>
            <a:off x="4917960" y="3981600"/>
            <a:ext cx="258768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http://barselit.ru/images/males/gf.gif"/>
          <p:cNvPicPr/>
          <p:nvPr/>
        </p:nvPicPr>
        <p:blipFill>
          <a:blip r:embed="rId2"/>
          <a:stretch/>
        </p:blipFill>
        <p:spPr>
          <a:xfrm>
            <a:off x="23760" y="23760"/>
            <a:ext cx="1657440" cy="1655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http://barselit.ru/images/males/gf.gif"/>
          <p:cNvPicPr/>
          <p:nvPr/>
        </p:nvPicPr>
        <p:blipFill>
          <a:blip r:embed="rId3"/>
          <a:stretch/>
        </p:blipFill>
        <p:spPr>
          <a:xfrm>
            <a:off x="7380360" y="270036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95240" y="294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Работы родителей с детьм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1" descr=""/>
          <p:cNvPicPr/>
          <p:nvPr/>
        </p:nvPicPr>
        <p:blipFill>
          <a:blip r:embed="rId4"/>
          <a:stretch/>
        </p:blipFill>
        <p:spPr>
          <a:xfrm>
            <a:off x="5292720" y="396720"/>
            <a:ext cx="3419640" cy="25657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3" descr=""/>
          <p:cNvPicPr/>
          <p:nvPr/>
        </p:nvPicPr>
        <p:blipFill>
          <a:blip r:embed="rId5"/>
          <a:stretch/>
        </p:blipFill>
        <p:spPr>
          <a:xfrm>
            <a:off x="974880" y="3844800"/>
            <a:ext cx="3563640" cy="26733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"/>
          <p:cNvPicPr/>
          <p:nvPr/>
        </p:nvPicPr>
        <p:blipFill>
          <a:blip r:embed="rId6"/>
          <a:stretch/>
        </p:blipFill>
        <p:spPr>
          <a:xfrm>
            <a:off x="2039760" y="304920"/>
            <a:ext cx="2789280" cy="27367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"/>
          <p:cNvPicPr/>
          <p:nvPr/>
        </p:nvPicPr>
        <p:blipFill>
          <a:blip r:embed="rId7"/>
          <a:stretch/>
        </p:blipFill>
        <p:spPr>
          <a:xfrm>
            <a:off x="5292720" y="4092480"/>
            <a:ext cx="30733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http://barselit.ru/images/males/gf.gif"/>
          <p:cNvPicPr/>
          <p:nvPr/>
        </p:nvPicPr>
        <p:blipFill>
          <a:blip r:embed="rId2"/>
          <a:stretch/>
        </p:blipFill>
        <p:spPr>
          <a:xfrm>
            <a:off x="23760" y="23760"/>
            <a:ext cx="1657440" cy="1655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http://barselit.ru/images/males/gf.gif"/>
          <p:cNvPicPr/>
          <p:nvPr/>
        </p:nvPicPr>
        <p:blipFill>
          <a:blip r:embed="rId3"/>
          <a:stretch/>
        </p:blipFill>
        <p:spPr>
          <a:xfrm>
            <a:off x="3821040" y="24444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0360" y="515736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1" descr=""/>
          <p:cNvPicPr/>
          <p:nvPr/>
        </p:nvPicPr>
        <p:blipFill>
          <a:blip r:embed="rId4"/>
          <a:stretch/>
        </p:blipFill>
        <p:spPr>
          <a:xfrm>
            <a:off x="2343240" y="406440"/>
            <a:ext cx="6332400" cy="4751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5"/>
          <a:stretch/>
        </p:blipFill>
        <p:spPr>
          <a:xfrm>
            <a:off x="5986440" y="3760920"/>
            <a:ext cx="336564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2T20:21:28Z</dcterms:created>
  <dc:creator>DAY</dc:creator>
  <dc:description/>
  <dc:language>en-US</dc:language>
  <cp:lastModifiedBy>windows 8</cp:lastModifiedBy>
  <dcterms:modified xsi:type="dcterms:W3CDTF">2022-04-20T07:49:54Z</dcterms:modified>
  <cp:revision>19</cp:revision>
  <dc:subject/>
  <dc:title>Слайд 1</dc:title>
</cp:coreProperties>
</file>