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9218-C6AC-4FE5-9B83-45213AF5E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770-2A16-48CA-A3FF-11EDAA8FB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631-D9C9-4195-9BAA-4342F099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BB0-CE5C-4A59-9137-1CE73103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F09-9D58-4067-940C-42834B15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896-97A7-4305-AF52-EDC9F5BF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9542-A9B8-4C74-A2AE-C5FCAC56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05E-D9FF-41FA-BDBB-054D99F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66B1-192D-42F1-B5EB-1A28AE16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3FDD-496A-45EB-84A0-BB14947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0358-419D-4167-86D0-22D5EC31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AA9-73B7-42F8-A7B1-F60E8606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45F3-4DCE-403F-9A54-498F695F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5F6-5F23-4662-8E49-1BAAF125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B71F-7D50-4AD5-8754-5CE92A0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ACB-C928-4D36-9367-0836C90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A922-B2A4-46A9-A0F4-2D901ABB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D9E-FF93-4C7B-9228-59C75849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36B0-B842-438D-8D28-C4CE6953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B2B-5C53-4424-81AE-C8BB43DA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D56-F34D-408F-971F-492698F4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634-82BE-4A02-B1CF-59AAE6E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871-209B-482F-AA58-D4ACE810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676-86AB-4CED-BF64-6159F0C2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B86-2F5B-4DE3-A8DF-77A9B85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936-B5A9-4CDB-8C9F-D89924E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0D3-9F58-4EAA-AE04-A3CC6E33798F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4FF-6FC3-432A-B5FB-155D40228803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867b"/>
                </a:solidFill>
                <a:latin typeface="Arial"/>
              </a:rPr>
              <a:t>«Благотворительность»  </a:t>
            </a:r>
            <a:br>
              <a:rPr sz="3600"/>
            </a:br>
            <a:r>
              <a:rPr b="0" lang="ru-RU" sz="3600" spc="-1" strike="noStrike">
                <a:solidFill>
                  <a:srgbClr val="5a867b"/>
                </a:solidFill>
                <a:latin typeface="Arial"/>
              </a:rPr>
              <a:t>7 класс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84872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Кузовлева В.П.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ла учитель английского языка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№2 г. Татарск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тникова А.А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nswer the questions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many people are speak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is this text about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nd out the synonym to the word «the elderly people»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3"/>
          <p:cNvSpPr/>
          <p:nvPr/>
        </p:nvSpPr>
        <p:spPr>
          <a:xfrm>
            <a:off x="674640" y="54936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 the Aged on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cal nursing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ome more caring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ing … to other peo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on`t get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make a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4788000" y="549360"/>
            <a:ext cx="377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Saturd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h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per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sympat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mo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dif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LISTEN TO THE TEXT ONCE MORE AND FIND OUT ENGLISH EQUIVALENTS TO WORDS: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88764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лонтер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м престарелых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циент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ботливый человек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являть сочувствие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менять ситуацию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4162320" y="177336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Volunt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Nursing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Pat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Caring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Showing sympat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Make a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867b"/>
                </a:solidFill>
                <a:latin typeface="Tahoma"/>
              </a:rPr>
              <a:t>USE THE WORDS TO COMPLETE THE STORY: DIFFERENCE, READING BOOKS, CARE FOR, NURSING HOME, MONEY, SUPPORTING, VOLUNTEERS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2160" y="2060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mum _________ for Help the Aged on Saturdays. She looks after elderly people at the local _____ _____ . Something my Mum asks me to help her. I help by getting the patients the things they need or by ___________ to them. It`s great when I walk in the room and they smile! ___________ elderly people is also helping yourself. You learn about people`s feelings and needs, and become a more caring person. We`ll be old some day and will need people to _____ ____ us. Showing sympathy to other people is really good. I enjoy doing something that helps others. I don`t get _____. But I feel good when I know that I make a ________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1772280" y="2421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volunte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4398840" y="27828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ursing 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1990800" y="33577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ading boo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3356280" y="3646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up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"/>
          <p:cNvSpPr/>
          <p:nvPr/>
        </p:nvSpPr>
        <p:spPr>
          <a:xfrm>
            <a:off x="2689560" y="4581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are  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1193400" y="51595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6954120" y="515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867b"/>
                </a:solidFill>
                <a:latin typeface="Tahoma"/>
              </a:rPr>
              <a:t>IF YOU THINK IT IS CORRECT, PUT A TICK IN THE BOX UNDER T (TRUE). </a:t>
            </a:r>
            <a:br>
              <a:rPr sz="2000"/>
            </a:br>
            <a:r>
              <a:rPr b="1" lang="en-US" sz="2000" spc="-1" strike="noStrike">
                <a:solidFill>
                  <a:srgbClr val="5a867b"/>
                </a:solidFill>
                <a:latin typeface="Tahoma"/>
              </a:rPr>
              <a:t>IF YOU THINK IT IS NOT CORRECT, PUT A TICK IN THE BOX UNDER F (FALSE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2160" y="2060640"/>
            <a:ext cx="53625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Hilary works at the local nursing home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Hilary helps her father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You become a more caring person when you help other people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Hilary gets money for her work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lary feels good when she makes a difference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6300720" y="1989000"/>
            <a:ext cx="163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. 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.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3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4.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5.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Tahoma"/>
              </a:rPr>
              <a:t>PUT A TICK IN THE CORRECT BOX FOR EACH QUESTION</a:t>
            </a:r>
            <a:br>
              <a:rPr sz="2800"/>
            </a:b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73000"/>
            <a:ext cx="4210200" cy="43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Hilary`s mum volunteers for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Help the Ag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Save the Earth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People in Ne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She looks after elderly people at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the hospital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the local nursing home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the school 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3" name="Текст 2"/>
          <p:cNvSpPr/>
          <p:nvPr/>
        </p:nvSpPr>
        <p:spPr>
          <a:xfrm>
            <a:off x="4788000" y="1413000"/>
            <a:ext cx="392112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 Hilary shows to elderly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aggres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ama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sympa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Her mum volunteers on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Satur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Wednes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Fri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Tahoma"/>
              </a:rPr>
              <a:t>PUT A TICK IN THE CORRECT BOX FOR EACH QUESTION</a:t>
            </a:r>
            <a:br>
              <a:rPr sz="2800"/>
            </a:b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4600" y="1773000"/>
            <a:ext cx="4210200" cy="43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Hilary`s mum volunteers for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a) Help the Ag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Save the Earth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People in Ne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She looks after elderly people at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the hospital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b) the local nursing home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the school 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6" name="Текст 2"/>
          <p:cNvSpPr/>
          <p:nvPr/>
        </p:nvSpPr>
        <p:spPr>
          <a:xfrm>
            <a:off x="4788000" y="1413000"/>
            <a:ext cx="392112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 Hilary shows to elderly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aggres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ama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c) sympa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Her mum volunteers on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a) Satur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Wednes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Fri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867b"/>
                </a:solidFill>
                <a:latin typeface="Tahoma"/>
              </a:rPr>
              <a:t>ANSWER THE QUESTION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49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Hilary help her Mum at the nursing home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makes Hilary volunteer at the nursing home?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211" name="Picture 5" descr="2-1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Listen and repeat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less, lonely, needy, disabled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derly, orphans, nursing homes, donate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sympathy, support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a difference, give a helping hand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18cfa"/>
                </a:solidFill>
                <a:latin typeface="Arial Rounded MT Bold"/>
              </a:rPr>
              <a:t>What are we going to speak about?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6" name="Tvori_-_Dobro_(iPleer.fm).mp3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332000" y="981000"/>
          <a:ext cx="3887640" cy="3960720"/>
        </p:xfrm>
        <a:graphic>
          <a:graphicData uri="http://schemas.openxmlformats.org/drawingml/2006/table">
            <a:tbl>
              <a:tblPr/>
              <a:tblGrid>
                <a:gridCol w="485640"/>
                <a:gridCol w="486000"/>
                <a:gridCol w="485640"/>
                <a:gridCol w="487440"/>
                <a:gridCol w="485640"/>
                <a:gridCol w="485640"/>
                <a:gridCol w="486000"/>
                <a:gridCol w="48564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476" descr="hello_html_m2ce43cc0"/>
          <p:cNvPicPr/>
          <p:nvPr/>
        </p:nvPicPr>
        <p:blipFill>
          <a:blip r:embed="rId1"/>
          <a:stretch/>
        </p:blipFill>
        <p:spPr>
          <a:xfrm>
            <a:off x="4211640" y="907920"/>
            <a:ext cx="1008000" cy="825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78" descr="28066_3"/>
          <p:cNvPicPr/>
          <p:nvPr/>
        </p:nvPicPr>
        <p:blipFill>
          <a:blip r:embed="rId2"/>
          <a:stretch/>
        </p:blipFill>
        <p:spPr>
          <a:xfrm>
            <a:off x="5364000" y="1125360"/>
            <a:ext cx="962280" cy="100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80" descr="NtVpEJDjwE2H7nmQ"/>
          <p:cNvPicPr/>
          <p:nvPr/>
        </p:nvPicPr>
        <p:blipFill>
          <a:blip r:embed="rId3"/>
          <a:stretch/>
        </p:blipFill>
        <p:spPr>
          <a:xfrm>
            <a:off x="6516720" y="1341360"/>
            <a:ext cx="1295280" cy="95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2" descr="bunnies-4"/>
          <p:cNvPicPr/>
          <p:nvPr/>
        </p:nvPicPr>
        <p:blipFill>
          <a:blip r:embed="rId4"/>
          <a:stretch/>
        </p:blipFill>
        <p:spPr>
          <a:xfrm>
            <a:off x="550872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83"/>
          <p:cNvSpPr/>
          <p:nvPr/>
        </p:nvSpPr>
        <p:spPr>
          <a:xfrm>
            <a:off x="4932360" y="620640"/>
            <a:ext cx="936720" cy="287280"/>
          </a:xfrm>
          <a:prstGeom prst="wedgeRectCallout">
            <a:avLst>
              <a:gd name="adj1" fmla="val -39662"/>
              <a:gd name="adj2" fmla="val 175416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87" descr="kak_narisovat_morogennoe0"/>
          <p:cNvPicPr/>
          <p:nvPr/>
        </p:nvPicPr>
        <p:blipFill>
          <a:blip r:embed="rId5"/>
          <a:stretch/>
        </p:blipFill>
        <p:spPr>
          <a:xfrm>
            <a:off x="6732720" y="2708280"/>
            <a:ext cx="1368360" cy="117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89" descr="1424806219_chay-50"/>
          <p:cNvPicPr/>
          <p:nvPr/>
        </p:nvPicPr>
        <p:blipFill>
          <a:blip r:embed="rId6"/>
          <a:stretch/>
        </p:blipFill>
        <p:spPr>
          <a:xfrm>
            <a:off x="5508720" y="3860640"/>
            <a:ext cx="1100160" cy="10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1" descr="hello_html_m161c08fc"/>
          <p:cNvPicPr/>
          <p:nvPr/>
        </p:nvPicPr>
        <p:blipFill>
          <a:blip r:embed="rId7"/>
          <a:stretch/>
        </p:blipFill>
        <p:spPr>
          <a:xfrm>
            <a:off x="6227640" y="48690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92"/>
          <p:cNvSpPr/>
          <p:nvPr/>
        </p:nvSpPr>
        <p:spPr>
          <a:xfrm>
            <a:off x="7524720" y="1268280"/>
            <a:ext cx="914400" cy="289080"/>
          </a:xfrm>
          <a:prstGeom prst="wedgeRectCallout">
            <a:avLst>
              <a:gd name="adj1" fmla="val -43518"/>
              <a:gd name="adj2" fmla="val 203296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93"/>
          <p:cNvSpPr/>
          <p:nvPr/>
        </p:nvSpPr>
        <p:spPr>
          <a:xfrm>
            <a:off x="6227640" y="836640"/>
            <a:ext cx="914400" cy="360360"/>
          </a:xfrm>
          <a:prstGeom prst="wedgeRectCallout">
            <a:avLst>
              <a:gd name="adj1" fmla="val -43518"/>
              <a:gd name="adj2" fmla="val 153083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94"/>
          <p:cNvSpPr/>
          <p:nvPr/>
        </p:nvSpPr>
        <p:spPr>
          <a:xfrm>
            <a:off x="4643280" y="2349360"/>
            <a:ext cx="914400" cy="358920"/>
          </a:xfrm>
          <a:prstGeom prst="wedgeRectCallout">
            <a:avLst>
              <a:gd name="adj1" fmla="val 47745"/>
              <a:gd name="adj2" fmla="val 150444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95"/>
          <p:cNvSpPr/>
          <p:nvPr/>
        </p:nvSpPr>
        <p:spPr>
          <a:xfrm>
            <a:off x="7885080" y="2708280"/>
            <a:ext cx="914400" cy="320760"/>
          </a:xfrm>
          <a:prstGeom prst="wedgeRectCallout">
            <a:avLst>
              <a:gd name="adj1" fmla="val -73958"/>
              <a:gd name="adj2" fmla="val 143069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96"/>
          <p:cNvSpPr/>
          <p:nvPr/>
        </p:nvSpPr>
        <p:spPr>
          <a:xfrm>
            <a:off x="6443640" y="3645000"/>
            <a:ext cx="914400" cy="288720"/>
          </a:xfrm>
          <a:prstGeom prst="wedgeRectCallout">
            <a:avLst>
              <a:gd name="adj1" fmla="val -43518"/>
              <a:gd name="adj2" fmla="val 203296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97"/>
          <p:cNvSpPr/>
          <p:nvPr/>
        </p:nvSpPr>
        <p:spPr>
          <a:xfrm>
            <a:off x="7020000" y="4508640"/>
            <a:ext cx="914400" cy="358560"/>
          </a:xfrm>
          <a:prstGeom prst="wedgeRectCallout">
            <a:avLst>
              <a:gd name="adj1" fmla="val -43518"/>
              <a:gd name="adj2" fmla="val 153981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5"/>
          <p:cNvGrpSpPr/>
          <p:nvPr/>
        </p:nvGrpSpPr>
        <p:grpSpPr>
          <a:xfrm>
            <a:off x="539640" y="1268280"/>
            <a:ext cx="3960720" cy="505080"/>
            <a:chOff x="539640" y="1268280"/>
            <a:chExt cx="3960720" cy="505080"/>
          </a:xfrm>
        </p:grpSpPr>
        <p:sp>
          <p:nvSpPr>
            <p:cNvPr id="113" name="Rectangle 68"/>
            <p:cNvSpPr/>
            <p:nvPr/>
          </p:nvSpPr>
          <p:spPr>
            <a:xfrm>
              <a:off x="53964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9"/>
            <p:cNvSpPr/>
            <p:nvPr/>
          </p:nvSpPr>
          <p:spPr>
            <a:xfrm>
              <a:off x="133200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0"/>
            <p:cNvSpPr/>
            <p:nvPr/>
          </p:nvSpPr>
          <p:spPr>
            <a:xfrm>
              <a:off x="212436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1"/>
            <p:cNvSpPr/>
            <p:nvPr/>
          </p:nvSpPr>
          <p:spPr>
            <a:xfrm>
              <a:off x="371088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>
              <a:off x="291672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0"/>
          <p:cNvGrpSpPr/>
          <p:nvPr/>
        </p:nvGrpSpPr>
        <p:grpSpPr>
          <a:xfrm>
            <a:off x="539640" y="1773360"/>
            <a:ext cx="2376360" cy="576000"/>
            <a:chOff x="539640" y="1773360"/>
            <a:chExt cx="2376360" cy="576000"/>
          </a:xfrm>
        </p:grpSpPr>
        <p:sp>
          <p:nvSpPr>
            <p:cNvPr id="119" name="Rectangle 76"/>
            <p:cNvSpPr/>
            <p:nvPr/>
          </p:nvSpPr>
          <p:spPr>
            <a:xfrm>
              <a:off x="539640" y="1773360"/>
              <a:ext cx="800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7"/>
            <p:cNvSpPr/>
            <p:nvPr/>
          </p:nvSpPr>
          <p:spPr>
            <a:xfrm>
              <a:off x="2115720" y="1773360"/>
              <a:ext cx="800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>
              <a:off x="1327680" y="1773360"/>
              <a:ext cx="800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6"/>
          <p:cNvGrpSpPr/>
          <p:nvPr/>
        </p:nvGrpSpPr>
        <p:grpSpPr>
          <a:xfrm>
            <a:off x="539640" y="2349360"/>
            <a:ext cx="3960720" cy="574920"/>
            <a:chOff x="539640" y="2349360"/>
            <a:chExt cx="3960720" cy="574920"/>
          </a:xfrm>
        </p:grpSpPr>
        <p:sp>
          <p:nvSpPr>
            <p:cNvPr id="123" name="Rectangle 81"/>
            <p:cNvSpPr/>
            <p:nvPr/>
          </p:nvSpPr>
          <p:spPr>
            <a:xfrm>
              <a:off x="132912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2"/>
            <p:cNvSpPr/>
            <p:nvPr/>
          </p:nvSpPr>
          <p:spPr>
            <a:xfrm>
              <a:off x="53964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3"/>
            <p:cNvSpPr/>
            <p:nvPr/>
          </p:nvSpPr>
          <p:spPr>
            <a:xfrm>
              <a:off x="211860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4"/>
            <p:cNvSpPr/>
            <p:nvPr/>
          </p:nvSpPr>
          <p:spPr>
            <a:xfrm>
              <a:off x="369828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5"/>
            <p:cNvSpPr/>
            <p:nvPr/>
          </p:nvSpPr>
          <p:spPr>
            <a:xfrm>
              <a:off x="290880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3"/>
          <p:cNvGrpSpPr/>
          <p:nvPr/>
        </p:nvGrpSpPr>
        <p:grpSpPr>
          <a:xfrm>
            <a:off x="539640" y="2924280"/>
            <a:ext cx="4752720" cy="576000"/>
            <a:chOff x="539640" y="2924280"/>
            <a:chExt cx="4752720" cy="576000"/>
          </a:xfrm>
        </p:grpSpPr>
        <p:sp>
          <p:nvSpPr>
            <p:cNvPr id="129" name="Rectangle 87"/>
            <p:cNvSpPr/>
            <p:nvPr/>
          </p:nvSpPr>
          <p:spPr>
            <a:xfrm>
              <a:off x="132948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8"/>
            <p:cNvSpPr/>
            <p:nvPr/>
          </p:nvSpPr>
          <p:spPr>
            <a:xfrm>
              <a:off x="53964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9"/>
            <p:cNvSpPr/>
            <p:nvPr/>
          </p:nvSpPr>
          <p:spPr>
            <a:xfrm>
              <a:off x="211788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0"/>
            <p:cNvSpPr/>
            <p:nvPr/>
          </p:nvSpPr>
          <p:spPr>
            <a:xfrm>
              <a:off x="290772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1"/>
            <p:cNvSpPr/>
            <p:nvPr/>
          </p:nvSpPr>
          <p:spPr>
            <a:xfrm>
              <a:off x="448452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2"/>
            <p:cNvSpPr/>
            <p:nvPr/>
          </p:nvSpPr>
          <p:spPr>
            <a:xfrm>
              <a:off x="369612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2"/>
          <p:cNvGrpSpPr/>
          <p:nvPr/>
        </p:nvGrpSpPr>
        <p:grpSpPr>
          <a:xfrm>
            <a:off x="539640" y="3500280"/>
            <a:ext cx="6337080" cy="576360"/>
            <a:chOff x="539640" y="3500280"/>
            <a:chExt cx="6337080" cy="576360"/>
          </a:xfrm>
        </p:grpSpPr>
        <p:sp>
          <p:nvSpPr>
            <p:cNvPr id="136" name="Rectangle 94"/>
            <p:cNvSpPr/>
            <p:nvPr/>
          </p:nvSpPr>
          <p:spPr>
            <a:xfrm>
              <a:off x="53964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5"/>
            <p:cNvSpPr/>
            <p:nvPr/>
          </p:nvSpPr>
          <p:spPr>
            <a:xfrm>
              <a:off x="133164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6"/>
            <p:cNvSpPr/>
            <p:nvPr/>
          </p:nvSpPr>
          <p:spPr>
            <a:xfrm>
              <a:off x="212256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7"/>
            <p:cNvSpPr/>
            <p:nvPr/>
          </p:nvSpPr>
          <p:spPr>
            <a:xfrm>
              <a:off x="291312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8"/>
            <p:cNvSpPr/>
            <p:nvPr/>
          </p:nvSpPr>
          <p:spPr>
            <a:xfrm>
              <a:off x="370548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9"/>
            <p:cNvSpPr/>
            <p:nvPr/>
          </p:nvSpPr>
          <p:spPr>
            <a:xfrm>
              <a:off x="449640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0"/>
            <p:cNvSpPr/>
            <p:nvPr/>
          </p:nvSpPr>
          <p:spPr>
            <a:xfrm>
              <a:off x="607788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1"/>
            <p:cNvSpPr/>
            <p:nvPr/>
          </p:nvSpPr>
          <p:spPr>
            <a:xfrm>
              <a:off x="528696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6"/>
          <p:cNvGrpSpPr/>
          <p:nvPr/>
        </p:nvGrpSpPr>
        <p:grpSpPr>
          <a:xfrm>
            <a:off x="539640" y="4076640"/>
            <a:ext cx="2376360" cy="647640"/>
            <a:chOff x="539640" y="4076640"/>
            <a:chExt cx="2376360" cy="647640"/>
          </a:xfrm>
        </p:grpSpPr>
        <p:sp>
          <p:nvSpPr>
            <p:cNvPr id="145" name="Rectangle 103"/>
            <p:cNvSpPr/>
            <p:nvPr/>
          </p:nvSpPr>
          <p:spPr>
            <a:xfrm>
              <a:off x="1327320" y="4076640"/>
              <a:ext cx="800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4"/>
            <p:cNvSpPr/>
            <p:nvPr/>
          </p:nvSpPr>
          <p:spPr>
            <a:xfrm>
              <a:off x="539640" y="4076640"/>
              <a:ext cx="800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5"/>
            <p:cNvSpPr/>
            <p:nvPr/>
          </p:nvSpPr>
          <p:spPr>
            <a:xfrm>
              <a:off x="2115720" y="4076640"/>
              <a:ext cx="800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20"/>
          <p:cNvGrpSpPr/>
          <p:nvPr/>
        </p:nvGrpSpPr>
        <p:grpSpPr>
          <a:xfrm>
            <a:off x="539640" y="4724280"/>
            <a:ext cx="4752720" cy="576360"/>
            <a:chOff x="539640" y="4724280"/>
            <a:chExt cx="4752720" cy="576360"/>
          </a:xfrm>
        </p:grpSpPr>
        <p:sp>
          <p:nvSpPr>
            <p:cNvPr id="149" name="Rectangle 114"/>
            <p:cNvSpPr/>
            <p:nvPr/>
          </p:nvSpPr>
          <p:spPr>
            <a:xfrm>
              <a:off x="53964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5"/>
            <p:cNvSpPr/>
            <p:nvPr/>
          </p:nvSpPr>
          <p:spPr>
            <a:xfrm>
              <a:off x="132948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6"/>
            <p:cNvSpPr/>
            <p:nvPr/>
          </p:nvSpPr>
          <p:spPr>
            <a:xfrm>
              <a:off x="211788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7"/>
            <p:cNvSpPr/>
            <p:nvPr/>
          </p:nvSpPr>
          <p:spPr>
            <a:xfrm>
              <a:off x="290772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8"/>
            <p:cNvSpPr/>
            <p:nvPr/>
          </p:nvSpPr>
          <p:spPr>
            <a:xfrm>
              <a:off x="369612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9"/>
            <p:cNvSpPr/>
            <p:nvPr/>
          </p:nvSpPr>
          <p:spPr>
            <a:xfrm>
              <a:off x="448452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21" descr="hello_html_m2ce43cc0"/>
          <p:cNvPicPr/>
          <p:nvPr/>
        </p:nvPicPr>
        <p:blipFill>
          <a:blip r:embed="rId1"/>
          <a:stretch/>
        </p:blipFill>
        <p:spPr>
          <a:xfrm>
            <a:off x="4500720" y="836640"/>
            <a:ext cx="1008000" cy="82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2" descr="28066_3"/>
          <p:cNvPicPr/>
          <p:nvPr/>
        </p:nvPicPr>
        <p:blipFill>
          <a:blip r:embed="rId2"/>
          <a:stretch/>
        </p:blipFill>
        <p:spPr>
          <a:xfrm>
            <a:off x="3059280" y="1557360"/>
            <a:ext cx="961920" cy="100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3" descr="NtVpEJDjwE2H7nmQ"/>
          <p:cNvPicPr/>
          <p:nvPr/>
        </p:nvPicPr>
        <p:blipFill>
          <a:blip r:embed="rId3"/>
          <a:stretch/>
        </p:blipFill>
        <p:spPr>
          <a:xfrm>
            <a:off x="4572000" y="1916280"/>
            <a:ext cx="1295280" cy="95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4" descr="bunnies-4"/>
          <p:cNvPicPr/>
          <p:nvPr/>
        </p:nvPicPr>
        <p:blipFill>
          <a:blip r:embed="rId4"/>
          <a:stretch/>
        </p:blipFill>
        <p:spPr>
          <a:xfrm>
            <a:off x="6300720" y="256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5" descr="kak_narisovat_morogennoe0"/>
          <p:cNvPicPr/>
          <p:nvPr/>
        </p:nvPicPr>
        <p:blipFill>
          <a:blip r:embed="rId5"/>
          <a:stretch/>
        </p:blipFill>
        <p:spPr>
          <a:xfrm>
            <a:off x="7020000" y="3213000"/>
            <a:ext cx="1368360" cy="1177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6" descr="1424806219_chay-50"/>
          <p:cNvPicPr/>
          <p:nvPr/>
        </p:nvPicPr>
        <p:blipFill>
          <a:blip r:embed="rId6"/>
          <a:stretch/>
        </p:blipFill>
        <p:spPr>
          <a:xfrm>
            <a:off x="5796000" y="4292640"/>
            <a:ext cx="110016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7" descr="hello_html_m161c08fc"/>
          <p:cNvPicPr/>
          <p:nvPr/>
        </p:nvPicPr>
        <p:blipFill>
          <a:blip r:embed="rId7"/>
          <a:stretch/>
        </p:blipFill>
        <p:spPr>
          <a:xfrm>
            <a:off x="7524720" y="4797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58920" y="549360"/>
          <a:ext cx="6913440" cy="53607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6520"/>
                <a:gridCol w="865440"/>
                <a:gridCol w="863280"/>
                <a:gridCol w="863640"/>
                <a:gridCol w="863640"/>
              </a:tblGrid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922320" y="485640"/>
            <a:ext cx="1727280" cy="1311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724120" y="485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UNICEF</a:t>
            </a:r>
            <a:br>
              <a:rPr sz="1800"/>
            </a:b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 United Nations </a:t>
            </a:r>
            <a:r>
              <a:rPr b="1" lang="en-US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International</a:t>
            </a: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 Children's Fu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n organization that helps needy children all over the wor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go4.imgsmail.ru/imgpreview?key=http%3A//kprf.ru/images/86390-4.jpg&amp;mb=imgdb_preview_131"/>
          <p:cNvPicPr/>
          <p:nvPr/>
        </p:nvPicPr>
        <p:blipFill>
          <a:blip r:embed="rId2"/>
          <a:stretch/>
        </p:blipFill>
        <p:spPr>
          <a:xfrm>
            <a:off x="2714760" y="1916280"/>
            <a:ext cx="1220760" cy="1196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4194000" y="193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Help the Aged</a:t>
            </a: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British Charity Organization which collects money  and helps ol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http://go2.imgsmail.ru/imgpreview?key=http%3A//st.pixanews.com/wp-content/uploads/2011/06/45.jpg&amp;mb=imgdb_preview_1161"/>
          <p:cNvPicPr/>
          <p:nvPr/>
        </p:nvPicPr>
        <p:blipFill>
          <a:blip r:embed="rId3"/>
          <a:stretch/>
        </p:blipFill>
        <p:spPr>
          <a:xfrm>
            <a:off x="606600" y="3249720"/>
            <a:ext cx="2008080" cy="13316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5"/>
          <p:cNvSpPr/>
          <p:nvPr/>
        </p:nvSpPr>
        <p:spPr>
          <a:xfrm>
            <a:off x="2701800" y="3440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Children in Need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charity organization which raises money and helps  children in Britain and  all over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2649600" y="4581360"/>
            <a:ext cx="1474560" cy="16322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7"/>
          <p:cNvSpPr/>
          <p:nvPr/>
        </p:nvSpPr>
        <p:spPr>
          <a:xfrm>
            <a:off x="4224240" y="4869000"/>
            <a:ext cx="41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Mother Teresa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 organization that hel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1800" y="836640"/>
            <a:ext cx="6945480" cy="49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harity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volunteer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ation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rsing home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Aged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mpathy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ients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ing person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ke a difference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atch the words with their definition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ity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sing hom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ati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ed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pers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ake differenc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6120" y="1700280"/>
            <a:ext cx="38480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lace where very old people live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ey, that somebody gives to help a person or organization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organization that helps poor people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erson who helps without any money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erson who is receiving medical care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erson who is kind and gives emotional suppor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ld people when considered as a group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improve a situation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692360" y="2276640"/>
            <a:ext cx="30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700360" y="1916280"/>
            <a:ext cx="2016000" cy="73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2124000" y="2286000"/>
            <a:ext cx="259236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124000" y="3573360"/>
            <a:ext cx="2664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V="1">
            <a:off x="2411280" y="3499920"/>
            <a:ext cx="2305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 flipV="1">
            <a:off x="2268360" y="4076280"/>
            <a:ext cx="24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V="1">
            <a:off x="2700360" y="472428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3419640" y="5300640"/>
            <a:ext cx="129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1:48:39Z</dcterms:created>
  <dc:creator>User</dc:creator>
  <dc:description/>
  <cp:keywords/>
  <dc:language>en-US</dc:language>
  <cp:lastModifiedBy>Альбина Поротникова</cp:lastModifiedBy>
  <dcterms:modified xsi:type="dcterms:W3CDTF">2021-12-01T02:34:00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