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73E-67C2-4BD9-870A-22424E41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38B-32A2-46C7-A3B7-0FA86EC5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F71-D2C2-4356-BE03-DE8D3AAC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F2B-E341-471E-8DE2-BD054557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799-883D-4AE1-A800-94A18F74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110-D0F4-4BEB-8DA1-176A0825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2F3-D56E-4CFA-A8BC-E2D91278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FB8-5D01-46FF-85B2-8695419D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2E9-E325-4D69-9F42-3CEAB993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637-528C-4984-8AEC-33AA4B9E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9B9-06ED-4E7C-B422-5C02450C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533-42B9-4BC4-A499-A510A2EB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4971-0885-4B64-97AC-AE48A706B1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971640" y="336600"/>
            <a:ext cx="7056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формы собственности существуют в России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 закон защищает право собственности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называют имущественными отношениями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то относится к субъектам собственности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относится к объектам собственности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1476360" y="2136600"/>
            <a:ext cx="65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желание и возможность потребителя купить конкретный товар или получить услугу в конкретное время и в конкретном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желание и возможности продавца продать конкретный товар в конкретное время и в конкретном мест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7201080" cy="42354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755640" y="17568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спрос находится в обратной зависимости от цены; </a:t>
            </a:r>
            <a:r>
              <a:rPr b="1" i="1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(чем выше цена , тем меньше спро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4920" y="15840"/>
            <a:ext cx="312408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611280" y="522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можно сформулировать первый закон экономики, или закон спроса: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цены обычно ведёт к уменьшению величины спроса и, наоборот, снижение цены ведёт к увеличению величины спр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468360" y="1382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б) предложение находится в прямой зависимости от цены.</a:t>
            </a:r>
            <a:r>
              <a:rPr b="1" i="1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(чем выше цена, тем больше производители хотят произвести и продать това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34920" y="144360"/>
            <a:ext cx="19620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1476360" y="1403280"/>
            <a:ext cx="6048360" cy="39718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5"/>
          <p:cNvSpPr/>
          <p:nvPr/>
        </p:nvSpPr>
        <p:spPr>
          <a:xfrm>
            <a:off x="324000" y="530064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сформулировать закон предложения: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755640" y="1700280"/>
            <a:ext cx="79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спросом и предложением существует следующая зависимость: когда спрос растёт, то растёт и предложение, но когда растёт предложение, не всегда растёт спрос. Дело в том, что предложение, т.е. выброс на рынок всё большего числа товаров, определяется, главным образом, производственными факторами: много сырья, высокая производительность, низкая себестоимость, а у потребителя всегда ограниченный спрос, которы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ами индивидуального дох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ями, необходимыми сегод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ми на товары –замен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826920" y="40464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блема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можно ли каким-либо способом влиять на формирование или изменение спро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0" y="5637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Ещё одним условием функционирования рынка является свободное ценообразование. Цены выполняют две основные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Функции цен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65160" y="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5"/>
          <p:cNvCxnSpPr/>
          <p:nvPr/>
        </p:nvCxnSpPr>
        <p:spPr>
          <a:xfrm flipH="1">
            <a:off x="1762920" y="1988640"/>
            <a:ext cx="361080" cy="1080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3" name="Прямая со стрелкой 8"/>
          <p:cNvCxnSpPr/>
          <p:nvPr/>
        </p:nvCxnSpPr>
        <p:spPr>
          <a:xfrm flipH="1">
            <a:off x="2916000" y="2060280"/>
            <a:ext cx="1008720" cy="864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04" name="TextBox 13"/>
          <p:cNvSpPr/>
          <p:nvPr/>
        </p:nvSpPr>
        <p:spPr>
          <a:xfrm>
            <a:off x="900000" y="328464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отребление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для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539640" y="4937040"/>
            <a:ext cx="77043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ка должна быть выгодна как продавцу, так и покупат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"/>
          <p:cNvSpPr/>
          <p:nvPr/>
        </p:nvSpPr>
        <p:spPr>
          <a:xfrm>
            <a:off x="468360" y="404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можно свести важные понятия спроса и предложения, чтобы выяснить, как взаимодействие решений потребителей о покупке товара (услуги) и решений продавцов о продаже определяет цену товара (услуги) и количество, которое реально покупается и продаётся на рынке. Для этого соединим кривые спроса и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332000" y="2738520"/>
            <a:ext cx="583236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2"/>
          <p:cNvSpPr/>
          <p:nvPr/>
        </p:nvSpPr>
        <p:spPr>
          <a:xfrm>
            <a:off x="611280" y="54936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весная це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это цена, при которой весь поставляемый на рынок товар покуп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цена товара на рынке выше равновесной, то это побуждает продавца к увеличению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 то же время эта завышенная цена снижает спрос на данный товар. В результате на рынке возникает избыточное предложение (избыток) товара, что в свою очередь приводит к снижению цены до уровня равнове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Если цена ниже равновесной, то предложение падает, а спрос растет. Такая ситуация на рынке приводит к дефициту товар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971640" y="40464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является одним из эффективных способов регулирования экономической жизни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осенняя торговля"/>
          <p:cNvPicPr/>
          <p:nvPr/>
        </p:nvPicPr>
        <p:blipFill>
          <a:blip r:embed="rId2"/>
          <a:stretch/>
        </p:blipFill>
        <p:spPr>
          <a:xfrm>
            <a:off x="1908000" y="1995480"/>
            <a:ext cx="46800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1042920" y="549360"/>
            <a:ext cx="734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тип рынка, который определяет цены, а продавцы и покупатели вынуждены принимать их как данное, называе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конкурентным    2) несовершенным                        3) централизованным 4) планов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ую роль играет в хозяйственной жизни торговл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ие существуют экономические систе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095"/>
          <p:cNvPicPr/>
          <p:nvPr/>
        </p:nvPicPr>
        <p:blipFill>
          <a:blip r:embed="rId1"/>
          <a:stretch/>
        </p:blipFill>
        <p:spPr>
          <a:xfrm>
            <a:off x="1071720" y="1143000"/>
            <a:ext cx="6715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7"/>
          <p:cNvSpPr/>
          <p:nvPr/>
        </p:nvSpPr>
        <p:spPr>
          <a:xfrm>
            <a:off x="1332000" y="90792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истема экономических отношений, проявляющаяся в сфере об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468360" y="328464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Работая с учебником на стр.168, составьте класт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1) «Характерные черты рыночной экономики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2) Условия функционирования ры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1547640" y="5281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) «Характерные черты рыночной экономик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2) Условия функционирования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34920" y="106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210400" y="2060640"/>
            <a:ext cx="2419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Прямая со стрелкой 6"/>
          <p:cNvCxnSpPr/>
          <p:nvPr/>
        </p:nvCxnSpPr>
        <p:spPr>
          <a:xfrm flipH="1">
            <a:off x="2339640" y="2492280"/>
            <a:ext cx="288000" cy="12247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5" name="Прямая со стрелкой 9"/>
          <p:cNvCxnSpPr/>
          <p:nvPr/>
        </p:nvCxnSpPr>
        <p:spPr>
          <a:xfrm>
            <a:off x="2916360" y="2565360"/>
            <a:ext cx="792720" cy="10087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56" name="TextBox 12"/>
          <p:cNvSpPr/>
          <p:nvPr/>
        </p:nvSpPr>
        <p:spPr>
          <a:xfrm>
            <a:off x="5580000" y="3357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бодный об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705120" y="3544920"/>
          <a:ext cx="1812960" cy="365040"/>
        </p:xfrm>
        <a:graphic>
          <a:graphicData uri="http://schemas.openxmlformats.org/drawingml/2006/table">
            <a:tbl>
              <a:tblPr/>
              <a:tblGrid>
                <a:gridCol w="1812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620720" y="3865680"/>
          <a:ext cx="2005200" cy="401400"/>
        </p:xfrm>
        <a:graphic>
          <a:graphicData uri="http://schemas.openxmlformats.org/drawingml/2006/table">
            <a:tbl>
              <a:tblPr/>
              <a:tblGrid>
                <a:gridCol w="20052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689280" y="4475160"/>
          <a:ext cx="3111480" cy="480960"/>
        </p:xfrm>
        <a:graphic>
          <a:graphicData uri="http://schemas.openxmlformats.org/drawingml/2006/table">
            <a:tbl>
              <a:tblPr/>
              <a:tblGrid>
                <a:gridCol w="311148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Box 16"/>
          <p:cNvSpPr/>
          <p:nvPr/>
        </p:nvSpPr>
        <p:spPr>
          <a:xfrm>
            <a:off x="3924360" y="4076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ая соб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6875640" y="4365720"/>
            <a:ext cx="194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ьная ответ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2"/>
          <p:cNvSpPr/>
          <p:nvPr/>
        </p:nvSpPr>
        <p:spPr>
          <a:xfrm>
            <a:off x="34920" y="-2728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136440" y="-2728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34920" y="533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36440" y="533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1258920" y="765000"/>
            <a:ext cx="559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2) Условия функционирования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19280" y="1989000"/>
          <a:ext cx="3024000" cy="936720"/>
        </p:xfrm>
        <a:graphic>
          <a:graphicData uri="http://schemas.openxmlformats.org/drawingml/2006/table">
            <a:tbl>
              <a:tblPr/>
              <a:tblGrid>
                <a:gridCol w="302400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Box 10"/>
          <p:cNvSpPr/>
          <p:nvPr/>
        </p:nvSpPr>
        <p:spPr>
          <a:xfrm>
            <a:off x="5299200" y="2276640"/>
            <a:ext cx="31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я функцио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12"/>
          <p:cNvCxnSpPr/>
          <p:nvPr/>
        </p:nvCxnSpPr>
        <p:spPr>
          <a:xfrm>
            <a:off x="3564000" y="2997360"/>
            <a:ext cx="915120" cy="9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1" name="Прямая со стрелкой 14"/>
          <p:cNvCxnSpPr/>
          <p:nvPr/>
        </p:nvCxnSpPr>
        <p:spPr>
          <a:xfrm flipH="1">
            <a:off x="2483640" y="2997000"/>
            <a:ext cx="72360" cy="1224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2" name="Прямая со стрелкой 17"/>
          <p:cNvCxnSpPr/>
          <p:nvPr/>
        </p:nvCxnSpPr>
        <p:spPr>
          <a:xfrm flipH="1">
            <a:off x="5940000" y="2923920"/>
            <a:ext cx="432720" cy="865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73" name="TextBox 21"/>
          <p:cNvSpPr/>
          <p:nvPr/>
        </p:nvSpPr>
        <p:spPr>
          <a:xfrm>
            <a:off x="1187280" y="450864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ообраз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4427640" y="4292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бодная конкуренция свобода предприниматель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"/>
          <p:cNvSpPr/>
          <p:nvPr/>
        </p:nvSpPr>
        <p:spPr>
          <a:xfrm>
            <a:off x="1187280" y="692280"/>
            <a:ext cx="712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чная экономика - способ организации хозяйствен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ной на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ногообразии форм собственности, предпринимательстве и конкуренции, своб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ценообразова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030"/>
          <p:cNvPicPr/>
          <p:nvPr/>
        </p:nvPicPr>
        <p:blipFill>
          <a:blip r:embed="rId2"/>
          <a:stretch/>
        </p:blipFill>
        <p:spPr>
          <a:xfrm>
            <a:off x="2700360" y="3787920"/>
            <a:ext cx="40323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2"/>
          <p:cNvSpPr/>
          <p:nvPr/>
        </p:nvSpPr>
        <p:spPr>
          <a:xfrm>
            <a:off x="1258920" y="620640"/>
            <a:ext cx="69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ция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это соперничество между производителя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вигатель торгов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1116000" y="2228760"/>
            <a:ext cx="48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онкуренц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(от лат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enti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алкиваться, состязаться) – экономическое соперничество учас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енной деятельности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ьбе за дост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и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173"/>
          <p:cNvPicPr/>
          <p:nvPr/>
        </p:nvPicPr>
        <p:blipFill>
          <a:blip r:embed="rId2"/>
          <a:stretch/>
        </p:blipFill>
        <p:spPr>
          <a:xfrm>
            <a:off x="5796000" y="2205000"/>
            <a:ext cx="322416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3"/>
          <p:cNvSpPr/>
          <p:nvPr/>
        </p:nvSpPr>
        <p:spPr>
          <a:xfrm>
            <a:off x="1116000" y="692280"/>
            <a:ext cx="73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ция позволяет обойтись без общественного контроля производства, позволяя производителю свободу принятия экономических ре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ция устраняет попытки отдельных участников рыночного процесса контролировать цены и влиять на них, обеспечивая свободное ценообраз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ция стимулирует выпуск более дешёвых и качественных това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заинтересовано в поддержке и развитии конкур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07:54:07Z</dcterms:created>
  <dc:creator>Татьяна</dc:creator>
  <dc:description/>
  <dc:language>en-US</dc:language>
  <cp:lastModifiedBy>Asus</cp:lastModifiedBy>
  <dcterms:modified xsi:type="dcterms:W3CDTF">2022-04-20T05:38:54Z</dcterms:modified>
  <cp:revision>35</cp:revision>
  <dc:subject/>
  <dc:title>РЫНОЧНАЯ ЭКОНОМИКА</dc:title>
</cp:coreProperties>
</file>