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88C-5B7E-4D4A-9545-4D7BB069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ECC-B78D-44A1-87FE-1837387D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E2A-6166-4B4A-B519-13476330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E86-D3B2-4183-98CB-B03DBE7A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585-4C67-40D0-8708-C88EF1A2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FAD-47DE-45AD-93F5-F90C7579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CF4-0660-4D04-B059-33D32F72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36E-EEA5-4E38-B7DB-1F53DF8E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411-EA2D-4723-A6A8-F6B31B95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31A-D843-460D-8C81-307A9120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364-B4C1-4F74-81E2-9477BDB3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4E0-F5B4-471F-8194-EE4A4F61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AF5C-793D-422F-80D1-21394214D0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s://ds05.infourok.ru/uploads/ex/12ff/0011781e-5851ce56/hello_html_m3acb692f.gif"/>
          <p:cNvPicPr/>
          <p:nvPr/>
        </p:nvPicPr>
        <p:blipFill>
          <a:blip r:embed="rId1"/>
          <a:stretch/>
        </p:blipFill>
        <p:spPr>
          <a:xfrm>
            <a:off x="1419120" y="0"/>
            <a:ext cx="96948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s://ds04.infourok.ru/uploads/ex/0e9f/0005a066-ccc69a3f/img9.jpg"/>
          <p:cNvPicPr/>
          <p:nvPr/>
        </p:nvPicPr>
        <p:blipFill>
          <a:blip r:embed="rId1"/>
          <a:stretch/>
        </p:blipFill>
        <p:spPr>
          <a:xfrm>
            <a:off x="1622520" y="34920"/>
            <a:ext cx="93502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8T11:40:47Z</dcterms:created>
  <dc:creator>user</dc:creator>
  <dc:description/>
  <dc:language>en-US</dc:language>
  <cp:lastModifiedBy>user</cp:lastModifiedBy>
  <dcterms:modified xsi:type="dcterms:W3CDTF">2022-04-20T09:40:18Z</dcterms:modified>
  <cp:revision>7</cp:revision>
  <dc:subject/>
  <dc:title>Презентация PowerPoint</dc:title>
</cp:coreProperties>
</file>