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A4B-3D77-4656-974D-246DEEEF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034-08C8-4917-9937-A277D57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F01-2880-49A2-9EF5-F556FDE7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C5F-3D1E-4A9D-98BB-9DADF7F7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49B-1906-4231-AFE2-CE7608DC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DD5-3F69-4AAC-9B6B-E97AD98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D62-1434-4CE4-90A7-A036E33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37A-364C-4332-B69A-44661058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BCE-FAEA-497E-87EC-2B692E3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E6D-0953-4EB0-B4CD-7F3744E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6FF-3868-4541-82BB-7609665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CC3-C29B-4C32-B7B0-64D0B4C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676D-7CF0-47B1-983B-2003383AE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ds05.infourok.ru/uploads/ex/12ff/0011781e-5851ce56/hello_html_m3acb692f.gif"/>
          <p:cNvPicPr/>
          <p:nvPr/>
        </p:nvPicPr>
        <p:blipFill>
          <a:blip r:embed="rId1"/>
          <a:stretch/>
        </p:blipFill>
        <p:spPr>
          <a:xfrm>
            <a:off x="1419120" y="0"/>
            <a:ext cx="9694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s://ds04.infourok.ru/uploads/ex/0e9f/0005a066-ccc69a3f/img9.jpg"/>
          <p:cNvPicPr/>
          <p:nvPr/>
        </p:nvPicPr>
        <p:blipFill>
          <a:blip r:embed="rId1"/>
          <a:stretch/>
        </p:blipFill>
        <p:spPr>
          <a:xfrm>
            <a:off x="1622520" y="34920"/>
            <a:ext cx="93502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8T11:40:47Z</dcterms:created>
  <dc:creator>user</dc:creator>
  <dc:description/>
  <dc:language>en-US</dc:language>
  <cp:lastModifiedBy>user</cp:lastModifiedBy>
  <dcterms:modified xsi:type="dcterms:W3CDTF">2022-04-20T09:40:18Z</dcterms:modified>
  <cp:revision>7</cp:revision>
  <dc:subject/>
  <dc:title>Презентация PowerPoint</dc:title>
</cp:coreProperties>
</file>