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BD6-F7DB-451C-97F7-239F8BB5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37E-696D-43ED-B7D1-83CE5428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581-C18B-454F-B808-BA50E584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41B-313C-462B-8E5A-7F147A66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85DC8-843A-487C-9883-E7ECBDD0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D58FA-B404-430B-AD7B-0B48C775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76BFF-B178-4CBD-A5D3-941B8117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29DDB-F511-4E60-9B86-C2323E59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B85E5-8F21-4072-AB30-BC6A4047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040A8-61FE-458E-8A1A-2C589DC7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C9CB9-0B80-46D7-8547-FB1F714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1E7-8D53-4A1D-9832-6433322A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1D723-DF3C-4568-B42F-DD961B6E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347C0-80DC-4CF9-AB2B-BE982F98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D8484-ACF4-4C90-B31E-24CE22DB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BB26D-1F91-42BD-897D-EC511C5E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CBA10-4874-41B4-9D92-204A23F6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9A5-18A8-40DF-840C-84A2369F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183-438E-4E96-972F-3B77057E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8AF-00F6-4146-B425-EB4F4C7A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E01-A0FD-4A3B-951E-59CEB253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60B-EECF-41C8-81C0-D2D4AA1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7EF-1DC3-4273-BB1D-C0BC13B8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48D-A0CC-4E61-B3D5-BCFF490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E52F-630D-4A74-B94C-6E0F99729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5174-DE84-42A5-8AF6-49210A9B27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133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ентация на тему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е познавательной активности дошкольников  в процессе  исследовательск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562720" y="4240080"/>
            <a:ext cx="3232080" cy="216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14600" cy="1857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2895480" y="3808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 дошкольное образовательное учреждение «Детский сад общеразвивающего вида №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651480" y="609588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Щёкино 20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364840" y="518148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ла: Красикова Е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Д «Путешествие мыльного пузырика» младшая груп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6313320" y="838080"/>
            <a:ext cx="2479680" cy="33084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4762440" y="4267080"/>
            <a:ext cx="3997440" cy="2457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3"/>
          <a:stretch/>
        </p:blipFill>
        <p:spPr>
          <a:xfrm>
            <a:off x="457200" y="109224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ксперименты на определение свойств снега и ль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Рисунок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268596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"/>
          <p:cNvPicPr/>
          <p:nvPr/>
        </p:nvPicPr>
        <p:blipFill>
          <a:blip r:embed="rId3"/>
          <a:stretch/>
        </p:blipFill>
        <p:spPr>
          <a:xfrm>
            <a:off x="2057400" y="41148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ксперименты с магни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Объект 3" descr=""/>
          <p:cNvPicPr/>
          <p:nvPr/>
        </p:nvPicPr>
        <p:blipFill>
          <a:blip r:embed="rId1"/>
          <a:stretch/>
        </p:blipFill>
        <p:spPr>
          <a:xfrm>
            <a:off x="457200" y="1082520"/>
            <a:ext cx="3189240" cy="42516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ксперименты по выращиванию овощей на участке детского с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914400" y="118260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"/>
          <p:cNvPicPr/>
          <p:nvPr/>
        </p:nvPicPr>
        <p:blipFill>
          <a:blip r:embed="rId3"/>
          <a:stretch/>
        </p:blipFill>
        <p:spPr>
          <a:xfrm>
            <a:off x="914400" y="4041720"/>
            <a:ext cx="35672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Работа  с родителям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знакомление родителей с задачами  опытно-экспериментальной 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Бес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знакомление  родителей  с экспериментальным  уголк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Наглядная  информ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онсульт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Анкет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омплектование  фонда справочных  пособий и информационного материала  для  роди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детское экспериментирование дало детям реальные  представления об окружающем объекте.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расширился кругозор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явились навыки  планирования  своей деятельности, умение  делать  выводы.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формируются качества личности: самостоятельность, инициативность, познавательная активность  и целеустремлён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в процессе экспериментирования обогатилась память ребёнка, активизировались его мыслительные процес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экспериментирование вызвало у детей интерес  к  исследованию, стимулировало к получению новых знаний, дало  реальные представления об  изучаемом объек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высился уровень компетентности р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457200" y="609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 дошкольное образовательное учреждение  « Детский сад  общеразвивающего вида№1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841320" y="411480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4419720" y="2205000"/>
            <a:ext cx="445284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838080" y="3808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бования ФГОС ДО к познавательно-исследовательской 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8320" y="2819520"/>
            <a:ext cx="4190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воображения и творческой а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первичных представлений о себе, других людях, объектах окружающего мира их свойствах и отношен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267080" cy="3017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57200" y="20574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любознательности и познавательной мотив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формирование познавательных действий в становлении созн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990720" y="297000"/>
            <a:ext cx="723888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уальность  те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ок  рождается исследователем .Неутолимая жажда  новых  впечатлений ,любопытство,  постоянное  стремление  наблюдать  и экспериментировать ,самостоятельно искать новые сведения  о мире, рассматриваются  как важнейшие черты  детского поведения. Удовлетворяя свою любознательность в процессе    познавательно – исследовательской  деятельности, ребёнок  с одной  стороны  расширяет  представление  о мире, устанавливает причинно –  следственные связи, позволяющие связать  отдельные  представления  в целостную  картину ми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6291360" y="3621240"/>
            <a:ext cx="241452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4952880" cy="16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Продолжать  воспитывать  стремление  сохранять  и беречь природный мир, видеть его  красоту, следовать  доступным экологическим  правилам  в деятельности и повед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52280" y="228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и  познавательно-исследовательской дея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5454720" y="3048120"/>
            <a:ext cx="3497040" cy="358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04920" y="13716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Поддерживать интерес  дошкольников к окружающей  среде  удовлетворять  детскую  любозна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Развивать у детей  познавательные  способност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Развивать мышление, речь в процессе познавательно –исследовательской деятельности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тоды опытно-экспериментальной  дея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6168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глядные (наблюдения, иллюстрации, презентац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овесные (беседы, чтение художественной литератур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ктические (игры – эксперименты, дидактические игры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тод игрового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4419720" y="3314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да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ть предпосылки  поисковой деятельности, интеллектуальной инициатив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вать умение определять возможные  методы решения  проблемы с помощью взрослого, а затем самостоятель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ть  умение  применять данные методы способствующие  решению  поставленной задачи, с использованием различных вариа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вать желание  пользоваться специальной   терминологией  в процессе  совмест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вать  способность  выдвигать  гипотезы  и самостоятельно делать вы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руктура  эксперимент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тановка проблемной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леполагание ( что нужно  сдела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движение гипотезы(как с помощью чего это получитс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верка  предпо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вывод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5638680" y="2998800"/>
            <a:ext cx="29718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ый алгоритм  проведения занятия  по опытно-экспериментальной  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Предварительная работа (экскурсии, наблюдения, чтение, беседы) по изучению теории вопро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Определение типа  вида и тематики зан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Выбор  цели  задач работы  с детьми (познавательные,    развивающие, воспитательн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Игровой тренинг внимания, восприятия, памяти, мыш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Предварительная  исследовательская  работа с  использованием оборудования  и  учебных пособий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 Выбор и подготовка пособий и оборудования  с учётом  возраста детей и изучаемой 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. Обобщение результатов наблюд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но  из главных условий успешной  организации  познавательно-исследовательской  деятельности  создание предметно-развивающей ср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76320" y="1604880"/>
            <a:ext cx="3351240" cy="2513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"/>
          <p:cNvPicPr/>
          <p:nvPr/>
        </p:nvPicPr>
        <p:blipFill>
          <a:blip r:embed="rId3"/>
          <a:stretch/>
        </p:blipFill>
        <p:spPr>
          <a:xfrm>
            <a:off x="2724120" y="418932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Пользователь Windows</cp:lastModifiedBy>
  <dcterms:modified xsi:type="dcterms:W3CDTF">2022-04-20T11:02:57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