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B0D-B315-4CC4-8BC5-FCB1D5DC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DE3-7908-4464-A5A8-9282BC0A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69F-4D11-4B83-A0D7-3E6392E2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220-C156-45DD-8D22-8C72EB4A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4E193-2690-4C40-A113-5A9D4BCA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82503-84B9-4281-86B4-69007739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35FB5-16AF-4781-8261-C8DC47E4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5C51B-E796-48CC-BD80-CD34CF9B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423F4-EA41-4C1F-92A6-8C055CA2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5516C-C1C4-4102-97E0-9F8EE91A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1F52E-0A4F-4269-9D9C-0534F5B0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68F-0DF1-42B3-AB4F-C9A8AAF9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7C114-A136-4146-926B-1642E116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0AF21-A51F-428B-B9EA-58F2B11A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B3A6A-328F-4CFC-AB79-475A0609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E762E-6B50-476C-9E4F-5DAF689D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FB791-4F49-4B2F-8DB0-5F37A555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DD0-6C1E-4F06-9303-A6264427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C85-F4DC-4CAD-8984-755FC690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2470-CDD1-48C6-9B7D-E7D6E2C5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C8B-C67B-42A9-A004-4DE40AA8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EE3F-A37F-4728-8FBC-79D9A8FA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93A-A9E6-40A9-B476-67D40F15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5FF-3E61-4D7F-A41A-B70ACB4A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613B-E4ED-4D2E-B1C2-7B3A306B17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1793-2ED6-44D2-B12C-1AC599B7B8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13372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зентация на тему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витие познавательной активности дошкольников  в процессе  исследовательской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562720" y="4240080"/>
            <a:ext cx="3232080" cy="2160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514600" cy="1857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2895480" y="3808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 дошкольное образовательное учреждение «Детский сад общеразвивающего вида №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651480" y="6095880"/>
            <a:ext cx="18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Щёкино 20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364840" y="5181480"/>
            <a:ext cx="32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ла: Красикова Е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Д «Путешествие мыльного пузырика» младшая групп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1"/>
          <a:stretch/>
        </p:blipFill>
        <p:spPr>
          <a:xfrm>
            <a:off x="6313320" y="838080"/>
            <a:ext cx="2479680" cy="33084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2"/>
          <a:stretch/>
        </p:blipFill>
        <p:spPr>
          <a:xfrm>
            <a:off x="4762440" y="4267080"/>
            <a:ext cx="3997440" cy="24577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3"/>
          <a:stretch/>
        </p:blipFill>
        <p:spPr>
          <a:xfrm>
            <a:off x="457200" y="109224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ксперименты на определение свойств снега и ль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Рисунок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"/>
          <p:cNvPicPr/>
          <p:nvPr/>
        </p:nvPicPr>
        <p:blipFill>
          <a:blip r:embed="rId2"/>
          <a:stretch/>
        </p:blipFill>
        <p:spPr>
          <a:xfrm>
            <a:off x="5943600" y="2133720"/>
            <a:ext cx="2685960" cy="3581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"/>
          <p:cNvPicPr/>
          <p:nvPr/>
        </p:nvPicPr>
        <p:blipFill>
          <a:blip r:embed="rId3"/>
          <a:stretch/>
        </p:blipFill>
        <p:spPr>
          <a:xfrm>
            <a:off x="2057400" y="411480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ксперименты с магнит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Объект 3" descr=""/>
          <p:cNvPicPr/>
          <p:nvPr/>
        </p:nvPicPr>
        <p:blipFill>
          <a:blip r:embed="rId1"/>
          <a:stretch/>
        </p:blipFill>
        <p:spPr>
          <a:xfrm>
            <a:off x="457200" y="1082520"/>
            <a:ext cx="3189240" cy="42516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"/>
          <p:cNvPicPr/>
          <p:nvPr/>
        </p:nvPicPr>
        <p:blipFill>
          <a:blip r:embed="rId2"/>
          <a:stretch/>
        </p:blipFill>
        <p:spPr>
          <a:xfrm>
            <a:off x="5638680" y="22860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ксперименты по выращиванию овощей на участке детского са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1"/>
          <a:stretch/>
        </p:blipFill>
        <p:spPr>
          <a:xfrm>
            <a:off x="914400" y="1182600"/>
            <a:ext cx="3530520" cy="26481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143160" cy="41911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6" descr=""/>
          <p:cNvPicPr/>
          <p:nvPr/>
        </p:nvPicPr>
        <p:blipFill>
          <a:blip r:embed="rId3"/>
          <a:stretch/>
        </p:blipFill>
        <p:spPr>
          <a:xfrm>
            <a:off x="914400" y="4041720"/>
            <a:ext cx="356724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Работа  с родителям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Ознакомление родителей с задачами  опытно-экспериментальной деятель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Бесе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Ознакомление  родителей  с экспериментальным  уголко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Наглядная  информац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Консульт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Анкетиро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Комплектование  фонда справочных  пособий и информационного материала  для  родител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детское экспериментирование дало детям реальные  представления об окружающем объекте.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расширился кругозор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оявились навыки  планирования  своей деятельности, умение  делать  выводы.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формируются качества личности: самостоятельность, инициативность, познавательная активность  и целеустремлён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в процессе экспериментирования обогатилась память ребёнка, активизировались его мыслительные процес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экспериментирование вызвало у детей интерес  к  исследованию, стимулировало к получению новых знаний, дало  реальные представления об  изучаемом объек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повысился уровень компетентности родител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457200" y="609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униципальное  дошкольное образовательное учреждение  « Детский сад  общеразвивающего вида№1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841320" y="4114800"/>
            <a:ext cx="34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4419720" y="2205000"/>
            <a:ext cx="445284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838080" y="3808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бования ФГОС ДО к познавательно-исследовательской деятель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48320" y="2819520"/>
            <a:ext cx="4190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витие воображения и творческой актив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первичных представлений о себе, других людях, объектах окружающего мира их свойствах и отношения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4267080" cy="30178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457200" y="20574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развитие любознательности и познавательной мотив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формирование познавательных действий в становлении созн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990720" y="297000"/>
            <a:ext cx="723888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уальность  тем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бёнок  рождается исследователем .Неутолимая жажда  новых  впечатлений ,любопытство,  постоянное  стремление  наблюдать  и экспериментировать ,самостоятельно искать новые сведения  о мире, рассматриваются  как важнейшие черты  детского поведения. Удовлетворяя свою любознательность в процессе    познавательно – исследовательской  деятельности, ребёнок  с одной  стороны  расширяет  представление  о мире, устанавливает причинно –  следственные связи, позволяющие связать  отдельные  представления  в целостную  картину мир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6291360" y="3621240"/>
            <a:ext cx="241452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4952880" cy="16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Продолжать  воспитывать  стремление  сохранять  и беречь природный мир, видеть его  красоту, следовать  доступным экологическим  правилам  в деятельности и повед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152280" y="2286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и  познавательно-исследовательской деяте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5454720" y="3048120"/>
            <a:ext cx="3497040" cy="358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304920" y="137160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Поддерживать интерес  дошкольников к окружающей  среде  удовлетворять  детскую  любознатель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Развивать у детей  познавательные  способност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Развивать мышление, речь в процессе познавательно –исследовательской деятельности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тоды опытно-экспериментальной  деяте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6168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глядные (наблюдения, иллюстрации, презентаци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ловесные (беседы, чтение художественной литератур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актические (игры – эксперименты, дидактические игры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тод игрового обу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Рисунок 3" descr=""/>
          <p:cNvPicPr/>
          <p:nvPr/>
        </p:nvPicPr>
        <p:blipFill>
          <a:blip r:embed="rId1"/>
          <a:stretch/>
        </p:blipFill>
        <p:spPr>
          <a:xfrm>
            <a:off x="4419720" y="33148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дач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12952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ть предпосылки  поисковой деятельности, интеллектуальной инициатив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вать умение определять возможные  методы решения  проблемы с помощью взрослого, а затем самостоятель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ть  умение  применять данные методы способствующие  решению  поставленной задачи, с использованием различных вариан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вать желание  пользоваться специальной   терминологией  в процессе  совместной деятель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вивать  способность  выдвигать  гипотезы  и самостоятельно делать выв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руктура  эксперимент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447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тановка проблемной ситу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леполагание ( что нужно  сделат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движение гипотезы(как с помощью чего это получитс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верка  предпо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ние выводов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5638680" y="2998800"/>
            <a:ext cx="297180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мерный алгоритм  проведения занятия  по опытно-экспериментальной  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52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 Предварительная работа (экскурсии, наблюдения, чтение, беседы) по изучению теории вопро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Определение типа  вида и тематики заня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Выбор  цели  задач работы  с детьми (познавательные,    развивающие, воспитательны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Игровой тренинг внимания, восприятия, памяти, мыш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. Предварительная  исследовательская  работа с  использованием оборудования  и  учебных пособий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. Выбор и подготовка пособий и оборудования  с учётом  возраста детей и изучаемой 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. Обобщение результатов наблюд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дно  из главных условий успешной  организации  познавательно-исследовательской  деятельности  создание предметно-развивающей сре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Рисунок 3" descr=""/>
          <p:cNvPicPr/>
          <p:nvPr/>
        </p:nvPicPr>
        <p:blipFill>
          <a:blip r:embed="rId1"/>
          <a:stretch/>
        </p:blipFill>
        <p:spPr>
          <a:xfrm>
            <a:off x="76320" y="1604880"/>
            <a:ext cx="3351240" cy="2513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"/>
          <p:cNvPicPr/>
          <p:nvPr/>
        </p:nvPicPr>
        <p:blipFill>
          <a:blip r:embed="rId3"/>
          <a:stretch/>
        </p:blipFill>
        <p:spPr>
          <a:xfrm>
            <a:off x="2724120" y="418932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Пользователь Windows</cp:lastModifiedBy>
  <dcterms:modified xsi:type="dcterms:W3CDTF">2022-04-20T11:02:57Z</dcterms:modified>
  <cp:revision>1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