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9744-A581-4704-B2E7-1C433B02A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0C33-16CF-4235-A49C-1F237736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26E0-9CD6-44CE-9B58-8C0C70AD3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F8A4-0B23-48D2-AD7E-FD50F9D88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973E-1EA4-4406-A9C7-7B7FADF1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CD01-4DC6-4480-8070-5078FD80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F4C0-241E-401B-8D61-118643C7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5A55-EE93-45D7-B0A5-068E105A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C25C-139F-4DC5-BA26-BA5D72F8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EF83-FAB4-417E-A888-7D7C07A9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6155-153F-47DF-BBB2-E465DCDF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02B6-F358-4BFB-9169-0C625211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4C18-101D-4645-ACE8-FB8231A041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cc00"/>
                </a:solidFill>
                <a:latin typeface="Arial"/>
              </a:rPr>
              <a:t>Тема: «Пернатые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Старший дошкольный возра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Из опыта работы воспитателя МАДОУ  ЦРР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д/с №128 Близниченко Н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img128"/>
          <p:cNvPicPr/>
          <p:nvPr/>
        </p:nvPicPr>
        <p:blipFill>
          <a:blip r:embed="rId1"/>
          <a:stretch/>
        </p:blipFill>
        <p:spPr>
          <a:xfrm>
            <a:off x="541440" y="1263600"/>
            <a:ext cx="5775120" cy="66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6172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img130"/>
          <p:cNvPicPr/>
          <p:nvPr/>
        </p:nvPicPr>
        <p:blipFill>
          <a:blip r:embed="rId1"/>
          <a:stretch/>
        </p:blipFill>
        <p:spPr>
          <a:xfrm>
            <a:off x="-30240" y="544680"/>
            <a:ext cx="6918480" cy="80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Назови перелетных, оседлых, зимующих пт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img137"/>
          <p:cNvPicPr/>
          <p:nvPr/>
        </p:nvPicPr>
        <p:blipFill>
          <a:blip r:embed="rId1"/>
          <a:stretch/>
        </p:blipFill>
        <p:spPr>
          <a:xfrm>
            <a:off x="609480" y="1600200"/>
            <a:ext cx="5715000" cy="59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2-04-21T10:08:4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