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29A-9AF5-4A24-94FF-7CDE914D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C6F-9EAB-4108-899D-7CFD6ED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5FD-81AA-4740-8821-F17786CD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2EF-B308-4F40-8E38-5FA33D66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3B0-2C68-4A0F-B605-521F6838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BFE-2416-4981-9ABE-039204CD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FBA-29CB-48E8-896A-5A8D7A33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6CD-7D0C-4F3D-9FE3-6F061EA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F79-68D8-4020-8B2D-483A38F2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A9D-1DEA-4D94-AF50-BD400DE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07A-E3C2-4317-B6A9-FBA6F46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C83-4846-41C1-931C-21113AA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A59-4599-494A-9341-34B53BA13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Тема: «Пернаты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з опыта работы воспитателя МАДОУ  ЦРР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д/с №128 Близниченко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128"/>
          <p:cNvPicPr/>
          <p:nvPr/>
        </p:nvPicPr>
        <p:blipFill>
          <a:blip r:embed="rId1"/>
          <a:stretch/>
        </p:blipFill>
        <p:spPr>
          <a:xfrm>
            <a:off x="541440" y="1263600"/>
            <a:ext cx="57751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130"/>
          <p:cNvPicPr/>
          <p:nvPr/>
        </p:nvPicPr>
        <p:blipFill>
          <a:blip r:embed="rId1"/>
          <a:stretch/>
        </p:blipFill>
        <p:spPr>
          <a:xfrm>
            <a:off x="-30240" y="544680"/>
            <a:ext cx="6918480" cy="80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зови перелетных, оседлых, зимующих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img137"/>
          <p:cNvPicPr/>
          <p:nvPr/>
        </p:nvPicPr>
        <p:blipFill>
          <a:blip r:embed="rId1"/>
          <a:stretch/>
        </p:blipFill>
        <p:spPr>
          <a:xfrm>
            <a:off x="609480" y="1600200"/>
            <a:ext cx="5715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21T10:08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