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EB7-4581-4949-8B64-1DEB0E95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847-D1C9-4632-9B9B-5E8A7692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AFB-7A87-49C3-85D5-518B3CBC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251-0D01-40D4-8340-4ABC4397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754-B2CF-4E03-B36E-65AEF0C6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DD9-43C4-4FE8-BB55-F35C7BB0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ACF-7569-4640-A7CC-709D8F83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08E-BEFA-4A77-B15D-B416F2F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F5C-B53A-440A-BC1A-C4DF7DE0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C5F-6806-43CB-946A-3776A8DE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F35-DB12-443E-9843-7054848A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FC9-D186-4513-98DD-2D4A6223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F37-621D-4B66-812A-83A54E6DA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5e76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АТЕРИАЛ  К  ЗАНЯТИЮ  ПО  ЭКОЛОГИЧЕСКОМУ  ВОСПИТ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ТЕМА: «ПОДВОДНЫЙ  М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пыта работы воспитателя МАДОУ ЦРР д\с №128 Близниченко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343080" y="762012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линингр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пия img119"/>
          <p:cNvPicPr/>
          <p:nvPr/>
        </p:nvPicPr>
        <p:blipFill>
          <a:blip r:embed="rId1"/>
          <a:stretch/>
        </p:blipFill>
        <p:spPr>
          <a:xfrm>
            <a:off x="-228600" y="152280"/>
            <a:ext cx="7500960" cy="975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опия img108"/>
          <p:cNvPicPr/>
          <p:nvPr/>
        </p:nvPicPr>
        <p:blipFill>
          <a:blip r:embed="rId1"/>
          <a:stretch/>
        </p:blipFill>
        <p:spPr>
          <a:xfrm>
            <a:off x="0" y="0"/>
            <a:ext cx="6858000" cy="87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Копия img109"/>
          <p:cNvPicPr/>
          <p:nvPr/>
        </p:nvPicPr>
        <p:blipFill>
          <a:blip r:embed="rId1"/>
          <a:stretch/>
        </p:blipFill>
        <p:spPr>
          <a:xfrm>
            <a:off x="-270000" y="0"/>
            <a:ext cx="712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Копия img110"/>
          <p:cNvPicPr/>
          <p:nvPr/>
        </p:nvPicPr>
        <p:blipFill>
          <a:blip r:embed="rId1"/>
          <a:stretch/>
        </p:blipFill>
        <p:spPr>
          <a:xfrm>
            <a:off x="-393840" y="0"/>
            <a:ext cx="7251840" cy="89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Копия img111"/>
          <p:cNvPicPr/>
          <p:nvPr/>
        </p:nvPicPr>
        <p:blipFill>
          <a:blip r:embed="rId1"/>
          <a:stretch/>
        </p:blipFill>
        <p:spPr>
          <a:xfrm>
            <a:off x="-393840" y="0"/>
            <a:ext cx="725184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ови обитателей рек и о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опия img114"/>
          <p:cNvPicPr/>
          <p:nvPr/>
        </p:nvPicPr>
        <p:blipFill>
          <a:blip r:embed="rId1"/>
          <a:stretch/>
        </p:blipFill>
        <p:spPr>
          <a:xfrm>
            <a:off x="31680" y="1981080"/>
            <a:ext cx="6794640" cy="730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ложи из спичек и пуговиц фигу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Копия img113"/>
          <p:cNvPicPr/>
          <p:nvPr/>
        </p:nvPicPr>
        <p:blipFill>
          <a:blip r:embed="rId1"/>
          <a:stretch/>
        </p:blipFill>
        <p:spPr>
          <a:xfrm>
            <a:off x="-61920" y="1981080"/>
            <a:ext cx="698184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опия img112"/>
          <p:cNvPicPr/>
          <p:nvPr/>
        </p:nvPicPr>
        <p:blipFill>
          <a:blip r:embed="rId1"/>
          <a:stretch/>
        </p:blipFill>
        <p:spPr>
          <a:xfrm>
            <a:off x="-61920" y="304920"/>
            <a:ext cx="6981840" cy="86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Копия img115"/>
          <p:cNvPicPr/>
          <p:nvPr/>
        </p:nvPicPr>
        <p:blipFill>
          <a:blip r:embed="rId1"/>
          <a:stretch/>
        </p:blipFill>
        <p:spPr>
          <a:xfrm>
            <a:off x="0" y="-284040"/>
            <a:ext cx="7315200" cy="94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4-21T09:59:0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