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EB3-0D3B-49BD-A658-0F7302D1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712-FF72-42D7-8D55-8B30F23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970-103D-45FA-BB7A-EE9BBB0F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7A1-73CA-4729-988F-AE026007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244-C816-4130-97E5-8B6C410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282-3018-4789-93E4-946A291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D7C-9A59-4B0A-B42C-12E0556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D1E-ACD9-48DD-A927-9EDD56B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B64-4A3A-4170-841F-12BBF868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5A3-B5EE-48F4-AC8E-F0120CD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E3C-0C6D-4431-8D4C-2DB22F4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C8D-07CE-4D17-950D-19B4182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951C-E43D-4A66-9470-ABC7947C3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АТЕРИАЛ  К  ЗАНЯТИЮ  ПО  ЭКОЛОГИЧЕСКОМУ  ВОСПИТ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ТЕМА: «ПОДВОДНЫЙ 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пыта работы воспитателя МАДОУ ЦРР д\с 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343080" y="76201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пия img119"/>
          <p:cNvPicPr/>
          <p:nvPr/>
        </p:nvPicPr>
        <p:blipFill>
          <a:blip r:embed="rId1"/>
          <a:stretch/>
        </p:blipFill>
        <p:spPr>
          <a:xfrm>
            <a:off x="-228600" y="152280"/>
            <a:ext cx="7500960" cy="975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опия img108"/>
          <p:cNvPicPr/>
          <p:nvPr/>
        </p:nvPicPr>
        <p:blipFill>
          <a:blip r:embed="rId1"/>
          <a:stretch/>
        </p:blipFill>
        <p:spPr>
          <a:xfrm>
            <a:off x="0" y="0"/>
            <a:ext cx="6858000" cy="87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Копия img109"/>
          <p:cNvPicPr/>
          <p:nvPr/>
        </p:nvPicPr>
        <p:blipFill>
          <a:blip r:embed="rId1"/>
          <a:stretch/>
        </p:blipFill>
        <p:spPr>
          <a:xfrm>
            <a:off x="-270000" y="0"/>
            <a:ext cx="712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опия img110"/>
          <p:cNvPicPr/>
          <p:nvPr/>
        </p:nvPicPr>
        <p:blipFill>
          <a:blip r:embed="rId1"/>
          <a:stretch/>
        </p:blipFill>
        <p:spPr>
          <a:xfrm>
            <a:off x="-393840" y="0"/>
            <a:ext cx="7251840" cy="89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опия img111"/>
          <p:cNvPicPr/>
          <p:nvPr/>
        </p:nvPicPr>
        <p:blipFill>
          <a:blip r:embed="rId1"/>
          <a:stretch/>
        </p:blipFill>
        <p:spPr>
          <a:xfrm>
            <a:off x="-393840" y="0"/>
            <a:ext cx="7251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обитателей рек и о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опия img114"/>
          <p:cNvPicPr/>
          <p:nvPr/>
        </p:nvPicPr>
        <p:blipFill>
          <a:blip r:embed="rId1"/>
          <a:stretch/>
        </p:blipFill>
        <p:spPr>
          <a:xfrm>
            <a:off x="31680" y="1981080"/>
            <a:ext cx="679464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ложи из спичек и пуговиц фигу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опия img113"/>
          <p:cNvPicPr/>
          <p:nvPr/>
        </p:nvPicPr>
        <p:blipFill>
          <a:blip r:embed="rId1"/>
          <a:stretch/>
        </p:blipFill>
        <p:spPr>
          <a:xfrm>
            <a:off x="-61920" y="1981080"/>
            <a:ext cx="69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опия img112"/>
          <p:cNvPicPr/>
          <p:nvPr/>
        </p:nvPicPr>
        <p:blipFill>
          <a:blip r:embed="rId1"/>
          <a:stretch/>
        </p:blipFill>
        <p:spPr>
          <a:xfrm>
            <a:off x="-61920" y="304920"/>
            <a:ext cx="6981840" cy="86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Копия img115"/>
          <p:cNvPicPr/>
          <p:nvPr/>
        </p:nvPicPr>
        <p:blipFill>
          <a:blip r:embed="rId1"/>
          <a:stretch/>
        </p:blipFill>
        <p:spPr>
          <a:xfrm>
            <a:off x="0" y="-284040"/>
            <a:ext cx="7315200" cy="94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09:59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