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9144000" cy="6858000"/>
  <p:custShowLst>
    <p:custShow name="Целые" id="0">
      <p:sldLst>
        <p:sld r:id="rId20"/>
        <p:sld r:id="rId21"/>
        <p:sld r:id="rId22"/>
        <p:sld r:id="rId23"/>
        <p:sld r:id="rId24"/>
        <p:sld r:id="rId25"/>
        <p:sld r:id="rId26"/>
        <p:sld r:id="rId27"/>
        <p:sld r:id="rId28"/>
      </p:sldLst>
    </p:custShow>
    <p:custShow name="Вещественные" id="1">
      <p:sldLst>
        <p:sld r:id="rId29"/>
        <p:sld r:id="rId3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3B7B-C41B-420B-A3E7-E1E1FD6840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DE6D-25D6-4C81-985F-6A0388A92DB9}" type="slidenum">
              <a:rPr b="0" lang="ru-RU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99700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801320"/>
            <a:ext cx="2460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415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80132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997000"/>
            <a:ext cx="372996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801320"/>
            <a:ext cx="7643520" cy="16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3456000" y="1987560"/>
            <a:ext cx="5724360" cy="10080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313080" y="1844640"/>
            <a:ext cx="5867280" cy="129708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79400" y="191628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ставление чисел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памяти компьютер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2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2803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Представление данных в компьютере </a:t>
            </a:r>
            <a:r>
              <a:rPr b="1" i="1" lang="ru-RU" sz="2400" spc="-1" strike="noStrike">
                <a:solidFill>
                  <a:srgbClr val="6600cc"/>
                </a:solidFill>
                <a:latin typeface="Arial"/>
              </a:rPr>
              <a:t>дискретно</a:t>
            </a: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Дискретное множество состоит из отделенных друг от друга элементов.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Самым традиционным видом данных, с которым работает компьютер, являются числа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Первоначально человек оперировал лишь целыми положительными (натуральными) числами. Натуральный ряд – дискретное множество чисел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В математике натуральный ряд чисел бесконечен и неограничен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4040" y="3068640"/>
            <a:ext cx="82886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С появлением понятия отрицательного числа, оказалось, что множество целых чисел не ограниченно как «справа»,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так и «слева»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3" name="Picture 4" descr="https://xn----7sbbfb7a7aej.xn--p1ai/informatika_10_sim/ur_09/ur_09_02.jpg"/>
          <p:cNvPicPr/>
          <p:nvPr/>
        </p:nvPicPr>
        <p:blipFill>
          <a:blip r:embed="rId1"/>
          <a:stretch/>
        </p:blipFill>
        <p:spPr>
          <a:xfrm>
            <a:off x="155520" y="5084640"/>
            <a:ext cx="87822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1412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ывод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206028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множество целых чисел в математике дискретно и не ограниченно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6" name="Picture 4" descr="https://xn----7sbbfb7a7aej.xn--p1ai/informatika_10_sim/ur_09/ur_09_02.jpg"/>
          <p:cNvPicPr/>
          <p:nvPr/>
        </p:nvPicPr>
        <p:blipFill>
          <a:blip r:embed="rId1"/>
          <a:srcRect l="46873" t="0" r="0" b="50019"/>
          <a:stretch/>
        </p:blipFill>
        <p:spPr>
          <a:xfrm>
            <a:off x="611280" y="3357720"/>
            <a:ext cx="7705800" cy="950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123560" y="4653000"/>
            <a:ext cx="145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1-0 = 1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2-1 = 1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3-2 = 1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Правая фигурная скобка 5"/>
          <p:cNvSpPr/>
          <p:nvPr/>
        </p:nvSpPr>
        <p:spPr>
          <a:xfrm rot="5400000">
            <a:off x="3924000" y="4019400"/>
            <a:ext cx="360360" cy="57636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576360"/>
              <a:gd name="textAreaBottom" fmla="*/ 5670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3"/>
                  <a:pt x="10800" y="1126"/>
                </a:cubicBezTo>
                <a:lnTo>
                  <a:pt x="10800" y="9674"/>
                </a:lnTo>
                <a:cubicBezTo>
                  <a:pt x="10800" y="10237"/>
                  <a:pt x="16200" y="10800"/>
                  <a:pt x="21600" y="10800"/>
                </a:cubicBezTo>
                <a:cubicBezTo>
                  <a:pt x="16200" y="10800"/>
                  <a:pt x="10800" y="11363"/>
                  <a:pt x="10800" y="11926"/>
                </a:cubicBezTo>
                <a:lnTo>
                  <a:pt x="10800" y="20474"/>
                </a:lnTo>
                <a:cubicBezTo>
                  <a:pt x="10800" y="210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119" name="Прямая со стрелкой 7"/>
          <p:cNvCxnSpPr/>
          <p:nvPr/>
        </p:nvCxnSpPr>
        <p:spPr>
          <a:xfrm>
            <a:off x="4103640" y="4400640"/>
            <a:ext cx="1116720" cy="505440"/>
          </a:xfrm>
          <a:prstGeom prst="straightConnector1">
            <a:avLst/>
          </a:prstGeom>
          <a:ln w="9360">
            <a:solidFill>
              <a:srgbClr val="6400cc"/>
            </a:solidFill>
            <a:miter/>
            <a:tailEnd len="med" type="arrow" w="med"/>
          </a:ln>
        </p:spPr>
      </p:cxnSp>
      <p:sp>
        <p:nvSpPr>
          <p:cNvPr id="120" name="TextBox 8"/>
          <p:cNvSpPr/>
          <p:nvPr/>
        </p:nvSpPr>
        <p:spPr>
          <a:xfrm>
            <a:off x="4398840" y="49053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Шаг числовой последовательност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560" y="1699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3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Множество представимых в памяти компьютера величин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ограничено</a:t>
            </a: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6600cc"/>
                </a:solidFill>
                <a:latin typeface="Arial"/>
              </a:rPr>
              <a:t>конечно</a:t>
            </a: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Овал 1"/>
          <p:cNvSpPr/>
          <p:nvPr/>
        </p:nvSpPr>
        <p:spPr>
          <a:xfrm>
            <a:off x="466560" y="4621320"/>
            <a:ext cx="3384720" cy="190332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АТЕМАТИКА: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множество целых чисел  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дискретно, бесконечно,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не ограничено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Овал 2"/>
          <p:cNvSpPr/>
          <p:nvPr/>
        </p:nvSpPr>
        <p:spPr>
          <a:xfrm>
            <a:off x="5291280" y="4621320"/>
            <a:ext cx="3384360" cy="1901880"/>
          </a:xfrm>
          <a:prstGeom prst="ellipse">
            <a:avLst/>
          </a:prstGeom>
          <a:solidFill>
            <a:srgbClr val="ff99ff"/>
          </a:solidFill>
          <a:ln w="255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ИНФОРМАТИКА: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множество целых чисел  </a:t>
            </a:r>
            <a:r>
              <a:rPr b="1" i="1" lang="ru-RU" sz="1800" spc="-1" strike="noStrike">
                <a:solidFill>
                  <a:srgbClr val="6600cc"/>
                </a:solidFill>
                <a:latin typeface="Arial"/>
              </a:rPr>
              <a:t>дискретно, конечно,   ограничено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Выгнутая вверх стрелка 3"/>
          <p:cNvSpPr/>
          <p:nvPr/>
        </p:nvSpPr>
        <p:spPr>
          <a:xfrm>
            <a:off x="1994040" y="3860640"/>
            <a:ext cx="5313240" cy="698760"/>
          </a:xfrm>
          <a:custGeom>
            <a:avLst/>
            <a:gdLst>
              <a:gd name="textAreaLeft" fmla="*/ 1168560 w 5313240"/>
              <a:gd name="textAreaRight" fmla="*/ 3931920 w 5313240"/>
              <a:gd name="textAreaTop" fmla="*/ 93600 h 698760"/>
              <a:gd name="textAreaBottom" fmla="*/ 605160 h 698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02" hR="21600" stAng="10800000" swAng="5400000"/>
                <a:lnTo>
                  <a:pt x="11234" y="0"/>
                </a:lnTo>
                <a:arcTo wR="9502" hR="21600" stAng="-5400000" swAng="3575301"/>
                <a:lnTo>
                  <a:pt x="21298" y="16200"/>
                </a:lnTo>
                <a:lnTo>
                  <a:pt x="19869" y="21600"/>
                </a:lnTo>
                <a:lnTo>
                  <a:pt x="17836" y="16200"/>
                </a:lnTo>
                <a:lnTo>
                  <a:pt x="18701" y="16200"/>
                </a:lnTo>
                <a:arcTo wR="9502" hR="21600" stAng="-1824699" swAng="-3436971"/>
                <a:lnTo>
                  <a:pt x="10368" y="90"/>
                </a:lnTo>
                <a:arcTo wR="9502" hR="21600" stAng="-5538330" swAng="-5261670"/>
                <a:close/>
              </a:path>
              <a:path fill="darkenLess" w="21600" h="21600">
                <a:moveTo>
                  <a:pt x="0" y="21600"/>
                </a:moveTo>
                <a:arcTo wR="9502" hR="21600" stAng="10800000" swAng="5400000"/>
                <a:lnTo>
                  <a:pt x="9502" y="0"/>
                </a:lnTo>
                <a:arcTo wR="9502" hR="21600" stAng="-5400000" swAng="138330"/>
                <a:lnTo>
                  <a:pt x="10368" y="90"/>
                </a:lnTo>
                <a:arcTo wR="9502" hR="21600" stAng="-5538330" swAng="-5261670"/>
                <a:close/>
              </a:path>
            </a:pathLst>
          </a:custGeom>
          <a:solidFill>
            <a:srgbClr val="0000ff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Прямоугольник с одним скругленным углом 4"/>
          <p:cNvSpPr/>
          <p:nvPr/>
        </p:nvSpPr>
        <p:spPr>
          <a:xfrm>
            <a:off x="4859280" y="189000"/>
            <a:ext cx="3673440" cy="1511280"/>
          </a:xfrm>
          <a:prstGeom prst="pie">
            <a:avLst/>
          </a:prstGeom>
          <a:solidFill>
            <a:srgbClr val="bfbfbf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Любое техническое устройство (калькулятор, компьютер) может работать с ограниченным множеством целых чисел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84120" y="16999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4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480760"/>
            <a:ext cx="764388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В памяти компьютера числа хранятся в двоичной системе счисления.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9" name="Picture 5" descr="74"/>
          <p:cNvPicPr/>
          <p:nvPr/>
        </p:nvPicPr>
        <p:blipFill>
          <a:blip r:embed="rId1"/>
          <a:stretch/>
        </p:blipFill>
        <p:spPr>
          <a:xfrm>
            <a:off x="2843280" y="3787920"/>
            <a:ext cx="3457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8800" y="175536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Числовые величины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cxnSp>
        <p:nvCxnSpPr>
          <p:cNvPr id="131" name="Прямая со стрелкой 6"/>
          <p:cNvCxnSpPr/>
          <p:nvPr/>
        </p:nvCxnSpPr>
        <p:spPr>
          <a:xfrm flipH="1">
            <a:off x="2131560" y="2361960"/>
            <a:ext cx="2448720" cy="1470240"/>
          </a:xfrm>
          <a:prstGeom prst="straightConnector1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132" name="Прямая со стрелкой 8"/>
          <p:cNvCxnSpPr/>
          <p:nvPr/>
        </p:nvCxnSpPr>
        <p:spPr>
          <a:xfrm>
            <a:off x="4579920" y="2361960"/>
            <a:ext cx="2448720" cy="1454760"/>
          </a:xfrm>
          <a:prstGeom prst="straightConnector1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</p:cxnSp>
      <p:sp>
        <p:nvSpPr>
          <p:cNvPr id="133" name="AutoShape 13"/>
          <p:cNvSpPr/>
          <p:nvPr/>
        </p:nvSpPr>
        <p:spPr>
          <a:xfrm>
            <a:off x="250920" y="3952800"/>
            <a:ext cx="4176720" cy="21607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Целые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(формат с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фиксированной запятой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4788000" y="3952800"/>
            <a:ext cx="4176720" cy="216072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ещественные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(формат с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лавающей запятой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68360" y="1479600"/>
            <a:ext cx="803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Для хранения </a:t>
            </a:r>
            <a:r>
              <a:rPr b="0" i="1" lang="ru-RU" sz="2000" spc="-1" strike="noStrike">
                <a:solidFill>
                  <a:srgbClr val="1c1c1c"/>
                </a:solidFill>
                <a:latin typeface="Arial"/>
              </a:rPr>
              <a:t>целых неотрицательных чисел без знака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отводится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дна ячейка памяти (8 битов)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745920" y="234324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7       6        5        4       3        2        1       0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5435640" y="2565360"/>
            <a:ext cx="108108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6589440" y="234936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омера разрядов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6550200" y="285912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Биты, составляющие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число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Line 31"/>
          <p:cNvSpPr/>
          <p:nvPr/>
        </p:nvSpPr>
        <p:spPr>
          <a:xfrm>
            <a:off x="5580000" y="3068640"/>
            <a:ext cx="86364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41" name="Group 63"/>
          <p:cNvGrpSpPr/>
          <p:nvPr/>
        </p:nvGrpSpPr>
        <p:grpSpPr>
          <a:xfrm>
            <a:off x="611280" y="2781360"/>
            <a:ext cx="4897440" cy="574560"/>
            <a:chOff x="611280" y="2781360"/>
            <a:chExt cx="4897440" cy="574560"/>
          </a:xfrm>
        </p:grpSpPr>
        <p:grpSp>
          <p:nvGrpSpPr>
            <p:cNvPr id="142" name="Группа 25"/>
            <p:cNvGrpSpPr/>
            <p:nvPr/>
          </p:nvGrpSpPr>
          <p:grpSpPr>
            <a:xfrm>
              <a:off x="611280" y="2781360"/>
              <a:ext cx="4897440" cy="574560"/>
              <a:chOff x="611280" y="2781360"/>
              <a:chExt cx="4897440" cy="574560"/>
            </a:xfrm>
          </p:grpSpPr>
          <p:grpSp>
            <p:nvGrpSpPr>
              <p:cNvPr id="143" name="Прямоугольник 3"/>
              <p:cNvGrpSpPr/>
              <p:nvPr/>
            </p:nvGrpSpPr>
            <p:grpSpPr>
              <a:xfrm>
                <a:off x="611280" y="2781360"/>
                <a:ext cx="4897440" cy="574560"/>
                <a:chOff x="611280" y="2781360"/>
                <a:chExt cx="4897440" cy="574560"/>
              </a:xfrm>
            </p:grpSpPr>
            <p:pic>
              <p:nvPicPr>
                <p:cNvPr id="144" name="Прямоугольник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1280" y="278136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683640" y="2820960"/>
                  <a:ext cx="47520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Прямая соединительная линия 5"/>
              <p:cNvSpPr/>
              <p:nvPr/>
            </p:nvSpPr>
            <p:spPr>
              <a:xfrm>
                <a:off x="127800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7" name="Прямая соединительная линия 7"/>
              <p:cNvSpPr/>
              <p:nvPr/>
            </p:nvSpPr>
            <p:spPr>
              <a:xfrm>
                <a:off x="187128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8" name="Прямая соединительная линия 9"/>
              <p:cNvSpPr/>
              <p:nvPr/>
            </p:nvSpPr>
            <p:spPr>
              <a:xfrm>
                <a:off x="246600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49" name="Прямая соединительная линия 11"/>
              <p:cNvSpPr/>
              <p:nvPr/>
            </p:nvSpPr>
            <p:spPr>
              <a:xfrm>
                <a:off x="306036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0" name="Прямая соединительная линия 14"/>
              <p:cNvSpPr/>
              <p:nvPr/>
            </p:nvSpPr>
            <p:spPr>
              <a:xfrm>
                <a:off x="365364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1" name="Прямая соединительная линия 16"/>
              <p:cNvSpPr/>
              <p:nvPr/>
            </p:nvSpPr>
            <p:spPr>
              <a:xfrm>
                <a:off x="424800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52" name="Прямая соединительная линия 18"/>
              <p:cNvSpPr/>
              <p:nvPr/>
            </p:nvSpPr>
            <p:spPr>
              <a:xfrm>
                <a:off x="4841280" y="282096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53" name="Text Box 32"/>
            <p:cNvSpPr/>
            <p:nvPr/>
          </p:nvSpPr>
          <p:spPr>
            <a:xfrm>
              <a:off x="770040" y="291312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0        1       1       0        1        1       0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611280" y="3854520"/>
            <a:ext cx="4897440" cy="574560"/>
            <a:chOff x="611280" y="3854520"/>
            <a:chExt cx="4897440" cy="574560"/>
          </a:xfrm>
        </p:grpSpPr>
        <p:grpSp>
          <p:nvGrpSpPr>
            <p:cNvPr id="155" name="Группа 25"/>
            <p:cNvGrpSpPr/>
            <p:nvPr/>
          </p:nvGrpSpPr>
          <p:grpSpPr>
            <a:xfrm>
              <a:off x="611280" y="3854520"/>
              <a:ext cx="4897440" cy="574560"/>
              <a:chOff x="611280" y="3854520"/>
              <a:chExt cx="4897440" cy="574560"/>
            </a:xfrm>
          </p:grpSpPr>
          <p:grpSp>
            <p:nvGrpSpPr>
              <p:cNvPr id="156" name="Прямоугольник 3"/>
              <p:cNvGrpSpPr/>
              <p:nvPr/>
            </p:nvGrpSpPr>
            <p:grpSpPr>
              <a:xfrm>
                <a:off x="611280" y="3854520"/>
                <a:ext cx="4897440" cy="574560"/>
                <a:chOff x="611280" y="3854520"/>
                <a:chExt cx="4897440" cy="574560"/>
              </a:xfrm>
            </p:grpSpPr>
            <p:pic>
              <p:nvPicPr>
                <p:cNvPr id="157" name="Прямоугольник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11280" y="385452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>
                  <a:off x="683640" y="3894480"/>
                  <a:ext cx="47520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Прямая соединительная линия 5"/>
              <p:cNvSpPr/>
              <p:nvPr/>
            </p:nvSpPr>
            <p:spPr>
              <a:xfrm>
                <a:off x="127800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0" name="Прямая соединительная линия 7"/>
              <p:cNvSpPr/>
              <p:nvPr/>
            </p:nvSpPr>
            <p:spPr>
              <a:xfrm>
                <a:off x="187128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1" name="Прямая соединительная линия 9"/>
              <p:cNvSpPr/>
              <p:nvPr/>
            </p:nvSpPr>
            <p:spPr>
              <a:xfrm>
                <a:off x="246600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2" name="Прямая соединительная линия 11"/>
              <p:cNvSpPr/>
              <p:nvPr/>
            </p:nvSpPr>
            <p:spPr>
              <a:xfrm>
                <a:off x="306036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3" name="Прямая соединительная линия 14"/>
              <p:cNvSpPr/>
              <p:nvPr/>
            </p:nvSpPr>
            <p:spPr>
              <a:xfrm>
                <a:off x="365364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4" name="Прямая соединительная линия 16"/>
              <p:cNvSpPr/>
              <p:nvPr/>
            </p:nvSpPr>
            <p:spPr>
              <a:xfrm>
                <a:off x="424800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65" name="Прямая соединительная линия 18"/>
              <p:cNvSpPr/>
              <p:nvPr/>
            </p:nvSpPr>
            <p:spPr>
              <a:xfrm>
                <a:off x="4841280" y="3894480"/>
                <a:ext cx="0" cy="4554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66" name="Text Box 55"/>
            <p:cNvSpPr/>
            <p:nvPr/>
          </p:nvSpPr>
          <p:spPr>
            <a:xfrm>
              <a:off x="789120" y="397332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0        0       0       0        0       0        0       0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67" name="Group 61"/>
          <p:cNvGrpSpPr/>
          <p:nvPr/>
        </p:nvGrpSpPr>
        <p:grpSpPr>
          <a:xfrm>
            <a:off x="611280" y="4746600"/>
            <a:ext cx="4897440" cy="574560"/>
            <a:chOff x="611280" y="4746600"/>
            <a:chExt cx="4897440" cy="574560"/>
          </a:xfrm>
        </p:grpSpPr>
        <p:grpSp>
          <p:nvGrpSpPr>
            <p:cNvPr id="168" name="Группа 25"/>
            <p:cNvGrpSpPr/>
            <p:nvPr/>
          </p:nvGrpSpPr>
          <p:grpSpPr>
            <a:xfrm>
              <a:off x="611280" y="4746600"/>
              <a:ext cx="4897440" cy="574560"/>
              <a:chOff x="611280" y="4746600"/>
              <a:chExt cx="4897440" cy="574560"/>
            </a:xfrm>
          </p:grpSpPr>
          <p:grpSp>
            <p:nvGrpSpPr>
              <p:cNvPr id="169" name="Прямоугольник 3"/>
              <p:cNvGrpSpPr/>
              <p:nvPr/>
            </p:nvGrpSpPr>
            <p:grpSpPr>
              <a:xfrm>
                <a:off x="611280" y="4746600"/>
                <a:ext cx="4897440" cy="574560"/>
                <a:chOff x="611280" y="4746600"/>
                <a:chExt cx="4897440" cy="574560"/>
              </a:xfrm>
            </p:grpSpPr>
            <p:pic>
              <p:nvPicPr>
                <p:cNvPr id="170" name="Прямоугольник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1280" y="474660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"/>
                <p:cNvSpPr/>
                <p:nvPr/>
              </p:nvSpPr>
              <p:spPr>
                <a:xfrm>
                  <a:off x="683640" y="4783680"/>
                  <a:ext cx="4752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Прямая соединительная линия 5"/>
              <p:cNvSpPr/>
              <p:nvPr/>
            </p:nvSpPr>
            <p:spPr>
              <a:xfrm>
                <a:off x="127800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3" name="Прямая соединительная линия 7"/>
              <p:cNvSpPr/>
              <p:nvPr/>
            </p:nvSpPr>
            <p:spPr>
              <a:xfrm>
                <a:off x="187128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4" name="Прямая соединительная линия 9"/>
              <p:cNvSpPr/>
              <p:nvPr/>
            </p:nvSpPr>
            <p:spPr>
              <a:xfrm>
                <a:off x="246600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5" name="Прямая соединительная линия 11"/>
              <p:cNvSpPr/>
              <p:nvPr/>
            </p:nvSpPr>
            <p:spPr>
              <a:xfrm>
                <a:off x="306036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6" name="Прямая соединительная линия 14"/>
              <p:cNvSpPr/>
              <p:nvPr/>
            </p:nvSpPr>
            <p:spPr>
              <a:xfrm>
                <a:off x="365364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7" name="Прямая соединительная линия 16"/>
              <p:cNvSpPr/>
              <p:nvPr/>
            </p:nvSpPr>
            <p:spPr>
              <a:xfrm>
                <a:off x="424800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78" name="Прямая соединительная линия 18"/>
              <p:cNvSpPr/>
              <p:nvPr/>
            </p:nvSpPr>
            <p:spPr>
              <a:xfrm>
                <a:off x="4841280" y="47836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79" name="Text Box 56"/>
            <p:cNvSpPr/>
            <p:nvPr/>
          </p:nvSpPr>
          <p:spPr>
            <a:xfrm>
              <a:off x="789120" y="487188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1        1       1       1        1        1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80" name="Text Box 57"/>
          <p:cNvSpPr/>
          <p:nvPr/>
        </p:nvSpPr>
        <p:spPr>
          <a:xfrm>
            <a:off x="5924520" y="393372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инимальное число 0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5915160" y="4818240"/>
            <a:ext cx="340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аксимальное число 255</a:t>
            </a:r>
            <a:r>
              <a:rPr b="1" lang="ru-RU" sz="18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515880" y="5661000"/>
            <a:ext cx="807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Для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-разрядного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представления максимальное целое неотрицательное число равно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n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5640" y="476280"/>
            <a:ext cx="6553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без знак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7643880" cy="26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c1c1c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Представить число 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двоичном виде в восьмибитовом представлении в формате целого без знака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= 11001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85" name="Group 59"/>
          <p:cNvGrpSpPr/>
          <p:nvPr/>
        </p:nvGrpSpPr>
        <p:grpSpPr>
          <a:xfrm>
            <a:off x="969840" y="5229360"/>
            <a:ext cx="4897440" cy="574560"/>
            <a:chOff x="969840" y="5229360"/>
            <a:chExt cx="4897440" cy="574560"/>
          </a:xfrm>
        </p:grpSpPr>
        <p:grpSp>
          <p:nvGrpSpPr>
            <p:cNvPr id="186" name="Группа 25"/>
            <p:cNvGrpSpPr/>
            <p:nvPr/>
          </p:nvGrpSpPr>
          <p:grpSpPr>
            <a:xfrm>
              <a:off x="969840" y="5229360"/>
              <a:ext cx="4897440" cy="574560"/>
              <a:chOff x="969840" y="5229360"/>
              <a:chExt cx="4897440" cy="574560"/>
            </a:xfrm>
          </p:grpSpPr>
          <p:grpSp>
            <p:nvGrpSpPr>
              <p:cNvPr id="187" name="Прямоугольник 3"/>
              <p:cNvGrpSpPr/>
              <p:nvPr/>
            </p:nvGrpSpPr>
            <p:grpSpPr>
              <a:xfrm>
                <a:off x="969840" y="5229360"/>
                <a:ext cx="4897440" cy="574560"/>
                <a:chOff x="969840" y="5229360"/>
                <a:chExt cx="4897440" cy="574560"/>
              </a:xfrm>
            </p:grpSpPr>
            <p:pic>
              <p:nvPicPr>
                <p:cNvPr id="188" name="Прямоугольник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69840" y="522936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>
                  <a:off x="1041480" y="5267160"/>
                  <a:ext cx="4752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Прямая соединительная линия 5"/>
              <p:cNvSpPr/>
              <p:nvPr/>
            </p:nvSpPr>
            <p:spPr>
              <a:xfrm>
                <a:off x="163584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1" name="Прямая соединительная линия 7"/>
              <p:cNvSpPr/>
              <p:nvPr/>
            </p:nvSpPr>
            <p:spPr>
              <a:xfrm>
                <a:off x="222912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2" name="Прямая соединительная линия 9"/>
              <p:cNvSpPr/>
              <p:nvPr/>
            </p:nvSpPr>
            <p:spPr>
              <a:xfrm>
                <a:off x="282348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3" name="Прямая соединительная линия 11"/>
              <p:cNvSpPr/>
              <p:nvPr/>
            </p:nvSpPr>
            <p:spPr>
              <a:xfrm>
                <a:off x="341820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4" name="Прямая соединительная линия 14"/>
              <p:cNvSpPr/>
              <p:nvPr/>
            </p:nvSpPr>
            <p:spPr>
              <a:xfrm>
                <a:off x="401112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5" name="Прямая соединительная линия 16"/>
              <p:cNvSpPr/>
              <p:nvPr/>
            </p:nvSpPr>
            <p:spPr>
              <a:xfrm>
                <a:off x="460584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196" name="Прямая соединительная линия 18"/>
              <p:cNvSpPr/>
              <p:nvPr/>
            </p:nvSpPr>
            <p:spPr>
              <a:xfrm>
                <a:off x="5199120" y="526716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197" name="Text Box 71"/>
            <p:cNvSpPr/>
            <p:nvPr/>
          </p:nvSpPr>
          <p:spPr>
            <a:xfrm>
              <a:off x="1147680" y="5354640"/>
              <a:ext cx="45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0        0       1       1        0        0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без знак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Для хранения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елых чисел со знак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отводится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ве ячейки памяти (16 битов)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Старший разряд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числа определяет его знак.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Если он равен 0, число положительное,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если 1, то отрицательное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611280" y="3935520"/>
            <a:ext cx="225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= 11001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3780000" y="3863880"/>
            <a:ext cx="4897440" cy="574560"/>
            <a:chOff x="3780000" y="3863880"/>
            <a:chExt cx="4897440" cy="574560"/>
          </a:xfrm>
        </p:grpSpPr>
        <p:grpSp>
          <p:nvGrpSpPr>
            <p:cNvPr id="202" name="Группа 25"/>
            <p:cNvGrpSpPr/>
            <p:nvPr/>
          </p:nvGrpSpPr>
          <p:grpSpPr>
            <a:xfrm>
              <a:off x="3780000" y="3863880"/>
              <a:ext cx="4897440" cy="574560"/>
              <a:chOff x="3780000" y="3863880"/>
              <a:chExt cx="4897440" cy="574560"/>
            </a:xfrm>
          </p:grpSpPr>
          <p:grpSp>
            <p:nvGrpSpPr>
              <p:cNvPr id="203" name="Прямоугольник 3"/>
              <p:cNvGrpSpPr/>
              <p:nvPr/>
            </p:nvGrpSpPr>
            <p:grpSpPr>
              <a:xfrm>
                <a:off x="3780000" y="3863880"/>
                <a:ext cx="4897440" cy="574560"/>
                <a:chOff x="3780000" y="3863880"/>
                <a:chExt cx="4897440" cy="574560"/>
              </a:xfrm>
            </p:grpSpPr>
            <p:pic>
              <p:nvPicPr>
                <p:cNvPr id="204" name="Прямоугольник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80000" y="386388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"/>
                <p:cNvSpPr/>
                <p:nvPr/>
              </p:nvSpPr>
              <p:spPr>
                <a:xfrm>
                  <a:off x="3851280" y="3902040"/>
                  <a:ext cx="4757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Прямая соединительная линия 5"/>
              <p:cNvSpPr/>
              <p:nvPr/>
            </p:nvSpPr>
            <p:spPr>
              <a:xfrm>
                <a:off x="44463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07" name="Прямая соединительная линия 7"/>
              <p:cNvSpPr/>
              <p:nvPr/>
            </p:nvSpPr>
            <p:spPr>
              <a:xfrm>
                <a:off x="50403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08" name="Прямая соединительная линия 9"/>
              <p:cNvSpPr/>
              <p:nvPr/>
            </p:nvSpPr>
            <p:spPr>
              <a:xfrm>
                <a:off x="563544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09" name="Прямая соединительная линия 11"/>
              <p:cNvSpPr/>
              <p:nvPr/>
            </p:nvSpPr>
            <p:spPr>
              <a:xfrm>
                <a:off x="623088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10" name="Прямая соединительная линия 14"/>
              <p:cNvSpPr/>
              <p:nvPr/>
            </p:nvSpPr>
            <p:spPr>
              <a:xfrm>
                <a:off x="682488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11" name="Прямая соединительная линия 16"/>
              <p:cNvSpPr/>
              <p:nvPr/>
            </p:nvSpPr>
            <p:spPr>
              <a:xfrm>
                <a:off x="74199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12" name="Прямая соединительная линия 18"/>
              <p:cNvSpPr/>
              <p:nvPr/>
            </p:nvSpPr>
            <p:spPr>
              <a:xfrm>
                <a:off x="8013960" y="390204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213" name="Text Box 28"/>
            <p:cNvSpPr/>
            <p:nvPr/>
          </p:nvSpPr>
          <p:spPr>
            <a:xfrm>
              <a:off x="3957840" y="3989160"/>
              <a:ext cx="45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        0       1       1        0        0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14" name="Text Box 29"/>
          <p:cNvSpPr/>
          <p:nvPr/>
        </p:nvSpPr>
        <p:spPr>
          <a:xfrm>
            <a:off x="395280" y="5087880"/>
            <a:ext cx="28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- 5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= - 110011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15" name="Group 30"/>
          <p:cNvGrpSpPr/>
          <p:nvPr/>
        </p:nvGrpSpPr>
        <p:grpSpPr>
          <a:xfrm>
            <a:off x="3780000" y="5014800"/>
            <a:ext cx="4897440" cy="574560"/>
            <a:chOff x="3780000" y="5014800"/>
            <a:chExt cx="4897440" cy="574560"/>
          </a:xfrm>
        </p:grpSpPr>
        <p:grpSp>
          <p:nvGrpSpPr>
            <p:cNvPr id="216" name="Группа 25"/>
            <p:cNvGrpSpPr/>
            <p:nvPr/>
          </p:nvGrpSpPr>
          <p:grpSpPr>
            <a:xfrm>
              <a:off x="3780000" y="5014800"/>
              <a:ext cx="4897440" cy="574560"/>
              <a:chOff x="3780000" y="5014800"/>
              <a:chExt cx="4897440" cy="574560"/>
            </a:xfrm>
          </p:grpSpPr>
          <p:grpSp>
            <p:nvGrpSpPr>
              <p:cNvPr id="217" name="Прямоугольник 3"/>
              <p:cNvGrpSpPr/>
              <p:nvPr/>
            </p:nvGrpSpPr>
            <p:grpSpPr>
              <a:xfrm>
                <a:off x="3780000" y="5014800"/>
                <a:ext cx="4897440" cy="574560"/>
                <a:chOff x="3780000" y="5014800"/>
                <a:chExt cx="4897440" cy="574560"/>
              </a:xfrm>
            </p:grpSpPr>
            <p:pic>
              <p:nvPicPr>
                <p:cNvPr id="218" name="Прямоугольник 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80000" y="5014800"/>
                  <a:ext cx="4897440" cy="57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"/>
                <p:cNvSpPr/>
                <p:nvPr/>
              </p:nvSpPr>
              <p:spPr>
                <a:xfrm>
                  <a:off x="3851280" y="5051880"/>
                  <a:ext cx="4757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Прямая соединительная линия 5"/>
              <p:cNvSpPr/>
              <p:nvPr/>
            </p:nvSpPr>
            <p:spPr>
              <a:xfrm>
                <a:off x="44463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1" name="Прямая соединительная линия 7"/>
              <p:cNvSpPr/>
              <p:nvPr/>
            </p:nvSpPr>
            <p:spPr>
              <a:xfrm>
                <a:off x="50403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2" name="Прямая соединительная линия 9"/>
              <p:cNvSpPr/>
              <p:nvPr/>
            </p:nvSpPr>
            <p:spPr>
              <a:xfrm>
                <a:off x="563544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3" name="Прямая соединительная линия 11"/>
              <p:cNvSpPr/>
              <p:nvPr/>
            </p:nvSpPr>
            <p:spPr>
              <a:xfrm>
                <a:off x="623088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4" name="Прямая соединительная линия 14"/>
              <p:cNvSpPr/>
              <p:nvPr/>
            </p:nvSpPr>
            <p:spPr>
              <a:xfrm>
                <a:off x="682488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5" name="Прямая соединительная линия 16"/>
              <p:cNvSpPr/>
              <p:nvPr/>
            </p:nvSpPr>
            <p:spPr>
              <a:xfrm>
                <a:off x="74199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226" name="Прямая соединительная линия 18"/>
              <p:cNvSpPr/>
              <p:nvPr/>
            </p:nvSpPr>
            <p:spPr>
              <a:xfrm>
                <a:off x="8013960" y="5051880"/>
                <a:ext cx="0" cy="459000"/>
              </a:xfrm>
              <a:prstGeom prst="line">
                <a:avLst/>
              </a:prstGeom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sp>
          <p:nvSpPr>
            <p:cNvPr id="227" name="Text Box 42"/>
            <p:cNvSpPr/>
            <p:nvPr/>
          </p:nvSpPr>
          <p:spPr>
            <a:xfrm>
              <a:off x="3957840" y="5140080"/>
              <a:ext cx="45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ru-RU" sz="1800" spc="-1" strike="noStrike">
                  <a:solidFill>
                    <a:srgbClr val="1c1c1c"/>
                  </a:solidFill>
                  <a:latin typeface="Arial"/>
                </a:rPr>
                <a:t>        0       1       1        0        0       1       1</a:t>
              </a: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468360" y="6022800"/>
            <a:ext cx="82296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Такое представление чисел в компьютере называется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ым кодом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8"/>
          <p:cNvSpPr/>
          <p:nvPr/>
        </p:nvSpPr>
        <p:spPr>
          <a:xfrm>
            <a:off x="468360" y="2241720"/>
            <a:ext cx="820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Для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разрядного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представления со знаком (с учетом выделения одного разряда на знак):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lnSpc>
                <a:spcPct val="2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инимальное отрицательное число равно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0000cc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lnSpc>
                <a:spcPct val="2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аксимальное положительное число равно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r>
              <a:rPr b="0" lang="ru-RU" sz="2400" spc="-1" strike="noStrike" baseline="30000">
                <a:solidFill>
                  <a:srgbClr val="0000cc"/>
                </a:solidFill>
                <a:latin typeface="Arial"/>
              </a:rPr>
              <a:t>-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lnSpc>
                <a:spcPct val="2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Целые числ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памяти компьютера —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это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дискретное, ограниченное и конечное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 множество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79280" y="1484280"/>
            <a:ext cx="8569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Что такое система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Что такое основание системы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Какие системы счисления используются в ПК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Какой алфавит и основание имеет двоичная система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Какой алфавит и основание имеет десятичная система счисления?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9640" y="1387440"/>
            <a:ext cx="82296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Для представления отрицательных целых чисел используется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дополнительный код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Алгоритм получения дополнительного кода отрицательного числа: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Число записать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ямым кодом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в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двоичных разрядах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лучить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обратный код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числа, для этого значения всех битов инвертировать, кроме старшего разряда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1c1c1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К полученному обратному коду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прибавить единицу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67"/>
          <p:cNvSpPr/>
          <p:nvPr/>
        </p:nvSpPr>
        <p:spPr>
          <a:xfrm>
            <a:off x="281160" y="39402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Courier New"/>
              </a:rPr>
              <a:t>Представить число -2014</a:t>
            </a:r>
            <a:r>
              <a:rPr b="1" lang="ru-RU" sz="1800" spc="-1" strike="noStrike" baseline="-25000">
                <a:solidFill>
                  <a:srgbClr val="1c1c1c"/>
                </a:solidFill>
                <a:latin typeface="Courier New"/>
                <a:ea typeface="Courier New"/>
              </a:rPr>
              <a:t>10</a:t>
            </a:r>
            <a:r>
              <a:rPr b="1" lang="ru-RU" sz="1800" spc="-1" strike="noStrike">
                <a:solidFill>
                  <a:srgbClr val="1c1c1c"/>
                </a:solidFill>
                <a:latin typeface="Courier New"/>
              </a:rPr>
              <a:t> в двоичном виде в шестнадцатибитном представлении в формате целого со знаком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0720" y="4581360"/>
          <a:ext cx="8229600" cy="2046600"/>
        </p:xfrm>
        <a:graphic>
          <a:graphicData uri="http://schemas.openxmlformats.org/drawingml/2006/table">
            <a:tbl>
              <a:tblPr/>
              <a:tblGrid>
                <a:gridCol w="2505240"/>
                <a:gridCol w="2981160"/>
                <a:gridCol w="27432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ямой код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2014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000111 11011110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Обратный код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Инвертирование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1000 00100001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ибавление единицы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1000 00100001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00000000 00000001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полнительный код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1000 00100010</a:t>
                      </a:r>
                      <a:r>
                        <a:rPr b="1" lang="ru-RU" sz="1600" spc="-1" strike="noStrike" baseline="-25000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626920" y="476280"/>
            <a:ext cx="655308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428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Алгебраическое сложение двоичных чисел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Положительные слагаемые представить в прямом коде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Отрицательные слагаемые – в дополнительном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Найти сумму кодов, включая знаковые разряды, которые при этом рассматриваются как старшие разряды. При переносе из знакового разряда единицу переноса отбрасывают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1375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c1c1c"/>
                </a:solidFill>
                <a:latin typeface="Arial"/>
              </a:rPr>
              <a:t>В результате получают алгебраическую сумму в прямом коде, если эта сумма положительная, и в дополнительном, если сумма отрицательная.</a:t>
            </a:r>
            <a:endParaRPr b="0" lang="en-US" sz="2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44600" y="20034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ример 1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Найти разность 13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– 12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восьмибитном представлении.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5760" y="3186000"/>
          <a:ext cx="8229600" cy="1870200"/>
        </p:xfrm>
        <a:graphic>
          <a:graphicData uri="http://schemas.openxmlformats.org/drawingml/2006/table">
            <a:tbl>
              <a:tblPr/>
              <a:tblGrid>
                <a:gridCol w="2676240"/>
                <a:gridCol w="2810160"/>
                <a:gridCol w="27432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3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2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ямо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00001101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00110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Обрат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011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полнитель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100 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40" name="Group 69"/>
          <p:cNvGrpSpPr/>
          <p:nvPr/>
        </p:nvGrpSpPr>
        <p:grpSpPr>
          <a:xfrm>
            <a:off x="456480" y="5445000"/>
            <a:ext cx="2313720" cy="1072080"/>
            <a:chOff x="456480" y="5445000"/>
            <a:chExt cx="2313720" cy="1072080"/>
          </a:xfrm>
        </p:grpSpPr>
        <p:sp>
          <p:nvSpPr>
            <p:cNvPr id="241" name="Text Box 63"/>
            <p:cNvSpPr/>
            <p:nvPr/>
          </p:nvSpPr>
          <p:spPr>
            <a:xfrm>
              <a:off x="743040" y="544500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0  0 0 0 1 1 0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1  1 1 1 0 1 0 0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0  0 0 0 0 0 0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Text Box 64"/>
            <p:cNvSpPr/>
            <p:nvPr/>
          </p:nvSpPr>
          <p:spPr>
            <a:xfrm>
              <a:off x="456480" y="56415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43" name="Text Box 65"/>
          <p:cNvSpPr/>
          <p:nvPr/>
        </p:nvSpPr>
        <p:spPr>
          <a:xfrm>
            <a:off x="2980080" y="5445000"/>
            <a:ext cx="6124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Так как произошел перенос из знакового разряда,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ервую единицу отбрасываем, и в результате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лучаем 00000001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8000" y="2133720"/>
            <a:ext cx="835164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ример 2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Найти разность 8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– 13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восьмибитном представлении.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3440" y="3286080"/>
          <a:ext cx="8229600" cy="1870200"/>
        </p:xfrm>
        <a:graphic>
          <a:graphicData uri="http://schemas.openxmlformats.org/drawingml/2006/table">
            <a:tbl>
              <a:tblPr/>
              <a:tblGrid>
                <a:gridCol w="2770200"/>
                <a:gridCol w="2716200"/>
                <a:gridCol w="27432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3</a:t>
                      </a:r>
                      <a:r>
                        <a:rPr b="0" lang="ru-RU" sz="2000" spc="-1" strike="noStrike" baseline="-25000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Прямо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0000100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0001101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Обрат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010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Дополнительный код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-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cc">
                        <a:alpha val="4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c1c1c"/>
                          </a:solidFill>
                          <a:latin typeface="Courier New"/>
                          <a:ea typeface="Courier New"/>
                        </a:rPr>
                        <a:t>11110011 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ffffff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47" name="Group 31"/>
          <p:cNvGrpSpPr/>
          <p:nvPr/>
        </p:nvGrpSpPr>
        <p:grpSpPr>
          <a:xfrm>
            <a:off x="3410640" y="5516640"/>
            <a:ext cx="2313720" cy="1072080"/>
            <a:chOff x="3410640" y="5516640"/>
            <a:chExt cx="2313720" cy="1072080"/>
          </a:xfrm>
        </p:grpSpPr>
        <p:sp>
          <p:nvSpPr>
            <p:cNvPr id="248" name="Text Box 26"/>
            <p:cNvSpPr/>
            <p:nvPr/>
          </p:nvSpPr>
          <p:spPr>
            <a:xfrm>
              <a:off x="3697200" y="551664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0  0 0 0 1 0 0 0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1  1 1 1 0 0 1 1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1 0 1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Text Box 27"/>
            <p:cNvSpPr/>
            <p:nvPr/>
          </p:nvSpPr>
          <p:spPr>
            <a:xfrm>
              <a:off x="3410640" y="57132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0920" y="2006640"/>
            <a:ext cx="864216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ример 2.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Найти разность 8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– 13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в восьмибитном представлении.</a:t>
            </a:r>
            <a:r>
              <a:rPr b="0" lang="ru-RU" sz="2400" spc="-1" strike="noStrike" baseline="-25000">
                <a:solidFill>
                  <a:srgbClr val="1c1c1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2" name="Group 33"/>
          <p:cNvGrpSpPr/>
          <p:nvPr/>
        </p:nvGrpSpPr>
        <p:grpSpPr>
          <a:xfrm>
            <a:off x="3410640" y="2649600"/>
            <a:ext cx="2313720" cy="1072080"/>
            <a:chOff x="3410640" y="2649600"/>
            <a:chExt cx="2313720" cy="1072080"/>
          </a:xfrm>
        </p:grpSpPr>
        <p:sp>
          <p:nvSpPr>
            <p:cNvPr id="253" name="Text Box 26"/>
            <p:cNvSpPr/>
            <p:nvPr/>
          </p:nvSpPr>
          <p:spPr>
            <a:xfrm>
              <a:off x="3697200" y="264960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0  0 0 0 1 0 0 0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1  1 1 1 0 0 1 1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1 0 1 1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Text Box 27"/>
            <p:cNvSpPr/>
            <p:nvPr/>
          </p:nvSpPr>
          <p:spPr>
            <a:xfrm>
              <a:off x="3410640" y="2846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55" name="Text Box 28"/>
          <p:cNvSpPr/>
          <p:nvPr/>
        </p:nvSpPr>
        <p:spPr>
          <a:xfrm>
            <a:off x="250920" y="38070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В знаковом разряде стоит 1, значит результат получен в дополнительном коде. Перейдем от дополнительного кода к обратному, вычитая единицу: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50920" y="5896080"/>
            <a:ext cx="8642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ерейдем от обратного кода к прямому, инвертируя все цифры, за исключением знакового (старшего) разряда: 10000101</a:t>
            </a:r>
            <a:r>
              <a:rPr b="0" lang="ru-RU" sz="20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 = -5</a:t>
            </a:r>
            <a:r>
              <a:rPr b="0" lang="ru-RU" sz="2000" spc="-1" strike="noStrike" baseline="-25000">
                <a:solidFill>
                  <a:srgbClr val="1c1c1c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7" name="Group 34"/>
          <p:cNvGrpSpPr/>
          <p:nvPr/>
        </p:nvGrpSpPr>
        <p:grpSpPr>
          <a:xfrm>
            <a:off x="3368160" y="4672080"/>
            <a:ext cx="2223000" cy="1072080"/>
            <a:chOff x="3368160" y="4672080"/>
            <a:chExt cx="2223000" cy="1072080"/>
          </a:xfrm>
        </p:grpSpPr>
        <p:sp>
          <p:nvSpPr>
            <p:cNvPr id="258" name="Text Box 31"/>
            <p:cNvSpPr/>
            <p:nvPr/>
          </p:nvSpPr>
          <p:spPr>
            <a:xfrm>
              <a:off x="3564000" y="4672080"/>
              <a:ext cx="202716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0 0 1 1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1c1c1c"/>
                  </a:solidFill>
                  <a:uFillTx/>
                  <a:latin typeface="Arial"/>
                </a:rPr>
                <a:t>0  0 0 0 0 0 0 1</a:t>
              </a: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1  1 1 1 1 0 1 0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3368160" y="488772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c1c1c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2626920" y="1087200"/>
            <a:ext cx="6553080" cy="5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Целые числа со знаком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Вещественные числа хранятся и обрабатываются в компьютере в формате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с плавающей запятой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, использующем экспоненциальную форму записи чисел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 = M </a:t>
            </a:r>
            <a:r>
              <a:rPr b="0" lang="en-US" sz="3200" spc="-1" strike="noStrike">
                <a:solidFill>
                  <a:srgbClr val="1c1c1c"/>
                </a:solidFill>
                <a:latin typeface="Wingdings 2"/>
                <a:ea typeface="Wingdings 2"/>
              </a:rPr>
              <a:t>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q</a:t>
            </a:r>
            <a:r>
              <a:rPr b="0" lang="en-US" sz="3200" spc="-1" strike="noStrike" baseline="50000">
                <a:solidFill>
                  <a:srgbClr val="1c1c1c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 –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антисса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числа 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(правильная отличная от нуля дробь),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q –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основание системы счисления,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 –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порядок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числа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Диапазон ограничен максимальными значениями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539640" y="1139400"/>
            <a:ext cx="8569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щественные числ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93640" y="764640"/>
            <a:ext cx="8569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щественные числа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Например, 123,45 = 0,12345 · 10</a:t>
            </a:r>
            <a:r>
              <a:rPr b="0" lang="ru-RU" sz="2400" spc="-1" strike="noStrike" baseline="30000">
                <a:solidFill>
                  <a:srgbClr val="1c1c1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рядок указывает, на какое количество позиций и в каком направлении должна сместиться десятичная запятая в мантиссе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Число в формате с плавающей запятой может занимать в памяти  4 байта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(обычная точность)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или 8 байтов 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(двойная точность)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При записи числа выделяются разряды для хранения знака мантиссы, знака порядка, порядка и мантиссы.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Мантисса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и порядок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определяют диапазон изменения чисел и их точность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8893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ример: представить число -123,45 в 4-х байтовом представлении (обычная точность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8000" y="2276280"/>
            <a:ext cx="903600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редставим число в нормализованном виде: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Число отрицательное, поэтому старший бит (31)=1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Порядок 3-положительный, значит след.бит (30)=0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Число 3 в 2-ой СС имеет вид: 11, записываем его в остальных 6 битах старшего байта, дополняя слева незначащими нулями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1c"/>
                </a:solidFill>
                <a:latin typeface="Arial"/>
              </a:rPr>
              <a:t>Найдем двоичное представление мантиссы, умножив её последовательно на 2 24 раза, записывая целую часть от умножения сверху вниз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Объект 3"/>
              <p:cNvSpPr txBox="1"/>
              <p:nvPr/>
            </p:nvSpPr>
            <p:spPr>
              <a:xfrm>
                <a:off x="324000" y="2637000"/>
                <a:ext cx="19443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34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69" name=""/>
          <p:cNvGraphicFramePr/>
          <p:nvPr/>
        </p:nvGraphicFramePr>
        <p:xfrm>
          <a:off x="179280" y="5950080"/>
          <a:ext cx="8856720" cy="369720"/>
        </p:xfrm>
        <a:graphic>
          <a:graphicData uri="http://schemas.openxmlformats.org/drawingml/2006/table">
            <a:tbl>
              <a:tblPr/>
              <a:tblGrid>
                <a:gridCol w="276480"/>
                <a:gridCol w="277560"/>
                <a:gridCol w="276480"/>
                <a:gridCol w="276120"/>
                <a:gridCol w="277920"/>
                <a:gridCol w="276120"/>
                <a:gridCol w="276120"/>
                <a:gridCol w="277920"/>
                <a:gridCol w="276120"/>
                <a:gridCol w="276120"/>
                <a:gridCol w="277920"/>
                <a:gridCol w="276120"/>
                <a:gridCol w="276480"/>
                <a:gridCol w="277560"/>
                <a:gridCol w="276480"/>
                <a:gridCol w="277560"/>
                <a:gridCol w="276480"/>
                <a:gridCol w="276120"/>
                <a:gridCol w="277920"/>
                <a:gridCol w="276120"/>
                <a:gridCol w="276120"/>
                <a:gridCol w="277920"/>
                <a:gridCol w="276120"/>
                <a:gridCol w="276480"/>
                <a:gridCol w="277560"/>
                <a:gridCol w="276480"/>
                <a:gridCol w="276120"/>
                <a:gridCol w="277920"/>
                <a:gridCol w="276120"/>
                <a:gridCol w="276120"/>
                <a:gridCol w="277920"/>
                <a:gridCol w="2761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sp>
        <p:nvSpPr>
          <p:cNvPr id="270" name="Прямоугольник 6"/>
          <p:cNvSpPr/>
          <p:nvPr/>
        </p:nvSpPr>
        <p:spPr>
          <a:xfrm>
            <a:off x="179280" y="5877000"/>
            <a:ext cx="2232000" cy="79200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2411280" y="5877000"/>
            <a:ext cx="2232000" cy="79200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4643280" y="5877000"/>
            <a:ext cx="2149560" cy="79200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6804000" y="5902200"/>
            <a:ext cx="2232000" cy="792360"/>
          </a:xfrm>
          <a:prstGeom prst="rect">
            <a:avLst/>
          </a:prstGeom>
          <a:noFill/>
          <a:ln w="3492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924360" y="63421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мантисса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Графический диктант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3840" y="765000"/>
            <a:ext cx="884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Если утверждение верно, ставим знак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_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, если неверно – знак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/\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 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1.Система счисления – это способ представления чисел и соответствующие ему правила действий над числами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2.Информация, хранящаяся в компьютере, представлена в троичной системе счисления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3.В двоичной системе счисления 11 + 1 = 12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4.В позиционных системах счисления количественный эквивалент цифры зависит от её местоположения в записи числа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5.В 16-ричной системе счисления символ F используется для обозначения числа 15.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7280" y="2415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76480" y="2997000"/>
            <a:ext cx="764352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§5 (прочитать, работать с записями в тетради, подготовиться к с/р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Задания 3 и 4 после параграфа -письменно в тетрадях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2600" y="1844640"/>
            <a:ext cx="8952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 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(англ. 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numeral system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или </a:t>
            </a:r>
            <a:r>
              <a:rPr b="0" i="1" lang="ru-RU" sz="2400" spc="-1" strike="noStrike">
                <a:solidFill>
                  <a:srgbClr val="1c1c1c"/>
                </a:solidFill>
                <a:latin typeface="Arial"/>
              </a:rPr>
              <a:t>system of numeration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) — символический метод записи чисел, представление чисел с помощью письменных знаков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Основание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ы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— количество различных цифр, используемых в этой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е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озиционна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 —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, в которой значение каждого числового знака (цифры) в записи числа зависит от его позиции (разряда). 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Десятична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— позиционная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счисления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 по целочисленному основанию 10.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В ней используются цифры 1, 2, 3, 4, 5, 6, 7, 8, 9, 0, называемые арабскими цифрами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50920" y="20304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Двоичная система счисления</a:t>
            </a: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 — позиционная система счисления с основанием 2. 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Для перевода десятичного числа в двоичную систему его необходимо последовательно делить на 2 (деление целочисленное) до тех пор, пока не останется остаток, меньший или равный 1. Число в двоичной системе записывается как последовательность последнего результата деления и остатков от деления в обратном порядке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0" name="Picture 2" descr="http://inf.e-alekseev.ru/extra/ris15.gif"/>
          <p:cNvPicPr/>
          <p:nvPr/>
        </p:nvPicPr>
        <p:blipFill>
          <a:blip r:embed="rId1"/>
          <a:stretch/>
        </p:blipFill>
        <p:spPr>
          <a:xfrm>
            <a:off x="4716360" y="4221000"/>
            <a:ext cx="3240360" cy="233388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2" descr=""/>
          <p:cNvPicPr/>
          <p:nvPr/>
        </p:nvPicPr>
        <p:blipFill>
          <a:blip r:embed="rId2"/>
          <a:stretch/>
        </p:blipFill>
        <p:spPr>
          <a:xfrm>
            <a:off x="396720" y="4151160"/>
            <a:ext cx="4138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108000" y="2136600"/>
            <a:ext cx="87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Для перевода двоичного числа в десятичное необходимо его записать в виде многочлена, состоящего из произведений цифр числа и соответствующей степени числа 2, и вычислить по правилам десятичной арифметики: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3" name="Picture 2" descr="http://inf.e-alekseev.ru/extra/formula4.gif"/>
          <p:cNvPicPr/>
          <p:nvPr/>
        </p:nvPicPr>
        <p:blipFill>
          <a:blip r:embed="rId1"/>
          <a:stretch/>
        </p:blipFill>
        <p:spPr>
          <a:xfrm>
            <a:off x="684360" y="3500280"/>
            <a:ext cx="768960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3" descr=""/>
          <p:cNvPicPr/>
          <p:nvPr/>
        </p:nvPicPr>
        <p:blipFill>
          <a:blip r:embed="rId2"/>
          <a:stretch/>
        </p:blipFill>
        <p:spPr>
          <a:xfrm>
            <a:off x="0" y="4059360"/>
            <a:ext cx="9028080" cy="920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inf.e-alekseev.ru/extra/formula5.gif"/>
          <p:cNvPicPr/>
          <p:nvPr/>
        </p:nvPicPr>
        <p:blipFill>
          <a:blip r:embed="rId3"/>
          <a:stretch/>
        </p:blipFill>
        <p:spPr>
          <a:xfrm>
            <a:off x="109440" y="4748040"/>
            <a:ext cx="903456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2348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7" name="Picture 2" descr="https://ds03.infourok.ru/uploads/ex/067e/0005e665-52b4fa68/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7080" y="1988640"/>
            <a:ext cx="69836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Образ компьютерной памяти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38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324000" y="1989000"/>
            <a:ext cx="8712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190440" y="115920"/>
            <a:ext cx="8929800" cy="172872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5600" y="260280"/>
            <a:ext cx="86187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ные правила представления данных в компьютере: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324000" y="1998720"/>
            <a:ext cx="8712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1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.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Данные 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(и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программы) в памяти компьютера хранятся в двоичном виде, 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т. е. в виде цепочек единиц и нулей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2.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Представление данных в компьютере дискретно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3.</a:t>
            </a:r>
            <a:r>
              <a:rPr b="1" lang="ru-RU" sz="3000" spc="-1" strike="noStrike">
                <a:solidFill>
                  <a:srgbClr val="1c1c1c"/>
                </a:solidFill>
                <a:latin typeface="Arial"/>
              </a:rPr>
              <a:t>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Множество представимых в памяти компьютера величин ограничено и конечно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c1c1c"/>
                </a:solidFill>
                <a:uFillTx/>
                <a:latin typeface="Arial"/>
              </a:rPr>
              <a:t>Правило 4. </a:t>
            </a:r>
            <a:r>
              <a:rPr b="1" i="1" lang="ru-RU" sz="3000" spc="-1" strike="noStrike">
                <a:solidFill>
                  <a:srgbClr val="1c1c1c"/>
                </a:solidFill>
                <a:latin typeface="Arial"/>
              </a:rPr>
              <a:t>В памяти компьютера числа хранятся в двоичной системе счисления.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06440" y="17125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Правило 1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2492280"/>
            <a:ext cx="7643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Данные </a:t>
            </a: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(и </a:t>
            </a:r>
            <a:r>
              <a:rPr b="0" i="1" lang="ru-RU" sz="2800" spc="-1" strike="noStrike">
                <a:solidFill>
                  <a:srgbClr val="1c1c1c"/>
                </a:solidFill>
                <a:latin typeface="Arial"/>
              </a:rPr>
              <a:t>программы) в памяти компьютера хранятся в двоичном виде,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т. е. в виде цепочек единиц и нулей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6" name="Picture 6" descr="Картинка 1 из 54480"/>
          <p:cNvPicPr/>
          <p:nvPr/>
        </p:nvPicPr>
        <p:blipFill>
          <a:blip r:embed="rId1"/>
          <a:stretch/>
        </p:blipFill>
        <p:spPr>
          <a:xfrm>
            <a:off x="5510160" y="3975120"/>
            <a:ext cx="3232080" cy="51498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"/>
          <p:cNvSpPr/>
          <p:nvPr/>
        </p:nvSpPr>
        <p:spPr>
          <a:xfrm>
            <a:off x="324000" y="4005360"/>
            <a:ext cx="3095640" cy="2676600"/>
          </a:xfrm>
          <a:prstGeom prst="rect">
            <a:avLst/>
          </a:prstGeom>
          <a:solidFill>
            <a:srgbClr val="d9d9d9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К может хранить и обрабатывать  данные, представляющие информацию 4 видов: числовую, текстовую, графическую, звуковую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Стрелка вправо 2"/>
          <p:cNvSpPr/>
          <p:nvPr/>
        </p:nvSpPr>
        <p:spPr>
          <a:xfrm>
            <a:off x="3419640" y="5229360"/>
            <a:ext cx="208908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6600cc"/>
          </a:solidFill>
          <a:ln w="25560">
            <a:solidFill>
              <a:srgbClr val="490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3T15:46:04Z</dcterms:created>
  <dc:creator>PC</dc:creator>
  <dc:description/>
  <dc:language>en-US</dc:language>
  <cp:lastModifiedBy>RePack by Diakov</cp:lastModifiedBy>
  <cp:lastPrinted>2019-10-19T14:08:27Z</cp:lastPrinted>
  <dcterms:modified xsi:type="dcterms:W3CDTF">2020-11-05T07:01:18Z</dcterms:modified>
  <cp:revision>147</cp:revision>
  <dc:subject/>
  <dc:title>Слайд 1</dc:title>
</cp:coreProperties>
</file>