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jpeg" ContentType="image/jpeg"/>
  <Override PartName="/ppt/media/image3.jpeg" ContentType="image/jpeg"/>
  <Override PartName="/ppt/media/explode.wav" ContentType="audio/x-wav"/>
  <Override PartName="/ppt/media/image7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3.jpeg" ContentType="image/jpeg"/>
  <Override PartName="/ppt/media/image2.jpeg" ContentType="image/jpeg"/>
  <Override PartName="/ppt/media/wind.wav" ContentType="audio/x-wav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BCC-EA9C-414E-B56A-5CC24DC1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078-371D-4C9C-9576-507B1B2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E5E-6573-4C37-9F9A-51C54160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439-7E30-4178-B04C-7BFFACB2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AC4BB-4371-4F4B-9283-7D77DB96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46A1-A2F3-459C-8196-6ACEC998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01745-7243-4A90-87FE-7920480D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54AF-46B6-4F07-9F79-286D312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72F4-66CE-425B-A08C-BBF3911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FD0E-2D16-4D6E-8758-A4340400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CA12-93A3-42CA-8FA6-9ADCFB8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DF0-B862-4434-AAA4-BF6E0CA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E325E-F79A-4233-B83E-4825297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4D03C-FAE3-47C3-8399-6EED89F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0655F-0EA4-409F-8B48-AFBB87D5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0617E-1DE0-4B31-AA34-00248336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20B9-F1C4-43E0-8CE9-4878D475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84A-E55A-4E3F-988A-8D7500E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80A-7EE1-4772-86DE-E3F59E09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A3F-4845-40AD-8BAD-A62E9C9B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A8B-822E-4DCD-B653-CA698B7D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195-33AC-4533-851E-21C0ED5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FE6-263E-4622-9449-2917767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B14-B3BE-48E3-A14A-F6EC262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19D-2B13-4BAF-8AA4-3D42D325E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E52F-8528-409A-9140-B20DDC176B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393920"/>
          </a:xfrm>
          <a:prstGeom prst="rect">
            <a:avLst/>
          </a:prstGeom>
          <a:gradFill rotWithShape="0">
            <a:gsLst>
              <a:gs pos="0">
                <a:srgbClr val="289e4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89e4f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Те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«Давайте беречь воду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Пащенко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Tahoma"/>
              </a:rPr>
              <a:t>Воспитатель МБДОУ № 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IN3"/>
          <p:cNvPicPr/>
          <p:nvPr/>
        </p:nvPicPr>
        <p:blipFill>
          <a:blip r:embed="rId1"/>
          <a:stretch/>
        </p:blipFill>
        <p:spPr>
          <a:xfrm>
            <a:off x="324000" y="2565360"/>
            <a:ext cx="8459640" cy="3083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50920" y="620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За 1 год в мире в водоёмы попадает столько вредных веществ, что ими можно было бы заполнить 10 000 товарных поез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ic0092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2" name="Picture 3" descr="Западно- Сибирская равнина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321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3" name="Picture 4" descr="Средний Урал"/>
          <p:cNvPicPr/>
          <p:nvPr/>
        </p:nvPicPr>
        <p:blipFill>
          <a:blip r:embed="rId3"/>
          <a:stretch/>
        </p:blipFill>
        <p:spPr>
          <a:xfrm>
            <a:off x="0" y="3481560"/>
            <a:ext cx="4500720" cy="337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4" name="Picture 5" descr="Россия - страна великих речных систем"/>
          <p:cNvPicPr/>
          <p:nvPr/>
        </p:nvPicPr>
        <p:blipFill>
          <a:blip r:embed="rId4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5" name="Picture 6" descr="006"/>
          <p:cNvPicPr/>
          <p:nvPr/>
        </p:nvPicPr>
        <p:blipFill>
          <a:blip r:embed="rId5"/>
          <a:stretch/>
        </p:blipFill>
        <p:spPr>
          <a:xfrm>
            <a:off x="2133720" y="1752480"/>
            <a:ext cx="4464000" cy="3238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система охраны вод"/>
          <p:cNvPicPr/>
          <p:nvPr/>
        </p:nvPicPr>
        <p:blipFill>
          <a:blip r:embed="rId1"/>
          <a:stretch/>
        </p:blipFill>
        <p:spPr>
          <a:xfrm>
            <a:off x="4495680" y="274320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меры по охране вод"/>
          <p:cNvPicPr/>
          <p:nvPr/>
        </p:nvPicPr>
        <p:blipFill>
          <a:blip r:embed="rId2"/>
          <a:stretch/>
        </p:blipFill>
        <p:spPr>
          <a:xfrm>
            <a:off x="228600" y="2666880"/>
            <a:ext cx="4038480" cy="3568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295280" y="533520"/>
            <a:ext cx="69343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чистные соору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чистные соору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очистные сооружения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RIP"/>
          <p:cNvPicPr/>
          <p:nvPr/>
        </p:nvPicPr>
        <p:blipFill>
          <a:blip r:embed="rId1"/>
          <a:stretch/>
        </p:blipFill>
        <p:spPr>
          <a:xfrm>
            <a:off x="1371600" y="609480"/>
            <a:ext cx="2825640" cy="4248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3200400" y="609480"/>
            <a:ext cx="5611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44" name="Picture 2" descr="DRIP"/>
          <p:cNvPicPr/>
          <p:nvPr/>
        </p:nvPicPr>
        <p:blipFill>
          <a:blip r:embed="rId2"/>
          <a:stretch/>
        </p:blipFill>
        <p:spPr>
          <a:xfrm>
            <a:off x="4495680" y="1828800"/>
            <a:ext cx="282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озяйственное отношение к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971800" cy="190476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!При утечке из крана воды по капле, за сутки набегает одно ведр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j0234721"/>
          <p:cNvPicPr/>
          <p:nvPr/>
        </p:nvPicPr>
        <p:blipFill>
          <a:blip r:embed="rId1"/>
          <a:stretch/>
        </p:blipFill>
        <p:spPr>
          <a:xfrm>
            <a:off x="7010280" y="4191120"/>
            <a:ext cx="1497240" cy="177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Максим\Downloads\png-transparent-gray-bucket-full-of-water-art-bucket-icon-bucket-drop-toilet-happy-birthday-vector-images.png"/>
          <p:cNvPicPr/>
          <p:nvPr/>
        </p:nvPicPr>
        <p:blipFill>
          <a:blip r:embed="rId2"/>
          <a:stretch/>
        </p:blipFill>
        <p:spPr>
          <a:xfrm>
            <a:off x="3657600" y="3809880"/>
            <a:ext cx="27558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Берегите воду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вода капает из крана нужно закрыть или отремонтировать к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ты моешь руки, умываешься под сильной струей, ты не экономишь воду. Прикрой немного кран, это не помешает умыться, а воды утечет мен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ты хочешь охладить лимонад, не держи его под струей холодной воды лучше лимонад поставить в холодильник, а воду побе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ывод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Каждый человек должен беречь воду и            экономно ее расход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еречь воду – значит беречь жиз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сегда и везде  вечная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слава вод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Берегите воду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, запомни навсег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вол жизни на Земле – во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ь ее и берег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ведь на планете не одн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92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92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192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192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28600" y="228600"/>
            <a:ext cx="8915400" cy="5943600"/>
          </a:xfrm>
          <a:prstGeom prst="cloudCallout">
            <a:avLst>
              <a:gd name="adj1" fmla="val -13462"/>
              <a:gd name="adj2" fmla="val 22569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туча, и туман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ручей, и океан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летаю, и бегу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стеклянной быть могу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351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2895480" y="457200"/>
            <a:ext cx="32004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ояние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81480" y="957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1142640" y="1371600"/>
            <a:ext cx="33526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495680" y="1447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4495680" y="1371600"/>
            <a:ext cx="3124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C:\Users\Максим\Downloads\стек-янный-чайник-с-кипятком-и-паром-94216290.jpg"/>
          <p:cNvPicPr/>
          <p:nvPr/>
        </p:nvPicPr>
        <p:blipFill>
          <a:blip r:embed="rId1"/>
          <a:stretch/>
        </p:blipFill>
        <p:spPr>
          <a:xfrm>
            <a:off x="304920" y="2286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Максим\Downloads\kisspng-fizzy-drinks-sour-carbonated-water-tonic-water-water-glass-5abbf64ba27260.9036094815222677236654.jpg"/>
          <p:cNvPicPr/>
          <p:nvPr/>
        </p:nvPicPr>
        <p:blipFill>
          <a:blip r:embed="rId2"/>
          <a:stretch/>
        </p:blipFill>
        <p:spPr>
          <a:xfrm>
            <a:off x="3352680" y="2286000"/>
            <a:ext cx="236232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Максим\Downloads\png-transparent-ice-cube-drawing-ice-glass-istock-stock-photography.png"/>
          <p:cNvPicPr/>
          <p:nvPr/>
        </p:nvPicPr>
        <p:blipFill>
          <a:blip r:embed="rId3"/>
          <a:stretch/>
        </p:blipFill>
        <p:spPr>
          <a:xfrm>
            <a:off x="6477120" y="2362320"/>
            <a:ext cx="2324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точники загрязнения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сточники загрязнен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1219320"/>
            <a:ext cx="3657600" cy="24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од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загрязнение подземных вод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952880" y="403848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водосток"/>
          <p:cNvPicPr/>
          <p:nvPr/>
        </p:nvPicPr>
        <p:blipFill>
          <a:blip r:embed="rId6"/>
          <a:stretch/>
        </p:blipFill>
        <p:spPr>
          <a:xfrm>
            <a:off x="228600" y="41148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7897" y="10800"/>
                </a:moveTo>
                <a:lnTo>
                  <a:pt x="7392" y="17806"/>
                </a:lnTo>
                <a:lnTo>
                  <a:pt x="7392" y="3794"/>
                </a:lnTo>
                <a:close/>
              </a:path>
              <a:path fill="darken" w="28796" h="21600">
                <a:moveTo>
                  <a:pt x="19742" y="3794"/>
                </a:moveTo>
                <a:lnTo>
                  <a:pt x="19742" y="17806"/>
                </a:lnTo>
                <a:lnTo>
                  <a:pt x="21405" y="17806"/>
                </a:lnTo>
                <a:lnTo>
                  <a:pt x="2140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6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6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6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источники загрязнения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304920" y="5791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050840" y="5365800"/>
            <a:ext cx="70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050840" y="5365800"/>
            <a:ext cx="68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водосток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304920" y="60958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ышле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15228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загрязнение подземных вод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867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 flipV="1" rot="10800000">
            <a:off x="302760" y="6248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грязнение подзем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ода"/>
          <p:cNvPicPr/>
          <p:nvPr/>
        </p:nvPicPr>
        <p:blipFill>
          <a:blip r:embed="rId1"/>
          <a:srcRect l="8339" t="5102" r="0" b="1531"/>
          <a:stretch/>
        </p:blipFill>
        <p:spPr>
          <a:xfrm>
            <a:off x="228600" y="60948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0574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66680" y="5486400"/>
            <a:ext cx="748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8600" y="61722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рег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сим</dc:creator>
  <dc:description/>
  <dc:language>en-US</dc:language>
  <cp:lastModifiedBy>Максим</cp:lastModifiedBy>
  <dcterms:modified xsi:type="dcterms:W3CDTF">2022-04-21T18:09:41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