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jpeg" ContentType="image/jpeg"/>
  <Override PartName="/ppt/media/image3.jpeg" ContentType="image/jpeg"/>
  <Override PartName="/ppt/media/explode.wav" ContentType="audio/x-wav"/>
  <Override PartName="/ppt/media/image7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gif" ContentType="image/gi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23.jpeg" ContentType="image/jpeg"/>
  <Override PartName="/ppt/media/image2.jpeg" ContentType="image/jpeg"/>
  <Override PartName="/ppt/media/wind.wav" ContentType="audio/x-wav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17D-9661-4C5A-B0A9-36CBD2DC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340-031B-45A4-80EB-F5121FA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F45-6ACB-425B-BCD1-813F37F3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538-DAF9-4133-A0FB-72ABF090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2A7FF-AAC5-479F-9B37-3786B3CA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9E35B-EB5E-4495-82B0-5336023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73F4-ADD8-4D9E-A721-AFE1A75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30062-32CD-4D7A-BA7C-460FE151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CDD94-973F-4FA4-AD8C-D02B5189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A911-662E-4ECD-A7EA-F046077D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D4AB6-ED62-4792-810D-5AFF1A36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5EF-EB46-4489-9DB1-4CC1A4E2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922DE-2F7A-4927-ACFB-7C49BAF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02A4D-9A0C-4097-A8A1-82293234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09FCC-0A7A-4E4B-98F6-11D5606F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BFFFF-B162-4974-AB87-D24C667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33C6B-A495-4C5B-9AA8-9178C94A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393-C8B8-47CD-B6D8-600303C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9AC-322F-434C-BFE2-E900EBB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843-F64F-428F-837A-E6EEDFAD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F61-5A4E-4961-B95C-6E8275C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0D2-4A38-4D6E-AB7E-8EA150D8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CB3-C073-450E-ACB1-735A976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2B9-7D44-461E-B167-3663210C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1C34-D5AE-47C9-B651-968BC7B2F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0136-9737-4642-B39C-6B8601973A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jpeg"/><Relationship Id="rId3" Type="http://schemas.openxmlformats.org/officeDocument/2006/relationships/slide" Target="slide9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gi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393920"/>
          </a:xfrm>
          <a:prstGeom prst="rect">
            <a:avLst/>
          </a:prstGeom>
          <a:gradFill rotWithShape="0">
            <a:gsLst>
              <a:gs pos="0">
                <a:srgbClr val="289e4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89e4f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Те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Tahoma"/>
              </a:rPr>
              <a:t>«Давайте беречь воду!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cc"/>
                </a:solidFill>
                <a:latin typeface="Tahoma"/>
              </a:rPr>
              <a:t>Пащенко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cc"/>
                </a:solidFill>
                <a:latin typeface="Tahoma"/>
              </a:rPr>
              <a:t>Воспитатель МБДОУ № 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IN3"/>
          <p:cNvPicPr/>
          <p:nvPr/>
        </p:nvPicPr>
        <p:blipFill>
          <a:blip r:embed="rId1"/>
          <a:stretch/>
        </p:blipFill>
        <p:spPr>
          <a:xfrm>
            <a:off x="324000" y="2565360"/>
            <a:ext cx="8459640" cy="3083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250920" y="620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3300"/>
                </a:solidFill>
                <a:latin typeface="Tahoma"/>
              </a:rPr>
              <a:t>За 1 год в мире в водоёмы попадает столько вредных веществ, что ими можно было бы заполнить 10 000 товарных поез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ic0092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2" name="Picture 3" descr="Западно- Сибирская равнина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33210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3" name="Picture 4" descr="Средний Урал"/>
          <p:cNvPicPr/>
          <p:nvPr/>
        </p:nvPicPr>
        <p:blipFill>
          <a:blip r:embed="rId3"/>
          <a:stretch/>
        </p:blipFill>
        <p:spPr>
          <a:xfrm>
            <a:off x="0" y="3481560"/>
            <a:ext cx="4500720" cy="337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4" name="Picture 5" descr="Россия - страна великих речных систем"/>
          <p:cNvPicPr/>
          <p:nvPr/>
        </p:nvPicPr>
        <p:blipFill>
          <a:blip r:embed="rId4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135" name="Picture 6" descr="006"/>
          <p:cNvPicPr/>
          <p:nvPr/>
        </p:nvPicPr>
        <p:blipFill>
          <a:blip r:embed="rId5"/>
          <a:stretch/>
        </p:blipFill>
        <p:spPr>
          <a:xfrm>
            <a:off x="2133720" y="1752480"/>
            <a:ext cx="4464000" cy="323856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система охраны вод"/>
          <p:cNvPicPr/>
          <p:nvPr/>
        </p:nvPicPr>
        <p:blipFill>
          <a:blip r:embed="rId1"/>
          <a:stretch/>
        </p:blipFill>
        <p:spPr>
          <a:xfrm>
            <a:off x="4495680" y="274320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меры по охране вод"/>
          <p:cNvPicPr/>
          <p:nvPr/>
        </p:nvPicPr>
        <p:blipFill>
          <a:blip r:embed="rId2"/>
          <a:stretch/>
        </p:blipFill>
        <p:spPr>
          <a:xfrm>
            <a:off x="228600" y="2666880"/>
            <a:ext cx="4038480" cy="3568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295280" y="533520"/>
            <a:ext cx="69343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чистные соору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чистные сооруж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очистные сооружения"/>
          <p:cNvPicPr/>
          <p:nvPr/>
        </p:nvPicPr>
        <p:blipFill>
          <a:blip r:embed="rId1"/>
          <a:stretch/>
        </p:blipFill>
        <p:spPr>
          <a:xfrm>
            <a:off x="914400" y="1600200"/>
            <a:ext cx="7391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RIP"/>
          <p:cNvPicPr/>
          <p:nvPr/>
        </p:nvPicPr>
        <p:blipFill>
          <a:blip r:embed="rId1"/>
          <a:stretch/>
        </p:blipFill>
        <p:spPr>
          <a:xfrm>
            <a:off x="1371600" y="609480"/>
            <a:ext cx="2825640" cy="4248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3200400" y="609480"/>
            <a:ext cx="5611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44" name="Picture 2" descr="DRIP"/>
          <p:cNvPicPr/>
          <p:nvPr/>
        </p:nvPicPr>
        <p:blipFill>
          <a:blip r:embed="rId2"/>
          <a:stretch/>
        </p:blipFill>
        <p:spPr>
          <a:xfrm>
            <a:off x="4495680" y="1828800"/>
            <a:ext cx="282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озяйственное отношение к вод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971800" cy="190476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!При утечке из крана воды по капле, за сутки набегает одно ведр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j0234721"/>
          <p:cNvPicPr/>
          <p:nvPr/>
        </p:nvPicPr>
        <p:blipFill>
          <a:blip r:embed="rId1"/>
          <a:stretch/>
        </p:blipFill>
        <p:spPr>
          <a:xfrm>
            <a:off x="7010280" y="4191120"/>
            <a:ext cx="1497240" cy="177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Максим\Downloads\png-transparent-gray-bucket-full-of-water-art-bucket-icon-bucket-drop-toilet-happy-birthday-vector-images.png"/>
          <p:cNvPicPr/>
          <p:nvPr/>
        </p:nvPicPr>
        <p:blipFill>
          <a:blip r:embed="rId2"/>
          <a:stretch/>
        </p:blipFill>
        <p:spPr>
          <a:xfrm>
            <a:off x="3657600" y="3809880"/>
            <a:ext cx="27558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Берегите воду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8765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вода капает из крана нужно закрыть или отремонтировать к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ты моешь руки, умываешься под сильной струей, ты не экономишь воду. Прикрой немного кран, это не помешает умыться, а воды утечет мен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3"/>
                </a:solidFill>
                <a:latin typeface="Tahoma"/>
              </a:rPr>
              <a:t>Если ты хочешь охладить лимонад, не держи его под струей холодной воды лучше лимонад поставить в холодильник, а воду побереч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ывод: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10199"/>
                </a:solidFill>
                <a:latin typeface="Tahoma"/>
              </a:rPr>
              <a:t>Каждый человек должен беречь воду и            экономно ее расходов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Беречь воду – значит беречь жиз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Всегда и везде  вечная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слава вод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5800" y="533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Берегите воду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, запомни навсег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вол жизни на Земле – вод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ь ее и берег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ведь на планете не одн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92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192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192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192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28600" y="228600"/>
            <a:ext cx="8915400" cy="5943600"/>
          </a:xfrm>
          <a:prstGeom prst="cloudCallout">
            <a:avLst>
              <a:gd name="adj1" fmla="val -13462"/>
              <a:gd name="adj2" fmla="val 22569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Зага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 туча, и туман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ручей, и океан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летаю, и бегу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 стеклянной быть могу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351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2895480" y="457200"/>
            <a:ext cx="3200400" cy="9144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стояние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5181480" y="957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1142640" y="1371600"/>
            <a:ext cx="33526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495680" y="1447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4495680" y="1371600"/>
            <a:ext cx="3124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C:\Users\Максим\Downloads\стек-янный-чайник-с-кипятком-и-паром-94216290.jpg"/>
          <p:cNvPicPr/>
          <p:nvPr/>
        </p:nvPicPr>
        <p:blipFill>
          <a:blip r:embed="rId1"/>
          <a:stretch/>
        </p:blipFill>
        <p:spPr>
          <a:xfrm>
            <a:off x="304920" y="2286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Максим\Downloads\kisspng-fizzy-drinks-sour-carbonated-water-tonic-water-water-glass-5abbf64ba27260.9036094815222677236654.jpg"/>
          <p:cNvPicPr/>
          <p:nvPr/>
        </p:nvPicPr>
        <p:blipFill>
          <a:blip r:embed="rId2"/>
          <a:stretch/>
        </p:blipFill>
        <p:spPr>
          <a:xfrm>
            <a:off x="3352680" y="2286000"/>
            <a:ext cx="236232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C:\Users\Максим\Downloads\png-transparent-ice-cube-drawing-ice-glass-istock-stock-photography.png"/>
          <p:cNvPicPr/>
          <p:nvPr/>
        </p:nvPicPr>
        <p:blipFill>
          <a:blip r:embed="rId3"/>
          <a:stretch/>
        </p:blipFill>
        <p:spPr>
          <a:xfrm>
            <a:off x="6477120" y="2362320"/>
            <a:ext cx="23241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точники загрязнения вод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сточники загрязнения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1219320"/>
            <a:ext cx="3657600" cy="2469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вода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1219320"/>
            <a:ext cx="41148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загрязнение подземных вод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4952880" y="4038480"/>
            <a:ext cx="373392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водосток"/>
          <p:cNvPicPr/>
          <p:nvPr/>
        </p:nvPicPr>
        <p:blipFill>
          <a:blip r:embed="rId6"/>
          <a:stretch/>
        </p:blipFill>
        <p:spPr>
          <a:xfrm>
            <a:off x="228600" y="4114800"/>
            <a:ext cx="4114800" cy="2514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7897" y="10800"/>
                </a:moveTo>
                <a:lnTo>
                  <a:pt x="7392" y="17806"/>
                </a:lnTo>
                <a:lnTo>
                  <a:pt x="7392" y="3794"/>
                </a:lnTo>
                <a:close/>
              </a:path>
              <a:path fill="darken" w="28796" h="21600">
                <a:moveTo>
                  <a:pt x="19742" y="3794"/>
                </a:moveTo>
                <a:lnTo>
                  <a:pt x="19742" y="17806"/>
                </a:lnTo>
                <a:lnTo>
                  <a:pt x="21405" y="17806"/>
                </a:lnTo>
                <a:lnTo>
                  <a:pt x="21405" y="379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600"/>
                            </p:stCondLst>
                            <p:childTnLst>
                              <p:par>
                                <p:cTn id="16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6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6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6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источники загрязнения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486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"/>
          <p:cNvSpPr/>
          <p:nvPr/>
        </p:nvSpPr>
        <p:spPr>
          <a:xfrm>
            <a:off x="304920" y="5791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ва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050840" y="5365800"/>
            <a:ext cx="7026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050840" y="5365800"/>
            <a:ext cx="687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5" descr="водосток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304920" y="6095880"/>
            <a:ext cx="70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ышле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15228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загрязнение подземных вод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867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 flipV="1" rot="10800000">
            <a:off x="302760" y="6248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грязнение подзем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вода"/>
          <p:cNvPicPr/>
          <p:nvPr/>
        </p:nvPicPr>
        <p:blipFill>
          <a:blip r:embed="rId1"/>
          <a:srcRect l="8339" t="5102" r="0" b="1531"/>
          <a:stretch/>
        </p:blipFill>
        <p:spPr>
          <a:xfrm>
            <a:off x="228600" y="609480"/>
            <a:ext cx="8610480" cy="5486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0574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66680" y="5486400"/>
            <a:ext cx="748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8600" y="617220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ерего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838188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Земной шар"/>
          <p:cNvPicPr/>
          <p:nvPr/>
        </p:nvPicPr>
        <p:blipFill>
          <a:blip r:embed="rId2"/>
          <a:stretch/>
        </p:blipFill>
        <p:spPr>
          <a:xfrm>
            <a:off x="8352000" y="0"/>
            <a:ext cx="792000" cy="8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сим</dc:creator>
  <dc:description/>
  <dc:language>en-US</dc:language>
  <cp:lastModifiedBy>Максим</cp:lastModifiedBy>
  <dcterms:modified xsi:type="dcterms:W3CDTF">2022-04-21T18:09:41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