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3B8E-5CE4-4F53-AC07-B1ED315B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0612-3D69-48E5-A718-4E54E9A1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AB28-2895-4DD8-B78C-7026B773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A6FD-16D5-4D6D-AF69-BF031344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7601-4DD2-4A1B-B00A-426EABF8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1FA0-E643-4CD5-BEC8-B1FEE2D9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2900-6287-4790-B72C-FA5AC941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C5CE-4981-403C-8EEC-1B2DEEBF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7A4C-0C28-49CB-9234-6A9AFF1A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9A08-01CD-4676-A372-C986950D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D27C-5348-4B07-8317-A2278A1F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B0D2-475E-4888-A920-8734EA94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49B6-BBD6-4694-8E9E-55DBF1A603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Тема: «Наши друзья – деревь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Старший дошкольный возра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опыта работы воспитателя МАДОУ  ЦРР д\с№128 Близниченко Н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img135"/>
          <p:cNvPicPr/>
          <p:nvPr/>
        </p:nvPicPr>
        <p:blipFill>
          <a:blip r:embed="rId1"/>
          <a:stretch/>
        </p:blipFill>
        <p:spPr>
          <a:xfrm>
            <a:off x="893880" y="1273320"/>
            <a:ext cx="5070240" cy="6597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img133"/>
          <p:cNvPicPr/>
          <p:nvPr/>
        </p:nvPicPr>
        <p:blipFill>
          <a:blip r:embed="rId1"/>
          <a:stretch/>
        </p:blipFill>
        <p:spPr>
          <a:xfrm>
            <a:off x="603360" y="1293840"/>
            <a:ext cx="5653080" cy="6556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img139"/>
          <p:cNvPicPr/>
          <p:nvPr/>
        </p:nvPicPr>
        <p:blipFill>
          <a:blip r:embed="rId1"/>
          <a:stretch/>
        </p:blipFill>
        <p:spPr>
          <a:xfrm>
            <a:off x="696960" y="1336680"/>
            <a:ext cx="5464080" cy="647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img154"/>
          <p:cNvPicPr/>
          <p:nvPr/>
        </p:nvPicPr>
        <p:blipFill>
          <a:blip r:embed="rId1"/>
          <a:stretch/>
        </p:blipFill>
        <p:spPr>
          <a:xfrm>
            <a:off x="250920" y="-17640"/>
            <a:ext cx="6357960" cy="917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img145"/>
          <p:cNvPicPr/>
          <p:nvPr/>
        </p:nvPicPr>
        <p:blipFill>
          <a:blip r:embed="rId1"/>
          <a:stretch/>
        </p:blipFill>
        <p:spPr>
          <a:xfrm>
            <a:off x="990720" y="1600200"/>
            <a:ext cx="4944960" cy="6929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времена года ты видишь на картин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img147"/>
          <p:cNvPicPr/>
          <p:nvPr/>
        </p:nvPicPr>
        <p:blipFill>
          <a:blip r:embed="rId1"/>
          <a:stretch/>
        </p:blipFill>
        <p:spPr>
          <a:xfrm>
            <a:off x="957240" y="1108080"/>
            <a:ext cx="4944960" cy="692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img149"/>
          <p:cNvPicPr/>
          <p:nvPr/>
        </p:nvPicPr>
        <p:blipFill>
          <a:blip r:embed="rId1"/>
          <a:stretch/>
        </p:blipFill>
        <p:spPr>
          <a:xfrm>
            <a:off x="957240" y="1076400"/>
            <a:ext cx="4944960" cy="6993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img150"/>
          <p:cNvPicPr/>
          <p:nvPr/>
        </p:nvPicPr>
        <p:blipFill>
          <a:blip r:embed="rId1"/>
          <a:stretch/>
        </p:blipFill>
        <p:spPr>
          <a:xfrm>
            <a:off x="-304920" y="0"/>
            <a:ext cx="7439040" cy="9325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img131"/>
          <p:cNvPicPr/>
          <p:nvPr/>
        </p:nvPicPr>
        <p:blipFill>
          <a:blip r:embed="rId1"/>
          <a:stretch/>
        </p:blipFill>
        <p:spPr>
          <a:xfrm>
            <a:off x="550800" y="1252440"/>
            <a:ext cx="5756400" cy="6639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img134"/>
          <p:cNvPicPr/>
          <p:nvPr/>
        </p:nvPicPr>
        <p:blipFill>
          <a:blip r:embed="rId1"/>
          <a:stretch/>
        </p:blipFill>
        <p:spPr>
          <a:xfrm>
            <a:off x="-50760" y="503280"/>
            <a:ext cx="6961320" cy="8137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2-04-21T10:05:4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