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C2C-4461-4D35-A3AD-B75D5374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CDB-CFA4-4EBB-A56C-E8947012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D91-8FE0-421A-A10C-2C5F9357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6B8-7AD0-470B-83DC-CDA295D7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BF6-2546-4605-9D24-10292D74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0F70-B656-4E00-B167-D278B4E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329-4EC3-4739-865C-88724F43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38E-3FB5-4A52-B23B-36C3253D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387-3193-4127-A3C1-7531398C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B0D4-4335-43C6-B3D6-F028E3D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222-A448-4B16-AEF0-41C31C95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1FA-86EC-4A40-B878-2EF623FC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98C5-4025-451E-91FE-03F3884DB5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Тема: «Наши друзья – дерев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тарший дошкольный во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пыта работы воспитателя МАДОУ  ЦРР д\с№128 Близниченко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35"/>
          <p:cNvPicPr/>
          <p:nvPr/>
        </p:nvPicPr>
        <p:blipFill>
          <a:blip r:embed="rId1"/>
          <a:stretch/>
        </p:blipFill>
        <p:spPr>
          <a:xfrm>
            <a:off x="893880" y="1273320"/>
            <a:ext cx="5070240" cy="659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133"/>
          <p:cNvPicPr/>
          <p:nvPr/>
        </p:nvPicPr>
        <p:blipFill>
          <a:blip r:embed="rId1"/>
          <a:stretch/>
        </p:blipFill>
        <p:spPr>
          <a:xfrm>
            <a:off x="603360" y="1293840"/>
            <a:ext cx="5653080" cy="655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139"/>
          <p:cNvPicPr/>
          <p:nvPr/>
        </p:nvPicPr>
        <p:blipFill>
          <a:blip r:embed="rId1"/>
          <a:stretch/>
        </p:blipFill>
        <p:spPr>
          <a:xfrm>
            <a:off x="696960" y="1336680"/>
            <a:ext cx="5464080" cy="647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154"/>
          <p:cNvPicPr/>
          <p:nvPr/>
        </p:nvPicPr>
        <p:blipFill>
          <a:blip r:embed="rId1"/>
          <a:stretch/>
        </p:blipFill>
        <p:spPr>
          <a:xfrm>
            <a:off x="250920" y="-17640"/>
            <a:ext cx="6357960" cy="91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img145"/>
          <p:cNvPicPr/>
          <p:nvPr/>
        </p:nvPicPr>
        <p:blipFill>
          <a:blip r:embed="rId1"/>
          <a:stretch/>
        </p:blipFill>
        <p:spPr>
          <a:xfrm>
            <a:off x="990720" y="1600200"/>
            <a:ext cx="4944960" cy="6929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ремена года ты видишь на карти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img147"/>
          <p:cNvPicPr/>
          <p:nvPr/>
        </p:nvPicPr>
        <p:blipFill>
          <a:blip r:embed="rId1"/>
          <a:stretch/>
        </p:blipFill>
        <p:spPr>
          <a:xfrm>
            <a:off x="957240" y="1108080"/>
            <a:ext cx="4944960" cy="692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mg149"/>
          <p:cNvPicPr/>
          <p:nvPr/>
        </p:nvPicPr>
        <p:blipFill>
          <a:blip r:embed="rId1"/>
          <a:stretch/>
        </p:blipFill>
        <p:spPr>
          <a:xfrm>
            <a:off x="957240" y="1076400"/>
            <a:ext cx="4944960" cy="699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g150"/>
          <p:cNvPicPr/>
          <p:nvPr/>
        </p:nvPicPr>
        <p:blipFill>
          <a:blip r:embed="rId1"/>
          <a:stretch/>
        </p:blipFill>
        <p:spPr>
          <a:xfrm>
            <a:off x="-304920" y="0"/>
            <a:ext cx="7439040" cy="9325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g131"/>
          <p:cNvPicPr/>
          <p:nvPr/>
        </p:nvPicPr>
        <p:blipFill>
          <a:blip r:embed="rId1"/>
          <a:stretch/>
        </p:blipFill>
        <p:spPr>
          <a:xfrm>
            <a:off x="550800" y="1252440"/>
            <a:ext cx="5756400" cy="663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134"/>
          <p:cNvPicPr/>
          <p:nvPr/>
        </p:nvPicPr>
        <p:blipFill>
          <a:blip r:embed="rId1"/>
          <a:stretch/>
        </p:blipFill>
        <p:spPr>
          <a:xfrm>
            <a:off x="-50760" y="503280"/>
            <a:ext cx="6961320" cy="813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04-21T10:05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