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chimes.wav" ContentType="audio/x-wav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6.jpeg" ContentType="image/jpeg"/>
  <Override PartName="/ppt/media/image32.png" ContentType="image/png"/>
  <Override PartName="/ppt/media/image36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5.png" ContentType="image/png"/>
  <Override PartName="/ppt/media/image50.jpeg" ContentType="image/jpeg"/>
  <Override PartName="/ppt/media/image52.png" ContentType="image/png"/>
  <Override PartName="/ppt/media/image49.jpeg" ContentType="image/jpeg"/>
  <Override PartName="/ppt/media/image1.jpeg" ContentType="image/jpeg"/>
  <Override PartName="/ppt/media/image47.png" ContentType="image/png"/>
  <Override PartName="/ppt/media/image51.png" ContentType="image/png"/>
  <Override PartName="/ppt/media/image31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12.jpeg" ContentType="image/jpeg"/>
  <Override PartName="/ppt/media/image34.png" ContentType="image/png"/>
  <Override PartName="/ppt/media/image39.png" ContentType="image/png"/>
  <Override PartName="/ppt/media/image9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E1F-6644-44C3-81D2-E5EA96B7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2B2-08AD-45AD-A306-355E7D41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DB9-D83E-4410-9560-4919ABA3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7DC-6837-4DD7-B28E-EFB255D0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789-B252-4088-883E-9EC5466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A91-3E21-4B83-BE59-954457B4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46D1-E726-4DDB-9B24-95D97113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743-A62A-4710-A1DA-8E819E45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8F9-C45D-4009-A399-8BFED01E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03C-0D52-4F73-AA64-2E04F9EC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5F3-FB04-4E64-A1C0-35F8D15A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990-F471-4959-8A48-AF22FDFA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5B5C-28AC-497B-B1E5-560BC0B43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4.png"/><Relationship Id="rId23" Type="http://schemas.openxmlformats.org/officeDocument/2006/relationships/image" Target="../media/image36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png"/><Relationship Id="rId27" Type="http://schemas.openxmlformats.org/officeDocument/2006/relationships/image" Target="../media/image40.png"/><Relationship Id="rId28" Type="http://schemas.openxmlformats.org/officeDocument/2006/relationships/image" Target="../media/image40.png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jpeg"/><Relationship Id="rId9" Type="http://schemas.openxmlformats.org/officeDocument/2006/relationships/image" Target="../media/image49.jpeg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цифровой информационной среды для развития зрительного восприятия и расширения знаний об окружающем у детей с нарушением зрения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атк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5280" y="3860640"/>
            <a:ext cx="4897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полнили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-дефектолог МБДОУ «ЦРР-Д/С №41»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иселева Т.В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итель-дефектолог МБДОУ «ЦРР-Д/С №41»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амокрутова С.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рительно-пространственного восприятия  и  бинокулярного з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http://www.igrushki-rukami-svoimi.ru/wp-content/uploads/2016/06/Raskraski-zhivotnyh-19.jpg"/>
          <p:cNvPicPr/>
          <p:nvPr/>
        </p:nvPicPr>
        <p:blipFill>
          <a:blip r:embed="rId1"/>
          <a:stretch/>
        </p:blipFill>
        <p:spPr>
          <a:xfrm>
            <a:off x="5508720" y="1413000"/>
            <a:ext cx="3166920" cy="1833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http://www.xxlbook.ru/imgh534866.png"/>
          <p:cNvPicPr/>
          <p:nvPr/>
        </p:nvPicPr>
        <p:blipFill>
          <a:blip r:embed="rId2"/>
          <a:stretch/>
        </p:blipFill>
        <p:spPr>
          <a:xfrm>
            <a:off x="5867280" y="3860640"/>
            <a:ext cx="3060720" cy="2676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http://razykrashkin.ru/files/narisovat-dorozhki-dlia-zhivotnykh.jpg"/>
          <p:cNvPicPr/>
          <p:nvPr/>
        </p:nvPicPr>
        <p:blipFill>
          <a:blip r:embed="rId3"/>
          <a:stretch/>
        </p:blipFill>
        <p:spPr>
          <a:xfrm>
            <a:off x="0" y="4292640"/>
            <a:ext cx="302436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http://detsad-kitty.ru/uploads/posts/2010-03/1269695354_brodilka2b.gif"/>
          <p:cNvPicPr/>
          <p:nvPr/>
        </p:nvPicPr>
        <p:blipFill>
          <a:blip r:embed="rId4"/>
          <a:srcRect l="0" t="0" r="0" b="7957"/>
          <a:stretch/>
        </p:blipFill>
        <p:spPr>
          <a:xfrm>
            <a:off x="468360" y="1557360"/>
            <a:ext cx="2735280" cy="27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Дикие животные worksheet"/>
          <p:cNvPicPr/>
          <p:nvPr/>
        </p:nvPicPr>
        <p:blipFill>
          <a:blip r:embed="rId5"/>
          <a:stretch/>
        </p:blipFill>
        <p:spPr>
          <a:xfrm>
            <a:off x="3348000" y="3429000"/>
            <a:ext cx="251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умленные изображения, перекры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Картинки по запросу посуда развивающие задания"/>
          <p:cNvPicPr/>
          <p:nvPr/>
        </p:nvPicPr>
        <p:blipFill>
          <a:blip r:embed="rId1"/>
          <a:stretch/>
        </p:blipFill>
        <p:spPr>
          <a:xfrm>
            <a:off x="684360" y="1125360"/>
            <a:ext cx="3743280" cy="30132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http://detskij-dvorik.ru/images/stories/raskraski/logicheskie/logika03.jpg"/>
          <p:cNvPicPr/>
          <p:nvPr/>
        </p:nvPicPr>
        <p:blipFill>
          <a:blip r:embed="rId2"/>
          <a:stretch/>
        </p:blipFill>
        <p:spPr>
          <a:xfrm>
            <a:off x="4716360" y="1125360"/>
            <a:ext cx="3168720" cy="2968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http://www.iz-bumagi-svoimi-rukami.ru/wp-content/uploads/2016/04/Raskraski-zhivotnyh-18-1024x430.jpg"/>
          <p:cNvPicPr/>
          <p:nvPr/>
        </p:nvPicPr>
        <p:blipFill>
          <a:blip r:embed="rId3"/>
          <a:stretch/>
        </p:blipFill>
        <p:spPr>
          <a:xfrm>
            <a:off x="2268360" y="4437000"/>
            <a:ext cx="4194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 и аудио и видеоматериалы из интерн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 созданные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ительные электронные гимна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диагно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ппаратная подгот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im4-tub-ru.yandex.net/i?id=233078531-58-72&amp;n=21"/>
          <p:cNvPicPr/>
          <p:nvPr/>
        </p:nvPicPr>
        <p:blipFill>
          <a:blip r:embed="rId1"/>
          <a:stretch/>
        </p:blipFill>
        <p:spPr>
          <a:xfrm>
            <a:off x="7643880" y="2643120"/>
            <a:ext cx="1133280" cy="142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4-tub-ru.yandex.net/i?id=233078531-58-72&amp;n=21"/>
          <p:cNvPicPr/>
          <p:nvPr/>
        </p:nvPicPr>
        <p:blipFill>
          <a:blip r:embed="rId2"/>
          <a:stretch/>
        </p:blipFill>
        <p:spPr>
          <a:xfrm>
            <a:off x="7740720" y="5084640"/>
            <a:ext cx="113328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im4-tub-ru.yandex.net/i?id=233078531-58-72&amp;n=21"/>
          <p:cNvPicPr/>
          <p:nvPr/>
        </p:nvPicPr>
        <p:blipFill>
          <a:blip r:embed="rId3"/>
          <a:stretch/>
        </p:blipFill>
        <p:spPr>
          <a:xfrm>
            <a:off x="7643880" y="428760"/>
            <a:ext cx="1133280" cy="1428480"/>
          </a:xfrm>
          <a:prstGeom prst="rect">
            <a:avLst/>
          </a:prstGeom>
          <a:ln w="0">
            <a:noFill/>
          </a:ln>
        </p:spPr>
      </p:pic>
      <p:sp>
        <p:nvSpPr>
          <p:cNvPr id="76" name="Овал 10"/>
          <p:cNvSpPr/>
          <p:nvPr/>
        </p:nvSpPr>
        <p:spPr>
          <a:xfrm>
            <a:off x="642960" y="57168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1"/>
          <p:cNvSpPr/>
          <p:nvPr/>
        </p:nvSpPr>
        <p:spPr>
          <a:xfrm>
            <a:off x="1000080" y="857160"/>
            <a:ext cx="357120" cy="357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2"/>
          <p:cNvSpPr/>
          <p:nvPr/>
        </p:nvSpPr>
        <p:spPr>
          <a:xfrm>
            <a:off x="571680" y="1000080"/>
            <a:ext cx="35712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14"/>
          <p:cNvSpPr/>
          <p:nvPr/>
        </p:nvSpPr>
        <p:spPr>
          <a:xfrm>
            <a:off x="571680" y="3000240"/>
            <a:ext cx="428400" cy="357480"/>
          </a:xfrm>
          <a:prstGeom prst="triangle">
            <a:avLst>
              <a:gd name="adj" fmla="val 47398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6"/>
          <p:cNvSpPr/>
          <p:nvPr/>
        </p:nvSpPr>
        <p:spPr>
          <a:xfrm>
            <a:off x="571680" y="5429160"/>
            <a:ext cx="357120" cy="35712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7"/>
          <p:cNvSpPr/>
          <p:nvPr/>
        </p:nvSpPr>
        <p:spPr>
          <a:xfrm>
            <a:off x="571680" y="6215040"/>
            <a:ext cx="35712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8"/>
          <p:cNvSpPr/>
          <p:nvPr/>
        </p:nvSpPr>
        <p:spPr>
          <a:xfrm>
            <a:off x="1143000" y="5857920"/>
            <a:ext cx="357120" cy="3571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внобедренный треугольник 19"/>
          <p:cNvSpPr/>
          <p:nvPr/>
        </p:nvSpPr>
        <p:spPr>
          <a:xfrm>
            <a:off x="1071720" y="3286080"/>
            <a:ext cx="428400" cy="357120"/>
          </a:xfrm>
          <a:prstGeom prst="triangle">
            <a:avLst>
              <a:gd name="adj" fmla="val 47398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внобедренный треугольник 20"/>
          <p:cNvSpPr/>
          <p:nvPr/>
        </p:nvSpPr>
        <p:spPr>
          <a:xfrm>
            <a:off x="571680" y="3571920"/>
            <a:ext cx="428400" cy="357120"/>
          </a:xfrm>
          <a:prstGeom prst="triangle">
            <a:avLst>
              <a:gd name="adj" fmla="val 4739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78073 -0.00787 E">
                                      <p:cBhvr>
                                        <p:cTn id="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0.82691 -4.07407E-006 E">
                                      <p:cBhvr>
                                        <p:cTn id="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804 -0.04977 E">
                                      <p:cBhvr>
                                        <p:cTn id="1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7 -0.02083 L 0.78178 -0.04699 E">
                                      <p:cBhvr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4.07407E-006 L 0.83142 -0.03704 E">
                                      <p:cBhvr>
                                        <p:cTn id="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40741E-007 L 0.80781 -0.09931 E">
                                      <p:cBhvr>
                                        <p:cTn id="2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78872 -0.05463 E">
                                      <p:cBhvr>
                                        <p:cTn id="2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83542 -0.01319 E">
                                      <p:cBhvr>
                                        <p:cTn id="2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44444E-006 L 0.81111 -0.1051 E">
                                      <p:cBhvr>
                                        <p:cTn id="3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Овал 5"/>
          <p:cNvSpPr/>
          <p:nvPr/>
        </p:nvSpPr>
        <p:spPr>
          <a:xfrm>
            <a:off x="357120" y="42876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6"/>
          <p:cNvSpPr/>
          <p:nvPr/>
        </p:nvSpPr>
        <p:spPr>
          <a:xfrm>
            <a:off x="2571840" y="35712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7"/>
          <p:cNvSpPr/>
          <p:nvPr/>
        </p:nvSpPr>
        <p:spPr>
          <a:xfrm>
            <a:off x="4857840" y="28584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8"/>
          <p:cNvSpPr/>
          <p:nvPr/>
        </p:nvSpPr>
        <p:spPr>
          <a:xfrm>
            <a:off x="357120" y="257184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9"/>
          <p:cNvSpPr/>
          <p:nvPr/>
        </p:nvSpPr>
        <p:spPr>
          <a:xfrm>
            <a:off x="428760" y="4786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10"/>
          <p:cNvSpPr/>
          <p:nvPr/>
        </p:nvSpPr>
        <p:spPr>
          <a:xfrm>
            <a:off x="7072200" y="35712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1"/>
          <p:cNvSpPr/>
          <p:nvPr/>
        </p:nvSpPr>
        <p:spPr>
          <a:xfrm>
            <a:off x="2714760" y="4786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3"/>
          <p:cNvSpPr/>
          <p:nvPr/>
        </p:nvSpPr>
        <p:spPr>
          <a:xfrm>
            <a:off x="2643120" y="264312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4"/>
          <p:cNvSpPr/>
          <p:nvPr/>
        </p:nvSpPr>
        <p:spPr>
          <a:xfrm>
            <a:off x="5143680" y="4786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5"/>
          <p:cNvSpPr/>
          <p:nvPr/>
        </p:nvSpPr>
        <p:spPr>
          <a:xfrm>
            <a:off x="4857840" y="2500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6"/>
          <p:cNvSpPr/>
          <p:nvPr/>
        </p:nvSpPr>
        <p:spPr>
          <a:xfrm>
            <a:off x="7072200" y="2500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7"/>
          <p:cNvSpPr/>
          <p:nvPr/>
        </p:nvSpPr>
        <p:spPr>
          <a:xfrm>
            <a:off x="7215120" y="4786200"/>
            <a:ext cx="1643040" cy="15573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37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" dur="1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2" dur="1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3" dur="1500" autoRev="1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7" dur="1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8" dur="1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3" dur="1500" autoRev="1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5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000"/>
                            </p:stCondLst>
                            <p:childTnLst>
                              <p:par>
                                <p:cTn id="60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62" dur="1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3" dur="1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2000"/>
                            </p:stCondLst>
                            <p:childTnLst>
                              <p:par>
                                <p:cTn id="65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67" dur="1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68" dur="150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7000"/>
                            </p:stCondLst>
                            <p:childTnLst>
                              <p:par>
                                <p:cTn id="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72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73" dur="1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0"/>
                            </p:stCondLst>
                            <p:childTnLst>
                              <p:par>
                                <p:cTn id="75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50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7" dur="150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150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9000"/>
                            </p:stCondLst>
                            <p:childTnLst>
                              <p:par>
                                <p:cTn id="80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1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82" dur="1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3" dur="1500" autoRev="1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4000"/>
                            </p:stCondLst>
                            <p:childTnLst>
                              <p:par>
                                <p:cTn id="85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87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" dur="150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0"/>
                            </p:stCondLst>
                            <p:childTnLst>
                              <p:par>
                                <p:cTn id="90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92" dur="1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3" dur="1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im0-tub-ru.yandex.net/i?id=303315829-61-72&amp;n=21"/>
          <p:cNvPicPr/>
          <p:nvPr/>
        </p:nvPicPr>
        <p:blipFill>
          <a:blip r:embed="rId1"/>
          <a:stretch/>
        </p:blipFill>
        <p:spPr>
          <a:xfrm>
            <a:off x="6357960" y="285840"/>
            <a:ext cx="262872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im3-tub-ru.yandex.net/i?id=246271698-10-72&amp;n=21"/>
          <p:cNvPicPr/>
          <p:nvPr/>
        </p:nvPicPr>
        <p:blipFill>
          <a:blip r:embed="rId2"/>
          <a:stretch/>
        </p:blipFill>
        <p:spPr>
          <a:xfrm>
            <a:off x="214200" y="5429160"/>
            <a:ext cx="185760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m3-tub-ru.yandex.net/i?id=246271698-10-72&amp;n=21"/>
          <p:cNvPicPr/>
          <p:nvPr/>
        </p:nvPicPr>
        <p:blipFill>
          <a:blip r:embed="rId3"/>
          <a:stretch/>
        </p:blipFill>
        <p:spPr>
          <a:xfrm>
            <a:off x="7143840" y="5429160"/>
            <a:ext cx="185724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im2-tub-ru.yandex.net/i?id=321781800-28-72&amp;n=21"/>
          <p:cNvPicPr/>
          <p:nvPr/>
        </p:nvPicPr>
        <p:blipFill>
          <a:blip r:embed="rId4"/>
          <a:stretch/>
        </p:blipFill>
        <p:spPr>
          <a:xfrm>
            <a:off x="0" y="285840"/>
            <a:ext cx="3214800" cy="2000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0-tub-ru.yandex.net/i?id=849861490-30-72&amp;n=21"/>
          <p:cNvPicPr/>
          <p:nvPr/>
        </p:nvPicPr>
        <p:blipFill>
          <a:blip r:embed="rId5"/>
          <a:stretch/>
        </p:blipFill>
        <p:spPr>
          <a:xfrm>
            <a:off x="3625920" y="2725560"/>
            <a:ext cx="2286000" cy="1428840"/>
          </a:xfrm>
          <a:prstGeom prst="rect">
            <a:avLst/>
          </a:prstGeom>
          <a:ln w="0">
            <a:noFill/>
          </a:ln>
        </p:spPr>
      </p:pic>
      <p:sp>
        <p:nvSpPr>
          <p:cNvPr id="102" name="Овал 6"/>
          <p:cNvSpPr/>
          <p:nvPr/>
        </p:nvSpPr>
        <p:spPr>
          <a:xfrm>
            <a:off x="4286160" y="6215040"/>
            <a:ext cx="500040" cy="4287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01163 -0.50417 E">
                                      <p:cBhvr>
                                        <p:cTn id="9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35434 -0.80602 E">
                                      <p:cBhvr>
                                        <p:cTn id="10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347 L -0.24792 -0.78403 E">
                                      <p:cBhvr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-0.28941 -2.22222E-006 E">
                                      <p:cBhvr>
                                        <p:cTn id="10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L 0.3033 0.00347 E">
                                      <p:cBhvr>
                                        <p:cTn id="11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0.7 C 0.15225 -0.7 0.2717 -0.54537 0.2717 -0.35509 C 0.2717 -0.16481 0.15225 -0.00995 0.00712 -0.00995 C -0.1382 -0.00995 -0.25591 -0.16481 -0.25591 -0.35509 C -0.25591 -0.54537 -0.1382 -0.7 0.00712 -0.7 Z">
                                      <p:cBhvr>
                                        <p:cTn id="11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0.7 C 0.15174 -0.7 0.26962 -0.54537 0.26962 -0.35486 C 0.26962 -0.16458 0.15174 -0.00972 0.00712 -0.00972 C -0.13733 -0.00972 -0.25469 -0.16458 -0.25469 -0.35486 C -0.25469 -0.54537 -0.13733 -0.7 0.00712 -0.7 Z">
                                      <p:cBhvr>
                                        <p:cTn id="11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Цилиндр 12"/>
          <p:cNvSpPr/>
          <p:nvPr/>
        </p:nvSpPr>
        <p:spPr>
          <a:xfrm>
            <a:off x="1476360" y="4076640"/>
            <a:ext cx="914400" cy="2016360"/>
          </a:xfrm>
          <a:prstGeom prst="can">
            <a:avLst>
              <a:gd name="adj" fmla="val 11337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лако 8"/>
          <p:cNvSpPr/>
          <p:nvPr/>
        </p:nvSpPr>
        <p:spPr>
          <a:xfrm>
            <a:off x="5508720" y="333360"/>
            <a:ext cx="3166920" cy="1130400"/>
          </a:xfrm>
          <a:custGeom>
            <a:avLst/>
            <a:gdLst>
              <a:gd name="textAreaLeft" fmla="*/ 436320 w 3166920"/>
              <a:gd name="textAreaRight" fmla="*/ 2505240 w 3166920"/>
              <a:gd name="textAreaTop" fmla="*/ 170640 h 1130400"/>
              <a:gd name="textAreaBottom" fmla="*/ 907560 h 1130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блако 9"/>
          <p:cNvSpPr/>
          <p:nvPr/>
        </p:nvSpPr>
        <p:spPr>
          <a:xfrm>
            <a:off x="2556000" y="404640"/>
            <a:ext cx="2087280" cy="625680"/>
          </a:xfrm>
          <a:custGeom>
            <a:avLst/>
            <a:gdLst>
              <a:gd name="textAreaLeft" fmla="*/ 287640 w 2087280"/>
              <a:gd name="textAreaRight" fmla="*/ 1651320 w 2087280"/>
              <a:gd name="textAreaTop" fmla="*/ 94320 h 625680"/>
              <a:gd name="textAreaBottom" fmla="*/ 502200 h 625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лнце 10"/>
          <p:cNvSpPr/>
          <p:nvPr/>
        </p:nvSpPr>
        <p:spPr>
          <a:xfrm>
            <a:off x="0" y="0"/>
            <a:ext cx="2195640" cy="206064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sveta451\Рабочий стол\images.jpg"/>
          <p:cNvPicPr/>
          <p:nvPr/>
        </p:nvPicPr>
        <p:blipFill>
          <a:blip r:embed="rId1"/>
          <a:stretch/>
        </p:blipFill>
        <p:spPr>
          <a:xfrm>
            <a:off x="-6480" y="5078520"/>
            <a:ext cx="9156960" cy="178596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цып.jpg"/>
          <p:cNvPicPr/>
          <p:nvPr/>
        </p:nvPicPr>
        <p:blipFill>
          <a:blip r:embed="rId2"/>
          <a:stretch/>
        </p:blipFill>
        <p:spPr>
          <a:xfrm>
            <a:off x="3340080" y="1981080"/>
            <a:ext cx="3378240" cy="4542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img0.liveinternet.ru/images/attach/c/11/116/113/116113692_cuyplyonok1.jpg"/>
          <p:cNvPicPr/>
          <p:nvPr/>
        </p:nvPicPr>
        <p:blipFill>
          <a:blip r:embed="rId3"/>
          <a:stretch/>
        </p:blipFill>
        <p:spPr>
          <a:xfrm>
            <a:off x="3348000" y="2060640"/>
            <a:ext cx="3240000" cy="436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sveta451\Рабочий стол\images.jpg"/>
          <p:cNvPicPr/>
          <p:nvPr/>
        </p:nvPicPr>
        <p:blipFill>
          <a:blip r:embed="rId4"/>
          <a:stretch/>
        </p:blipFill>
        <p:spPr>
          <a:xfrm>
            <a:off x="-6480" y="5205240"/>
            <a:ext cx="9156960" cy="16592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1"/>
          <p:cNvSpPr/>
          <p:nvPr/>
        </p:nvSpPr>
        <p:spPr>
          <a:xfrm>
            <a:off x="2289960" y="0"/>
            <a:ext cx="61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есение цвета с реальным объектом. Что на картинке неправильно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лако 13"/>
          <p:cNvSpPr/>
          <p:nvPr/>
        </p:nvSpPr>
        <p:spPr>
          <a:xfrm>
            <a:off x="684360" y="1989000"/>
            <a:ext cx="2663640" cy="2425680"/>
          </a:xfrm>
          <a:custGeom>
            <a:avLst/>
            <a:gdLst>
              <a:gd name="textAreaLeft" fmla="*/ 366840 w 2663640"/>
              <a:gd name="textAreaRight" fmla="*/ 2107080 w 2663640"/>
              <a:gd name="textAreaTop" fmla="*/ 366120 h 2425680"/>
              <a:gd name="textAreaBottom" fmla="*/ 1946880 h 242568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90d"/>
                                      </p:to>
                                    </p:animClr>
                                    <p:set>
                                      <p:cBhvr>
                                        <p:cTn id="12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83a26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mistergid.ru/image/upload/2011-08-07/330026694634_26-apr.-26-21.49.gif"/>
          <p:cNvPicPr/>
          <p:nvPr/>
        </p:nvPicPr>
        <p:blipFill>
          <a:blip r:embed="rId1"/>
          <a:stretch/>
        </p:blipFill>
        <p:spPr>
          <a:xfrm>
            <a:off x="0" y="0"/>
            <a:ext cx="4346640" cy="357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Picture 4" descr="http://mistergid.ru/image/upload/2011-08-07/330026694634_26-apr.-26-21.49.gif"/>
          <p:cNvPicPr/>
          <p:nvPr/>
        </p:nvPicPr>
        <p:blipFill>
          <a:blip r:embed="rId2"/>
          <a:stretch/>
        </p:blipFill>
        <p:spPr>
          <a:xfrm>
            <a:off x="4362480" y="2928960"/>
            <a:ext cx="4781520" cy="392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5" name="кошка2" descr="http://kawaii.kawaii.at/img/red-Lucky-Cat-eraser-Maneki-Neko-from-Japan-162665-1.jpg"/>
          <p:cNvPicPr/>
          <p:nvPr/>
        </p:nvPicPr>
        <p:blipFill>
          <a:blip r:embed="rId3"/>
          <a:stretch/>
        </p:blipFill>
        <p:spPr>
          <a:xfrm>
            <a:off x="3714840" y="214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6" name="кошка1" descr="http://kawaii.kawaii.at/img/red-Lucky-Cat-eraser-Maneki-Neko-from-Japan-162665-1.jpg"/>
          <p:cNvPicPr/>
          <p:nvPr/>
        </p:nvPicPr>
        <p:blipFill>
          <a:blip r:embed="rId4"/>
          <a:stretch/>
        </p:blipFill>
        <p:spPr>
          <a:xfrm>
            <a:off x="8429760" y="32148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7" name="бант 1" descr="http://img-fotki.yandex.ru/get/5605/persiyanovanina.2/0_5b45b_9c265d43_M.jpg"/>
          <p:cNvPicPr/>
          <p:nvPr/>
        </p:nvPicPr>
        <p:blipFill>
          <a:blip r:embed="rId5"/>
          <a:stretch/>
        </p:blipFill>
        <p:spPr>
          <a:xfrm rot="2112000">
            <a:off x="1000080" y="713880"/>
            <a:ext cx="401760" cy="338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stilnaya.com/ru/components/com_virtuemart/shop_image/product/B908.jpg"/>
          <p:cNvPicPr/>
          <p:nvPr/>
        </p:nvPicPr>
        <p:blipFill>
          <a:blip r:embed="rId6"/>
          <a:stretch/>
        </p:blipFill>
        <p:spPr>
          <a:xfrm rot="4756800">
            <a:off x="5403600" y="361800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img-fotki.yandex.ru/get/5605/persiyanovanina.2/0_5b45b_9c265d43_M.jpg"/>
          <p:cNvPicPr/>
          <p:nvPr/>
        </p:nvPicPr>
        <p:blipFill>
          <a:blip r:embed="rId7"/>
          <a:stretch/>
        </p:blipFill>
        <p:spPr>
          <a:xfrm rot="2112000">
            <a:off x="5489280" y="3727440"/>
            <a:ext cx="401400" cy="338040"/>
          </a:xfrm>
          <a:prstGeom prst="rect">
            <a:avLst/>
          </a:prstGeom>
          <a:ln w="0">
            <a:noFill/>
          </a:ln>
        </p:spPr>
      </p:pic>
      <p:pic>
        <p:nvPicPr>
          <p:cNvPr id="120" name="мяч1" descr="C:\Users\User\Desktop\игрушки\images.jpg"/>
          <p:cNvPicPr/>
          <p:nvPr/>
        </p:nvPicPr>
        <p:blipFill>
          <a:blip r:embed="rId8"/>
          <a:stretch/>
        </p:blipFill>
        <p:spPr>
          <a:xfrm>
            <a:off x="3214800" y="26431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C:\Users\User\Desktop\игрушки\images.jpg"/>
          <p:cNvPicPr/>
          <p:nvPr/>
        </p:nvPicPr>
        <p:blipFill>
          <a:blip r:embed="rId9"/>
          <a:stretch/>
        </p:blipFill>
        <p:spPr>
          <a:xfrm>
            <a:off x="4357800" y="635796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C:\Users\User\Desktop\игрушки\images.jpg"/>
          <p:cNvPicPr/>
          <p:nvPr/>
        </p:nvPicPr>
        <p:blipFill>
          <a:blip r:embed="rId10"/>
          <a:stretch/>
        </p:blipFill>
        <p:spPr>
          <a:xfrm>
            <a:off x="7929720" y="58579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123" name="цветок 1" descr="http://www.homeplants.narod.ru/Pic/G1p7.jpg"/>
          <p:cNvPicPr/>
          <p:nvPr/>
        </p:nvPicPr>
        <p:blipFill>
          <a:blip r:embed="rId11"/>
          <a:stretch/>
        </p:blipFill>
        <p:spPr>
          <a:xfrm>
            <a:off x="357120" y="0"/>
            <a:ext cx="642960" cy="985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homeplants.narod.ru/Pic/G1p7.jpg"/>
          <p:cNvPicPr/>
          <p:nvPr/>
        </p:nvPicPr>
        <p:blipFill>
          <a:blip r:embed="rId12"/>
          <a:stretch/>
        </p:blipFill>
        <p:spPr>
          <a:xfrm>
            <a:off x="4786200" y="2928960"/>
            <a:ext cx="642960" cy="985680"/>
          </a:xfrm>
          <a:prstGeom prst="rect">
            <a:avLst/>
          </a:prstGeom>
          <a:ln w="0">
            <a:noFill/>
          </a:ln>
        </p:spPr>
      </p:pic>
      <p:pic>
        <p:nvPicPr>
          <p:cNvPr id="125" name="шляпа1" descr="http://retina.news.mail.ru/prev670x400/pic/b1/c1/1204848_450_600_source.jpg"/>
          <p:cNvPicPr/>
          <p:nvPr/>
        </p:nvPicPr>
        <p:blipFill>
          <a:blip r:embed="rId13"/>
          <a:stretch/>
        </p:blipFill>
        <p:spPr>
          <a:xfrm rot="1731600">
            <a:off x="1593720" y="2400480"/>
            <a:ext cx="613080" cy="544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http://retina.news.mail.ru/prev670x400/pic/b1/c1/1204848_450_600_source.jpg"/>
          <p:cNvPicPr/>
          <p:nvPr/>
        </p:nvPicPr>
        <p:blipFill>
          <a:blip r:embed="rId14"/>
          <a:stretch/>
        </p:blipFill>
        <p:spPr>
          <a:xfrm rot="1731600">
            <a:off x="6165720" y="5614920"/>
            <a:ext cx="613080" cy="544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http://storedecor.com.ua/published/publicdata/STOREDECOR/attachments/SC/products_pictures/51_009_449.jpg"/>
          <p:cNvPicPr/>
          <p:nvPr/>
        </p:nvPicPr>
        <p:blipFill>
          <a:blip r:embed="rId15"/>
          <a:stretch/>
        </p:blipFill>
        <p:spPr>
          <a:xfrm>
            <a:off x="8143920" y="500076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128" name="чашка1" descr="http://storedecor.com.ua/published/publicdata/STOREDECOR/attachments/SC/products_pictures/51_009_449.jpg"/>
          <p:cNvPicPr/>
          <p:nvPr/>
        </p:nvPicPr>
        <p:blipFill>
          <a:blip r:embed="rId16"/>
          <a:stretch/>
        </p:blipFill>
        <p:spPr>
          <a:xfrm>
            <a:off x="3357720" y="18572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129" name="бабочка1" descr="http://exclusivepodarok.ru/products_pictures/Pink_Morpho_enl.png"/>
          <p:cNvPicPr/>
          <p:nvPr/>
        </p:nvPicPr>
        <p:blipFill>
          <a:blip r:embed="rId17"/>
          <a:stretch/>
        </p:blipFill>
        <p:spPr>
          <a:xfrm rot="3219000">
            <a:off x="2499840" y="285840"/>
            <a:ext cx="428400" cy="343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http://exclusivepodarok.ru/products_pictures/Pink_Morpho_enl.png"/>
          <p:cNvPicPr/>
          <p:nvPr/>
        </p:nvPicPr>
        <p:blipFill>
          <a:blip r:embed="rId18"/>
          <a:stretch/>
        </p:blipFill>
        <p:spPr>
          <a:xfrm rot="3219000">
            <a:off x="7695000" y="3245400"/>
            <a:ext cx="428400" cy="34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http://exclusivepodarok.ru/products_pictures/Pink_Morpho_enl.png"/>
          <p:cNvPicPr/>
          <p:nvPr/>
        </p:nvPicPr>
        <p:blipFill>
          <a:blip r:embed="rId19"/>
          <a:stretch/>
        </p:blipFill>
        <p:spPr>
          <a:xfrm rot="3219000">
            <a:off x="7123320" y="3245400"/>
            <a:ext cx="428400" cy="344520"/>
          </a:xfrm>
          <a:prstGeom prst="rect">
            <a:avLst/>
          </a:prstGeom>
          <a:ln w="0">
            <a:noFill/>
          </a:ln>
        </p:spPr>
      </p:pic>
      <p:pic>
        <p:nvPicPr>
          <p:cNvPr id="132" name="кукла1" descr="http://allbz.ru/wp-content/uploads/2013/03/kukla-300x300.jpg"/>
          <p:cNvPicPr/>
          <p:nvPr/>
        </p:nvPicPr>
        <p:blipFill>
          <a:blip r:embed="rId20"/>
          <a:stretch/>
        </p:blipFill>
        <p:spPr>
          <a:xfrm>
            <a:off x="2357280" y="1000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http://allbz.ru/wp-content/uploads/2013/03/kukla-300x300.jpg"/>
          <p:cNvPicPr/>
          <p:nvPr/>
        </p:nvPicPr>
        <p:blipFill>
          <a:blip r:embed="rId21"/>
          <a:stretch/>
        </p:blipFill>
        <p:spPr>
          <a:xfrm>
            <a:off x="8572680" y="31431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34" name="кукла" descr="http://allbz.ru/wp-content/uploads/2013/03/kukla-300x300.jpg"/>
          <p:cNvPicPr/>
          <p:nvPr/>
        </p:nvPicPr>
        <p:blipFill>
          <a:blip r:embed="rId22"/>
          <a:stretch/>
        </p:blipFill>
        <p:spPr>
          <a:xfrm>
            <a:off x="7072200" y="40006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http://www.dekoli.ru/images/data/cat/5_big_1211291723.jpg"/>
          <p:cNvPicPr/>
          <p:nvPr/>
        </p:nvPicPr>
        <p:blipFill>
          <a:blip r:embed="rId23"/>
          <a:stretch/>
        </p:blipFill>
        <p:spPr>
          <a:xfrm>
            <a:off x="8072280" y="5000760"/>
            <a:ext cx="500400" cy="5000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3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табурет 1" descr="http://otdohnite.su/img/12fe72a7014d034354b2ed5793607cad.jpg"/>
          <p:cNvPicPr/>
          <p:nvPr/>
        </p:nvPicPr>
        <p:blipFill>
          <a:blip r:embed="rId24"/>
          <a:stretch/>
        </p:blipFill>
        <p:spPr>
          <a:xfrm>
            <a:off x="1714680" y="1785960"/>
            <a:ext cx="591840" cy="642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6" descr="http://cs605822.vk.me/v605822227/7f1/5MyNkvlBO1s.jpg"/>
          <p:cNvPicPr/>
          <p:nvPr/>
        </p:nvPicPr>
        <p:blipFill>
          <a:blip r:embed="rId25"/>
          <a:stretch/>
        </p:blipFill>
        <p:spPr>
          <a:xfrm>
            <a:off x="6286680" y="48578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4" descr="http://otdohnite.su/img/12fe72a7014d034354b2ed5793607cad.jpg"/>
          <p:cNvPicPr/>
          <p:nvPr/>
        </p:nvPicPr>
        <p:blipFill>
          <a:blip r:embed="rId26"/>
          <a:stretch/>
        </p:blipFill>
        <p:spPr>
          <a:xfrm>
            <a:off x="6286680" y="5000760"/>
            <a:ext cx="591840" cy="642960"/>
          </a:xfrm>
          <a:prstGeom prst="rect">
            <a:avLst/>
          </a:prstGeom>
          <a:ln w="0">
            <a:noFill/>
          </a:ln>
        </p:spPr>
      </p:pic>
      <p:pic>
        <p:nvPicPr>
          <p:cNvPr id="146" name="навклейка" descr="http://www.sticker-planet.ru/d/92553/d/1687599_5.jpg"/>
          <p:cNvPicPr/>
          <p:nvPr/>
        </p:nvPicPr>
        <p:blipFill>
          <a:blip r:embed="rId27"/>
          <a:stretch/>
        </p:blipFill>
        <p:spPr>
          <a:xfrm>
            <a:off x="3500280" y="642960"/>
            <a:ext cx="301680" cy="3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0" descr="http://www.sticker-planet.ru/d/92553/d/1687599_5.jpg"/>
          <p:cNvPicPr/>
          <p:nvPr/>
        </p:nvPicPr>
        <p:blipFill>
          <a:blip r:embed="rId28"/>
          <a:stretch/>
        </p:blipFill>
        <p:spPr>
          <a:xfrm>
            <a:off x="8215200" y="3643200"/>
            <a:ext cx="301680" cy="3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оугольник 8"/>
          <p:cNvGrpSpPr/>
          <p:nvPr/>
        </p:nvGrpSpPr>
        <p:grpSpPr>
          <a:xfrm>
            <a:off x="268200" y="195120"/>
            <a:ext cx="8601120" cy="843120"/>
            <a:chOff x="268200" y="195120"/>
            <a:chExt cx="8601120" cy="843120"/>
          </a:xfrm>
        </p:grpSpPr>
        <p:pic>
          <p:nvPicPr>
            <p:cNvPr id="149" name="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268200" y="195120"/>
              <a:ext cx="8601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85840" y="214200"/>
              <a:ext cx="857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ормирование  навыка  совмещения  двух  изображений  в  единый четко опознаваемый зрительный обра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рямоугольник 3"/>
          <p:cNvSpPr/>
          <p:nvPr/>
        </p:nvSpPr>
        <p:spPr>
          <a:xfrm>
            <a:off x="357120" y="928800"/>
            <a:ext cx="85010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28760" y="2714760"/>
          <a:ext cx="8358120" cy="385740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2" descr=""/>
          <p:cNvPicPr/>
          <p:nvPr/>
        </p:nvPicPr>
        <p:blipFill>
          <a:blip r:embed="rId2">
            <a:alphaModFix amt="2000"/>
          </a:blip>
          <a:stretch/>
        </p:blipFill>
        <p:spPr>
          <a:xfrm>
            <a:off x="1071720" y="2786040"/>
            <a:ext cx="1484280" cy="117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4071960" y="2928960"/>
            <a:ext cx="1152360" cy="895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4"/>
          <a:srcRect l="3937" t="7315" r="3937" b="4877"/>
          <a:stretch/>
        </p:blipFill>
        <p:spPr>
          <a:xfrm>
            <a:off x="1031760" y="4037040"/>
            <a:ext cx="1524240" cy="117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4356000" y="4292640"/>
            <a:ext cx="814320" cy="78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6"/>
          <a:stretch/>
        </p:blipFill>
        <p:spPr>
          <a:xfrm>
            <a:off x="928800" y="5535720"/>
            <a:ext cx="1500120" cy="100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2" descr=""/>
          <p:cNvPicPr/>
          <p:nvPr/>
        </p:nvPicPr>
        <p:blipFill>
          <a:blip r:embed="rId7"/>
          <a:stretch/>
        </p:blipFill>
        <p:spPr>
          <a:xfrm>
            <a:off x="4357800" y="5643720"/>
            <a:ext cx="752400" cy="714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Users\Sveta\Desktop\фото с занятий 2014-16\IMG_20161128_123425.jpg"/>
          <p:cNvPicPr/>
          <p:nvPr/>
        </p:nvPicPr>
        <p:blipFill>
          <a:blip r:embed="rId8"/>
          <a:stretch/>
        </p:blipFill>
        <p:spPr>
          <a:xfrm>
            <a:off x="6732720" y="5373720"/>
            <a:ext cx="1535040" cy="115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0" name="Picture 9" descr="C:\Users\Sveta\Desktop\фото с занятий 2014-16\IMG_20161128_123536.jpg"/>
          <p:cNvPicPr/>
          <p:nvPr/>
        </p:nvPicPr>
        <p:blipFill>
          <a:blip r:embed="rId9"/>
          <a:stretch/>
        </p:blipFill>
        <p:spPr>
          <a:xfrm>
            <a:off x="6443640" y="2781360"/>
            <a:ext cx="1981080" cy="107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9" descr="C:\Users\Sveta\Desktop\фото с занятий 2014-16\IMG_20161128_123536.jpg"/>
          <p:cNvPicPr/>
          <p:nvPr/>
        </p:nvPicPr>
        <p:blipFill>
          <a:blip r:embed="rId10"/>
          <a:stretch/>
        </p:blipFill>
        <p:spPr>
          <a:xfrm>
            <a:off x="6443640" y="4149720"/>
            <a:ext cx="1981080" cy="107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34783E-007 L -0.31302 -4.34783E-007 E">
                                      <p:cBhvr>
                                        <p:cTn id="21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3108E-006 L -0.32118 -0.00416 E">
                                      <p:cBhvr>
                                        <p:cTn id="21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64292E-007 L -0.33264 0.00301 E">
                                      <p:cBhvr>
                                        <p:cTn id="219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952720" cy="453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 rot="21370800">
            <a:off x="5586480" y="1574640"/>
            <a:ext cx="2879640" cy="46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99815E-006 L 0.26094 0.00185 E">
                                      <p:cBhvr>
                                        <p:cTn id="22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34135E-006 L -0.33142 -0.00301 E">
                                      <p:cBhvr>
                                        <p:cTn id="22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0" i="1" lang="ru-RU" sz="27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недрение новых информационных технологий в образовательный процесс отражается на реализации принципа наглядност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истемы мультимедиа в обучении и воспитании учащихся с нарушением зрения предоставляет широчайшие возможности в реализации образовательных задач за счет одновременного использования нескольких сред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ьютерной график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имации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ео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вукового сопровожд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уровня знаний об окружающ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проекта на педсов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лась мотивац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лся диапазон получаемой информа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тились знания об окружающе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дальнейшей реализации данного проекта и создания тифлоинформационного пространства, а также с целью компенсации пониженной способности зрительного восприятия слабовидящих, необходимо дооснастить кабинеты современным мультимедийным оборудованием: компьютерное обеспечение, интерактивная доска и пр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формационно-цифрового комплекса демонстрационного материала в соответствии с календарно-тематическим планирова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ть цифровую картотеку дидактического демонстрационного и раздаточного материала: презентации, картины, карточки с заданиями, раскраски, лабиринты, дорожки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истематизировать подобранный и адаптированный материал в соответствии с лексическими тем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астично внедрять  и апробировать мультимедийную наглядность в коррекционно-педагогический процес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, углубление и уточнение  знаний детей о предметах и явлениях оружающего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к коррекцион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</a:t>
            </a: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-декабр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требований и возможностей по использованию мультимедиа в ДОУ Знакомство с опытом коллег по данной теме в информационном пространств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на педсовете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идактические возможности мультимедиа в обучении детей дошкольного возраста (Самокрутова С.С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ебования к использованию мультимедиа в ДОУ (Киселева Т.В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</a:t>
            </a:r>
            <a:br>
              <a:rPr sz="4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ь-апрель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имеющихся материалов по данной теме в интернет-простран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я их к использованию  детьми с нарушением з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по лексическим тем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е внедрение и апробация в коррекционно-образовательный проц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сюжетных изображ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http://www.playing-field.ru/img/2015/052012/0434882"/>
          <p:cNvPicPr/>
          <p:nvPr/>
        </p:nvPicPr>
        <p:blipFill>
          <a:blip r:embed="rId1"/>
          <a:stretch/>
        </p:blipFill>
        <p:spPr>
          <a:xfrm>
            <a:off x="2050920" y="1628640"/>
            <a:ext cx="469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спрятанных изображений в условиях затрудненного воспри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http://www.alegri.ru/images/photos/29fba31846548f4c0f7196f88db74d04.jpg"/>
          <p:cNvPicPr/>
          <p:nvPr/>
        </p:nvPicPr>
        <p:blipFill>
          <a:blip r:embed="rId1"/>
          <a:stretch/>
        </p:blipFill>
        <p:spPr>
          <a:xfrm>
            <a:off x="0" y="1484280"/>
            <a:ext cx="3132000" cy="4454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Урок по естествознанию 1 класс."/>
          <p:cNvPicPr/>
          <p:nvPr/>
        </p:nvPicPr>
        <p:blipFill>
          <a:blip r:embed="rId2"/>
          <a:stretch/>
        </p:blipFill>
        <p:spPr>
          <a:xfrm>
            <a:off x="3059280" y="3732120"/>
            <a:ext cx="3278160" cy="31258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Упражнение «Найди всех зверей» — КиберПедия"/>
          <p:cNvPicPr/>
          <p:nvPr/>
        </p:nvPicPr>
        <p:blipFill>
          <a:blip r:embed="rId3"/>
          <a:stretch/>
        </p:blipFill>
        <p:spPr>
          <a:xfrm>
            <a:off x="6300720" y="3933720"/>
            <a:ext cx="2598840" cy="2697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Роль классификации предметов и обогащения пассивного и активного словарного  запаса в развитии лексико-грамматического строя у детей старшего  дошкольного возраста с общим недоразвитием речи"/>
          <p:cNvPicPr/>
          <p:nvPr/>
        </p:nvPicPr>
        <p:blipFill>
          <a:blip r:embed="rId4"/>
          <a:stretch/>
        </p:blipFill>
        <p:spPr>
          <a:xfrm>
            <a:off x="3708360" y="1197000"/>
            <a:ext cx="4464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27T04:23:38Z</dcterms:created>
  <dc:creator>Sveta</dc:creator>
  <dc:description/>
  <dc:language>en-US</dc:language>
  <cp:lastModifiedBy>Sveta</cp:lastModifiedBy>
  <dcterms:modified xsi:type="dcterms:W3CDTF">2022-04-21T06:20:59Z</dcterms:modified>
  <cp:revision>27</cp:revision>
  <dc:subject/>
  <dc:title>Развитие цифровой информационно среды для развития зрительного восприятия и расширения знаний об окружающем у детей с нарушением зрения.</dc:title>
</cp:coreProperties>
</file>