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4.png" ContentType="image/png"/>
  <Override PartName="/ppt/media/image11.jpeg" ContentType="image/jpeg"/>
  <Override PartName="/ppt/media/image31.gif" ContentType="image/gif"/>
  <Override PartName="/ppt/media/image21.jpeg" ContentType="image/jpeg"/>
  <Override PartName="/ppt/media/image36.gif" ContentType="image/gif"/>
  <Override PartName="/ppt/media/image20.jpeg" ContentType="image/jpeg"/>
  <Override PartName="/ppt/media/image12.jpeg" ContentType="image/jpeg"/>
  <Override PartName="/ppt/media/image7.jpeg" ContentType="image/jpeg"/>
  <Override PartName="/ppt/media/image35.gif" ContentType="image/gif"/>
  <Override PartName="/ppt/media/image9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13.jpeg" ContentType="image/jpeg"/>
  <Override PartName="/ppt/media/image30.gif" ContentType="image/gif"/>
  <Override PartName="/ppt/media/image14.jpeg" ContentType="image/jpeg"/>
  <Override PartName="/ppt/media/image28.gif" ContentType="image/gif"/>
  <Override PartName="/ppt/media/image34.gif" ContentType="image/gif"/>
  <Override PartName="/ppt/media/image37.png" ContentType="image/png"/>
  <Override PartName="/ppt/media/image6.jpeg" ContentType="image/jpeg"/>
  <Override PartName="/ppt/media/image27.jpeg" ContentType="image/jpeg"/>
  <Override PartName="/ppt/media/image33.gif" ContentType="image/gif"/>
  <Override PartName="/ppt/media/image18.jpeg" ContentType="image/jpeg"/>
  <Override PartName="/ppt/media/image5.jpeg" ContentType="image/jpeg"/>
  <Override PartName="/ppt/media/image26.jpeg" ContentType="image/jpeg"/>
  <Override PartName="/ppt/media/image19.jpeg" ContentType="image/jpeg"/>
  <Override PartName="/ppt/media/image32.gif" ContentType="image/gif"/>
  <Override PartName="/ppt/media/image4.jpeg" ContentType="image/jpeg"/>
  <Override PartName="/ppt/media/image25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C8AD-3A02-4165-99DC-E5AAACD1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0966-00AA-4C3E-85BC-B34FED69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12E4-3310-438F-8AFC-1A1F1BFA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A7FB-D4C4-4DFF-A7FB-9EB46D1E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AE62-7D37-4AB0-BE46-B82F05FD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4E93-DCB3-46CE-9DEC-B84C7E48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816C-C16B-47EA-857C-794CF8C5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7B81-4308-405A-8F03-7D9EDAEB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8AA3-8A54-4C54-AD59-0ADDA2A9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1809-D5FF-454F-B992-83AE5D9E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EC10-B26A-4DA8-BB5D-DF452001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75EF-AD4E-47D2-BB27-90A3ADCF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62F1-1BAC-4B7E-9B52-80EFC27C57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image" Target="../media/image33.gif"/><Relationship Id="rId7" Type="http://schemas.openxmlformats.org/officeDocument/2006/relationships/image" Target="../media/image36.gif"/><Relationship Id="rId8" Type="http://schemas.openxmlformats.org/officeDocument/2006/relationships/image" Target="../media/image36.gif"/><Relationship Id="rId9" Type="http://schemas.openxmlformats.org/officeDocument/2006/relationships/image" Target="../media/image37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8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image" Target="../media/image24.pn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00000" y="1341360"/>
            <a:ext cx="7201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eb1d07"/>
                    </a:gs>
                    <a:gs pos="100000">
                      <a:srgbClr val="e6ea2e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НАСЕКОМЫЕ</a:t>
            </a:r>
            <a:endParaRPr b="1" lang="en-US" sz="1800" spc="1" strike="noStrike">
              <a:ln w="1260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eb1d07"/>
                  </a:gs>
                  <a:gs pos="100000">
                    <a:srgbClr val="e6ea2e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468360" y="4149720"/>
            <a:ext cx="8209080" cy="15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eb1d07"/>
                    </a:gs>
                    <a:gs pos="100000">
                      <a:srgbClr val="e6ea2e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резентация учителя-логопеда 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eb1d07"/>
                  </a:gs>
                  <a:gs pos="100000">
                    <a:srgbClr val="e6ea2e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eb1d07"/>
                    </a:gs>
                    <a:gs pos="100000">
                      <a:srgbClr val="e6ea2e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БГДОУ д/с "Кудесница" Халько И.А.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eb1d07"/>
                  </a:gs>
                  <a:gs pos="100000">
                    <a:srgbClr val="e6ea2e"/>
                  </a:gs>
                </a:gsLst>
                <a:lin ang="54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684360" y="260280"/>
            <a:ext cx="7488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Рассмотри картинки 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составь предложения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116000" y="378936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          собирают пыльцу…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b13"/>
          <p:cNvPicPr/>
          <p:nvPr/>
        </p:nvPicPr>
        <p:blipFill>
          <a:blip r:embed="rId1"/>
          <a:stretch/>
        </p:blipFill>
        <p:spPr>
          <a:xfrm>
            <a:off x="6804000" y="2133720"/>
            <a:ext cx="2222640" cy="2376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324000" y="5084640"/>
            <a:ext cx="83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чела и бабочка собирают пыльцу с цве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B_Fly28"/>
          <p:cNvPicPr/>
          <p:nvPr/>
        </p:nvPicPr>
        <p:blipFill>
          <a:blip r:embed="rId2"/>
          <a:stretch/>
        </p:blipFill>
        <p:spPr>
          <a:xfrm>
            <a:off x="1763640" y="2781360"/>
            <a:ext cx="1384200" cy="1582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Bee09"/>
          <p:cNvPicPr/>
          <p:nvPr/>
        </p:nvPicPr>
        <p:blipFill>
          <a:blip r:embed="rId3"/>
          <a:stretch/>
        </p:blipFill>
        <p:spPr>
          <a:xfrm>
            <a:off x="179280" y="2924280"/>
            <a:ext cx="13795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5"/>
          <p:cNvSpPr txBox="1"/>
          <p:nvPr/>
        </p:nvSpPr>
        <p:spPr>
          <a:xfrm>
            <a:off x="468360" y="260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Сосчитай, сколько на картинк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бабочек, пчёл, мух и жук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25" name="Picture 7" descr="B_Fly11"/>
          <p:cNvPicPr/>
          <p:nvPr/>
        </p:nvPicPr>
        <p:blipFill>
          <a:blip r:embed="rId1"/>
          <a:stretch/>
        </p:blipFill>
        <p:spPr>
          <a:xfrm>
            <a:off x="3276720" y="2852640"/>
            <a:ext cx="2087280" cy="1908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B_Fly14"/>
          <p:cNvPicPr/>
          <p:nvPr/>
        </p:nvPicPr>
        <p:blipFill>
          <a:blip r:embed="rId2"/>
          <a:stretch/>
        </p:blipFill>
        <p:spPr>
          <a:xfrm rot="20043600">
            <a:off x="6943320" y="1557000"/>
            <a:ext cx="2200320" cy="2031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B_Fly31"/>
          <p:cNvPicPr/>
          <p:nvPr/>
        </p:nvPicPr>
        <p:blipFill>
          <a:blip r:embed="rId3"/>
          <a:stretch/>
        </p:blipFill>
        <p:spPr>
          <a:xfrm rot="846600">
            <a:off x="755280" y="2565360"/>
            <a:ext cx="1224000" cy="1128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Bee09"/>
          <p:cNvPicPr/>
          <p:nvPr/>
        </p:nvPicPr>
        <p:blipFill>
          <a:blip r:embed="rId4"/>
          <a:stretch/>
        </p:blipFill>
        <p:spPr>
          <a:xfrm>
            <a:off x="7451640" y="4724280"/>
            <a:ext cx="885960" cy="971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Bee09"/>
          <p:cNvPicPr/>
          <p:nvPr/>
        </p:nvPicPr>
        <p:blipFill>
          <a:blip r:embed="rId5"/>
          <a:stretch/>
        </p:blipFill>
        <p:spPr>
          <a:xfrm rot="5400000">
            <a:off x="653760" y="4681440"/>
            <a:ext cx="885960" cy="971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Bee09"/>
          <p:cNvPicPr/>
          <p:nvPr/>
        </p:nvPicPr>
        <p:blipFill>
          <a:blip r:embed="rId6"/>
          <a:stretch/>
        </p:blipFill>
        <p:spPr>
          <a:xfrm rot="16979400">
            <a:off x="3276360" y="1483920"/>
            <a:ext cx="885960" cy="971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Ins31"/>
          <p:cNvPicPr/>
          <p:nvPr/>
        </p:nvPicPr>
        <p:blipFill>
          <a:blip r:embed="rId7"/>
          <a:stretch/>
        </p:blipFill>
        <p:spPr>
          <a:xfrm>
            <a:off x="4788000" y="5229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Ins31"/>
          <p:cNvPicPr/>
          <p:nvPr/>
        </p:nvPicPr>
        <p:blipFill>
          <a:blip r:embed="rId8"/>
          <a:stretch/>
        </p:blipFill>
        <p:spPr>
          <a:xfrm rot="16200000">
            <a:off x="5940360" y="30682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0" descr="1fe1cacbd4dc"/>
          <p:cNvPicPr/>
          <p:nvPr/>
        </p:nvPicPr>
        <p:blipFill>
          <a:blip r:embed="rId9"/>
          <a:stretch/>
        </p:blipFill>
        <p:spPr>
          <a:xfrm rot="17849400">
            <a:off x="797400" y="1729080"/>
            <a:ext cx="1366920" cy="876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2" descr="1fe1cacbd4dc"/>
          <p:cNvPicPr/>
          <p:nvPr/>
        </p:nvPicPr>
        <p:blipFill>
          <a:blip r:embed="rId10"/>
          <a:stretch/>
        </p:blipFill>
        <p:spPr>
          <a:xfrm rot="19353000">
            <a:off x="2484000" y="3068280"/>
            <a:ext cx="1366920" cy="876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3" descr="1fe1cacbd4dc"/>
          <p:cNvPicPr/>
          <p:nvPr/>
        </p:nvPicPr>
        <p:blipFill>
          <a:blip r:embed="rId11"/>
          <a:stretch/>
        </p:blipFill>
        <p:spPr>
          <a:xfrm rot="2748000">
            <a:off x="4817520" y="1887120"/>
            <a:ext cx="144000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1.94444E-006 3.14524E-007 C 0.05747 0.02498 0.11493 0.04995 0.14844 0.07724 C 0.18195 0.10453 0.19861 0.13228 0.20139 0.16281 C 0.20434 0.19334 0.17465 0.21392 0.16615 0.26018 C 0.15781 0.30666 0.14097 0.41559 0.15156 0.44149 C 0.16215 0.46739 0.1875 0.42761 0.22934 0.41489 C 0.27118 0.4024 0.35608 0.36887 0.40295 0.36633 C 0.44983 0.36355 0.48993 0.39223 0.51025 0.3987 C 0.53073 0.40495 0.52778 0.40472 0.525 0.40472 E">
                                      <p:cBhvr>
                                        <p:cTn id="249" dur="5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77336E-006 C 0.05833 0.02452 0.11667 0.04903 0.15069 0.07563 C 0.18472 0.10222 0.20156 0.12928 0.20451 0.15911 C 0.20746 0.18895 0.17726 0.20907 0.16875 0.2544 C 0.16024 0.29972 0.14305 0.40634 0.15382 0.43155 C 0.16458 0.45675 0.19028 0.4179 0.23281 0.40564 C 0.27535 0.39339 0.36146 0.36055 0.40903 0.358 C 0.4566 0.35546 0.49722 0.38344 0.51788 0.38969 C 0.53854 0.39593 0.53559 0.3957 0.53281 0.3957 E">
                                      <p:cBhvr>
                                        <p:cTn id="251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4 0.05343 C -0.00105 0.08233 0.00208 0.11124 0.00017 0.13183 C -0.00209 0.15241 -0.00747 0.16652 -0.0165 0.17623 C -0.0257 0.18617 -0.03803 0.18016 -0.054 0.19034 C -0.07049 0.20005 -0.10816 0.22433 -0.11407 0.23543 C -0.12032 0.24677 -0.10261 0.24538 -0.0908 0.2581 C -0.07865 0.27035 -0.05157 0.29371 -0.04167 0.31083 C -0.03212 0.32817 -0.03334 0.35153 -0.03143 0.36124 C -0.02934 0.37072 -0.03021 0.36957 -0.03039 0.36841 E">
                                      <p:cBhvr>
                                        <p:cTn id="253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79280" y="260280"/>
            <a:ext cx="9001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расширять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едставления детей о насеком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упражнять детей в согласовании существительных с числительны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упражнять в согласовании слов в предложе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упражнять в употреблении формы множественного числа имен существительных в именительном падеж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закреплять в речи пройденные предлог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развивать мышление и вним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2411280" y="73080"/>
            <a:ext cx="446580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Назови картин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7928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4643280" y="1197000"/>
            <a:ext cx="215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411280" y="1197000"/>
            <a:ext cx="215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6877080" y="1198440"/>
            <a:ext cx="2158920" cy="215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79280" y="4005360"/>
            <a:ext cx="215928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6877080" y="4005360"/>
            <a:ext cx="215892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2411280" y="4005360"/>
            <a:ext cx="2159280" cy="21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4643280" y="4005360"/>
            <a:ext cx="2159280" cy="21589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75564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2627280" y="33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Б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5003640" y="3284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Ч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7380360" y="3357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24000" y="6165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РА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2916360" y="6165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4643280" y="603576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ЖЬЯ КО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7451640" y="6165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М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22"/>
          <p:cNvSpPr txBox="1"/>
          <p:nvPr/>
        </p:nvSpPr>
        <p:spPr>
          <a:xfrm>
            <a:off x="2411280" y="476280"/>
            <a:ext cx="446580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Это насеком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2"/>
          <p:cNvSpPr txBox="1"/>
          <p:nvPr/>
        </p:nvSpPr>
        <p:spPr>
          <a:xfrm>
            <a:off x="250920" y="189000"/>
            <a:ext cx="842472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Кто лишний и почему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507672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619280" y="1197000"/>
            <a:ext cx="215892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619280" y="4005360"/>
            <a:ext cx="215892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5076720" y="4005360"/>
            <a:ext cx="215928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5364000" y="33577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Б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2"/>
          <p:cNvSpPr txBox="1"/>
          <p:nvPr/>
        </p:nvSpPr>
        <p:spPr>
          <a:xfrm>
            <a:off x="250920" y="189000"/>
            <a:ext cx="842472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Кто лишний и почему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507672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619280" y="1197000"/>
            <a:ext cx="215892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619280" y="4005360"/>
            <a:ext cx="215892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5076720" y="4005360"/>
            <a:ext cx="215928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292720" y="6237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КВО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2"/>
          <p:cNvSpPr txBox="1"/>
          <p:nvPr/>
        </p:nvSpPr>
        <p:spPr>
          <a:xfrm>
            <a:off x="250920" y="189000"/>
            <a:ext cx="842472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Игра "Один-много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17928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643280" y="1197000"/>
            <a:ext cx="215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2411280" y="1197000"/>
            <a:ext cx="215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6877080" y="1197000"/>
            <a:ext cx="215892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179280" y="4005360"/>
            <a:ext cx="215928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6877080" y="4005360"/>
            <a:ext cx="215892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2411280" y="4005360"/>
            <a:ext cx="2159280" cy="21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4643280" y="4005360"/>
            <a:ext cx="2159280" cy="21589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79280" y="3357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Б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2556000" y="321300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ЖЬЯ КО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5148360" y="3357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7164360" y="33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РА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468360" y="6165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Б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2556000" y="602136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ЖЬИ КОР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5219640" y="6165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7164360" y="616572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РАВ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250920" y="189000"/>
            <a:ext cx="842472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Игра "Один-много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79280" y="1197000"/>
            <a:ext cx="2159280" cy="215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643280" y="1197000"/>
            <a:ext cx="2159280" cy="21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2411280" y="1197000"/>
            <a:ext cx="2159280" cy="215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877080" y="1197000"/>
            <a:ext cx="2158920" cy="215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79280" y="4005360"/>
            <a:ext cx="2159280" cy="2158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6877080" y="4005360"/>
            <a:ext cx="2158920" cy="2158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2411280" y="4005360"/>
            <a:ext cx="2159280" cy="21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4643280" y="4005360"/>
            <a:ext cx="2159280" cy="21589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61128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2987640" y="3357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5219640" y="3357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Ч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7236000" y="3357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М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755640" y="6165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2844720" y="6165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4930920" y="6165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ЧЁ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7236000" y="616572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М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684360" y="260280"/>
            <a:ext cx="7488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Рассмотри картинки 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составь предложения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484360" y="378936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идит … 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900000" y="508464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абочка сидит на цвет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B_Fly26"/>
          <p:cNvPicPr/>
          <p:nvPr/>
        </p:nvPicPr>
        <p:blipFill>
          <a:blip r:embed="rId1"/>
          <a:stretch/>
        </p:blipFill>
        <p:spPr>
          <a:xfrm>
            <a:off x="611280" y="2781360"/>
            <a:ext cx="1584360" cy="1423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gif_palacero47"/>
          <p:cNvPicPr/>
          <p:nvPr/>
        </p:nvPicPr>
        <p:blipFill>
          <a:blip r:embed="rId2"/>
          <a:stretch/>
        </p:blipFill>
        <p:spPr>
          <a:xfrm>
            <a:off x="5003640" y="2276640"/>
            <a:ext cx="174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684360" y="260280"/>
            <a:ext cx="7488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Рассмотри картинки 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66"/>
                    </a:gs>
                    <a:gs pos="50000">
                      <a:srgbClr val="009900"/>
                    </a:gs>
                    <a:gs pos="100000">
                      <a:srgbClr val="99ff66"/>
                    </a:gs>
                  </a:gsLst>
                  <a:lin ang="5400000"/>
                </a:gradFill>
                <a:latin typeface="Arial"/>
              </a:rPr>
              <a:t>составь предложения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66"/>
                  </a:gs>
                  <a:gs pos="50000">
                    <a:srgbClr val="009900"/>
                  </a:gs>
                  <a:gs pos="100000">
                    <a:srgbClr val="99ff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484360" y="378936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ружили… 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B_Fly11"/>
          <p:cNvPicPr/>
          <p:nvPr/>
        </p:nvPicPr>
        <p:blipFill>
          <a:blip r:embed="rId1"/>
          <a:stretch/>
        </p:blipFill>
        <p:spPr>
          <a:xfrm>
            <a:off x="324000" y="1989000"/>
            <a:ext cx="2449440" cy="2238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b13"/>
          <p:cNvPicPr/>
          <p:nvPr/>
        </p:nvPicPr>
        <p:blipFill>
          <a:blip r:embed="rId2"/>
          <a:stretch/>
        </p:blipFill>
        <p:spPr>
          <a:xfrm>
            <a:off x="6372360" y="2133720"/>
            <a:ext cx="2222280" cy="23763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324000" y="508464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абочки  кружили над цвет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13:32:09Z</dcterms:created>
  <dc:creator>Ирина</dc:creator>
  <dc:description/>
  <dc:language>en-US</dc:language>
  <cp:lastModifiedBy>Ира</cp:lastModifiedBy>
  <dcterms:modified xsi:type="dcterms:W3CDTF">2012-05-14T17:37:02Z</dcterms:modified>
  <cp:revision>26</cp:revision>
  <dc:subject/>
  <dc:title>Слайд 1</dc:title>
</cp:coreProperties>
</file>