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40.gif" ContentType="image/gif"/>
  <Override PartName="/ppt/media/image38.gif" ContentType="image/gif"/>
  <Override PartName="/ppt/media/image35.png" ContentType="image/png"/>
  <Override PartName="/ppt/media/image42.gif" ContentType="image/gif"/>
  <Override PartName="/ppt/media/image6.jpeg" ContentType="image/jpeg"/>
  <Override PartName="/ppt/media/image27.jpeg" ContentType="image/jpeg"/>
  <Override PartName="/ppt/media/image31.jpeg" ContentType="image/jpeg"/>
  <Override PartName="/ppt/media/image4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41.gif" ContentType="image/gif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C59-0635-490A-8637-1543BC03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840-2CAB-42CE-9032-6E1E6A9D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89F-D7C4-4477-8872-5E42858C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C160-FED6-4B87-96D8-B37E8BF1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731-9089-4BBB-9BBC-C7F9FD9A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EBB-9A09-44FE-B444-A187FDB4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E34-3A34-4658-ADAC-7B71D94E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7FB7-DF7B-488E-90B2-E15FC9B1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B72-C057-498A-8555-CFE9BDDD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5A4-E63D-40B0-B777-0593E259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0B8-422D-404D-8CBC-E4A001A2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A98-E8DD-4AE7-AEAC-11FEF3B6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C629-19AF-4DB6-B35C-8815E4DE4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7.gif"/><Relationship Id="rId14" Type="http://schemas.openxmlformats.org/officeDocument/2006/relationships/image" Target="../media/image36.gif"/><Relationship Id="rId15" Type="http://schemas.openxmlformats.org/officeDocument/2006/relationships/image" Target="../media/image41.gif"/><Relationship Id="rId16" Type="http://schemas.openxmlformats.org/officeDocument/2006/relationships/image" Target="../media/image42.gif"/><Relationship Id="rId17" Type="http://schemas.openxmlformats.org/officeDocument/2006/relationships/image" Target="../media/image42.gif"/><Relationship Id="rId18" Type="http://schemas.openxmlformats.org/officeDocument/2006/relationships/image" Target="../media/image42.gif"/><Relationship Id="rId19" Type="http://schemas.openxmlformats.org/officeDocument/2006/relationships/image" Target="../media/image39.gif"/><Relationship Id="rId20" Type="http://schemas.openxmlformats.org/officeDocument/2006/relationships/image" Target="../media/image39.gif"/><Relationship Id="rId21" Type="http://schemas.openxmlformats.org/officeDocument/2006/relationships/image" Target="../media/image40.gif"/><Relationship Id="rId22" Type="http://schemas.openxmlformats.org/officeDocument/2006/relationships/image" Target="../media/image42.gif"/><Relationship Id="rId23" Type="http://schemas.openxmlformats.org/officeDocument/2006/relationships/image" Target="../media/image42.gif"/><Relationship Id="rId24" Type="http://schemas.openxmlformats.org/officeDocument/2006/relationships/image" Target="../media/image39.gif"/><Relationship Id="rId25" Type="http://schemas.openxmlformats.org/officeDocument/2006/relationships/image" Target="../media/image39.gif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341360"/>
            <a:ext cx="720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НАСЕКОМЫЕ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287280" y="836640"/>
            <a:ext cx="94312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муравейника      выбежал и по  муравьиной тропке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(что сделал?)… 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ежал, бежал и к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(что сделал?) … 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круг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(что сделал?)… 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коло          нашел много                , обрадовался, от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(что сделал?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и к муравейнику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(что сделал?)… 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(что сделал?)…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ой и позвал на помощь других                 .  Скоро вся муравьиная семья из построит новый муравейник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780000" y="69228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284720" y="1844640"/>
            <a:ext cx="1152360" cy="563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916360" y="2276640"/>
            <a:ext cx="1152360" cy="57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763640" y="2781360"/>
            <a:ext cx="1152720" cy="563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067280" y="3284640"/>
            <a:ext cx="1152360" cy="571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227640" y="458136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5724360" y="407664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6948360" y="4653000"/>
            <a:ext cx="1079640" cy="79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7596360" y="465300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 rot="21454200">
            <a:off x="6659640" y="2997000"/>
            <a:ext cx="792000" cy="293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 rot="21061200">
            <a:off x="7812000" y="5373360"/>
            <a:ext cx="11527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 rot="887400">
            <a:off x="7092720" y="2924280"/>
            <a:ext cx="1108080" cy="293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 rot="519000">
            <a:off x="7812000" y="5660640"/>
            <a:ext cx="1108080" cy="293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8244000" y="5583240"/>
            <a:ext cx="79200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2087640" cy="190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20043600">
            <a:off x="6943320" y="1557000"/>
            <a:ext cx="2200320" cy="2031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846600">
            <a:off x="755280" y="2565360"/>
            <a:ext cx="1224000" cy="1128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451640" y="4724280"/>
            <a:ext cx="885960" cy="971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 rot="5400000">
            <a:off x="437760" y="4805280"/>
            <a:ext cx="885960" cy="971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 rot="16979400">
            <a:off x="2670120" y="2017440"/>
            <a:ext cx="885600" cy="971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4788000" y="5661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 rot="16200000">
            <a:off x="6156360" y="3068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"/>
          <a:stretch/>
        </p:blipFill>
        <p:spPr>
          <a:xfrm>
            <a:off x="395280" y="5734080"/>
            <a:ext cx="1079640" cy="79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 rot="20159400">
            <a:off x="3492000" y="4508280"/>
            <a:ext cx="1079640" cy="792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>
            <a:off x="5364000" y="184464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2"/>
          <a:stretch/>
        </p:blipFill>
        <p:spPr>
          <a:xfrm>
            <a:off x="7524720" y="3645000"/>
            <a:ext cx="1079640" cy="79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3"/>
          <a:stretch/>
        </p:blipFill>
        <p:spPr>
          <a:xfrm rot="20043600">
            <a:off x="5579640" y="4436640"/>
            <a:ext cx="2200320" cy="2032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 rot="18958200">
            <a:off x="1403280" y="4005360"/>
            <a:ext cx="2087640" cy="190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бабочка, анимашка"/>
          <p:cNvPicPr/>
          <p:nvPr/>
        </p:nvPicPr>
        <p:blipFill>
          <a:blip r:embed="rId15"/>
          <a:stretch/>
        </p:blipFill>
        <p:spPr>
          <a:xfrm rot="700800">
            <a:off x="7667640" y="5805360"/>
            <a:ext cx="828720" cy="657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стрекоза, анимашка"/>
          <p:cNvPicPr/>
          <p:nvPr/>
        </p:nvPicPr>
        <p:blipFill>
          <a:blip r:embed="rId16"/>
          <a:stretch/>
        </p:blipFill>
        <p:spPr>
          <a:xfrm rot="1921800">
            <a:off x="4830480" y="4027320"/>
            <a:ext cx="1211040" cy="1229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стрекоза, анимашка"/>
          <p:cNvPicPr/>
          <p:nvPr/>
        </p:nvPicPr>
        <p:blipFill>
          <a:blip r:embed="rId17"/>
          <a:stretch/>
        </p:blipFill>
        <p:spPr>
          <a:xfrm rot="18318000">
            <a:off x="1481040" y="1334880"/>
            <a:ext cx="1139760" cy="1295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стрекоза, анимашка"/>
          <p:cNvPicPr/>
          <p:nvPr/>
        </p:nvPicPr>
        <p:blipFill>
          <a:blip r:embed="rId18"/>
          <a:stretch/>
        </p:blipFill>
        <p:spPr>
          <a:xfrm rot="4044600">
            <a:off x="6634080" y="1238040"/>
            <a:ext cx="1136520" cy="115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9"/>
          <a:stretch/>
        </p:blipFill>
        <p:spPr>
          <a:xfrm rot="16979400">
            <a:off x="4254480" y="1153440"/>
            <a:ext cx="885960" cy="971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0"/>
          <a:stretch/>
        </p:blipFill>
        <p:spPr>
          <a:xfrm rot="16979400">
            <a:off x="3462120" y="5330520"/>
            <a:ext cx="885960" cy="971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1"/>
          <a:stretch/>
        </p:blipFill>
        <p:spPr>
          <a:xfrm rot="8712600">
            <a:off x="250200" y="37159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стрекоза, анимашка"/>
          <p:cNvPicPr/>
          <p:nvPr/>
        </p:nvPicPr>
        <p:blipFill>
          <a:blip r:embed="rId22"/>
          <a:stretch/>
        </p:blipFill>
        <p:spPr>
          <a:xfrm rot="4044600">
            <a:off x="6450480" y="4142520"/>
            <a:ext cx="1065240" cy="1079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стрекоза, анимашка"/>
          <p:cNvPicPr/>
          <p:nvPr/>
        </p:nvPicPr>
        <p:blipFill>
          <a:blip r:embed="rId23"/>
          <a:stretch/>
        </p:blipFill>
        <p:spPr>
          <a:xfrm rot="18889200">
            <a:off x="2633400" y="3351240"/>
            <a:ext cx="855360" cy="86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4"/>
          <a:stretch/>
        </p:blipFill>
        <p:spPr>
          <a:xfrm rot="16979400">
            <a:off x="8215200" y="2954160"/>
            <a:ext cx="885600" cy="97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5"/>
          <a:stretch/>
        </p:blipFill>
        <p:spPr>
          <a:xfrm rot="2928600">
            <a:off x="293400" y="1370160"/>
            <a:ext cx="8856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60280"/>
            <a:ext cx="9001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сширят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ставления детей о насеком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детей в согласовании существительных с числительн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в согласовании слов в пред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в употреблении формы множественного числа имен существительных в именительном паде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детей в образовании и употреблении приставочных глаго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звивать мышление и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11280" y="216000"/>
            <a:ext cx="44658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36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36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61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20000" y="328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6165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720" y="603576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ЖЬЯ КО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411280" y="216000"/>
            <a:ext cx="44658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119700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400536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005360"/>
            <a:ext cx="215892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8036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6165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ЗНЕ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61405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О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72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92720" y="33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9800" y="3933720"/>
            <a:ext cx="2158920" cy="2159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237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АВОРО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3213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ЖЬЯ КО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33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165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А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602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ЖЬИ КО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6165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616572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РАВ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3357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4720" y="6165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0920" y="6165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ЧЁ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61657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М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1080" y="1197000"/>
            <a:ext cx="215892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50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3080" y="119700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1080" y="4005360"/>
            <a:ext cx="215892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ЗНЕ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3357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3357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33577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О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7440" y="616572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ЗНЕ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6165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РЕК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61080" y="61657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7080" y="6165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ОМ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32:09Z</dcterms:created>
  <dc:creator>Ирина</dc:creator>
  <dc:description/>
  <dc:language>en-US</dc:language>
  <cp:lastModifiedBy>Ирина</cp:lastModifiedBy>
  <dcterms:modified xsi:type="dcterms:W3CDTF">2012-05-13T17:28:53Z</dcterms:modified>
  <cp:revision>30</cp:revision>
  <dc:subject/>
  <dc:title>Слайд 1</dc:title>
</cp:coreProperties>
</file>