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3.png" ContentType="image/png"/>
  <Override PartName="/ppt/media/image40.gif" ContentType="image/gif"/>
  <Override PartName="/ppt/media/image38.gif" ContentType="image/gif"/>
  <Override PartName="/ppt/media/image35.png" ContentType="image/png"/>
  <Override PartName="/ppt/media/image42.gif" ContentType="image/gif"/>
  <Override PartName="/ppt/media/image6.jpeg" ContentType="image/jpeg"/>
  <Override PartName="/ppt/media/image27.jpeg" ContentType="image/jpeg"/>
  <Override PartName="/ppt/media/image31.jpeg" ContentType="image/jpeg"/>
  <Override PartName="/ppt/media/image4.jpeg" ContentType="image/jpeg"/>
  <Override PartName="/ppt/media/image29.jpeg" ContentType="image/jpeg"/>
  <Override PartName="/ppt/media/image37.gif" ContentType="image/gif"/>
  <Override PartName="/ppt/media/image2.jpeg" ContentType="image/jpeg"/>
  <Override PartName="/ppt/media/image23.jpeg" ContentType="image/jpeg"/>
  <Override PartName="/ppt/media/image41.gif" ContentType="image/gif"/>
  <Override PartName="/ppt/media/image34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4F03-B0C3-4509-A8B9-6F4330E1A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CD6A-B5B1-4CF7-955C-4D83A65C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3DCF-5EE1-4B94-B02E-AD6E7DBAF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B35F-8605-4E46-814A-EFC229A05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DB51-1B12-4019-AEDB-44A48BBE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6448-E5D5-4983-8DDF-8CD51913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BFEF-58B3-47F1-A271-27CF35E9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1D81-AFB4-4C80-B9D3-0A7ACD8F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11B3-2F07-4C1A-9685-52D33FC0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850C-7F17-4679-9E31-41879FC8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C1DF-7FDE-4000-83E4-40241BFB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E4F8-310C-4ABD-83B8-767A7DB6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7B0D-3FC3-4EFD-B824-7BD1E2EE1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image" Target="../media/image33.png"/><Relationship Id="rId10" Type="http://schemas.openxmlformats.org/officeDocument/2006/relationships/image" Target="../media/image35.png"/><Relationship Id="rId11" Type="http://schemas.openxmlformats.org/officeDocument/2006/relationships/image" Target="../media/image35.png"/><Relationship Id="rId12" Type="http://schemas.openxmlformats.org/officeDocument/2006/relationships/image" Target="../media/image35.png"/><Relationship Id="rId13" Type="http://schemas.openxmlformats.org/officeDocument/2006/relationships/image" Target="../media/image35.png"/><Relationship Id="rId14" Type="http://schemas.openxmlformats.org/officeDocument/2006/relationships/image" Target="../media/image35.png"/><Relationship Id="rId1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gif"/><Relationship Id="rId3" Type="http://schemas.openxmlformats.org/officeDocument/2006/relationships/image" Target="../media/image38.gif"/><Relationship Id="rId4" Type="http://schemas.openxmlformats.org/officeDocument/2006/relationships/image" Target="../media/image39.gif"/><Relationship Id="rId5" Type="http://schemas.openxmlformats.org/officeDocument/2006/relationships/image" Target="../media/image39.gif"/><Relationship Id="rId6" Type="http://schemas.openxmlformats.org/officeDocument/2006/relationships/image" Target="../media/image39.gif"/><Relationship Id="rId7" Type="http://schemas.openxmlformats.org/officeDocument/2006/relationships/image" Target="../media/image40.gif"/><Relationship Id="rId8" Type="http://schemas.openxmlformats.org/officeDocument/2006/relationships/image" Target="../media/image40.gif"/><Relationship Id="rId9" Type="http://schemas.openxmlformats.org/officeDocument/2006/relationships/image" Target="../media/image33.png"/><Relationship Id="rId10" Type="http://schemas.openxmlformats.org/officeDocument/2006/relationships/image" Target="../media/image33.png"/><Relationship Id="rId11" Type="http://schemas.openxmlformats.org/officeDocument/2006/relationships/image" Target="../media/image33.png"/><Relationship Id="rId12" Type="http://schemas.openxmlformats.org/officeDocument/2006/relationships/image" Target="../media/image33.png"/><Relationship Id="rId13" Type="http://schemas.openxmlformats.org/officeDocument/2006/relationships/image" Target="../media/image37.gif"/><Relationship Id="rId14" Type="http://schemas.openxmlformats.org/officeDocument/2006/relationships/image" Target="../media/image36.gif"/><Relationship Id="rId15" Type="http://schemas.openxmlformats.org/officeDocument/2006/relationships/image" Target="../media/image41.gif"/><Relationship Id="rId16" Type="http://schemas.openxmlformats.org/officeDocument/2006/relationships/image" Target="../media/image42.gif"/><Relationship Id="rId17" Type="http://schemas.openxmlformats.org/officeDocument/2006/relationships/image" Target="../media/image42.gif"/><Relationship Id="rId18" Type="http://schemas.openxmlformats.org/officeDocument/2006/relationships/image" Target="../media/image42.gif"/><Relationship Id="rId19" Type="http://schemas.openxmlformats.org/officeDocument/2006/relationships/image" Target="../media/image39.gif"/><Relationship Id="rId20" Type="http://schemas.openxmlformats.org/officeDocument/2006/relationships/image" Target="../media/image39.gif"/><Relationship Id="rId21" Type="http://schemas.openxmlformats.org/officeDocument/2006/relationships/image" Target="../media/image40.gif"/><Relationship Id="rId22" Type="http://schemas.openxmlformats.org/officeDocument/2006/relationships/image" Target="../media/image42.gif"/><Relationship Id="rId23" Type="http://schemas.openxmlformats.org/officeDocument/2006/relationships/image" Target="../media/image42.gif"/><Relationship Id="rId24" Type="http://schemas.openxmlformats.org/officeDocument/2006/relationships/image" Target="../media/image39.gif"/><Relationship Id="rId25" Type="http://schemas.openxmlformats.org/officeDocument/2006/relationships/image" Target="../media/image39.gif"/><Relationship Id="rId2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image" Target="../media/image3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6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10.jpeg"/><Relationship Id="rId5" Type="http://schemas.openxmlformats.org/officeDocument/2006/relationships/image" Target="../media/image25.pn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jpeg"/><Relationship Id="rId3" Type="http://schemas.openxmlformats.org/officeDocument/2006/relationships/image" Target="../media/image7.jpeg"/><Relationship Id="rId4" Type="http://schemas.openxmlformats.org/officeDocument/2006/relationships/image" Target="../media/image12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1341360"/>
            <a:ext cx="7201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eb1d07"/>
                    </a:gs>
                    <a:gs pos="100000">
                      <a:srgbClr val="e6ea2e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НАСЕКОМЫЕ</a:t>
            </a:r>
            <a:endParaRPr b="1" lang="en-US" sz="1800" spc="1" strike="noStrike">
              <a:ln w="12600">
                <a:solidFill>
                  <a:srgbClr val="ff9900"/>
                </a:solidFill>
                <a:miter/>
              </a:ln>
              <a:gradFill rotWithShape="0">
                <a:gsLst>
                  <a:gs pos="0">
                    <a:srgbClr val="eb1d07"/>
                  </a:gs>
                  <a:gs pos="100000">
                    <a:srgbClr val="e6ea2e"/>
                  </a:gs>
                </a:gsLst>
                <a:lin ang="540000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68360" y="4149720"/>
            <a:ext cx="8209080" cy="15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eb1d07"/>
                    </a:gs>
                    <a:gs pos="100000">
                      <a:srgbClr val="e6ea2e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резентация учителя-логопеда 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eb1d07"/>
                  </a:gs>
                  <a:gs pos="100000">
                    <a:srgbClr val="e6ea2e"/>
                  </a:gs>
                </a:gsLst>
                <a:lin ang="540000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eb1d07"/>
                    </a:gs>
                    <a:gs pos="100000">
                      <a:srgbClr val="e6ea2e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БГДОУ д/с "Кудесница" Халько И.А.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eb1d07"/>
                  </a:gs>
                  <a:gs pos="100000">
                    <a:srgbClr val="e6ea2e"/>
                  </a:gs>
                </a:gsLst>
                <a:lin ang="540000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-287280" y="836640"/>
            <a:ext cx="943128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з муравейника      выбежал и по  муравьиной тропке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(что сделал?)… 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ежал, бежал и к        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(что сделал?) … 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круг 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         (что сделал?)… 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коло          нашел много                , обрадовался, от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        (что сделал?)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 и к муравейнику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(что сделал?)… 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ыстро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(что сделал?)…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омой и позвал на помощь других                 .  Скоро вся муравьиная семья из построит новый муравейник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780000" y="692280"/>
            <a:ext cx="1079280" cy="792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284720" y="1844640"/>
            <a:ext cx="1152360" cy="5637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2916360" y="2276640"/>
            <a:ext cx="1152360" cy="576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763640" y="2781360"/>
            <a:ext cx="1152720" cy="5634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4067280" y="3284640"/>
            <a:ext cx="1152360" cy="5713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6227640" y="4581360"/>
            <a:ext cx="1079640" cy="792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5724360" y="4076640"/>
            <a:ext cx="1079640" cy="792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8"/>
          <a:stretch/>
        </p:blipFill>
        <p:spPr>
          <a:xfrm>
            <a:off x="6948360" y="4653000"/>
            <a:ext cx="1079640" cy="792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9"/>
          <a:stretch/>
        </p:blipFill>
        <p:spPr>
          <a:xfrm>
            <a:off x="7596360" y="4653000"/>
            <a:ext cx="1079280" cy="792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0"/>
          <a:stretch/>
        </p:blipFill>
        <p:spPr>
          <a:xfrm rot="21454200">
            <a:off x="6659640" y="2997000"/>
            <a:ext cx="792000" cy="2934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1"/>
          <a:stretch/>
        </p:blipFill>
        <p:spPr>
          <a:xfrm rot="21061200">
            <a:off x="7812000" y="5373360"/>
            <a:ext cx="1152720" cy="3049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2"/>
          <a:stretch/>
        </p:blipFill>
        <p:spPr>
          <a:xfrm rot="887400">
            <a:off x="7092720" y="2924280"/>
            <a:ext cx="1108080" cy="2937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3"/>
          <a:stretch/>
        </p:blipFill>
        <p:spPr>
          <a:xfrm rot="519000">
            <a:off x="7812000" y="5660640"/>
            <a:ext cx="1108080" cy="2937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4"/>
          <a:stretch/>
        </p:blipFill>
        <p:spPr>
          <a:xfrm>
            <a:off x="8244000" y="5583240"/>
            <a:ext cx="79200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635280" y="2276640"/>
            <a:ext cx="2087640" cy="1908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 rot="20043600">
            <a:off x="6943320" y="1557000"/>
            <a:ext cx="2200320" cy="20318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 rot="846600">
            <a:off x="755280" y="2565360"/>
            <a:ext cx="1224000" cy="11286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7451640" y="4724280"/>
            <a:ext cx="885960" cy="971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 rot="5400000">
            <a:off x="437760" y="4805280"/>
            <a:ext cx="885960" cy="971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 rot="16979400">
            <a:off x="2670120" y="2017440"/>
            <a:ext cx="885600" cy="971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7"/>
          <a:stretch/>
        </p:blipFill>
        <p:spPr>
          <a:xfrm>
            <a:off x="4788000" y="5661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8"/>
          <a:stretch/>
        </p:blipFill>
        <p:spPr>
          <a:xfrm rot="16200000">
            <a:off x="6156360" y="306828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9"/>
          <a:stretch/>
        </p:blipFill>
        <p:spPr>
          <a:xfrm>
            <a:off x="395280" y="5734080"/>
            <a:ext cx="1079640" cy="792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0"/>
          <a:stretch/>
        </p:blipFill>
        <p:spPr>
          <a:xfrm rot="20159400">
            <a:off x="3492000" y="4508280"/>
            <a:ext cx="1079640" cy="792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1"/>
          <a:stretch/>
        </p:blipFill>
        <p:spPr>
          <a:xfrm>
            <a:off x="5364000" y="1844640"/>
            <a:ext cx="1079640" cy="7923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2"/>
          <a:stretch/>
        </p:blipFill>
        <p:spPr>
          <a:xfrm>
            <a:off x="7524720" y="3645000"/>
            <a:ext cx="1079640" cy="792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3"/>
          <a:stretch/>
        </p:blipFill>
        <p:spPr>
          <a:xfrm rot="20043600">
            <a:off x="5579640" y="4436640"/>
            <a:ext cx="2200320" cy="2032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4"/>
          <a:stretch/>
        </p:blipFill>
        <p:spPr>
          <a:xfrm rot="18958200">
            <a:off x="1403280" y="4005360"/>
            <a:ext cx="2087640" cy="1908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бабочка, анимашка"/>
          <p:cNvPicPr/>
          <p:nvPr/>
        </p:nvPicPr>
        <p:blipFill>
          <a:blip r:embed="rId15"/>
          <a:stretch/>
        </p:blipFill>
        <p:spPr>
          <a:xfrm rot="700800">
            <a:off x="7667640" y="5805360"/>
            <a:ext cx="828720" cy="657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стрекоза, анимашка"/>
          <p:cNvPicPr/>
          <p:nvPr/>
        </p:nvPicPr>
        <p:blipFill>
          <a:blip r:embed="rId16"/>
          <a:stretch/>
        </p:blipFill>
        <p:spPr>
          <a:xfrm rot="1921800">
            <a:off x="4830480" y="4027320"/>
            <a:ext cx="1211040" cy="1229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стрекоза, анимашка"/>
          <p:cNvPicPr/>
          <p:nvPr/>
        </p:nvPicPr>
        <p:blipFill>
          <a:blip r:embed="rId17"/>
          <a:stretch/>
        </p:blipFill>
        <p:spPr>
          <a:xfrm rot="18318000">
            <a:off x="1481040" y="1334880"/>
            <a:ext cx="1139760" cy="12956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стрекоза, анимашка"/>
          <p:cNvPicPr/>
          <p:nvPr/>
        </p:nvPicPr>
        <p:blipFill>
          <a:blip r:embed="rId18"/>
          <a:stretch/>
        </p:blipFill>
        <p:spPr>
          <a:xfrm rot="4044600">
            <a:off x="6634080" y="1238040"/>
            <a:ext cx="1136520" cy="1152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9"/>
          <a:stretch/>
        </p:blipFill>
        <p:spPr>
          <a:xfrm rot="16979400">
            <a:off x="4254480" y="1153440"/>
            <a:ext cx="885960" cy="9716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0"/>
          <a:stretch/>
        </p:blipFill>
        <p:spPr>
          <a:xfrm rot="16979400">
            <a:off x="3462120" y="5330520"/>
            <a:ext cx="885960" cy="971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1"/>
          <a:stretch/>
        </p:blipFill>
        <p:spPr>
          <a:xfrm rot="8712600">
            <a:off x="250200" y="37159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стрекоза, анимашка"/>
          <p:cNvPicPr/>
          <p:nvPr/>
        </p:nvPicPr>
        <p:blipFill>
          <a:blip r:embed="rId22"/>
          <a:stretch/>
        </p:blipFill>
        <p:spPr>
          <a:xfrm rot="4044600">
            <a:off x="6450480" y="4142520"/>
            <a:ext cx="1065240" cy="10796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стрекоза, анимашка"/>
          <p:cNvPicPr/>
          <p:nvPr/>
        </p:nvPicPr>
        <p:blipFill>
          <a:blip r:embed="rId23"/>
          <a:stretch/>
        </p:blipFill>
        <p:spPr>
          <a:xfrm rot="18889200">
            <a:off x="2633400" y="3351240"/>
            <a:ext cx="855360" cy="8683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4"/>
          <a:stretch/>
        </p:blipFill>
        <p:spPr>
          <a:xfrm rot="16979400">
            <a:off x="8215200" y="2954160"/>
            <a:ext cx="885600" cy="971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5"/>
          <a:stretch/>
        </p:blipFill>
        <p:spPr>
          <a:xfrm rot="2928600">
            <a:off x="293400" y="1370160"/>
            <a:ext cx="88560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260280"/>
            <a:ext cx="90010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Це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расширять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представления детей о насекомы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упражнять детей в согласовании существительных с числительны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упражнять в согласовании слов в предложен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упражнять в употреблении формы множественного числа имен существительных в именительном падеж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упражнять детей в образовании и употреблении приставочных глагол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развивать мышление и вним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411280" y="216000"/>
            <a:ext cx="446580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Назови картин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1197000"/>
            <a:ext cx="215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1197000"/>
            <a:ext cx="215892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92360" y="1197000"/>
            <a:ext cx="215928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4005360"/>
            <a:ext cx="2159280" cy="2158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92360" y="4005360"/>
            <a:ext cx="2159280" cy="21589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61080" y="4005360"/>
            <a:ext cx="2158920" cy="21589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3357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Ж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80000" y="33577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АБ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20000" y="3284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Ч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1657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УРАВ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24360" y="6165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16720" y="6035760"/>
            <a:ext cx="20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ОЖЬЯ КО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411280" y="216000"/>
            <a:ext cx="446580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Назови картин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1197000"/>
            <a:ext cx="215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1197000"/>
            <a:ext cx="215892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59640" y="1197000"/>
            <a:ext cx="215892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659640" y="4005360"/>
            <a:ext cx="2158920" cy="2158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4005360"/>
            <a:ext cx="2158920" cy="21589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64000" y="4005360"/>
            <a:ext cx="2158920" cy="21589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3357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М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35280" y="32846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РЕК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80360" y="33577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616572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УЗНЕ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35280" y="61405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ДОМ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6165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ШМ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250920" y="189000"/>
            <a:ext cx="842472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Кто лишний и почему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76720" y="1197000"/>
            <a:ext cx="215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19280" y="1197000"/>
            <a:ext cx="215892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19280" y="4005360"/>
            <a:ext cx="215892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76720" y="4005360"/>
            <a:ext cx="2159280" cy="2158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92720" y="33577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РЕК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250920" y="189000"/>
            <a:ext cx="842472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Кто лишний и почему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6720" y="1197000"/>
            <a:ext cx="215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19280" y="1197000"/>
            <a:ext cx="215892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49800" y="3933720"/>
            <a:ext cx="2158920" cy="21592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19280" y="4005360"/>
            <a:ext cx="2158920" cy="2158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19280" y="6237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ЖАВОРО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50920" y="189000"/>
            <a:ext cx="842472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Игра "Один-много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1197000"/>
            <a:ext cx="215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1197000"/>
            <a:ext cx="215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11280" y="1197000"/>
            <a:ext cx="215928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77080" y="1197000"/>
            <a:ext cx="2158920" cy="2158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4005360"/>
            <a:ext cx="2159280" cy="21589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77080" y="4005360"/>
            <a:ext cx="2158920" cy="21589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11280" y="4005360"/>
            <a:ext cx="2159280" cy="215892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43280" y="4005360"/>
            <a:ext cx="2159280" cy="215892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335772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АБ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56000" y="321300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ОЖЬЯ КО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48360" y="3357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Ж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164360" y="3357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УРАВ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6165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АБ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56000" y="602136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ОЖЬИ КОР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19640" y="616572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Ж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64360" y="6165720"/>
            <a:ext cx="19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УРАВЬ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50920" y="189000"/>
            <a:ext cx="842472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Игра "Один-много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1197000"/>
            <a:ext cx="215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3280" y="1197000"/>
            <a:ext cx="215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11280" y="1197000"/>
            <a:ext cx="215928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77080" y="1197000"/>
            <a:ext cx="2158920" cy="2158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4005360"/>
            <a:ext cx="2159280" cy="21589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77080" y="4005360"/>
            <a:ext cx="2158920" cy="21589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11280" y="4005360"/>
            <a:ext cx="2159280" cy="215892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3280" y="4005360"/>
            <a:ext cx="2159280" cy="215892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3357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87640" y="3357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3357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Ч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236000" y="3357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ШМ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5640" y="61657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УХ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44720" y="6165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0920" y="61657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ЧЁ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36000" y="6165720"/>
            <a:ext cx="15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ШМ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50920" y="189000"/>
            <a:ext cx="842472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Игра "Один-много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1080" y="1197000"/>
            <a:ext cx="215892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5080" y="1197000"/>
            <a:ext cx="215892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13080" y="1197000"/>
            <a:ext cx="215892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77080" y="1197000"/>
            <a:ext cx="2158920" cy="2158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81080" y="4005360"/>
            <a:ext cx="2158920" cy="21589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77080" y="4005360"/>
            <a:ext cx="2158920" cy="21589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11280" y="4005360"/>
            <a:ext cx="2159280" cy="215892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3280" y="4005360"/>
            <a:ext cx="2159280" cy="215892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357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УЗНЕ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56000" y="3357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РЕК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48360" y="3357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М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77080" y="335772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ДОМ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7440" y="616572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УЗНЕЧ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84360" y="61657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РЕКО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61080" y="616572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МА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77080" y="61657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ДОМЕ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2T13:32:09Z</dcterms:created>
  <dc:creator>Ирина</dc:creator>
  <dc:description/>
  <dc:language>en-US</dc:language>
  <cp:lastModifiedBy>Ирина</cp:lastModifiedBy>
  <dcterms:modified xsi:type="dcterms:W3CDTF">2012-05-13T17:28:53Z</dcterms:modified>
  <cp:revision>30</cp:revision>
  <dc:subject/>
  <dc:title>Слайд 1</dc:title>
</cp:coreProperties>
</file>