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5E3-BF39-439A-9112-DD5D7ED0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01B-BE4D-42E7-95F6-303D4526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E5B-53B1-486E-945A-2135445A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714-D1C9-4EA6-880A-47839EF9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813C-D101-4369-9012-060C670E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97B5-6500-4776-8528-C244995E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E24B-BF78-44B5-87CA-16890A36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B302-1A83-46A3-A9F9-BEB4E4D2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6825-0E10-40A7-86F2-0F864831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3F42-40DD-4C96-AE67-4C58B894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708A-4D63-4ED1-8196-A3AEBDF0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8C8-6EFF-4A83-9651-64E1640B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637F-E40C-4B4B-A604-326971DE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6CE7-D360-456C-BEF9-6B4D535D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8236-6683-400D-812F-E7A94714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D4C0-BCBA-4CB6-9C93-1350D40D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BE74-A305-4B90-A683-B2C2BF5B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B7167-ADFF-4267-924C-EB969A30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AF67A-0464-43B9-8001-3B1D4886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135BB-3DBD-4CA1-95B4-83716BCA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2EAF8-F507-4B82-B188-678976DC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5C3C9-CDDE-49AB-89C8-861A7BC6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A70-FD1E-43F3-82B8-713B1F8C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367DC-A32C-4466-80DD-780FD7F4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F93CE-DECB-4421-8633-7A2D7CFE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9A009-16CF-44D3-95E5-683FE319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8171C-830F-4261-A516-756C29D9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55BAD-31F0-4E3B-A9D2-707C7E3A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F2D01-2AA7-47B2-89F8-630D05B1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56E2B-480C-4E0E-BFAF-C4D986E8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A117AD-D8CD-4331-88EA-9B7AD343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E9A1F-D57D-4B36-834C-0477E5B6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F9E66-513E-404A-BC90-00359FDB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48A-FAFE-470B-8648-0BDFA153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58ABF5-9508-4778-AD01-22170DED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F0865-C594-462E-99DB-D1509AB0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829685-52B3-4B66-9EE3-4828CDD7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68448C-539C-473E-9F38-3C56522F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E1F0C6-70A8-419D-A431-8123AF60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ADB142-8204-4604-AD00-B2C598AC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02A766-B6BE-499D-85B6-2BFB9337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E959E2-A941-4795-A6DD-2D134254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02E0D9-D836-4561-BDF2-ABCD7D92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6A51D-78C8-4BC0-8C00-579BF944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1F5-67B2-4C7C-B7D6-1ABB0E18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F5CDF-4AA4-404D-B560-E27AF975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5554E-538C-46D1-86B2-128B8B37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624D4-D35C-489B-BFDB-8EA3CB9D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3F175-A53E-4805-BC7C-6819ECFF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EB7A3-B5D9-4AB2-852A-5E736647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AB87C-F26A-4846-9BD8-D693B9FB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8FBF2-0558-4169-9FD4-2CEE560C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28C34-8B51-4E89-AC28-5D30E083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F4733-890A-4056-915B-F1BA673E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3A5E2-BAFE-46EE-BAAC-017BE4FD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C98-966C-4357-91B7-BA4520F4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5D866-DB67-40AD-B594-D78A8DA7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90118A-FFE9-4871-98DA-44B7C6B9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79E3B2-8075-4796-A300-B6CF14BC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745116-1935-486C-AD10-9BB57FDD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266EFA-5593-4317-A12C-82576193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46C1A5-C6F0-4843-B712-0D5B37D6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F30C4-4701-4BA7-94AB-AD23DD42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902E03-E917-4168-AA96-D932A259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B2268F-2CC1-4227-AFB5-D15BFD9C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85F1DA-977F-4E49-BF97-95590D6E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C83-99DA-4848-84F1-412BB1A2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39477F-C445-4C48-B480-44211397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E49DEB-AF04-45A0-A385-4ED4CB22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10D76-83C8-4A3E-BAD5-3DE8AA3D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C6B9E-914D-4C6F-80EC-F2E6CF0D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193D6-E8CD-4FEC-A05E-25DE12F5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C5663-8E6D-46EC-B016-84208FB9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6A2F0-C758-46E3-989E-73CC09D1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58AAC-9E13-4A14-BA14-75D63D4D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88127-99D2-443B-84E6-8476B38A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9A384-8189-413E-9D1E-987203FB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5D2-3C8D-40C7-8D2D-162C4C5C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9A444-D037-4779-A26E-65D21EA0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7A485-EC53-455E-BB57-3B80FB77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EEF33-77DF-4516-AB7D-62595309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8963B-DDF5-4DC2-997C-F1C62887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900BD-7414-405D-BD2F-43D08BA8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991-D554-4A98-B422-5EF08D53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C388-206C-4CB3-ABB9-E5BAB849A72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D07E-CD3D-4F93-8CFB-8F864B72C56F}" type="slidenum"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422A-9C22-4FB8-AA49-161B8F87FD84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BFFB-9FC6-46B5-B010-E2ACF2FBF87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37E8-714A-4AB8-8CFF-B8B9039961B0}" type="slidenum"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10A8-E3CC-4A54-89C6-7FC37820752B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2B47-EBB0-4D65-86F1-E365AC9A95A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71800" y="72151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Прямоугольник 3"/>
          <p:cNvSpPr/>
          <p:nvPr/>
        </p:nvSpPr>
        <p:spPr>
          <a:xfrm>
            <a:off x="1692360" y="4941720"/>
            <a:ext cx="696276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4"/>
          <p:cNvSpPr/>
          <p:nvPr/>
        </p:nvSpPr>
        <p:spPr>
          <a:xfrm>
            <a:off x="0" y="0"/>
            <a:ext cx="684360" cy="6858000"/>
          </a:xfrm>
          <a:prstGeom prst="rect">
            <a:avLst/>
          </a:prstGeom>
          <a:solidFill>
            <a:srgbClr val="e2c2c2"/>
          </a:solidFill>
          <a:ln w="10080">
            <a:solidFill>
              <a:srgbClr val="c0504d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7"/>
          <p:cNvSpPr/>
          <p:nvPr/>
        </p:nvSpPr>
        <p:spPr>
          <a:xfrm>
            <a:off x="1763640" y="1857240"/>
            <a:ext cx="738036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8"/>
          <p:cNvSpPr/>
          <p:nvPr/>
        </p:nvSpPr>
        <p:spPr>
          <a:xfrm flipV="1">
            <a:off x="5292720" y="-1035360"/>
            <a:ext cx="2709720" cy="34920"/>
          </a:xfrm>
          <a:prstGeom prst="line">
            <a:avLst/>
          </a:prstGeom>
          <a:ln w="19080">
            <a:solidFill>
              <a:srgbClr val="f6411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9"/>
          <p:cNvSpPr/>
          <p:nvPr/>
        </p:nvSpPr>
        <p:spPr>
          <a:xfrm>
            <a:off x="1403280" y="189000"/>
            <a:ext cx="7272360" cy="1739520"/>
          </a:xfrm>
          <a:prstGeom prst="rect">
            <a:avLst/>
          </a:prstGeom>
          <a:noFill/>
          <a:ln w="9360">
            <a:solidFill>
              <a:srgbClr val="f2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Районная письменная олимпи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81bd"/>
                </a:solidFill>
                <a:latin typeface="Arial"/>
              </a:rPr>
              <a:t>по музы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f81bd"/>
                </a:solidFill>
                <a:latin typeface="Arial"/>
              </a:rPr>
              <a:t>Концерт-</a:t>
            </a:r>
            <a:r>
              <a:rPr b="1" i="1" lang="en-US" sz="2800" spc="-1" strike="noStrike">
                <a:solidFill>
                  <a:srgbClr val="4f81bd"/>
                </a:solidFill>
                <a:latin typeface="Arial"/>
              </a:rPr>
              <a:t>M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Arial"/>
              </a:rPr>
              <a:t>                                  </a:t>
            </a:r>
            <a:r>
              <a:rPr b="1" lang="ru-RU" sz="2400" spc="-1" strike="noStrike">
                <a:solidFill>
                  <a:srgbClr val="4f81bd"/>
                </a:solidFill>
                <a:latin typeface="Arial"/>
              </a:rPr>
              <a:t>7 класс             </a:t>
            </a: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30.03.201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0" descr="http://rusnardom.ru/wp-content/uploads/2014/07/sviridov.jpg"/>
          <p:cNvPicPr/>
          <p:nvPr/>
        </p:nvPicPr>
        <p:blipFill>
          <a:blip r:embed="rId1"/>
          <a:stretch/>
        </p:blipFill>
        <p:spPr>
          <a:xfrm>
            <a:off x="6659640" y="1989000"/>
            <a:ext cx="1800000" cy="230364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13"/>
          <p:cNvSpPr/>
          <p:nvPr/>
        </p:nvSpPr>
        <p:spPr>
          <a:xfrm>
            <a:off x="2286000" y="263700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5"/>
          <p:cNvSpPr/>
          <p:nvPr/>
        </p:nvSpPr>
        <p:spPr>
          <a:xfrm>
            <a:off x="6516720" y="4508640"/>
            <a:ext cx="215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-лет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 дня р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 В. Свирид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C:\Users\п\Documents\РМО\Олимпиада по слушанию\Олимпиада 2016\ПРОКОФЬЕВ.jpg"/>
          <p:cNvPicPr/>
          <p:nvPr/>
        </p:nvPicPr>
        <p:blipFill>
          <a:blip r:embed="rId2"/>
          <a:stretch/>
        </p:blipFill>
        <p:spPr>
          <a:xfrm>
            <a:off x="4140360" y="2349360"/>
            <a:ext cx="1726920" cy="215928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18"/>
          <p:cNvSpPr/>
          <p:nvPr/>
        </p:nvSpPr>
        <p:spPr>
          <a:xfrm>
            <a:off x="3995640" y="4724280"/>
            <a:ext cx="20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25-лет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 дня р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.С. Прокофь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6" descr="http://www.piplz.ru/photo/Mozart.jpg"/>
          <p:cNvPicPr/>
          <p:nvPr/>
        </p:nvPicPr>
        <p:blipFill>
          <a:blip r:embed="rId3"/>
          <a:stretch/>
        </p:blipFill>
        <p:spPr>
          <a:xfrm>
            <a:off x="1403280" y="256536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318" name="Прямоугольник 22"/>
          <p:cNvSpPr/>
          <p:nvPr/>
        </p:nvSpPr>
        <p:spPr>
          <a:xfrm>
            <a:off x="1332000" y="5084640"/>
            <a:ext cx="20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60-лет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 дня рождения В.А. Моца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Солирующий инструмент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753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ите по тембру солирующий инструмен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овите фамилию компози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пишите название произ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          2)          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7" descr="http://music-fantasy.ru/files/gallery/paganini-niccolo-geiger-kersting.jpg"/>
          <p:cNvPicPr/>
          <p:nvPr/>
        </p:nvPicPr>
        <p:blipFill>
          <a:blip r:embed="rId1"/>
          <a:stretch/>
        </p:blipFill>
        <p:spPr>
          <a:xfrm>
            <a:off x="7164360" y="2023920"/>
            <a:ext cx="1806480" cy="2810160"/>
          </a:xfrm>
          <a:prstGeom prst="rect">
            <a:avLst/>
          </a:prstGeom>
          <a:ln w="0">
            <a:noFill/>
          </a:ln>
        </p:spPr>
      </p:pic>
      <p:pic>
        <p:nvPicPr>
          <p:cNvPr id="322" name="Содержимое 6" descr="Моцарт 3.jpg"/>
          <p:cNvPicPr/>
          <p:nvPr/>
        </p:nvPicPr>
        <p:blipFill>
          <a:blip r:embed="rId2"/>
          <a:stretch/>
        </p:blipFill>
        <p:spPr>
          <a:xfrm>
            <a:off x="4356000" y="4149720"/>
            <a:ext cx="3600720" cy="2374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C:\Users\п\Documents\РМО\Олимпиада по слушанию\Олимпиада 2016\Волшебная флейта.jpg"/>
          <p:cNvPicPr/>
          <p:nvPr/>
        </p:nvPicPr>
        <p:blipFill>
          <a:blip r:embed="rId3"/>
          <a:stretch/>
        </p:blipFill>
        <p:spPr>
          <a:xfrm>
            <a:off x="5364000" y="1557360"/>
            <a:ext cx="1876680" cy="2592360"/>
          </a:xfrm>
          <a:prstGeom prst="rect">
            <a:avLst/>
          </a:prstGeom>
          <a:ln w="0">
            <a:noFill/>
          </a:ln>
        </p:spPr>
      </p:pic>
      <p:pic>
        <p:nvPicPr>
          <p:cNvPr id="324" name="свиридов тройкаС1.mp3" descr=""/>
          <p:cNvPicPr/>
          <p:nvPr/>
        </p:nvPicPr>
        <p:blipFill>
          <a:blip r:embed="rId4"/>
          <a:stretch/>
        </p:blipFill>
        <p:spPr>
          <a:xfrm>
            <a:off x="1187280" y="501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5" name="Прокофьев Петя и волк Птичка.mp3" descr=""/>
          <p:cNvPicPr/>
          <p:nvPr/>
        </p:nvPicPr>
        <p:blipFill>
          <a:blip r:embed="rId5"/>
          <a:stretch/>
        </p:blipFill>
        <p:spPr>
          <a:xfrm>
            <a:off x="2340000" y="508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6" name="Моцарт Маленькая  ноч сер.mp3" descr=""/>
          <p:cNvPicPr/>
          <p:nvPr/>
        </p:nvPicPr>
        <p:blipFill>
          <a:blip r:embed="rId6"/>
          <a:stretch/>
        </p:blipFill>
        <p:spPr>
          <a:xfrm>
            <a:off x="3635280" y="508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5108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9137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15044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Определите жанр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41450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лушайте три фрагмента музыкальных произведений, созданных в одном жанр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             2)             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ите этот жан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фамилии композито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названия произвед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3" descr="C:\Users\п\Documents\РМО\Олимпиада по слушанию\Олимпиада 2016\Война и мир.jpg"/>
          <p:cNvPicPr/>
          <p:nvPr/>
        </p:nvPicPr>
        <p:blipFill>
          <a:blip r:embed="rId1"/>
          <a:stretch/>
        </p:blipFill>
        <p:spPr>
          <a:xfrm>
            <a:off x="5292720" y="1773360"/>
            <a:ext cx="3240000" cy="4103640"/>
          </a:xfrm>
          <a:prstGeom prst="rect">
            <a:avLst/>
          </a:prstGeom>
          <a:ln w="0">
            <a:noFill/>
          </a:ln>
        </p:spPr>
      </p:pic>
      <p:pic>
        <p:nvPicPr>
          <p:cNvPr id="330" name="Прокофьев бЗолушка Вальс.mp3" descr=""/>
          <p:cNvPicPr/>
          <p:nvPr/>
        </p:nvPicPr>
        <p:blipFill>
          <a:blip r:embed="rId2"/>
          <a:stretch/>
        </p:blipFill>
        <p:spPr>
          <a:xfrm>
            <a:off x="1332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31" name="Прокофьев Война и мир Вальс Наташи.mp3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2" name="Г.В. Свиридов - Вальс «Метель».mp3" descr=""/>
          <p:cNvPicPr/>
          <p:nvPr/>
        </p:nvPicPr>
        <p:blipFill>
          <a:blip r:embed="rId4"/>
          <a:stretch/>
        </p:blipFill>
        <p:spPr>
          <a:xfrm>
            <a:off x="3708360" y="371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52118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30132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00117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http://i98.ltalk.ru/47/49/24947/26/2643626/27.jpeg"/>
          <p:cNvPicPr/>
          <p:nvPr/>
        </p:nvPicPr>
        <p:blipFill>
          <a:blip r:embed="rId1"/>
          <a:srcRect l="0" t="17697" r="343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12720" y="0"/>
            <a:ext cx="815328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Составьте названия произведения и подпишите автора каждого произведения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03280" y="1557360"/>
            <a:ext cx="8137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вадьба                    Маленькая                Ромео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                             серенада                     сказ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Юпитер                              Нев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ульетта                                   Есен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уан                                              вол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эма                  симфония                          симфоническ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и                              опера                          Серге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н                          ночная                                Петя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ександр                                 ба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р                                Фигаро                           кант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5360" y="260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Определите форму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7640" y="1412640"/>
            <a:ext cx="53276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ределите музыкальную форму произве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автора музыки и название произве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10" descr="http://rusnardom.ru/wp-content/uploads/2014/07/sviridov.jpg"/>
          <p:cNvPicPr/>
          <p:nvPr/>
        </p:nvPicPr>
        <p:blipFill>
          <a:blip r:embed="rId1"/>
          <a:stretch/>
        </p:blipFill>
        <p:spPr>
          <a:xfrm>
            <a:off x="7164360" y="1773360"/>
            <a:ext cx="1600200" cy="21524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C:\Users\п\Documents\РМО\Олимпиада по слушанию\Олимпиада 2016\ПРОКОФЬЕВ.jpg"/>
          <p:cNvPicPr/>
          <p:nvPr/>
        </p:nvPicPr>
        <p:blipFill>
          <a:blip r:embed="rId2"/>
          <a:stretch/>
        </p:blipFill>
        <p:spPr>
          <a:xfrm>
            <a:off x="5219640" y="2924280"/>
            <a:ext cx="1727280" cy="2158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6" descr="http://www.piplz.ru/photo/Mozart.jpg"/>
          <p:cNvPicPr/>
          <p:nvPr/>
        </p:nvPicPr>
        <p:blipFill>
          <a:blip r:embed="rId3"/>
          <a:stretch/>
        </p:blipFill>
        <p:spPr>
          <a:xfrm>
            <a:off x="3132000" y="4076640"/>
            <a:ext cx="1800360" cy="2309760"/>
          </a:xfrm>
          <a:prstGeom prst="rect">
            <a:avLst/>
          </a:prstGeom>
          <a:ln w="0">
            <a:noFill/>
          </a:ln>
        </p:spPr>
      </p:pic>
      <p:pic>
        <p:nvPicPr>
          <p:cNvPr id="341" name="Mocart-Tureckoe_rondo_.mp3" descr=""/>
          <p:cNvPicPr/>
          <p:nvPr/>
        </p:nvPicPr>
        <p:blipFill>
          <a:blip r:embed="rId4"/>
          <a:stretch/>
        </p:blipFill>
        <p:spPr>
          <a:xfrm>
            <a:off x="1332000" y="4437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72032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360" y="260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Музыкальная викторина</a:t>
            </a:r>
            <a:br>
              <a:rPr sz="3200"/>
            </a:b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7640" y="1412640"/>
            <a:ext cx="53276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слушайте пять фрагментов    музыкальных произвед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авторов и названия произвед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Содержимое 5" descr="prokofiev-sergey-1934-konchalovskiy-petr.jpg"/>
          <p:cNvPicPr/>
          <p:nvPr/>
        </p:nvPicPr>
        <p:blipFill>
          <a:blip r:embed="rId1"/>
          <a:stretch/>
        </p:blipFill>
        <p:spPr>
          <a:xfrm>
            <a:off x="6516720" y="333360"/>
            <a:ext cx="2087640" cy="2735280"/>
          </a:xfrm>
          <a:prstGeom prst="rect">
            <a:avLst/>
          </a:prstGeom>
          <a:ln w="0">
            <a:noFill/>
          </a:ln>
        </p:spPr>
      </p:pic>
      <p:pic>
        <p:nvPicPr>
          <p:cNvPr id="345" name="Содержимое 9" descr="figaro_poster.jpg"/>
          <p:cNvPicPr/>
          <p:nvPr/>
        </p:nvPicPr>
        <p:blipFill>
          <a:blip r:embed="rId2"/>
          <a:stretch/>
        </p:blipFill>
        <p:spPr>
          <a:xfrm>
            <a:off x="7093080" y="3068640"/>
            <a:ext cx="1888920" cy="2521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C:\Users\п\Documents\РМО\Олимпиада по слушанию\Олимпиада 2016\serov._Ledovoe_poboicshe_resize.jpg"/>
          <p:cNvPicPr/>
          <p:nvPr/>
        </p:nvPicPr>
        <p:blipFill>
          <a:blip r:embed="rId3"/>
          <a:stretch/>
        </p:blipFill>
        <p:spPr>
          <a:xfrm>
            <a:off x="4572000" y="2565360"/>
            <a:ext cx="2514600" cy="2131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http://library.donetsk.ua/includes/virt/23/img/2_8.jpg"/>
          <p:cNvPicPr/>
          <p:nvPr/>
        </p:nvPicPr>
        <p:blipFill>
          <a:blip r:embed="rId4"/>
          <a:stretch/>
        </p:blipFill>
        <p:spPr>
          <a:xfrm>
            <a:off x="3924360" y="4365720"/>
            <a:ext cx="2376360" cy="1912680"/>
          </a:xfrm>
          <a:prstGeom prst="rect">
            <a:avLst/>
          </a:prstGeom>
          <a:ln w="0">
            <a:noFill/>
          </a:ln>
        </p:spPr>
      </p:pic>
      <p:pic>
        <p:nvPicPr>
          <p:cNvPr id="348" name="В. А. Моцарт - Симфония №40 соль минор - 1 часть.mp3" descr=""/>
          <p:cNvPicPr/>
          <p:nvPr/>
        </p:nvPicPr>
        <p:blipFill>
          <a:blip r:embed="rId5"/>
          <a:stretch/>
        </p:blipFill>
        <p:spPr>
          <a:xfrm>
            <a:off x="1042920" y="357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9" name="Поэма памяти Есенина Поет зима, аукает II д.mp3" descr=""/>
          <p:cNvPicPr/>
          <p:nvPr/>
        </p:nvPicPr>
        <p:blipFill>
          <a:blip r:embed="rId6"/>
          <a:stretch/>
        </p:blipFill>
        <p:spPr>
          <a:xfrm>
            <a:off x="755640" y="407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0" name="Свиридов Время вперед remix.mp3" descr=""/>
          <p:cNvPicPr/>
          <p:nvPr/>
        </p:nvPicPr>
        <p:blipFill>
          <a:blip r:embed="rId7"/>
          <a:stretch/>
        </p:blipFill>
        <p:spPr>
          <a:xfrm>
            <a:off x="755640" y="494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1" name="Моцарт Ария Фигаро оп Св Фигаро.mp3" descr=""/>
          <p:cNvPicPr/>
          <p:nvPr/>
        </p:nvPicPr>
        <p:blipFill>
          <a:blip r:embed="rId8"/>
          <a:stretch/>
        </p:blipFill>
        <p:spPr>
          <a:xfrm>
            <a:off x="971640" y="4508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2" name="Прокофьев Мертвое поле №6 Кантата Ал Невский.mp3" descr=""/>
          <p:cNvPicPr/>
          <p:nvPr/>
        </p:nvPicPr>
        <p:blipFill>
          <a:blip r:embed="rId9"/>
          <a:stretch/>
        </p:blipFill>
        <p:spPr>
          <a:xfrm>
            <a:off x="90000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85900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66878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36969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07977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62582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95360" y="260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Дополнительный вопрос</a:t>
            </a:r>
            <a:r>
              <a:rPr b="1" i="1" lang="en-US" sz="3600" spc="-1" strike="noStrike">
                <a:solidFill>
                  <a:srgbClr val="1f497d"/>
                </a:solidFill>
                <a:latin typeface="Tw Cen MT"/>
              </a:rPr>
              <a:t> *</a:t>
            </a:r>
            <a:br>
              <a:rPr sz="3200"/>
            </a:b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7640" y="1412640"/>
            <a:ext cx="53276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лушайте произве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авторов музы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ихов и название произве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2771640" y="4365720"/>
            <a:ext cx="3240360" cy="194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5651640" y="2924280"/>
            <a:ext cx="2881080" cy="1906560"/>
          </a:xfrm>
          <a:prstGeom prst="rect">
            <a:avLst/>
          </a:prstGeom>
          <a:ln w="0">
            <a:noFill/>
          </a:ln>
        </p:spPr>
      </p:pic>
      <p:pic>
        <p:nvPicPr>
          <p:cNvPr id="357" name="Прокофьев Болтунья (Зара Долуханова).mp3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27419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Благодарим за внимание!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59" name="Содержимое 10" descr="index.jpg"/>
          <p:cNvPicPr/>
          <p:nvPr/>
        </p:nvPicPr>
        <p:blipFill>
          <a:blip r:embed="rId1"/>
          <a:stretch/>
        </p:blipFill>
        <p:spPr>
          <a:xfrm>
            <a:off x="2340000" y="2492280"/>
            <a:ext cx="442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0:09:47Z</dcterms:created>
  <dc:creator>K</dc:creator>
  <dc:description/>
  <dc:language>en-US</dc:language>
  <cp:lastModifiedBy>EDDI</cp:lastModifiedBy>
  <dcterms:modified xsi:type="dcterms:W3CDTF">2016-04-04T19:36:45Z</dcterms:modified>
  <cp:revision>140</cp:revision>
  <dc:subject/>
  <dc:title>Слайд 1</dc:title>
</cp:coreProperties>
</file>