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6.jpeg" ContentType="image/jpeg"/>
  <Override PartName="/ppt/media/image14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40D7-18EB-41D1-8273-09A622885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8FB8-72FA-4FDF-A886-150B55E2B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A899-BDE1-4558-9CF0-63DDD1917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00F2-DE8E-497F-AD3C-6D9E4A175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584CD-3E67-4F64-91CC-A4CE9268F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03D39-2A0D-48DC-A2AC-77EB1C448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360B7-75A3-4187-B767-488FBED85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819D3-9C37-41CB-AF7E-26E4AE873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04A35-B599-49EF-97B8-117E453CF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C0990-C9C1-444E-8E00-47422B8CA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BF77F-CBCA-4598-9818-B81B95F3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5E2C-5F77-4706-88B1-C06B54B4C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1EC63-1CA5-4B04-B9D3-011FCA69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C5C70-D9B4-439F-8E60-61E40336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E9FDD-03E6-405F-BE00-2B8590FE1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0463F-CA43-471E-A4FD-D741702B6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D12DA-A125-4492-8CB0-D7B647A7C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D0A3DF-D9E2-4994-929E-F7E88C3AD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93C2FE-9206-4949-90A0-20CA144C1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C7E8AE-A1EF-4032-A4E0-8B02B2BC3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D185AC-4566-4586-A3B7-484D9E6B2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932641-BB31-4E7D-B248-58F366EE1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F775-AE4A-4A20-AD27-7396E4CB3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FDB59D-534B-463B-B969-1F2764975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814472-8811-493E-AF7F-7B2FD993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FD1C3F-A947-49D8-ABE9-CCCE06755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62A535-1C4C-46CC-B19E-F2E7CA95E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BB9C38-B3DC-4F78-BC1A-F045C3A5F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F0F4D0-6EB4-44DF-9F13-1C7F274CE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1A3848-E25B-415A-BFEB-37A276C16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06F470-ACEA-4D9F-B015-EAC3D571F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6BFFC4-B2FC-4352-BD5F-3158EAD94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FDCFF3-BAC4-4DFB-85F0-4486D0BCB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FEFA-A0A3-4E7C-A682-2DF8055FF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41DEC1-D99A-46D0-9F09-ED0901164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D23278-0FBF-4077-9059-02CF6B1FB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977858-0316-48CA-A859-D4D03AC45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023688-4010-4DB9-BA3D-FE2C1D55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05B8CD-DADC-4889-8072-859712CB1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54F1B2-35F8-443C-A968-C83165D9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DDAB3D-A99C-48B5-B0EB-40B22E486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B614E4-F497-4D5B-B5A4-7358BE163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51C150-6886-4150-935D-B92A75D8A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0ECAC0-5A5F-4DD5-9B30-09867F1E2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4F0C-6FAA-4F93-9878-363E28E5F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3BA43-3CB9-472E-AB61-982E3F12F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CD63D-8466-4EB6-A317-E61888180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8559C-1DAB-4FD6-9C81-C529DFB3D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1D6DE-79C4-4616-A375-20F48B0DF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C95478-6014-4476-83CE-2C16806A1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5B523B-95E0-41C3-91CF-232B6F0D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A0BA4-BAE7-43E9-B03F-F59F11397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3D26F-6415-4009-BEB3-16E8E95C7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CD594F-7311-423C-8C03-665F60EFF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119A0B-0B1D-427B-92FC-473785C5D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503E-28FC-4BF0-9605-1790308B6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D7880-D51B-47C0-A181-8FF5D56F8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A33096-1348-4DF7-9097-A08B48E4D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459A5A-6F12-4002-9665-621462DFF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0AAA9C-1C79-45C1-9541-F8C396E2D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979BB7-02DB-4875-9D75-6E6E6D5AE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525BFB-FC1A-40E2-A0AE-C76769CA0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CA8654-C5C7-4165-A55C-63A9DB885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2F6A3C-3BFA-42FF-8BD2-A908BE15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B81829-C770-4569-871E-A6FDE7BDD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FBEC32-060C-40A0-BAD6-020A6CFB8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E3BB-6DBA-4AF1-9FCE-811B3BD0F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49CE5C-67C0-4B3E-A243-8F3042A5C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4D19EF-F9B0-4944-9897-D7A954DF4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2A352C-6780-4545-9DF0-8F7BF83D4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7C6A70-BD81-4204-A8DA-A5B7CE1E9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3122E1-00B3-4FBF-9D9B-F2FA04855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A160E9-A466-4E6C-883F-557B66BB3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AB9228-D2F2-4561-98D1-19A5FFBDE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E42DA9-9E8E-4FA8-B507-84E0A1C3D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694F33-9CB9-4DEA-9217-CD10834D9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34F171-66C4-4082-83B7-96EE0290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8DA5-C081-4F7B-9947-7C460EB3F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484D06-7419-4A7F-A774-EB4E99DA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1880CB-63BF-4F6F-87AD-55EB6E36A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FF34A2-F685-41EC-800A-613824AA3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97BF5B-ED13-44DD-A7AE-185FA3ED4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52A267-2B42-4708-886B-9DB131B1A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FA8E-1893-44FB-8A12-B495888E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700BC-BA73-4617-8E11-8FE49539A0E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9BAA3-515B-4C5B-ADEE-67B9594BC3E8}" type="slidenum">
              <a:rPr b="1" lang="ru-RU" sz="14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FFFB0-2BF8-4BF9-AE13-AFCC7D62756E}" type="slidenum"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B2F16-CBE6-4E00-9B44-31DFB43333B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369DC-19EE-4B30-BA5C-9CB590827F33}" type="slidenum">
              <a:rPr b="1" lang="ru-RU" sz="14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sldNum" idx="17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8DEB7-EDD3-4779-B422-31B45FE042E4}" type="slidenum"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8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20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21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3CAC8-8C3E-4ED5-B746-153020EE4E0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071800" y="721512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7" name="Прямоугольник 3"/>
          <p:cNvSpPr/>
          <p:nvPr/>
        </p:nvSpPr>
        <p:spPr>
          <a:xfrm>
            <a:off x="1692360" y="4941720"/>
            <a:ext cx="696276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4"/>
          <p:cNvSpPr/>
          <p:nvPr/>
        </p:nvSpPr>
        <p:spPr>
          <a:xfrm>
            <a:off x="0" y="0"/>
            <a:ext cx="684360" cy="6858000"/>
          </a:xfrm>
          <a:prstGeom prst="rect">
            <a:avLst/>
          </a:prstGeom>
          <a:solidFill>
            <a:srgbClr val="e2c2c2"/>
          </a:solidFill>
          <a:ln w="10080">
            <a:solidFill>
              <a:srgbClr val="c0504d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7"/>
          <p:cNvSpPr/>
          <p:nvPr/>
        </p:nvSpPr>
        <p:spPr>
          <a:xfrm>
            <a:off x="1763640" y="1857240"/>
            <a:ext cx="7380360" cy="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ая соединительная линия 8"/>
          <p:cNvSpPr/>
          <p:nvPr/>
        </p:nvSpPr>
        <p:spPr>
          <a:xfrm flipV="1">
            <a:off x="5292720" y="-1035360"/>
            <a:ext cx="2709720" cy="34920"/>
          </a:xfrm>
          <a:prstGeom prst="line">
            <a:avLst/>
          </a:prstGeom>
          <a:ln w="19080">
            <a:solidFill>
              <a:srgbClr val="f6411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оугольник 9"/>
          <p:cNvSpPr/>
          <p:nvPr/>
        </p:nvSpPr>
        <p:spPr>
          <a:xfrm>
            <a:off x="1403280" y="189000"/>
            <a:ext cx="7272360" cy="1739520"/>
          </a:xfrm>
          <a:prstGeom prst="rect">
            <a:avLst/>
          </a:prstGeom>
          <a:noFill/>
          <a:ln w="9360">
            <a:solidFill>
              <a:srgbClr val="f2dc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81bd"/>
                </a:solidFill>
                <a:latin typeface="Arial"/>
              </a:rPr>
              <a:t>Районная письменная олимпиа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81bd"/>
                </a:solidFill>
                <a:latin typeface="Arial"/>
              </a:rPr>
              <a:t>по музык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f81bd"/>
                </a:solidFill>
                <a:latin typeface="Arial"/>
              </a:rPr>
              <a:t>Концерт-</a:t>
            </a:r>
            <a:r>
              <a:rPr b="1" i="1" lang="en-US" sz="2800" spc="-1" strike="noStrike">
                <a:solidFill>
                  <a:srgbClr val="4f81bd"/>
                </a:solidFill>
                <a:latin typeface="Arial"/>
              </a:rPr>
              <a:t>MA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81bd"/>
                </a:solidFill>
                <a:latin typeface="Arial"/>
              </a:rPr>
              <a:t>                                  </a:t>
            </a:r>
            <a:r>
              <a:rPr b="1" lang="ru-RU" sz="2400" spc="-1" strike="noStrike">
                <a:solidFill>
                  <a:srgbClr val="4f81bd"/>
                </a:solidFill>
                <a:latin typeface="Arial"/>
              </a:rPr>
              <a:t>7 класс             </a:t>
            </a:r>
            <a:r>
              <a:rPr b="0" lang="ru-RU" sz="2400" spc="-1" strike="noStrike">
                <a:solidFill>
                  <a:srgbClr val="4f81bd"/>
                </a:solidFill>
                <a:latin typeface="Arial"/>
              </a:rPr>
              <a:t>30.03.2016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10" descr="http://rusnardom.ru/wp-content/uploads/2014/07/sviridov.jpg"/>
          <p:cNvPicPr/>
          <p:nvPr/>
        </p:nvPicPr>
        <p:blipFill>
          <a:blip r:embed="rId1"/>
          <a:stretch/>
        </p:blipFill>
        <p:spPr>
          <a:xfrm>
            <a:off x="6659640" y="1989000"/>
            <a:ext cx="1800000" cy="2303640"/>
          </a:xfrm>
          <a:prstGeom prst="rect">
            <a:avLst/>
          </a:prstGeom>
          <a:ln w="0">
            <a:noFill/>
          </a:ln>
        </p:spPr>
      </p:pic>
      <p:sp>
        <p:nvSpPr>
          <p:cNvPr id="313" name="Прямоугольник 13"/>
          <p:cNvSpPr/>
          <p:nvPr/>
        </p:nvSpPr>
        <p:spPr>
          <a:xfrm>
            <a:off x="2286000" y="2637000"/>
            <a:ext cx="457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Прямоугольник 15"/>
          <p:cNvSpPr/>
          <p:nvPr/>
        </p:nvSpPr>
        <p:spPr>
          <a:xfrm>
            <a:off x="6516720" y="4508640"/>
            <a:ext cx="2158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00-лети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 дня ро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. В. Свирид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2" descr="C:\Users\п\Documents\РМО\Олимпиада по слушанию\Олимпиада 2016\ПРОКОФЬЕВ.jpg"/>
          <p:cNvPicPr/>
          <p:nvPr/>
        </p:nvPicPr>
        <p:blipFill>
          <a:blip r:embed="rId2"/>
          <a:stretch/>
        </p:blipFill>
        <p:spPr>
          <a:xfrm>
            <a:off x="4140360" y="2349360"/>
            <a:ext cx="1726920" cy="2159280"/>
          </a:xfrm>
          <a:prstGeom prst="rect">
            <a:avLst/>
          </a:prstGeom>
          <a:ln w="0">
            <a:noFill/>
          </a:ln>
        </p:spPr>
      </p:pic>
      <p:sp>
        <p:nvSpPr>
          <p:cNvPr id="316" name="Прямоугольник 18"/>
          <p:cNvSpPr/>
          <p:nvPr/>
        </p:nvSpPr>
        <p:spPr>
          <a:xfrm>
            <a:off x="3995640" y="4724280"/>
            <a:ext cx="201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125-лети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о дня ро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.С. Прокофье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16" descr="http://www.piplz.ru/photo/Mozart.jpg"/>
          <p:cNvPicPr/>
          <p:nvPr/>
        </p:nvPicPr>
        <p:blipFill>
          <a:blip r:embed="rId3"/>
          <a:stretch/>
        </p:blipFill>
        <p:spPr>
          <a:xfrm>
            <a:off x="1403280" y="2565360"/>
            <a:ext cx="1905120" cy="2381400"/>
          </a:xfrm>
          <a:prstGeom prst="rect">
            <a:avLst/>
          </a:prstGeom>
          <a:ln w="0">
            <a:noFill/>
          </a:ln>
        </p:spPr>
      </p:pic>
      <p:sp>
        <p:nvSpPr>
          <p:cNvPr id="318" name="Прямоугольник 22"/>
          <p:cNvSpPr/>
          <p:nvPr/>
        </p:nvSpPr>
        <p:spPr>
          <a:xfrm>
            <a:off x="1332000" y="5084640"/>
            <a:ext cx="2087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60-лети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 дня рождения В.А. Моцар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f497d"/>
                </a:solidFill>
                <a:latin typeface="Calibri"/>
              </a:rPr>
              <a:t>Солирующий инструмент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4753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пределите по тембру солирующий инструмент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зовите фамилию композито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пишите название произвед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)          2)          3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1" name="Picture 7" descr="http://music-fantasy.ru/files/gallery/paganini-niccolo-geiger-kersting.jpg"/>
          <p:cNvPicPr/>
          <p:nvPr/>
        </p:nvPicPr>
        <p:blipFill>
          <a:blip r:embed="rId1"/>
          <a:stretch/>
        </p:blipFill>
        <p:spPr>
          <a:xfrm>
            <a:off x="7164360" y="2023920"/>
            <a:ext cx="1806480" cy="2810160"/>
          </a:xfrm>
          <a:prstGeom prst="rect">
            <a:avLst/>
          </a:prstGeom>
          <a:ln w="0">
            <a:noFill/>
          </a:ln>
        </p:spPr>
      </p:pic>
      <p:pic>
        <p:nvPicPr>
          <p:cNvPr id="322" name="Содержимое 6" descr="Моцарт 3.jpg"/>
          <p:cNvPicPr/>
          <p:nvPr/>
        </p:nvPicPr>
        <p:blipFill>
          <a:blip r:embed="rId2"/>
          <a:stretch/>
        </p:blipFill>
        <p:spPr>
          <a:xfrm>
            <a:off x="4356000" y="4149720"/>
            <a:ext cx="3600720" cy="237492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8" descr="C:\Users\п\Documents\РМО\Олимпиада по слушанию\Олимпиада 2016\Волшебная флейта.jpg"/>
          <p:cNvPicPr/>
          <p:nvPr/>
        </p:nvPicPr>
        <p:blipFill>
          <a:blip r:embed="rId3"/>
          <a:stretch/>
        </p:blipFill>
        <p:spPr>
          <a:xfrm>
            <a:off x="5364000" y="1557360"/>
            <a:ext cx="1876680" cy="2592360"/>
          </a:xfrm>
          <a:prstGeom prst="rect">
            <a:avLst/>
          </a:prstGeom>
          <a:ln w="0">
            <a:noFill/>
          </a:ln>
        </p:spPr>
      </p:pic>
      <p:pic>
        <p:nvPicPr>
          <p:cNvPr id="324" name="свиридов тройкаС1.mp3" descr=""/>
          <p:cNvPicPr/>
          <p:nvPr/>
        </p:nvPicPr>
        <p:blipFill>
          <a:blip r:embed="rId4"/>
          <a:stretch/>
        </p:blipFill>
        <p:spPr>
          <a:xfrm>
            <a:off x="1187280" y="5013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25" name="Прокофьев Петя и волк Птичка.mp3" descr=""/>
          <p:cNvPicPr/>
          <p:nvPr/>
        </p:nvPicPr>
        <p:blipFill>
          <a:blip r:embed="rId5"/>
          <a:stretch/>
        </p:blipFill>
        <p:spPr>
          <a:xfrm>
            <a:off x="2340000" y="5084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26" name="Моцарт Маленькая  ноч сер.mp3" descr=""/>
          <p:cNvPicPr/>
          <p:nvPr/>
        </p:nvPicPr>
        <p:blipFill>
          <a:blip r:embed="rId6"/>
          <a:stretch/>
        </p:blipFill>
        <p:spPr>
          <a:xfrm>
            <a:off x="3635280" y="5084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5108" fill="hold"/>
                                        <p:tgtEl>
                                          <p:spTgt spid="3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29137" fill="hold"/>
                                        <p:tgtEl>
                                          <p:spTgt spid="3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115044" fill="hold"/>
                                        <p:tgtEl>
                                          <p:spTgt spid="3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1f497d"/>
                </a:solidFill>
                <a:latin typeface="Calibri"/>
              </a:rPr>
              <a:t>Определите жанр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41450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слушайте три фрагмента музыкальных произведений, созданных в одном жанр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)             2)             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пределите этот жан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пишите фамилии композитор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пишите названия произведе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9" name="Picture 3" descr="C:\Users\п\Documents\РМО\Олимпиада по слушанию\Олимпиада 2016\Война и мир.jpg"/>
          <p:cNvPicPr/>
          <p:nvPr/>
        </p:nvPicPr>
        <p:blipFill>
          <a:blip r:embed="rId1"/>
          <a:stretch/>
        </p:blipFill>
        <p:spPr>
          <a:xfrm>
            <a:off x="5292720" y="1773360"/>
            <a:ext cx="3240000" cy="4103640"/>
          </a:xfrm>
          <a:prstGeom prst="rect">
            <a:avLst/>
          </a:prstGeom>
          <a:ln w="0">
            <a:noFill/>
          </a:ln>
        </p:spPr>
      </p:pic>
      <p:pic>
        <p:nvPicPr>
          <p:cNvPr id="330" name="Прокофьев бЗолушка Вальс.mp3" descr=""/>
          <p:cNvPicPr/>
          <p:nvPr/>
        </p:nvPicPr>
        <p:blipFill>
          <a:blip r:embed="rId2"/>
          <a:stretch/>
        </p:blipFill>
        <p:spPr>
          <a:xfrm>
            <a:off x="1332000" y="3716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31" name="Прокофьев Война и мир Вальс Наташи.mp3" descr=""/>
          <p:cNvPicPr/>
          <p:nvPr/>
        </p:nvPicPr>
        <p:blipFill>
          <a:blip r:embed="rId3"/>
          <a:stretch/>
        </p:blipFill>
        <p:spPr>
          <a:xfrm>
            <a:off x="2484360" y="3716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32" name="Г.В. Свиридов - Вальс «Метель».mp3" descr=""/>
          <p:cNvPicPr/>
          <p:nvPr/>
        </p:nvPicPr>
        <p:blipFill>
          <a:blip r:embed="rId4"/>
          <a:stretch/>
        </p:blipFill>
        <p:spPr>
          <a:xfrm>
            <a:off x="3708360" y="3716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restart="whenNotActive" nodeType="interactiveSeq" fill="hold">
                <p:stCondLst>
                  <p:cond evt="onClick">
                    <p:tgtEl>
                      <p:spTgt spid="330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52118" fill="hold"/>
                                        <p:tgtEl>
                                          <p:spTgt spid="3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331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30132" fill="hold"/>
                                        <p:tgtEl>
                                          <p:spTgt spid="3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332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332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00117" fill="hold"/>
                                        <p:tgtEl>
                                          <p:spTgt spid="3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5" descr="http://i98.ltalk.ru/47/49/24947/26/2643626/27.jpeg"/>
          <p:cNvPicPr/>
          <p:nvPr/>
        </p:nvPicPr>
        <p:blipFill>
          <a:blip r:embed="rId1"/>
          <a:srcRect l="0" t="17697" r="343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12720" y="0"/>
            <a:ext cx="815328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f497d"/>
                </a:solidFill>
                <a:latin typeface="Calibri"/>
              </a:rPr>
              <a:t>Составьте названия произведения и подпишите автора каждого произведения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503280" y="1557360"/>
            <a:ext cx="813744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вадьба                    Маленькая                Ромео 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ойна и                              серенада                     сказк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Юпитер                              Невск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жульетта                                   Есен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Жуан                                              вол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эма                  симфония                          симфоническ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амяти                              опера                          Серге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он                          ночная                                Петя 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лександр                                 бал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ир                                Фигаро                           канта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95360" y="26028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f497d"/>
                </a:solidFill>
                <a:latin typeface="Calibri"/>
              </a:rPr>
              <a:t>Определите форму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07640" y="1412640"/>
            <a:ext cx="532764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пределите музыкальную форму произвед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пишите автора музыки и название произвед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8" name="Picture 10" descr="http://rusnardom.ru/wp-content/uploads/2014/07/sviridov.jpg"/>
          <p:cNvPicPr/>
          <p:nvPr/>
        </p:nvPicPr>
        <p:blipFill>
          <a:blip r:embed="rId1"/>
          <a:stretch/>
        </p:blipFill>
        <p:spPr>
          <a:xfrm>
            <a:off x="7164360" y="1773360"/>
            <a:ext cx="1600200" cy="21524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2" descr="C:\Users\п\Documents\РМО\Олимпиада по слушанию\Олимпиада 2016\ПРОКОФЬЕВ.jpg"/>
          <p:cNvPicPr/>
          <p:nvPr/>
        </p:nvPicPr>
        <p:blipFill>
          <a:blip r:embed="rId2"/>
          <a:stretch/>
        </p:blipFill>
        <p:spPr>
          <a:xfrm>
            <a:off x="5219640" y="2924280"/>
            <a:ext cx="1727280" cy="215892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6" descr="http://www.piplz.ru/photo/Mozart.jpg"/>
          <p:cNvPicPr/>
          <p:nvPr/>
        </p:nvPicPr>
        <p:blipFill>
          <a:blip r:embed="rId3"/>
          <a:stretch/>
        </p:blipFill>
        <p:spPr>
          <a:xfrm>
            <a:off x="3132000" y="4076640"/>
            <a:ext cx="1800360" cy="2309760"/>
          </a:xfrm>
          <a:prstGeom prst="rect">
            <a:avLst/>
          </a:prstGeom>
          <a:ln w="0">
            <a:noFill/>
          </a:ln>
        </p:spPr>
      </p:pic>
      <p:pic>
        <p:nvPicPr>
          <p:cNvPr id="341" name="Mocart-Tureckoe_rondo_.mp3" descr=""/>
          <p:cNvPicPr/>
          <p:nvPr/>
        </p:nvPicPr>
        <p:blipFill>
          <a:blip r:embed="rId4"/>
          <a:stretch/>
        </p:blipFill>
        <p:spPr>
          <a:xfrm>
            <a:off x="1332000" y="4437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restart="whenNotActive" nodeType="interactiveSeq" fill="hold">
                <p:stCondLst>
                  <p:cond evt="onClick">
                    <p:tgtEl>
                      <p:spTgt spid="341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341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172032" fill="hold"/>
                                        <p:tgtEl>
                                          <p:spTgt spid="3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95360" y="26028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f497d"/>
                </a:solidFill>
                <a:latin typeface="Calibri"/>
              </a:rPr>
              <a:t>Музыкальная викторина</a:t>
            </a:r>
            <a:br>
              <a:rPr sz="3200"/>
            </a:b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07640" y="1412640"/>
            <a:ext cx="532764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слушайте пять фрагментов    музыкальных произведен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пишите авторов и названия произведе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4" name="Содержимое 5" descr="prokofiev-sergey-1934-konchalovskiy-petr.jpg"/>
          <p:cNvPicPr/>
          <p:nvPr/>
        </p:nvPicPr>
        <p:blipFill>
          <a:blip r:embed="rId1"/>
          <a:stretch/>
        </p:blipFill>
        <p:spPr>
          <a:xfrm>
            <a:off x="6516720" y="333360"/>
            <a:ext cx="2087640" cy="2735280"/>
          </a:xfrm>
          <a:prstGeom prst="rect">
            <a:avLst/>
          </a:prstGeom>
          <a:ln w="0">
            <a:noFill/>
          </a:ln>
        </p:spPr>
      </p:pic>
      <p:pic>
        <p:nvPicPr>
          <p:cNvPr id="345" name="Содержимое 9" descr="figaro_poster.jpg"/>
          <p:cNvPicPr/>
          <p:nvPr/>
        </p:nvPicPr>
        <p:blipFill>
          <a:blip r:embed="rId2"/>
          <a:stretch/>
        </p:blipFill>
        <p:spPr>
          <a:xfrm>
            <a:off x="7093080" y="3068640"/>
            <a:ext cx="1888920" cy="25210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4" descr="C:\Users\п\Documents\РМО\Олимпиада по слушанию\Олимпиада 2016\serov._Ledovoe_poboicshe_resize.jpg"/>
          <p:cNvPicPr/>
          <p:nvPr/>
        </p:nvPicPr>
        <p:blipFill>
          <a:blip r:embed="rId3"/>
          <a:stretch/>
        </p:blipFill>
        <p:spPr>
          <a:xfrm>
            <a:off x="4572000" y="2565360"/>
            <a:ext cx="2514600" cy="213192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6" descr="http://library.donetsk.ua/includes/virt/23/img/2_8.jpg"/>
          <p:cNvPicPr/>
          <p:nvPr/>
        </p:nvPicPr>
        <p:blipFill>
          <a:blip r:embed="rId4"/>
          <a:stretch/>
        </p:blipFill>
        <p:spPr>
          <a:xfrm>
            <a:off x="3924360" y="4365720"/>
            <a:ext cx="2376360" cy="1912680"/>
          </a:xfrm>
          <a:prstGeom prst="rect">
            <a:avLst/>
          </a:prstGeom>
          <a:ln w="0">
            <a:noFill/>
          </a:ln>
        </p:spPr>
      </p:pic>
      <p:pic>
        <p:nvPicPr>
          <p:cNvPr id="348" name="В. А. Моцарт - Симфония №40 соль минор - 1 часть.mp3" descr=""/>
          <p:cNvPicPr/>
          <p:nvPr/>
        </p:nvPicPr>
        <p:blipFill>
          <a:blip r:embed="rId5"/>
          <a:stretch/>
        </p:blipFill>
        <p:spPr>
          <a:xfrm>
            <a:off x="1042920" y="3573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49" name="Поэма памяти Есенина Поет зима, аукает II д.mp3" descr=""/>
          <p:cNvPicPr/>
          <p:nvPr/>
        </p:nvPicPr>
        <p:blipFill>
          <a:blip r:embed="rId6"/>
          <a:stretch/>
        </p:blipFill>
        <p:spPr>
          <a:xfrm>
            <a:off x="755640" y="4076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50" name="Свиридов Время вперед remix.mp3" descr=""/>
          <p:cNvPicPr/>
          <p:nvPr/>
        </p:nvPicPr>
        <p:blipFill>
          <a:blip r:embed="rId7"/>
          <a:stretch/>
        </p:blipFill>
        <p:spPr>
          <a:xfrm>
            <a:off x="755640" y="4941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51" name="Моцарт Ария Фигаро оп Св Фигаро.mp3" descr=""/>
          <p:cNvPicPr/>
          <p:nvPr/>
        </p:nvPicPr>
        <p:blipFill>
          <a:blip r:embed="rId8"/>
          <a:stretch/>
        </p:blipFill>
        <p:spPr>
          <a:xfrm>
            <a:off x="971640" y="450864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52" name="Прокофьев Мертвое поле №6 Кантата Ал Невский.mp3" descr=""/>
          <p:cNvPicPr/>
          <p:nvPr/>
        </p:nvPicPr>
        <p:blipFill>
          <a:blip r:embed="rId9"/>
          <a:stretch/>
        </p:blipFill>
        <p:spPr>
          <a:xfrm>
            <a:off x="900000" y="314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restart="whenNotActive" nodeType="interactiveSeq" fill="hold">
                <p:stCondLst>
                  <p:cond evt="onClick">
                    <p:tgtEl>
                      <p:spTgt spid="348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85900" fill="hold"/>
                                        <p:tgtEl>
                                          <p:spTgt spid="3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349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166878" fill="hold"/>
                                        <p:tgtEl>
                                          <p:spTgt spid="3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350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350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36969" fill="hold"/>
                                        <p:tgtEl>
                                          <p:spTgt spid="3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351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107977" fill="hold"/>
                                        <p:tgtEl>
                                          <p:spTgt spid="3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352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352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162582" fill="hold"/>
                                        <p:tgtEl>
                                          <p:spTgt spid="3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95360" y="26028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1f497d"/>
                </a:solidFill>
                <a:latin typeface="Calibri"/>
              </a:rPr>
              <a:t>Дополнительный вопрос</a:t>
            </a:r>
            <a:r>
              <a:rPr b="1" i="1" lang="en-US" sz="3600" spc="-1" strike="noStrike">
                <a:solidFill>
                  <a:srgbClr val="1f497d"/>
                </a:solidFill>
                <a:latin typeface="Tw Cen MT"/>
              </a:rPr>
              <a:t> *</a:t>
            </a:r>
            <a:br>
              <a:rPr sz="3200"/>
            </a:b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07640" y="1412640"/>
            <a:ext cx="532764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слушайте произвед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пишите авторов музыки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тихов и название произвед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2771640" y="4365720"/>
            <a:ext cx="3240360" cy="19429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3" descr=""/>
          <p:cNvPicPr/>
          <p:nvPr/>
        </p:nvPicPr>
        <p:blipFill>
          <a:blip r:embed="rId2"/>
          <a:stretch/>
        </p:blipFill>
        <p:spPr>
          <a:xfrm>
            <a:off x="5651640" y="2924280"/>
            <a:ext cx="2881080" cy="1906560"/>
          </a:xfrm>
          <a:prstGeom prst="rect">
            <a:avLst/>
          </a:prstGeom>
          <a:ln w="0">
            <a:noFill/>
          </a:ln>
        </p:spPr>
      </p:pic>
      <p:pic>
        <p:nvPicPr>
          <p:cNvPr id="357" name="Прокофьев Болтунья (Зара Долуханова).mp3" descr=""/>
          <p:cNvPicPr/>
          <p:nvPr/>
        </p:nvPicPr>
        <p:blipFill>
          <a:blip r:embed="rId3"/>
          <a:stretch/>
        </p:blipFill>
        <p:spPr>
          <a:xfrm>
            <a:off x="4859280" y="198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restart="whenNotActive" nodeType="interactiveSeq" fill="hold">
                <p:stCondLst>
                  <p:cond evt="onClick">
                    <p:tgtEl>
                      <p:spTgt spid="357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127419" fill="hold"/>
                                        <p:tgtEl>
                                          <p:spTgt spid="3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1f497d"/>
                </a:solidFill>
                <a:latin typeface="Calibri"/>
              </a:rPr>
              <a:t>Благодарим за внимание!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359" name="Содержимое 10" descr="index.jpg"/>
          <p:cNvPicPr/>
          <p:nvPr/>
        </p:nvPicPr>
        <p:blipFill>
          <a:blip r:embed="rId1"/>
          <a:stretch/>
        </p:blipFill>
        <p:spPr>
          <a:xfrm>
            <a:off x="2340000" y="2492280"/>
            <a:ext cx="44290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6T10:09:47Z</dcterms:created>
  <dc:creator>K</dc:creator>
  <dc:description/>
  <dc:language>en-US</dc:language>
  <cp:lastModifiedBy>EDDI</cp:lastModifiedBy>
  <dcterms:modified xsi:type="dcterms:W3CDTF">2016-04-04T19:36:45Z</dcterms:modified>
  <cp:revision>140</cp:revision>
  <dc:subject/>
  <dc:title>Слайд 1</dc:title>
</cp:coreProperties>
</file>