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956B-8FBF-4AC5-BBD3-E53B1A469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B2DA-0201-41D5-9690-43BB11756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2389-49E2-4CC5-ABEC-995AA1D1B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5DD0-B5D3-4BCF-8D6E-F2EE9FAA4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E149-33EE-47D7-A09D-F593E9542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3E3B-9A28-4555-9850-E45E45BE0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E27D-A525-4718-B8F7-060CE87FC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646B-9276-499B-BA5F-182FAD02C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B150-8C1C-420E-BF24-78823B239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230E-0AE1-43B8-8AE6-4826C0F7E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ED44-DB5C-485B-A864-8D304B312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3B3D-8276-4FD8-B82F-153096783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8f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04234-D93D-4728-A362-1004C605A4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04560" y="914040"/>
            <a:ext cx="8458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Святые благоверные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князья – страстотерпцы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Борис и Глеб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»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вятой равноапостольный князь Владимир с сыновьями Борисом и Глеб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Картинка 37 из 887"/>
          <p:cNvPicPr/>
          <p:nvPr/>
        </p:nvPicPr>
        <p:blipFill>
          <a:blip r:embed="rId1"/>
          <a:stretch/>
        </p:blipFill>
        <p:spPr>
          <a:xfrm>
            <a:off x="2819520" y="1295280"/>
            <a:ext cx="3746520" cy="472464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5"/>
          <p:cNvSpPr/>
          <p:nvPr/>
        </p:nvSpPr>
        <p:spPr>
          <a:xfrm>
            <a:off x="304920" y="6172200"/>
            <a:ext cx="8229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кона из Софийского собора в Новгороде кон. XV — нач. XVI в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вятополк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I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Владимирович "Окаянный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Святополк I Владимирович Окаянный "/>
          <p:cNvPicPr/>
          <p:nvPr/>
        </p:nvPicPr>
        <p:blipFill>
          <a:blip r:embed="rId1"/>
          <a:stretch/>
        </p:blipFill>
        <p:spPr>
          <a:xfrm>
            <a:off x="2666880" y="1066680"/>
            <a:ext cx="40132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Икона Бориса и Глеба с житием 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(вторая половина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XIV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век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tretch/>
        </p:blipFill>
        <p:spPr>
          <a:xfrm>
            <a:off x="2743200" y="1219320"/>
            <a:ext cx="351324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Святой князь Бори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Картинка 3 из 404"/>
          <p:cNvPicPr/>
          <p:nvPr/>
        </p:nvPicPr>
        <p:blipFill>
          <a:blip r:embed="rId1"/>
          <a:stretch/>
        </p:blipFill>
        <p:spPr>
          <a:xfrm>
            <a:off x="2819520" y="1143000"/>
            <a:ext cx="39877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Убийство святого князя Бори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2438280" y="990720"/>
            <a:ext cx="42847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Святой князь Гле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Картинка 13 из 1355"/>
          <p:cNvPicPr/>
          <p:nvPr/>
        </p:nvPicPr>
        <p:blipFill>
          <a:blip r:embed="rId1"/>
          <a:stretch/>
        </p:blipFill>
        <p:spPr>
          <a:xfrm>
            <a:off x="2819520" y="1143000"/>
            <a:ext cx="37558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Убийство святого князя Глеб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Убийство Глеба в ладье"/>
          <p:cNvPicPr/>
          <p:nvPr/>
        </p:nvPicPr>
        <p:blipFill>
          <a:blip r:embed="rId1"/>
          <a:stretch/>
        </p:blipFill>
        <p:spPr>
          <a:xfrm>
            <a:off x="2819520" y="1066680"/>
            <a:ext cx="38844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104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Христос подает венцы 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святым Борису и Глеб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250px-Skazanie_o_Borise_i_Glebe"/>
          <p:cNvPicPr/>
          <p:nvPr/>
        </p:nvPicPr>
        <p:blipFill>
          <a:blip r:embed="rId1"/>
          <a:stretch/>
        </p:blipFill>
        <p:spPr>
          <a:xfrm>
            <a:off x="2819520" y="1371600"/>
            <a:ext cx="37004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9917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еликий князь Ярослав Владимирович Мудр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Картинка 7 из 1077"/>
          <p:cNvPicPr/>
          <p:nvPr/>
        </p:nvPicPr>
        <p:blipFill>
          <a:blip r:embed="rId1"/>
          <a:stretch/>
        </p:blipFill>
        <p:spPr>
          <a:xfrm>
            <a:off x="2590920" y="1143000"/>
            <a:ext cx="43513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троительство Борисоглебского храма в Вышгороде и перенесение в 1115 году мощей братьев в новый хр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Строительство Борисоглебского храма в Вышгороде и перенесение в 1115 году мощей братьев в новый храм"/>
          <p:cNvPicPr/>
          <p:nvPr/>
        </p:nvPicPr>
        <p:blipFill>
          <a:blip r:embed="rId1"/>
          <a:stretch/>
        </p:blipFill>
        <p:spPr>
          <a:xfrm>
            <a:off x="2286000" y="1752480"/>
            <a:ext cx="450072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Святые благоверные 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князья-страстотерпцы Борис и Гле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1" descr="Картинка 12 из 887"/>
          <p:cNvPicPr/>
          <p:nvPr/>
        </p:nvPicPr>
        <p:blipFill>
          <a:blip r:embed="rId1"/>
          <a:stretch/>
        </p:blipFill>
        <p:spPr>
          <a:xfrm>
            <a:off x="1600200" y="1523880"/>
            <a:ext cx="632448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вятые Борис и Глеб – покровители и заступники земли Русс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Картинка 41 из 887"/>
          <p:cNvPicPr/>
          <p:nvPr/>
        </p:nvPicPr>
        <p:blipFill>
          <a:blip r:embed="rId1"/>
          <a:stretch/>
        </p:blipFill>
        <p:spPr>
          <a:xfrm>
            <a:off x="2209680" y="1219320"/>
            <a:ext cx="4724640" cy="466884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9"/>
          <p:cNvSpPr/>
          <p:nvPr/>
        </p:nvSpPr>
        <p:spPr>
          <a:xfrm>
            <a:off x="0" y="6095880"/>
            <a:ext cx="8915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удесное явление святых братьев стражу Пелгусию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еред Невской битвой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Борисоглебский собор в Чернигове 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Дата основания: 1120-1123 гг.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624852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настоящее время собор является музе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Борисоглебский собор (передний план)"/>
          <p:cNvPicPr/>
          <p:nvPr/>
        </p:nvPicPr>
        <p:blipFill>
          <a:blip r:embed="rId1"/>
          <a:stretch/>
        </p:blipFill>
        <p:spPr>
          <a:xfrm>
            <a:off x="2362320" y="1371600"/>
            <a:ext cx="45781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Церковь Бориса и Глеба в Плотниках, Великий Новгород 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Дата основания: 1536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Церковь Бориса и Глеба в Плотниках, Великий Новгород"/>
          <p:cNvPicPr/>
          <p:nvPr/>
        </p:nvPicPr>
        <p:blipFill>
          <a:blip r:embed="rId1"/>
          <a:stretch/>
        </p:blipFill>
        <p:spPr>
          <a:xfrm>
            <a:off x="1143000" y="1752480"/>
            <a:ext cx="7010280" cy="46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Борисоглебский мужской монастырь г.Торжок Тверской области. 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Дата основания: не позднее XVI 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presa02b"/>
          <p:cNvPicPr/>
          <p:nvPr/>
        </p:nvPicPr>
        <p:blipFill>
          <a:blip r:embed="rId1"/>
          <a:stretch/>
        </p:blipFill>
        <p:spPr>
          <a:xfrm>
            <a:off x="1447920" y="160020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4572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мядынь. Знак на месте гибели князя Глеба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Памятный знак-камень с высеченным крестом"/>
          <p:cNvPicPr/>
          <p:nvPr/>
        </p:nvPicPr>
        <p:blipFill>
          <a:blip r:embed="rId1"/>
          <a:stretch/>
        </p:blipFill>
        <p:spPr>
          <a:xfrm>
            <a:off x="380880" y="1828800"/>
            <a:ext cx="4724640" cy="35434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Высеченный текст повествует о гибели князя Глеба"/>
          <p:cNvPicPr/>
          <p:nvPr/>
        </p:nvPicPr>
        <p:blipFill>
          <a:blip r:embed="rId2"/>
          <a:stretch/>
        </p:blipFill>
        <p:spPr>
          <a:xfrm>
            <a:off x="5486400" y="1066680"/>
            <a:ext cx="3257640" cy="43434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6"/>
          <p:cNvSpPr/>
          <p:nvPr/>
        </p:nvSpPr>
        <p:spPr>
          <a:xfrm>
            <a:off x="5257800" y="5486400"/>
            <a:ext cx="3733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сеченный на камне текст повествует о гибе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нязя Гле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762120" y="5562720"/>
            <a:ext cx="3581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мятный знак-камень с высеченным крес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вятые страстотерпцы Борис и Глеб - первые русские святые, канонизованные Русской и Византийской Церкв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Картинка 48 из 887"/>
          <p:cNvPicPr/>
          <p:nvPr/>
        </p:nvPicPr>
        <p:blipFill>
          <a:blip r:embed="rId1"/>
          <a:stretch/>
        </p:blipFill>
        <p:spPr>
          <a:xfrm>
            <a:off x="533520" y="1600200"/>
            <a:ext cx="3402000" cy="48006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7"/>
          <p:cNvSpPr/>
          <p:nvPr/>
        </p:nvSpPr>
        <p:spPr>
          <a:xfrm>
            <a:off x="4419720" y="2133720"/>
            <a:ext cx="42670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000000"/>
                </a:solidFill>
                <a:uFillTx/>
                <a:latin typeface="Arial"/>
              </a:rPr>
              <a:t>Дни памят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15 мая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 - перенесение их мощей в новую церковь-усыпальницу в 1115 г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6 августа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 - совместное празднование святым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18 сентября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 - память князя Глеба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33399"/>
                </a:solidFill>
                <a:uFillTx/>
                <a:latin typeface="Arial"/>
              </a:rPr>
              <a:t>Святые о свя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…и на небеси ничего не находится превыше любви; ибо Любы есть Сам Бог: то от сего должно вразумиться, сколь велия милость Божия к таковым, кои удостоились дара любви, изливающагося от Самого Бога в сердца их Духом Святым, как сказано: любы Божия излияся в сердца наша Духом Святым данным нам (Рим. 5, 5). Не стяжати, или угасити чистосердечную о Бозе любовь, равномерно есть, якобы лишитися Бога, или удалитися от Него; понеже без любви, аще изнуришься от поста и подвигов, аще всякое злострадание претерпишь, во еже и тело сожещи, аще всякие чудеса сотворишь, − ничтоже есть и никакая польз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еподобный Зосима (Верховск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333399"/>
                </a:solidFill>
                <a:uFillTx/>
                <a:latin typeface="Arial"/>
              </a:rPr>
              <a:t>Толкование основных понят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Страстотерпец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– наименование христианских мучеников. В принципе, это наименование может прилагаться ко всем мученикам, претерпевшим страдание (лат. страсть) во имя Христово. Преимущественно же это наименование относится к тем святым, которые приняли мученическую кончину не от гонителей христианства, но от своих единоверцев – в силу их злобы, коварства, заговора. Соответственно, в данном случае подчеркивается особый характер их подвига – беззлобие и непротивление врагам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333399"/>
                </a:solidFill>
                <a:uFillTx/>
                <a:latin typeface="Arial"/>
              </a:rPr>
              <a:t>Толкование основных понят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Евангелие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(греч. благовестие, т.е. добрая радостная весть) –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общее название первых четырех книг Нового Завета, составленных евангелистами Матфеем, Марком, Лукой и Иоанном. В них благовествуется о Божестве Господа нашего Иисуса Христа, о Его пришествии на землю, о Его житии на земле, о чудесных Его деяниях и спасительном учении, наконец, о Его крестной смерти, славном воскресении и вознесении на небо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333399"/>
                </a:solidFill>
                <a:uFillTx/>
                <a:latin typeface="Arial"/>
              </a:rPr>
              <a:t>Толкование основных понят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Милосердие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(милость сердца) – сила любить, прощать, помогать, одаривать. В высшей и абсолютной степени милосердие присуще Богу. Способность к милосердию щедро дарована человеку и является одним из основополагающих духовно-нравственных качеств личности, приближающих человека к Творцу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333399"/>
                </a:solidFill>
                <a:uFillTx/>
                <a:latin typeface="Arial"/>
              </a:rPr>
              <a:t>Толкование основных понят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960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Благочестие –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христианская добродетель, истинное почитание Бога через исполнение Его заповедей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 похвалу святым благоверным князьям – страстотерпцам Борису и Глеб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Картинка 81 из 887"/>
          <p:cNvPicPr/>
          <p:nvPr/>
        </p:nvPicPr>
        <p:blipFill>
          <a:blip r:embed="rId1"/>
          <a:stretch/>
        </p:blipFill>
        <p:spPr>
          <a:xfrm>
            <a:off x="2514600" y="1295280"/>
            <a:ext cx="4054320" cy="52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Житие святых благоверных князей – страстотерпцев Бориса и Гле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533520" y="5334120"/>
            <a:ext cx="822960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Картинка 33 из 887"/>
          <p:cNvPicPr/>
          <p:nvPr/>
        </p:nvPicPr>
        <p:blipFill>
          <a:blip r:embed="rId1"/>
          <a:stretch/>
        </p:blipFill>
        <p:spPr>
          <a:xfrm>
            <a:off x="2438280" y="1295280"/>
            <a:ext cx="42386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Владимир князь"/>
          <p:cNvPicPr/>
          <p:nvPr/>
        </p:nvPicPr>
        <p:blipFill>
          <a:blip r:embed="rId1"/>
          <a:stretch/>
        </p:blipFill>
        <p:spPr>
          <a:xfrm>
            <a:off x="533520" y="1447920"/>
            <a:ext cx="3555720" cy="4952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Анна Киевская"/>
          <p:cNvPicPr/>
          <p:nvPr/>
        </p:nvPicPr>
        <p:blipFill>
          <a:blip r:embed="rId2"/>
          <a:stretch/>
        </p:blipFill>
        <p:spPr>
          <a:xfrm>
            <a:off x="4952880" y="1447920"/>
            <a:ext cx="3581640" cy="495288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8"/>
          <p:cNvSpPr/>
          <p:nvPr/>
        </p:nvSpPr>
        <p:spPr>
          <a:xfrm>
            <a:off x="228600" y="6248520"/>
            <a:ext cx="3581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685800" y="6248520"/>
            <a:ext cx="3581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457200" y="22860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вятой равноапостольный князь Владимир и византийская принцесса Ан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sha</cp:lastModifiedBy>
  <dcterms:modified xsi:type="dcterms:W3CDTF">2022-04-22T10:55:56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