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6DC-460F-4350-8C60-DA0FE890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837-24B2-4CDD-B03A-798EA58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794-854A-4A54-9E4B-74C3DC8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C8E-AB04-42A5-BF14-E556B06D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C68-1FBC-419D-AD46-151FA3A7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FEB-D289-4B12-9C9C-7067EEE5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CE4-480B-45DB-BC63-6AE2F671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B00-5C24-4E47-AE9F-EF33A946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A99-6B52-4EAF-A96D-260E921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E73-A176-4653-9C72-88991B6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9EC-3238-4668-9FF0-4F96E77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223-97EB-4F3C-B0C6-B6B2950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09B-D72B-4ABC-A061-15BB0C01C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вятые благовер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нязья – страстотерпц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рис и Гле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й равноапостольный князь Владимир с сыновьями Борисом и Гл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а 37 из 887"/>
          <p:cNvPicPr/>
          <p:nvPr/>
        </p:nvPicPr>
        <p:blipFill>
          <a:blip r:embed="rId1"/>
          <a:stretch/>
        </p:blipFill>
        <p:spPr>
          <a:xfrm>
            <a:off x="2819520" y="1295280"/>
            <a:ext cx="374652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6172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на из Софийского собора в Новгороде кон. XV — нач. XVI 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полк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ладимирович "Окаянный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вятополк I Владимирович Окаянный "/>
          <p:cNvPicPr/>
          <p:nvPr/>
        </p:nvPicPr>
        <p:blipFill>
          <a:blip r:embed="rId1"/>
          <a:stretch/>
        </p:blipFill>
        <p:spPr>
          <a:xfrm>
            <a:off x="2666880" y="1066680"/>
            <a:ext cx="4013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кона Бориса и Глеба с житием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вторая половин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IV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51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ой князь Бор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3 из 404"/>
          <p:cNvPicPr/>
          <p:nvPr/>
        </p:nvPicPr>
        <p:blipFill>
          <a:blip r:embed="rId1"/>
          <a:stretch/>
        </p:blipFill>
        <p:spPr>
          <a:xfrm>
            <a:off x="2819520" y="1143000"/>
            <a:ext cx="3987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бийство святого князя Бо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8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ой князь Г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Картинка 13 из 1355"/>
          <p:cNvPicPr/>
          <p:nvPr/>
        </p:nvPicPr>
        <p:blipFill>
          <a:blip r:embed="rId1"/>
          <a:stretch/>
        </p:blipFill>
        <p:spPr>
          <a:xfrm>
            <a:off x="2819520" y="1143000"/>
            <a:ext cx="375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бийство святого князя Глеб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Убийство Глеба в ладье"/>
          <p:cNvPicPr/>
          <p:nvPr/>
        </p:nvPicPr>
        <p:blipFill>
          <a:blip r:embed="rId1"/>
          <a:stretch/>
        </p:blipFill>
        <p:spPr>
          <a:xfrm>
            <a:off x="2819520" y="1066680"/>
            <a:ext cx="388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ристос подает венц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ым Борису и Гл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250px-Skazanie_o_Borise_i_Glebe"/>
          <p:cNvPicPr/>
          <p:nvPr/>
        </p:nvPicPr>
        <p:blipFill>
          <a:blip r:embed="rId1"/>
          <a:stretch/>
        </p:blipFill>
        <p:spPr>
          <a:xfrm>
            <a:off x="2819520" y="1371600"/>
            <a:ext cx="370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еликий князь Ярослав Владимирович Муд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артинка 7 из 1077"/>
          <p:cNvPicPr/>
          <p:nvPr/>
        </p:nvPicPr>
        <p:blipFill>
          <a:blip r:embed="rId1"/>
          <a:stretch/>
        </p:blipFill>
        <p:spPr>
          <a:xfrm>
            <a:off x="2590920" y="1143000"/>
            <a:ext cx="435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оительство Борисоглебского храма в Вышгороде и перенесение в 1115 году мощей братьев в новый х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троительство Борисоглебского храма в Вышгороде и перенесение в 1115 году мощей братьев в новый храм"/>
          <p:cNvPicPr/>
          <p:nvPr/>
        </p:nvPicPr>
        <p:blipFill>
          <a:blip r:embed="rId1"/>
          <a:stretch/>
        </p:blipFill>
        <p:spPr>
          <a:xfrm>
            <a:off x="2286000" y="1752480"/>
            <a:ext cx="4500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ые благоверны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нязья-страстотерпцы Борис и Г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Картинка 12 из 887"/>
          <p:cNvPicPr/>
          <p:nvPr/>
        </p:nvPicPr>
        <p:blipFill>
          <a:blip r:embed="rId1"/>
          <a:stretch/>
        </p:blipFill>
        <p:spPr>
          <a:xfrm>
            <a:off x="1600200" y="1523880"/>
            <a:ext cx="6324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ые Борис и Глеб – покровители и заступники земли Рус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артинка 41 из 887"/>
          <p:cNvPicPr/>
          <p:nvPr/>
        </p:nvPicPr>
        <p:blipFill>
          <a:blip r:embed="rId1"/>
          <a:stretch/>
        </p:blipFill>
        <p:spPr>
          <a:xfrm>
            <a:off x="2209680" y="1219320"/>
            <a:ext cx="4724640" cy="466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0" y="6095880"/>
            <a:ext cx="891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есное явление святых братьев стражу Пелгус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 Невской битв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рисоглебский собор в Чернигове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1120-1123 гг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стоящее время собор является музе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Борисоглебский собор (передний план)"/>
          <p:cNvPicPr/>
          <p:nvPr/>
        </p:nvPicPr>
        <p:blipFill>
          <a:blip r:embed="rId1"/>
          <a:stretch/>
        </p:blipFill>
        <p:spPr>
          <a:xfrm>
            <a:off x="2362320" y="1371600"/>
            <a:ext cx="4578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ерковь Бориса и Глеба в Плотниках, Великий Новгород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153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Церковь Бориса и Глеба в Плотниках, Великий Новгород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рисоглебский мужской монастырь г.Торжок Тверской области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не позднее XVI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resa02b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мядынь. Знак на месте гибели князя Глеб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Памятный знак-камень с высеченным крестом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54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Высеченный текст повествует о гибели князя Глеба"/>
          <p:cNvPicPr/>
          <p:nvPr/>
        </p:nvPicPr>
        <p:blipFill>
          <a:blip r:embed="rId2"/>
          <a:stretch/>
        </p:blipFill>
        <p:spPr>
          <a:xfrm>
            <a:off x="5486400" y="1066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257800" y="54864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еченный на камне текст повествует о гиб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зя Гл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62120" y="5562720"/>
            <a:ext cx="358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ый знак-камень с высеченным кре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ятые страстотерпцы Борис и Глеб - первые русские святые, канонизованные Русской и Византийской Цер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Картинка 48 из 887"/>
          <p:cNvPicPr/>
          <p:nvPr/>
        </p:nvPicPr>
        <p:blipFill>
          <a:blip r:embed="rId1"/>
          <a:stretch/>
        </p:blipFill>
        <p:spPr>
          <a:xfrm>
            <a:off x="533520" y="1600200"/>
            <a:ext cx="340200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419720" y="2133720"/>
            <a:ext cx="4267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ни памя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5 м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перенесение их мощей в новую церковь-усыпальницу в 1115 г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 авгус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совместное празднование святы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8 сентябр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память князя Глеб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Святые о свя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и на небеси ничего не находится превыше любви; ибо Любы есть Сам Бог: то от сего должно вразумиться, сколь велия милость Божия к таковым, кои удостоились дара любви, изливающагося от Самого Бога в сердца их Духом Святым, как сказано: любы Божия излияся в сердца наша Духом Святым данным нам (Рим. 5, 5). Не стяжати, или угасити чистосердечную о Бозе любовь, равномерно есть, якобы лишитися Бога, или удалитися от Него; понеже без любви, аще изнуришься от поста и подвигов, аще всякое злострадание претерпишь, во еже и тело сожещи, аще всякие чудеса сотворишь, − ничтоже есть и никакая польз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одобный Зосима (Верх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стотерпец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наименование христианских мучеников. В принципе, это наименование может прилагаться ко всем мученикам, претерпевшим страдание (лат. страсть) во имя Христово. Преимущественно же это наименование относится к тем святым, которые приняли мученическую кончину не от гонителей христианства, но от своих единоверцев – в силу их злобы, коварства, заговора. Соответственно, в данном случае подчеркивается особый характер их подвига – беззлобие и непротивление врага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Евангелие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греч. благовестие, т.е. добрая радостная весть) –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щее название первых четырех книг Нового Завета, составленных евангелистами Матфеем, Марком, Лукой и Иоанном. В них благовествуется о Божестве Господа нашего Иисуса Христа, о Его пришествии на землю, о Его житии на земле, о чудесных Его деяниях и спасительном учении, наконец, о Его крестной смерти, славном воскресении и вознесении на неб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лосердие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милость сердца) – сила любить, прощать, помогать, одаривать. В высшей и абсолютной степени милосердие присуще Богу. Способность к милосердию щедро дарована человеку и является одним из основополагающих духовно-нравственных качеств личности, приближающих человека к Творц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лагочестие –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ристианская добродетель, истинное почитание Бога через исполнение Его заповед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похвалу святым благоверным князьям – страстотерпцам Борису и Гл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тинка 81 из 887"/>
          <p:cNvPicPr/>
          <p:nvPr/>
        </p:nvPicPr>
        <p:blipFill>
          <a:blip r:embed="rId1"/>
          <a:stretch/>
        </p:blipFill>
        <p:spPr>
          <a:xfrm>
            <a:off x="2514600" y="1295280"/>
            <a:ext cx="40543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Житие святых благоверных князей – страстотерпцев Бориса и Г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33520" y="533412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Картинка 33 из 887"/>
          <p:cNvPicPr/>
          <p:nvPr/>
        </p:nvPicPr>
        <p:blipFill>
          <a:blip r:embed="rId1"/>
          <a:stretch/>
        </p:blipFill>
        <p:spPr>
          <a:xfrm>
            <a:off x="2438280" y="1295280"/>
            <a:ext cx="423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Владимир князь"/>
          <p:cNvPicPr/>
          <p:nvPr/>
        </p:nvPicPr>
        <p:blipFill>
          <a:blip r:embed="rId1"/>
          <a:stretch/>
        </p:blipFill>
        <p:spPr>
          <a:xfrm>
            <a:off x="533520" y="1447920"/>
            <a:ext cx="355572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Анна Киевская"/>
          <p:cNvPicPr/>
          <p:nvPr/>
        </p:nvPicPr>
        <p:blipFill>
          <a:blip r:embed="rId2"/>
          <a:stretch/>
        </p:blipFill>
        <p:spPr>
          <a:xfrm>
            <a:off x="4952880" y="1447920"/>
            <a:ext cx="358164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228600" y="624852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800" y="624852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й равноапостольный князь Владимир и византийская принцесс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22-04-22T10:55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