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8D4-D4C7-4EB3-BF86-C2A99B36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C5D-A4DA-4B79-B785-A553575C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862-9E7B-44AC-B876-380FF6B6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1ED-F61B-407A-AA22-F54102C6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CEE-4269-4997-A3EF-5CE82697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B4D-AD9D-4B24-9341-7BA1D7CD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91E1-176D-4EF9-92CD-1D902359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CD7-7612-426E-8F70-6400F238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E21-07FB-4ECB-9741-76863163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1CA-CD30-4731-AC33-97C7E906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81AE-A892-498D-B421-708105F7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1FD-563A-4DED-9B43-3FC434DD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d4dd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CD1A-04B6-45E6-AF2A-D3C4123B77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6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6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981000"/>
            <a:ext cx="813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5e767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ЖИВОТНЫЕ СЕВЕРА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ccffff"/>
                  </a:gs>
                  <a:gs pos="100000">
                    <a:srgbClr val="5e7676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68360" y="4149720"/>
            <a:ext cx="820908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344d5d"/>
                    </a:gs>
                    <a:gs pos="50000">
                      <a:srgbClr val="71a7c9"/>
                    </a:gs>
                    <a:gs pos="100000">
                      <a:srgbClr val="344d5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езентация учителя-логопеда 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344d5d"/>
                  </a:gs>
                  <a:gs pos="50000">
                    <a:srgbClr val="71a7c9"/>
                  </a:gs>
                  <a:gs pos="100000">
                    <a:srgbClr val="344d5d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344d5d"/>
                    </a:gs>
                    <a:gs pos="50000">
                      <a:srgbClr val="71a7c9"/>
                    </a:gs>
                    <a:gs pos="100000">
                      <a:srgbClr val="344d5d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ГДОУ д/с "Кудесница" Халько И.А.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344d5d"/>
                  </a:gs>
                  <a:gs pos="50000">
                    <a:srgbClr val="71a7c9"/>
                  </a:gs>
                  <a:gs pos="100000">
                    <a:srgbClr val="344d5d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2"/>
          <p:cNvSpPr txBox="1"/>
          <p:nvPr/>
        </p:nvSpPr>
        <p:spPr>
          <a:xfrm>
            <a:off x="2050920" y="33336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Назови детеныша живот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508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765440" y="4221000"/>
            <a:ext cx="2519280" cy="21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763640" y="1341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5508720" y="1341360"/>
            <a:ext cx="251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940360" y="634536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352240" y="634536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280240" y="35002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868000" y="3500280"/>
            <a:ext cx="18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4284720" y="2133720"/>
            <a:ext cx="1224000" cy="647640"/>
          </a:xfrm>
          <a:prstGeom prst="rightArrow">
            <a:avLst>
              <a:gd name="adj1" fmla="val 50000"/>
              <a:gd name="adj2" fmla="val 47248"/>
            </a:avLst>
          </a:prstGeom>
          <a:gradFill rotWithShape="0">
            <a:gsLst>
              <a:gs pos="0">
                <a:srgbClr val="ffffff"/>
              </a:gs>
              <a:gs pos="50000">
                <a:srgbClr val="0000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4284720" y="4941720"/>
            <a:ext cx="1224000" cy="648000"/>
          </a:xfrm>
          <a:prstGeom prst="rightArrow">
            <a:avLst>
              <a:gd name="adj1" fmla="val 50000"/>
              <a:gd name="adj2" fmla="val 47222"/>
            </a:avLst>
          </a:prstGeom>
          <a:gradFill rotWithShape="0">
            <a:gsLst>
              <a:gs pos="0">
                <a:srgbClr val="ffffff"/>
              </a:gs>
              <a:gs pos="50000">
                <a:srgbClr val="0000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5"/>
          <p:cNvGrpSpPr/>
          <p:nvPr/>
        </p:nvGrpSpPr>
        <p:grpSpPr>
          <a:xfrm>
            <a:off x="1828800" y="1547640"/>
            <a:ext cx="2535120" cy="2176560"/>
            <a:chOff x="1828800" y="1547640"/>
            <a:chExt cx="2535120" cy="2176560"/>
          </a:xfrm>
        </p:grpSpPr>
        <p:pic>
          <p:nvPicPr>
            <p:cNvPr id="147" name="Rectangle 5" descr="медведь белый01"/>
            <p:cNvPicPr/>
            <p:nvPr/>
          </p:nvPicPr>
          <p:blipFill>
            <a:blip r:embed="rId1"/>
            <a:stretch/>
          </p:blipFill>
          <p:spPr>
            <a:xfrm>
              <a:off x="1828800" y="1547640"/>
              <a:ext cx="253512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836720" y="1557360"/>
              <a:ext cx="251928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6"/>
          <p:cNvSpPr/>
          <p:nvPr/>
        </p:nvSpPr>
        <p:spPr>
          <a:xfrm>
            <a:off x="5580000" y="1628640"/>
            <a:ext cx="2519280" cy="215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835280" y="414972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558000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2295000" y="36450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5874120" y="375300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ЕДЕЖ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2554920" y="6237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6012000" y="634536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ОЛЧО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15"/>
          <p:cNvSpPr txBox="1"/>
          <p:nvPr/>
        </p:nvSpPr>
        <p:spPr>
          <a:xfrm>
            <a:off x="2050920" y="333360"/>
            <a:ext cx="5689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Назови детеныша живот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4356000" y="2276640"/>
            <a:ext cx="1224000" cy="647640"/>
          </a:xfrm>
          <a:prstGeom prst="rightArrow">
            <a:avLst>
              <a:gd name="adj1" fmla="val 50000"/>
              <a:gd name="adj2" fmla="val 47248"/>
            </a:avLst>
          </a:prstGeom>
          <a:gradFill rotWithShape="0">
            <a:gsLst>
              <a:gs pos="0">
                <a:srgbClr val="ffffff"/>
              </a:gs>
              <a:gs pos="50000">
                <a:srgbClr val="0000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/>
          <p:cNvSpPr/>
          <p:nvPr/>
        </p:nvSpPr>
        <p:spPr>
          <a:xfrm>
            <a:off x="4356000" y="4941720"/>
            <a:ext cx="1224000" cy="648000"/>
          </a:xfrm>
          <a:prstGeom prst="rightArrow">
            <a:avLst>
              <a:gd name="adj1" fmla="val 50000"/>
              <a:gd name="adj2" fmla="val 47222"/>
            </a:avLst>
          </a:prstGeom>
          <a:gradFill rotWithShape="0">
            <a:gsLst>
              <a:gs pos="0">
                <a:srgbClr val="ffffff"/>
              </a:gs>
              <a:gs pos="50000">
                <a:srgbClr val="0000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08000" y="44280"/>
            <a:ext cx="86421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асширять представления детей о животных Севе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пражнять в образовании имен существительных - названий детенышей живот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пражнять в употреблении формы множественного числа прилагательных и существитель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пражнять в употреблении формы родительного падежа  имен существительных в единственном чис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азвивать внимание и пам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611280" y="189000"/>
            <a:ext cx="813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зови животных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торые живут на Север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4784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406836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39492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668664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476360" y="260280"/>
            <a:ext cx="5689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помни живот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39528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406836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658800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9528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4068720" y="3645000"/>
            <a:ext cx="11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658800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395280" y="369108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6805080" y="36450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443640" y="634536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050920" y="333360"/>
            <a:ext cx="48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го не стало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395280" y="364500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407160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680472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325080" y="63817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4141440" y="638172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588000" y="638172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2050920" y="333360"/>
            <a:ext cx="49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Один-мн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27672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229440" y="1557360"/>
            <a:ext cx="251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4041000" y="63453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4080960" y="364500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911880" y="364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896400" y="634536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ЮЛ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6878160" y="3645000"/>
            <a:ext cx="10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6877800" y="634536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ЕС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050920" y="333360"/>
            <a:ext cx="49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 "Один-мног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348000" y="4221000"/>
            <a:ext cx="2519280" cy="21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348000" y="1557360"/>
            <a:ext cx="251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95280" y="1557360"/>
            <a:ext cx="251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95280" y="4221000"/>
            <a:ext cx="251928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227640" y="1557360"/>
            <a:ext cx="251964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227640" y="4221000"/>
            <a:ext cx="2519640" cy="215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278520" y="6345360"/>
            <a:ext cx="25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Е ОЛ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3277800" y="364500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ЕВЕРНЫЙ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447840" y="364500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96360" y="6345360"/>
            <a:ext cx="239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Е МЕДВ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6516720" y="3645000"/>
            <a:ext cx="18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Й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6443640" y="634536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ЕЛЫЕ ВО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1:46:12Z</dcterms:created>
  <dc:creator>Ирина</dc:creator>
  <dc:description/>
  <dc:language>en-US</dc:language>
  <cp:lastModifiedBy>Ира</cp:lastModifiedBy>
  <dcterms:modified xsi:type="dcterms:W3CDTF">2012-04-19T15:25:37Z</dcterms:modified>
  <cp:revision>9</cp:revision>
  <dc:subject/>
  <dc:title>Слайд 1</dc:title>
</cp:coreProperties>
</file>