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CA1-8361-46F3-BD16-84B8E226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71E-92A4-43DD-9D1D-09846418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12F-00F2-4A83-8700-A2AEB7E5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48D-7119-491F-8B64-4AAA3658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648-A411-4B33-A27B-FF52D1C7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FCE-4DB0-4603-BDEC-49DF4CAD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F74-F5DA-447E-B425-D7CF73B8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383-F31F-4812-B2CE-677C26BC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EFC-3D49-43B7-B0ED-1A258EC2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29C-238E-4194-90F3-F0A0426A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2A2-4FFE-468F-9F69-1CE11B6E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F98-C530-4590-9109-6A04DA9E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d4dd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E664-B8D5-4FF3-86AC-0172713DEA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6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6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981000"/>
            <a:ext cx="813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5e767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ЖИВОТНЫЕ СЕВЕРА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5e7676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68360" y="4149720"/>
            <a:ext cx="820908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344d5d"/>
                    </a:gs>
                    <a:gs pos="50000">
                      <a:srgbClr val="71a7c9"/>
                    </a:gs>
                    <a:gs pos="100000">
                      <a:srgbClr val="344d5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езентация учителя-логопеда 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344d5d"/>
                  </a:gs>
                  <a:gs pos="50000">
                    <a:srgbClr val="71a7c9"/>
                  </a:gs>
                  <a:gs pos="100000">
                    <a:srgbClr val="344d5d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344d5d"/>
                    </a:gs>
                    <a:gs pos="50000">
                      <a:srgbClr val="71a7c9"/>
                    </a:gs>
                    <a:gs pos="100000">
                      <a:srgbClr val="344d5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ГДОУ д/с "Кудесница" Халько И.А.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344d5d"/>
                  </a:gs>
                  <a:gs pos="50000">
                    <a:srgbClr val="71a7c9"/>
                  </a:gs>
                  <a:gs pos="100000">
                    <a:srgbClr val="344d5d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2050920" y="33336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Назови детеныша живот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508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65440" y="4221000"/>
            <a:ext cx="251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763640" y="1341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5508720" y="1341360"/>
            <a:ext cx="251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940360" y="634536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352240" y="634536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280240" y="35002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868000" y="3500280"/>
            <a:ext cx="18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4284720" y="2133720"/>
            <a:ext cx="1224000" cy="647640"/>
          </a:xfrm>
          <a:prstGeom prst="rightArrow">
            <a:avLst>
              <a:gd name="adj1" fmla="val 50000"/>
              <a:gd name="adj2" fmla="val 47248"/>
            </a:avLst>
          </a:prstGeom>
          <a:gradFill rotWithShape="0">
            <a:gsLst>
              <a:gs pos="0">
                <a:srgbClr val="ffffff"/>
              </a:gs>
              <a:gs pos="50000">
                <a:srgbClr val="0000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4284720" y="4941720"/>
            <a:ext cx="1224000" cy="648000"/>
          </a:xfrm>
          <a:prstGeom prst="rightArrow">
            <a:avLst>
              <a:gd name="adj1" fmla="val 50000"/>
              <a:gd name="adj2" fmla="val 47222"/>
            </a:avLst>
          </a:prstGeom>
          <a:gradFill rotWithShape="0">
            <a:gsLst>
              <a:gs pos="0">
                <a:srgbClr val="ffffff"/>
              </a:gs>
              <a:gs pos="50000">
                <a:srgbClr val="0000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5"/>
          <p:cNvGrpSpPr/>
          <p:nvPr/>
        </p:nvGrpSpPr>
        <p:grpSpPr>
          <a:xfrm>
            <a:off x="1828800" y="1547640"/>
            <a:ext cx="2535120" cy="2176560"/>
            <a:chOff x="1828800" y="1547640"/>
            <a:chExt cx="2535120" cy="2176560"/>
          </a:xfrm>
        </p:grpSpPr>
        <p:pic>
          <p:nvPicPr>
            <p:cNvPr id="147" name="Rectangle 5" descr="медведь белый01"/>
            <p:cNvPicPr/>
            <p:nvPr/>
          </p:nvPicPr>
          <p:blipFill>
            <a:blip r:embed="rId1"/>
            <a:stretch/>
          </p:blipFill>
          <p:spPr>
            <a:xfrm>
              <a:off x="1828800" y="1547640"/>
              <a:ext cx="253512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836720" y="1557360"/>
              <a:ext cx="251928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6"/>
          <p:cNvSpPr/>
          <p:nvPr/>
        </p:nvSpPr>
        <p:spPr>
          <a:xfrm>
            <a:off x="5580000" y="1628640"/>
            <a:ext cx="251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835280" y="414972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558000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2295000" y="36450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5874120" y="375300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ДЕЖ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2554920" y="6237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6012000" y="634536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ЛЧ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15"/>
          <p:cNvSpPr txBox="1"/>
          <p:nvPr/>
        </p:nvSpPr>
        <p:spPr>
          <a:xfrm>
            <a:off x="2050920" y="33336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Назови детеныша живот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4356000" y="2276640"/>
            <a:ext cx="1224000" cy="647640"/>
          </a:xfrm>
          <a:prstGeom prst="rightArrow">
            <a:avLst>
              <a:gd name="adj1" fmla="val 50000"/>
              <a:gd name="adj2" fmla="val 47248"/>
            </a:avLst>
          </a:prstGeom>
          <a:gradFill rotWithShape="0">
            <a:gsLst>
              <a:gs pos="0">
                <a:srgbClr val="ffffff"/>
              </a:gs>
              <a:gs pos="50000">
                <a:srgbClr val="0000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>
            <a:off x="4356000" y="4941720"/>
            <a:ext cx="1224000" cy="648000"/>
          </a:xfrm>
          <a:prstGeom prst="rightArrow">
            <a:avLst>
              <a:gd name="adj1" fmla="val 50000"/>
              <a:gd name="adj2" fmla="val 47222"/>
            </a:avLst>
          </a:prstGeom>
          <a:gradFill rotWithShape="0">
            <a:gsLst>
              <a:gs pos="0">
                <a:srgbClr val="ffffff"/>
              </a:gs>
              <a:gs pos="50000">
                <a:srgbClr val="0000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08000" y="44280"/>
            <a:ext cx="86421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асширять представления детей о животных Сев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пражнять в образовании имен существительных - названий детенышей живот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пражнять в употреблении формы множественного числа прилагательных и существитель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пражнять в употреблении формы родительного падежа  имен существительных в единственном чис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азвивать внимание и пам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611280" y="189000"/>
            <a:ext cx="81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животных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торые живут на Север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4784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406836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39492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668664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476360" y="260280"/>
            <a:ext cx="568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помни живот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39528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406836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658800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9528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4068720" y="364500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658800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39528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6805080" y="36450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44364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395280" y="364500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588000" y="638172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2050920" y="333360"/>
            <a:ext cx="49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Один-мн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276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229440" y="1557360"/>
            <a:ext cx="251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4041000" y="63453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408096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91188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896400" y="634536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6878160" y="364500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6877800" y="634536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050920" y="333360"/>
            <a:ext cx="49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Один-мн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278520" y="6345360"/>
            <a:ext cx="25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Е ОЛ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3277800" y="364500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447840" y="364500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96360" y="6345360"/>
            <a:ext cx="239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Е МЕДВ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6516720" y="364500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443640" y="634536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Е ВО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1:46:12Z</dcterms:created>
  <dc:creator>Ирина</dc:creator>
  <dc:description/>
  <dc:language>en-US</dc:language>
  <cp:lastModifiedBy>Ира</cp:lastModifiedBy>
  <dcterms:modified xsi:type="dcterms:W3CDTF">2012-04-19T15:25:37Z</dcterms:modified>
  <cp:revision>9</cp:revision>
  <dc:subject/>
  <dc:title>Слайд 1</dc:title>
</cp:coreProperties>
</file>