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EDA-8E83-409E-940B-DCC97B76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CE6-9FBE-4B6B-82F1-7CDC901F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E42-B0E0-48E4-B2BD-B7E3181F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7E7-9A89-477F-ABAA-E27D90F6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E64E-CE82-45C8-B483-2809929120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B0886-DE6B-46D2-83A3-B9B985DDDA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E3492-152E-4BC9-86CE-ED55BEB018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1F688-109E-4F22-8743-118BA65D1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E75C3-38EF-4ABF-9F86-E8BE7DFD1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77400"/>
            <a:ext cx="822492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D74AC-A674-471E-80F5-9BE3236856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61FF2-3761-4A84-B202-509DCF56B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F27-4F92-46D3-8DD7-F1DB9E5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58631-BB4E-44EE-973B-6C84433D53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7A0AD-42E1-4695-9367-4D5D115B6A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E4481-6819-4B18-8BD4-7FC7ABFF24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1DB71-1E0F-4AEB-8F66-11F3AD15C5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3F47D-E6D4-4729-BF41-CCCAF9FBF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1AD-24D9-4C1E-8E9B-F53A67DF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1E0-29E7-4A80-AAF9-BE2ACFF5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D22-1133-4F86-B3FB-E44F854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77400"/>
            <a:ext cx="822492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F8C-1793-4CE9-8C53-F4C4EEC5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20E-A106-4D51-9DE3-FB7396AB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D61-6803-4E4F-B7EA-2A7D666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1A2-7EEB-4F58-AF9C-EE1D6B5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286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08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360" y="6244920"/>
            <a:ext cx="5349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e977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A91783-424E-43F5-BDB7-06F4FED714DD}" type="slidenum"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600" y="2739960"/>
            <a:ext cx="6291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673988-5B9B-4EAB-AA9B-B3F65C8A7988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8160" y="571320"/>
            <a:ext cx="68025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Методика заучивания стихотворений»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-логопед: Гафизова Л.Х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УДО «Детский сад №5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578800" cy="61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ПАСИБО ЗА ВНИМАНИЕ 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245916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392904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ызвать интерес ребенка к стихотворению (мотивация)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нять помочь содержание произведения, объяснить непонятные ребенку слова, фразы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аучить выразительно, с интонациями, паузами читать стихотворения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Научить правильно ставить ударение в каждом слове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Воспитать любовь к поэзии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71920" y="1714680"/>
            <a:ext cx="4214880" cy="376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 требования к заучиванию стихотвор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9440" y="1357200"/>
            <a:ext cx="703116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стихотворение должно быть доступным, близким и понятным детям по содержанию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стихотворение должно быть динамичным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текст стихотворения заранее должен быть знаком воспитателю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в процессе заучивания стихотворения следует учитывать индивидуальные особенности детей, их склонности, вкусы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 при заучивании стихотворений обращаем внимание детей на средства выразительности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выбираем нужный темп чтения;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ровождаем чтение текста мимикой и жестами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омендуется учить стихотворение поэтапно, по куплетам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заучивания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195264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изуальны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использовать различные наглядные пособия: картинк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768920" y="196524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гатель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используя жесты и мимику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73520" y="405756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Логическ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пираясь на смысловые связ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05756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лухов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средства интонационной выразительност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зрастные особ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84360" y="1341360"/>
            <a:ext cx="81676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7280" y="1440000"/>
            <a:ext cx="777564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ладшем дошкольном возрасте (от 3 до 4 лет) легче запоминаются стихотворения, которые содержат образность, лаконизм, предметность. Малыш быстро запоминает короткие стихи, в которых преобладают глаголы и существительные, где конкретность и образность объединяются с динамическими действиями. Как правило, это четверостишия, в которых описываются знакомые ребенку игрушки и животные. Задача выучить стихотворение не ставитс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реднем дошкольном возрасте (от 4 до 5 лет) тематика стихотворений становится разнообразнее и охватывает разные сферы жизни ребенка (природа, семья, детский садик). Поскольку изучение стихов происходит с привлечением произвольной памяти, то важным моментом являются создание мотивации и  стихотворение разучивается для какого-то событ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детей старшего дошкольного возрас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52640"/>
            <a:ext cx="6829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ом возрасте у старших дошкольников наблюдается кризис восприятия поэтических произведений, поэтому педагогу необходимо подбирать произведения соответствующие их эмоциональному состоянию, чтобы воспитать у них любовь к литературе как к виду искусства 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детей данного возраста характерно критическое, оценочное отношение к речи окружающих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5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Нетрадиционный метод заучивания стихов</a:t>
            </a:r>
            <a:br>
              <a:rPr sz="3200"/>
            </a:b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с помощью мнемотаблиц: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571760"/>
            <a:ext cx="8361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ется готовая таблица, либо мнемотаблица создается вместе с детьм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взрослый читает стихотворение, а ребенок показывает картинки, согласно стихотворению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язательно объясняются непонятные сло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просите детей, глядя на картинки-подсказки, повторить прочитанно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Если ребенок справился с этим заданием без особых трудностей, попросите его рассказать стихотворение без картинок-подсказок.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5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8640"/>
            <a:ext cx="836136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81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«Шинель»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614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ему ты шинель бережешь? –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у папы спросила. –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ему не порвешь, не сожжешь? –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у папы спросила.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дь она и грязна, и стара,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глядись-ка получше!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тому я ее берегу, -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чает мне папа, -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тому не порву, не сожгу, -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чает мне папа. –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тому мне она дорога,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 вот в этой шинели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ы ходили, дружок, на врага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его одолели! (Е. Благинина)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143680" y="1714680"/>
            <a:ext cx="3714480" cy="418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9:13:51Z</dcterms:created>
  <dc:creator/>
  <dc:description/>
  <cp:keywords>"PowerLexis" - Презентационное агентство</cp:keywords>
  <dc:language>en-US</dc:language>
  <cp:lastModifiedBy>User</cp:lastModifiedBy>
  <dcterms:modified xsi:type="dcterms:W3CDTF">2022-03-16T15:05:05Z</dcterms:modified>
  <cp:revision>14</cp:revision>
  <dc:subject/>
  <dc:title>Слайд заставка</dc:title>
</cp:coreProperties>
</file>