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EA76-013F-4DE9-AB58-F84D84F8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88B-F338-4D62-A5E6-BD23A5B3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DAA-CC56-443F-BBC0-F71F44FC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1BB-2092-43BF-92DA-4C43AE75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D5A2-1D61-45D9-84C8-E9D70C5E6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D52B8-10A6-435F-8910-4080CD260B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0753B-CFCA-432E-8529-5132AD685C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FE841-88B0-4043-95DF-2245B5AEBD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592E3-0F69-4DA3-A7F4-9A658BB9FD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77400"/>
            <a:ext cx="822492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B6C90-AF02-4ECA-9C71-65209B77C3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1D25-652C-4E6D-91D0-C355EEA233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87F-B832-4180-8E0E-E6F2B62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77B95-3E32-4316-B1B4-63CCB11E53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E12B8-5F9C-4502-933D-AB87F1A6E4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C836E-D584-4EBB-9E69-15E979F12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E2393-16D4-4875-9672-A0E7052B3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95228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4056120"/>
            <a:ext cx="26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AA43-808A-4130-9198-122E0654B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CF2-4CE3-4F84-8239-BBE56C71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A90-7CAC-456C-8B72-C0968EF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EC5-415C-44E4-A55A-EA265C06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7400"/>
            <a:ext cx="822492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262-3B2F-423A-BD0F-30F1F29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C11-AF73-455E-ADBC-E3E87C59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612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C97-3511-4886-A217-70FFA397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52280"/>
            <a:ext cx="40136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6120"/>
            <a:ext cx="822492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3E8-A435-41BD-BFBB-7B9006A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7400"/>
            <a:ext cx="822492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52280"/>
            <a:ext cx="822492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2868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08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360" y="6244920"/>
            <a:ext cx="5349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e9770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7399EE-ADC1-4B1E-84A0-2887739A9BBB}" type="slidenum">
              <a:rPr b="0" lang="ru-RU" sz="2400" spc="-1" strike="noStrike">
                <a:solidFill>
                  <a:srgbClr val="e9770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9600" y="2739960"/>
            <a:ext cx="6291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2D75AC-CAB0-47BD-AAAC-C29817662CBA}" type="slidenum"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8160" y="571320"/>
            <a:ext cx="68025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Методика заучивания стихотворений»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-логопед: Гафизова Л.Х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УДО «Детский сад №5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57880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ПАСИБО ЗА ВНИМАНИЕ 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52280"/>
            <a:ext cx="245916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392904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ызвать интерес ребенка к стихотворению (мотивация)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Понять помочь содержание произведения, объяснить непонятные ребенку слова, фразы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аучить выразительно, с интонациями, паузами читать стихотворения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Научить правильно ставить ударение в каждом слове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Воспитать любовь к поэзии.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71920" y="1714680"/>
            <a:ext cx="4214880" cy="3760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 требования к заучиванию стихотвор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9440" y="1357200"/>
            <a:ext cx="703116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тихотворение должно быть доступным, близким и понятным детям по содержанию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стихотворение должно быть динамичным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текст стихотворения заранее должен быть знаком воспитателю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в процессе заучивания стихотворения следует учитывать индивидуальные особенности детей, их склонности, вкусы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 при заучивании стихотворений обращаем внимание детей на средства выразительности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  выбираем нужный темп чтения; 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ровождаем чтение текста мимикой и жестами;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комендуется учить стихотворение поэтапно, по куплетам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заучивания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95264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Визуальны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использовать различные наглядные пособия: картинк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68920" y="196524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гатель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используя жесты и мимику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73520" y="405756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Логическ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пираясь на смысловые связ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057560"/>
            <a:ext cx="401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лухов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средства интонационной выразительност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зрастные особенност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84360" y="1341360"/>
            <a:ext cx="816768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7280" y="1440000"/>
            <a:ext cx="777564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ладшем дошкольном возрасте (от 3 до 4 лет) легче запоминаются стихотворения, которые содержат образность, лаконизм, предметность. Малыш быстро запоминает короткие стихи, в которых преобладают глаголы и существительные, где конкретность и образность объединяются с динамическими действиями. Как правило, это четверостишия, в которых описываются знакомые ребенку игрушки и животные. Задача выучить стихотворение не ставитс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реднем дошкольном возрасте (от 4 до 5 лет) тематика стихотворений становится разнообразнее и охватывает разные сферы жизни ребенка (природа, семья, детский садик). Поскольку изучение стихов происходит с привлечением произвольной памяти, то важным моментом являются создание мотивации и  стихотворение разучивается для какого-то события.</a:t>
            </a:r>
            <a:endParaRPr b="0" lang="en-US" sz="2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7400"/>
            <a:ext cx="8228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детей старшего дошкольного возрас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52640"/>
            <a:ext cx="6829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ом возрасте у старших дошкольников наблюдается кризис восприятия поэтических произведений, поэтому педагогу необходимо подбирать произведения соответствующие их эмоциональному состоянию, чтобы воспитать у них любовь к литературе как к виду искусства 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детей данного возраста характерно критическое, оценочное отношение к речи окружающих.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5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Нетрадиционный метод заучивания стихов</a:t>
            </a:r>
            <a:br>
              <a:rPr sz="3200"/>
            </a:b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 помощью мнемотаблиц: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1571760"/>
            <a:ext cx="836136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уется готовая таблица, либо мнемотаблица создается вместе с детьми.</a:t>
            </a: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взрослый читает стихотворение, а ребенок показывает картинки, согласно стихотворению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язательно объясняются непонятные слов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просите детей, глядя на картинки-подсказки, повторить прочитанно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Если ребенок справился с этим заданием без особых трудностей, попросите его рассказать стихотворение без картинок-подсказок.</a:t>
            </a:r>
            <a:br>
              <a:rPr sz="2400"/>
            </a:b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53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361360" cy="62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81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«Шинель»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61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9770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ему ты шинель бережешь? –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у папы спросила. –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ему не порвешь, не сожжешь? –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 у папы спросила.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ь она и грязна, и стара,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глядись-ка получше!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я ее берегу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чает мне папа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не порву, не сожгу, - 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чает мне папа. –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тому мне она дорога,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о вот в этой шинели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ы ходили, дружок, на врага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его одолели! (Е. Благинина)</a:t>
            </a:r>
            <a:endParaRPr b="0" lang="en-US" sz="22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143680" y="1714680"/>
            <a:ext cx="3714480" cy="418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9:13:51Z</dcterms:created>
  <dc:creator/>
  <dc:description/>
  <cp:keywords>"PowerLexis" - Презентационное агентство</cp:keywords>
  <dc:language>en-US</dc:language>
  <cp:lastModifiedBy>User</cp:lastModifiedBy>
  <dcterms:modified xsi:type="dcterms:W3CDTF">2022-03-16T15:05:05Z</dcterms:modified>
  <cp:revision>14</cp:revision>
  <dc:subject/>
  <dc:title>Слайд заставка</dc:title>
</cp:coreProperties>
</file>