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072E-59AE-4CB9-B320-F4221A408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2266-879D-481C-8A70-5B4BD803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1967-69D8-444C-9AB3-7BB605F0D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3A38-13C8-48C9-A8D9-141F21BCC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8BB7-77AF-4AFB-BA2B-B4B3A537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4122-D0BF-45CB-B143-A6ADBABB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CE5F-1341-4378-8C2E-BA482D8F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A4CB-25EF-4CC6-B9F4-CC842BF6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9DDE-A54A-463D-999E-773240AA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6915-8D54-4F14-85AD-A374C9AA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E11C-1D16-4538-8DFC-0A709635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BE55-C8BA-427A-AC5D-AF2902A2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2112-D9FC-46F1-B7D1-FBC9FA32DF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1332000" y="260280"/>
            <a:ext cx="633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ворческий отчет по т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«Первые сюжетные игры детей и руководство с ни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4140360" y="3622680"/>
            <a:ext cx="431784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готов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араева Л.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"/>
          <p:cNvSpPr/>
          <p:nvPr/>
        </p:nvSpPr>
        <p:spPr>
          <a:xfrm>
            <a:off x="46836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етоды и приемы, способствующие  обогащению содержания игры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539640" y="1484280"/>
            <a:ext cx="82296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нение воспитателем главной роли (Т.М. Бабунов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§     Индивидуальная игра воспитателя с ребенком, при этом воспитатель исполняет главную роль (Н.Я. Михайленко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§     Внесение образных игрушек (Т.М. Бабунов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§     Прием параллельной игры (Н.Ф. Тарловска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§     Прием ролевой игры с продолжением (Н. Палагин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§     Общение взрослого с детьми в процессе их игры, направленное на пробуждение и самостоятельное применение детьми новых способов решения игровой задачи, на отражение  в игре новых сторон жизни (Новоселова С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§     Игра в телефон (Н. Палагин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§     Обыгрывание с помощью кукол сюжетов жизни в детском сад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§     Разыгрывание с детьми воображаемых ситуац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Косвенные приемы руководст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§     Обновление игровых уголков (внесение предметов-заместителей, съемных панелей) (Т.М. Бабунов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§     Изменение игровой среды (С. Новоселов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§     Наблюдение, экскурс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§     Создание воображаемой ситуации (Т.М. Бабунов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§     Объяснение по воображаемому радио или телевизору об открытии новых «больниц», «магазинов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Методы и приемы, способствующие регулированию игровых взаимоотношений.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§     Игры, облегчающие адаптацию («приходите ко мне в гости») (Н.Ф. Тарловска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§     Участие воспитателя в игре (главная роль) (Н.Я Михайленко.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§     Использование многоперсонажного сюжета  (Н.Я. Михайленко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§     Внесение кукольного персонажа, постановка правил поведения от его л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2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БОТА С РОДИТЕЛ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ение воспитателей, детей и родителей в совместной работе по приобщению к миру игр позволяет совершенствовать педагогическую подготовленность родителей в вопросах воспитания собственных детей, способствует расширению форм сотрудничества семьи и детского с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руппе проводятся консульта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Дети начинают играть», «В какие игрушки играть», «Игра-дело серьезное», «Играйте вместе с детьми», «Когда на улице снег»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ендовая информация, папки-передвижки, фотовыставки, собрания,  досуги с участием детей и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тели  оказывают огромную помощь в наполнении и организации предметно-игровой среды нашей группы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1008000"/>
                <a:gridCol w="1011240"/>
                <a:gridCol w="1011240"/>
                <a:gridCol w="100800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со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з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ра как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заимоотнош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ие творческих способ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4648320" y="1600200"/>
          <a:ext cx="4038480" cy="353520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со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з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ра как деятельно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заимоотнош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ие творческих способ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0" y="1268280"/>
          <a:ext cx="8244000" cy="2187720"/>
        </p:xfrm>
        <a:graphic>
          <a:graphicData uri="http://schemas.openxmlformats.org/drawingml/2006/table">
            <a:tbl>
              <a:tblPr/>
              <a:tblGrid>
                <a:gridCol w="2060640"/>
                <a:gridCol w="2062080"/>
                <a:gridCol w="2060640"/>
                <a:gridCol w="2060640"/>
              </a:tblGrid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со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з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ра как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заимоотнош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ие творческих способ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8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4"/>
          <p:cNvSpPr/>
          <p:nvPr/>
        </p:nvSpPr>
        <p:spPr>
          <a:xfrm>
            <a:off x="179280" y="16956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диагностик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ровня развития взаимоотношений, творческих способностей, игры как деятельност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57"/>
          <p:cNvSpPr/>
          <p:nvPr/>
        </p:nvSpPr>
        <p:spPr>
          <a:xfrm>
            <a:off x="2848680" y="126828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ачало уч.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5"/>
          <p:cNvSpPr/>
          <p:nvPr/>
        </p:nvSpPr>
        <p:spPr>
          <a:xfrm>
            <a:off x="3203640" y="3789000"/>
            <a:ext cx="35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ц уч.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95280" y="4221000"/>
          <a:ext cx="8497800" cy="2378160"/>
        </p:xfrm>
        <a:graphic>
          <a:graphicData uri="http://schemas.openxmlformats.org/drawingml/2006/table">
            <a:tbl>
              <a:tblPr/>
              <a:tblGrid>
                <a:gridCol w="2124000"/>
                <a:gridCol w="2125800"/>
                <a:gridCol w="2124000"/>
                <a:gridCol w="21240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со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з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ра как деятельно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заимоотнош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ие творческих способ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584280" y="1628640"/>
          <a:ext cx="8559720" cy="2103480"/>
        </p:xfrm>
        <a:graphic>
          <a:graphicData uri="http://schemas.openxmlformats.org/drawingml/2006/table">
            <a:tbl>
              <a:tblPr/>
              <a:tblGrid>
                <a:gridCol w="2619360"/>
                <a:gridCol w="1022400"/>
                <a:gridCol w="2458800"/>
                <a:gridCol w="24591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со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з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ра как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заимоотнош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ие творческих способ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ктуальность методической тем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южетно-ролевая игра  - это самый распространённый вид  игр, это большой простор для творческих фантазий ребёнка. Игровая деятельность близка и понятна ребенку, глубоко лежит в его природе и находит своё отражение стихийно, потому что связана с его жизнью. Всякую свою выдумку, впечатление из окружающей жизни ребёнку хочется воплотить в живые образы и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ятия игровой деятельностью помогают развить творческое воображение ребёнка:  сюжетно-ролевые игры и игры-драматизации позволяют ребятам с большим интересом и лёгкостью погружаться в мир фантазии. Дети становятся более раскрепощёнными, общительными, они тоньше чувствуют и познают окружающий ми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468360" y="333360"/>
            <a:ext cx="8229600" cy="15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ЦЕЛЬ ДЕЯТЕЛЬНОСТИ</a:t>
            </a: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:</a:t>
            </a: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для ребенка ситуации эмоционального комфорта , творческой и познавательной активности в иг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395280" y="1773360"/>
            <a:ext cx="8229600" cy="43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ь детей выражать себя, используя различные средства выразительности (слова, мимику, жесты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ывать дружелюбное взаимодействие с партнёрами по игр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ь действовать с предметами-заместите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ть умение придумывать новые сюжеты, ро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гащать знания по темам для иг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2"/>
          <p:cNvSpPr/>
          <p:nvPr/>
        </p:nvSpPr>
        <p:spPr>
          <a:xfrm>
            <a:off x="395280" y="333360"/>
            <a:ext cx="81583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808080"/>
                </a:solidFill>
                <a:latin typeface="Arial"/>
              </a:rPr>
              <a:t>Изученная методическая литература по данной тем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68360" y="1197000"/>
            <a:ext cx="828180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общеобразовательная программа дошкольного образования «От рождения до школы» под ред. Н.Е.Верак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Методические рекомендации к Основной общеобразовательной программе дошкольного образования «От рождения до школы» под ред. Н.Е.Верак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Ф. Губанова «Игровая деятельность в детском саду» .Программа и методические рекомендации. М. «Мозаика-Синтез» 201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Я. Михайленко, Н.А. Короткова «Игры с правилами в дошкольном возрасте». Екатеринбург. «Деловая книга».201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Я. Михайленко, Н.А. Короткова «Организация сюжетной игры в детском саду». М. «Гном и Д».201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А. Виноградова, Н.В. Позднякова «Сюжетно-ролевые игры для старших дошкольников: практическое пособие».М. «Айрис Пресс».200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.В. Менджерицкая. «Воспитателю о детской игре». М. «Просвещение».198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оспитание детей в игре». М. «Профессиональное образование».199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 Руководство играми в дошкольном учреждении».М. Просвещение».2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 Ф. Лесгафт Руководство по физическому образованию детей школьного возраста. М., 1952, т. II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9"/>
          <p:cNvSpPr/>
          <p:nvPr/>
        </p:nvSpPr>
        <p:spPr>
          <a:xfrm>
            <a:off x="2484360" y="907920"/>
            <a:ext cx="40006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стема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организации сюжетно-ролевой игры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250920" y="2133720"/>
            <a:ext cx="208908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84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ИЗАЦИЯ ПРЕДМЕТНО-ИГРОВОЙ СРЕД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4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7"/>
          <p:cNvSpPr/>
          <p:nvPr/>
        </p:nvSpPr>
        <p:spPr>
          <a:xfrm flipH="1">
            <a:off x="1618920" y="1844640"/>
            <a:ext cx="180036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2987640" y="2205000"/>
            <a:ext cx="309708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СПЕКТИВНОЕ ПЛАНИРОВАНИЕ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И РЕАЛИЗАЦ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324000" y="3860640"/>
            <a:ext cx="230328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Сюжетно-ролевых игр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игр-драматизаци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5867280" y="3860640"/>
            <a:ext cx="266544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84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4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ты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4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с  родителям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4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1"/>
          <p:cNvSpPr/>
          <p:nvPr/>
        </p:nvSpPr>
        <p:spPr>
          <a:xfrm flipH="1">
            <a:off x="1258560" y="2997360"/>
            <a:ext cx="230508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>
            <a:off x="5364000" y="2997360"/>
            <a:ext cx="158436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"/>
          <p:cNvSpPr/>
          <p:nvPr/>
        </p:nvSpPr>
        <p:spPr>
          <a:xfrm>
            <a:off x="4284720" y="184464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6659640" y="1989000"/>
            <a:ext cx="1657440" cy="13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ДИАГНОСТИКА УРОВНЯ РАЗВИТИЯ ТВОРЧЕСКИХ СПОСОБНОСТЕЙ, ВЗАИМООТНОШЕНИЙ И ИГРЫ КАК ДЕЯТЕЛЬНОСТИ   ДЕТ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>
            <a:off x="5867280" y="1844640"/>
            <a:ext cx="125748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фон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2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ЕДМЕТНО-ИГРОВАЯ СРЕДА В ГРУПП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пы игрового материа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80"/>
                </a:solidFill>
                <a:latin typeface="Arial"/>
              </a:rPr>
              <a:t>1. Предметы оперир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80"/>
                </a:solidFill>
                <a:latin typeface="Arial"/>
              </a:rPr>
              <a:t>2. Игрушки-персонажи и ролевые атрибу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80"/>
                </a:solidFill>
                <a:latin typeface="Arial"/>
              </a:rPr>
              <a:t>3. Маркеры игрового пространст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ифункциональные материа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олок ряжень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46836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спективное планирование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 организации сюжетно-ролевой иг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457200" y="2201760"/>
            <a:ext cx="8229600" cy="3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3200" spc="-1" strike="noStrike">
                <a:solidFill>
                  <a:srgbClr val="808080"/>
                </a:solidFill>
                <a:latin typeface="Arial"/>
              </a:rPr>
              <a:t>Содержание перспективного планир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►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ГРЫ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южетно-ролев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гры- драмат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"/>
          <p:cNvSpPr/>
          <p:nvPr/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южетно-ролевые игры д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187280" y="758880"/>
          <a:ext cx="5832720" cy="5838840"/>
        </p:xfrm>
        <a:graphic>
          <a:graphicData uri="http://schemas.openxmlformats.org/drawingml/2006/table">
            <a:tbl>
              <a:tblPr/>
              <a:tblGrid>
                <a:gridCol w="1908360"/>
                <a:gridCol w="3924360"/>
              </a:tblGrid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енные рам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адшая 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кварт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пание кукол, Стирка, Утро куклы, Семья, Гости, Детский сад, Комната кукл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кварт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ма и дочка, Кукла заболела, День куклы, Врач, Праздник ёл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кварт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газин, Зоопарк, Пароход, Шофе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1835280" y="1341360"/>
          <a:ext cx="4895640" cy="4784760"/>
        </p:xfrm>
        <a:graphic>
          <a:graphicData uri="http://schemas.openxmlformats.org/drawingml/2006/table">
            <a:tbl>
              <a:tblPr/>
              <a:tblGrid>
                <a:gridCol w="4895640"/>
              </a:tblGrid>
              <a:tr h="12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адшая групп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Репк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олобок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Теремок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Rectangle 2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8080"/>
                </a:solidFill>
                <a:latin typeface="Arial"/>
              </a:rPr>
              <a:t>игры-драматиз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5:08:22Z</dcterms:created>
  <dc:creator>Sanyka</dc:creator>
  <dc:description/>
  <dc:language>en-US</dc:language>
  <cp:lastModifiedBy>us3</cp:lastModifiedBy>
  <dcterms:modified xsi:type="dcterms:W3CDTF">2022-04-18T07:41:31Z</dcterms:modified>
  <cp:revision>9</cp:revision>
  <dc:subject/>
  <dc:title>Слайд 1</dc:title>
</cp:coreProperties>
</file>