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7A0-6EB9-4C15-AF6D-E1DAEFA9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706-EDCD-4654-B138-70E9524E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EF8-14AB-4A10-A2FC-68BEFECF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331-D40E-474E-B795-8489DD5F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D68-B8C3-45DA-B00E-2AB9474A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146-5977-42F4-B97E-9EC9FF01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FAD-FC18-49CC-9CFE-18C0E1E7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EBE-932C-452B-9E7A-ECF2FC08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213-386E-4E0A-AACF-EC0CBA43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FC84-941E-4DD8-AE01-9951E0E2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CAD-5C27-4D25-895E-C0270235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D8E-B8BD-4BDC-9B49-92195823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E212-F0FC-49C5-BE97-0546F0E01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332000" y="260280"/>
            <a:ext cx="633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ий отчет 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Первые сюжетные игры детей и руководство с ни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140360" y="3622680"/>
            <a:ext cx="431784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раева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тоды и приемы, способствующие  обогащению содержания игр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539640" y="1484280"/>
            <a:ext cx="82296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 воспитателем главной роли (Т.М. Бабун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Индивидуальная игра воспитателя с ребенком, при этом воспитатель исполняет главную роль (Н.Я. Михайленк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Внесение образных игрушек (Т.М. Бабуно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Прием параллельной игры (Н.Ф. Тарловска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Прием ролевой игры с продолжением (Н. Палагин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Общение взрослого с детьми в процессе их игры, направленное на пробуждение и самостоятельное применение детьми новых способов решения игровой задачи, на отражение  в игре новых сторон жизни (Новоселова С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Игра в телефон (Н. Палагин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Обыгрывание с помощью кукол сюжетов жизни в детском сад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§     Разыгрывание с детьми воображаемых ситу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освенные приемы руковод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    Обновление игровых уголков (внесение предметов-заместителей, съемных панелей) (Т.М. Бабунов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    Изменение игровой среды (С. Новоселов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    Наблюдение, экскурс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    Создание воображаемой ситуации (Т.М. Бабунов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    Объяснение по воображаемому радио или телевизору об открытии новых «больниц», «магазин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тоды и приемы, способствующие регулированию игровых взаимоотношений.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    Игры, облегчающие адаптацию («приходите ко мне в гости») (Н.Ф. Тарловска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    Участие воспитателя в игре (главная роль) (Н.Я Михайленко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    Использование многоперсонажного сюжета  (Н.Я. Михайленко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    Внесение кукольного персонажа, постановка правил поведения от его л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воспитателей, детей и родителей в совместной работе по приобщению к миру игр позволяет совершенствовать педагогическую подготовленность родителей в вопросах воспитания собственных детей, способствует расширению форм сотрудничества семьи и детского с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уппе проводятся консульт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Дети начинают играть», «В какие игрушки играть», «Игра-дело серьезное», «Играйте вместе с детьми», «Когда на улице снег»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ндовая информация, папки-передвижки, фотовыставки, собрания,  досуги с участием детей и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 оказывают огромную помощь в наполнении и организации предметно-игровой среды нашей группы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1011240"/>
                <a:gridCol w="1011240"/>
                <a:gridCol w="100800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как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от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ворчески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648320" y="1600200"/>
          <a:ext cx="4038480" cy="353520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как дея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от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ворчески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0" y="1268280"/>
          <a:ext cx="8244000" cy="2187720"/>
        </p:xfrm>
        <a:graphic>
          <a:graphicData uri="http://schemas.openxmlformats.org/drawingml/2006/table">
            <a:tbl>
              <a:tblPr/>
              <a:tblGrid>
                <a:gridCol w="2060640"/>
                <a:gridCol w="2062080"/>
                <a:gridCol w="2060640"/>
                <a:gridCol w="20606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как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от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ворчески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179280" y="1695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диагностик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овня развития взаимоотношений, творческих способностей, игры как деятельност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57"/>
          <p:cNvSpPr/>
          <p:nvPr/>
        </p:nvSpPr>
        <p:spPr>
          <a:xfrm>
            <a:off x="2848680" y="12682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чало уч.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5"/>
          <p:cNvSpPr/>
          <p:nvPr/>
        </p:nvSpPr>
        <p:spPr>
          <a:xfrm>
            <a:off x="3203640" y="378900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уч.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4221000"/>
          <a:ext cx="8497800" cy="2378160"/>
        </p:xfrm>
        <a:graphic>
          <a:graphicData uri="http://schemas.openxmlformats.org/drawingml/2006/table">
            <a:tbl>
              <a:tblPr/>
              <a:tblGrid>
                <a:gridCol w="2124000"/>
                <a:gridCol w="2125800"/>
                <a:gridCol w="2124000"/>
                <a:gridCol w="21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как дея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от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ворчески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84280" y="1628640"/>
          <a:ext cx="8559720" cy="2103480"/>
        </p:xfrm>
        <a:graphic>
          <a:graphicData uri="http://schemas.openxmlformats.org/drawingml/2006/table">
            <a:tbl>
              <a:tblPr/>
              <a:tblGrid>
                <a:gridCol w="2619360"/>
                <a:gridCol w="1022400"/>
                <a:gridCol w="2458800"/>
                <a:gridCol w="2459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а как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аимоотнош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творческих способ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ктуальность методической т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южетно-ролевая игра  - это самый распространённый вид  игр, это большой простор для творческих фантазий ребёнка. Игровая деятельность близка и понятна ребенку, глубоко лежит в его природе и находит своё отражение стихийно, потому что связана с его жизнью. Всякую свою выдумку, впечатление из окружающей жизни ребёнку хочется воплотить в живые образы 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ия игровой деятельностью помогают развить творческое воображение ребёнка:  сюжетно-ролевые игры и игры-драматизации позволяют ребятам с большим интересом и лёгкостью погружаться в мир фантазии. Дети становятся более раскрепощёнными, общительными, они тоньше чувствуют и познают окружающий м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68360" y="333360"/>
            <a:ext cx="82296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ЦЕЛЬ ДЕЯТЕЛЬНОСТИ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для ребенка ситуации эмоционального комфорта , творческой и познавательной активности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95280" y="177336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детей выражать себя, используя различные средства выразительности (слова, мимику, жес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дружелюбное взаимодействие с партнёрами по иг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действовать с предметами-замест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умение придумывать новые сюжеты, ро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гащать знания по темам для иг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395280" y="333360"/>
            <a:ext cx="8158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808080"/>
                </a:solidFill>
                <a:latin typeface="Arial"/>
              </a:rPr>
              <a:t>Изученная методическая литература по данной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1197000"/>
            <a:ext cx="82818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дошкольного образования «От рождения до школы» под ред. Н.Е.Вера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етодические рекомендации к Основной общеобразовательной программе дошкольного образования «От рождения до школы» под ред. Н.Е.Верак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Губанова «Игровая деятельность в детском саду» .Программа и методические рекомендации. М. «Мозаика-Синтез» 20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Я. Михайленко, Н.А. Короткова «Игры с правилами в дошкольном возрасте». Екатеринбург. «Деловая книга».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Я. Михайленко, Н.А. Короткова «Организация сюжетной игры в детском саду». М. «Гном и Д».201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А. Виноградова, Н.В. Позднякова «Сюжетно-ролевые игры для старших дошкольников: практическое пособие».М. «Айрис Пресс».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В. Менджерицкая. «Воспитателю о детской игре». М. «Просвещение».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оспитание детей в игре». М. «Профессиональное образование».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 Руководство играми в дошкольном учреждении».М. Просвещение».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 Ф. Лесгафт Руководство по физическому образованию детей школьного возраста. М., 1952, т. II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9"/>
          <p:cNvSpPr/>
          <p:nvPr/>
        </p:nvSpPr>
        <p:spPr>
          <a:xfrm>
            <a:off x="2484360" y="907920"/>
            <a:ext cx="4000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рганизации сюжетно-ролевой игры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250920" y="2133720"/>
            <a:ext cx="20890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ПРЕДМЕТНО-ИГРОВОЙ СРЕ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 flipH="1">
            <a:off x="1618920" y="1844640"/>
            <a:ext cx="180036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987640" y="2205000"/>
            <a:ext cx="30970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СПЕКТИВНОЕ ПЛАНИРОВАНИ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И РЕАЛИЗ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24000" y="3860640"/>
            <a:ext cx="23032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южетно-ролевых игр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-драматизац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867280" y="3860640"/>
            <a:ext cx="266544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ы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  родителям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4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1258560" y="2997360"/>
            <a:ext cx="23050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5364000" y="2997360"/>
            <a:ext cx="158436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4284720" y="18446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659640" y="1989000"/>
            <a:ext cx="1657440" cy="13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НОСТИКА УРОВНЯ РАЗВИТИЯ ТВОРЧЕСКИХ СПОСОБНОСТЕЙ, ВЗАИМООТНОШЕНИЙ И ИГРЫ КАК ДЕЯТЕЛЬНОСТИ   ДЕТ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5867280" y="1844640"/>
            <a:ext cx="125748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фон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фон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МЕТНО-ИГРОВАЯ СРЕДА В ГРУП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игрового матери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1. Предметы опер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2. Игрушки-персонажи и ролевые атриб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Arial"/>
              </a:rPr>
              <a:t>3. Маркеры игрового простран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функциональные матери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ок ряжень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6836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спективное планировани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организации сюжетно-ролевой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2201760"/>
            <a:ext cx="822960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808080"/>
                </a:solidFill>
                <a:latin typeface="Arial"/>
              </a:rPr>
              <a:t>Содержание перспективного планир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►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южетно-ролев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ы- дра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южетно-ролевые игры 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87280" y="758880"/>
          <a:ext cx="5832720" cy="5838840"/>
        </p:xfrm>
        <a:graphic>
          <a:graphicData uri="http://schemas.openxmlformats.org/drawingml/2006/table">
            <a:tbl>
              <a:tblPr/>
              <a:tblGrid>
                <a:gridCol w="1908360"/>
                <a:gridCol w="392436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 рам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ание кукол, Стирка, Утро куклы, Семья, Гости, Детский сад, Комната кукл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ма и дочка, Кукла заболела, День куклы, Врач, Праздник ё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вар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азин, Зоопарк, Пароход, Шоф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1835280" y="1341360"/>
          <a:ext cx="4895640" cy="4784760"/>
        </p:xfrm>
        <a:graphic>
          <a:graphicData uri="http://schemas.openxmlformats.org/drawingml/2006/table">
            <a:tbl>
              <a:tblPr/>
              <a:tblGrid>
                <a:gridCol w="4895640"/>
              </a:tblGrid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ая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Реп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лоб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рем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игры-драмат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5:08:22Z</dcterms:created>
  <dc:creator>Sanyka</dc:creator>
  <dc:description/>
  <dc:language>en-US</dc:language>
  <cp:lastModifiedBy>us3</cp:lastModifiedBy>
  <dcterms:modified xsi:type="dcterms:W3CDTF">2022-04-18T07:41:31Z</dcterms:modified>
  <cp:revision>9</cp:revision>
  <dc:subject/>
  <dc:title>Слайд 1</dc:title>
</cp:coreProperties>
</file>