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ADCC-4185-4550-830E-DEB553CBB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DF83-3636-4A08-8B3E-7EE012C4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8D24-AFA9-4500-8BAE-104655486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B81F-0FB4-4849-B792-A69598616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7E85D-0CDD-4A6C-8DB3-0EAC036BA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3258-2D34-4557-8EA6-EE682504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58E7-1F2F-43CC-B8E4-A3AB8788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F332-0F0A-49CF-90A8-6F067D60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68B07-D16E-4256-9137-DED55198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0187-71FF-4279-884C-55AEDF0B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0DFB-25CF-4362-B1DC-58C2453E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789A-C479-4DBC-9440-F8DC5204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F249-6F37-4CD9-BBCD-A83221EF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4E02-DC2E-4CB1-BF9C-048BE864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5BF3-1DA6-4C39-BE06-340492BD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6D0E-4E79-4D24-8580-23EAEEE7C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A6E9-B132-4B60-913D-7D2FE0EB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8B1D7-A7B2-46D2-9D9D-7E0AC7396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CBAC4-0DFA-440B-A0E2-07F6202E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DAFF2-218C-4E83-922A-23C1DEB6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467BD-55AF-4FD3-9711-58A5A15A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04BD2-7BA9-45AE-B359-38315495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E085-8B4B-4860-A1A8-5CEDD9A0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A34F8-2204-4496-9B08-BFF7B6D1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DF333-321A-4683-967E-1A4A43C9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54C43-5EEA-4A2E-8BDA-97092416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D15AA-B4DC-4AFC-804D-A94BFEED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CC678-29E8-4207-9D84-716DDC8F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7F00A-DCAB-49D1-BA2A-76CCC350E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76153-4E34-4822-BC7B-356B1CE7A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70BB8-A15A-4344-8BE9-BB8DB18D3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EFCAA-BE37-4627-A9BB-B1610D0D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6C40C-8613-48B2-A06A-995F5874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8AC2-E1C4-4F5C-95F2-9151253B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7B3D2-3E1F-45AC-B7BD-A3E4E46F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2A340-EBBC-4F51-AFC0-EFFEBE4D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4AFB4-E728-4BE2-9A0A-47202BB7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7EF4E-0D5D-4091-B70E-799A8D7B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1BF0A-B250-4351-9DF7-CF1A3DD6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5E4AF-2A28-4E04-9943-C5EF4A8B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31124-5CDA-4DC8-99F4-260A8020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FAFFB-899E-4E8C-8850-D2D72C40A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E9D8A-1FE5-4162-A3BE-33C2CC684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55F2-D515-45C5-A34A-5D2046EE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909B-9251-4C8C-A16A-AEDD2B39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0F9B-0C10-469A-92D7-0C7B76A8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357A-CF90-4A5B-A566-AB224099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F3F6-79DC-4344-86E4-BB9720F8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75F0-6548-4A45-B7FE-A99C0B39A9F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25BE-4277-4856-8FF3-D3A56B8681C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CD3F-3048-41F6-BAEE-7FEE61F4544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DCB0-02C9-418D-9C1C-45FABF12EE5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ВОДНЫЙ ТРАНСПОРТ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Содержимое 4" descr=""/>
          <p:cNvPicPr/>
          <p:nvPr/>
        </p:nvPicPr>
        <p:blipFill>
          <a:blip r:embed="rId1"/>
          <a:stretch/>
        </p:blipFill>
        <p:spPr>
          <a:xfrm>
            <a:off x="1676520" y="4343400"/>
            <a:ext cx="2743200" cy="190512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5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2666880" cy="182880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6" descr=""/>
          <p:cNvPicPr/>
          <p:nvPr/>
        </p:nvPicPr>
        <p:blipFill>
          <a:blip r:embed="rId3"/>
          <a:stretch/>
        </p:blipFill>
        <p:spPr>
          <a:xfrm>
            <a:off x="4267080" y="2133720"/>
            <a:ext cx="2819520" cy="175248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7" descr=""/>
          <p:cNvPicPr/>
          <p:nvPr/>
        </p:nvPicPr>
        <p:blipFill>
          <a:blip r:embed="rId4"/>
          <a:stretch/>
        </p:blipFill>
        <p:spPr>
          <a:xfrm>
            <a:off x="6172200" y="4114800"/>
            <a:ext cx="26668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Заголовок 9" descr=""/>
          <p:cNvPicPr/>
          <p:nvPr/>
        </p:nvPicPr>
        <p:blipFill>
          <a:blip r:embed="rId1"/>
          <a:stretch/>
        </p:blipFill>
        <p:spPr>
          <a:xfrm>
            <a:off x="438120" y="401760"/>
            <a:ext cx="8267760" cy="14824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"/>
          <p:cNvPicPr/>
          <p:nvPr/>
        </p:nvPicPr>
        <p:blipFill>
          <a:blip r:embed="rId2"/>
          <a:stretch/>
        </p:blipFill>
        <p:spPr>
          <a:xfrm>
            <a:off x="388800" y="1981080"/>
            <a:ext cx="2887920" cy="37339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3428640" y="1920960"/>
            <a:ext cx="52578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По волнам плывет отважно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Не сбавляя быстрый ход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Лишь гудит машина важно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Что такое?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4617b"/>
                </a:solidFill>
                <a:latin typeface="Arial Black"/>
              </a:rPr>
              <a:t>ТЕПЛОХОД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Содержимое 7" descr=""/>
          <p:cNvPicPr/>
          <p:nvPr/>
        </p:nvPicPr>
        <p:blipFill>
          <a:blip r:embed="rId1"/>
          <a:stretch/>
        </p:blipFill>
        <p:spPr>
          <a:xfrm>
            <a:off x="609480" y="1944720"/>
            <a:ext cx="815364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4617b"/>
                </a:solidFill>
                <a:latin typeface="Arial Black"/>
              </a:rPr>
              <a:t>ТЕПЛОХОД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Морское или речное судно, приводимое в движение двигателем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а теплоходе много кают, есть ресторан  и танцевальный за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ервый теплоход появился в РОССИ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Содержимое 4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809520" y="1920960"/>
            <a:ext cx="48769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Смотрят все разинув рот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Как огромный пароход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Повидавший целый мир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Тащит маленький..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Заголовок 9" descr=""/>
          <p:cNvPicPr/>
          <p:nvPr/>
        </p:nvPicPr>
        <p:blipFill>
          <a:blip r:embed="rId1"/>
          <a:stretch/>
        </p:blipFill>
        <p:spPr>
          <a:xfrm>
            <a:off x="438120" y="420840"/>
            <a:ext cx="8267760" cy="14810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"/>
          <p:cNvPicPr/>
          <p:nvPr/>
        </p:nvPicPr>
        <p:blipFill>
          <a:blip r:embed="rId2"/>
          <a:stretch/>
        </p:blipFill>
        <p:spPr>
          <a:xfrm>
            <a:off x="547560" y="2209680"/>
            <a:ext cx="31863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4617b"/>
                </a:solidFill>
                <a:latin typeface="Arial Black"/>
              </a:rPr>
              <a:t>БУКСИР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Содержимое 4" descr=""/>
          <p:cNvPicPr/>
          <p:nvPr/>
        </p:nvPicPr>
        <p:blipFill>
          <a:blip r:embed="rId1"/>
          <a:stretch/>
        </p:blipFill>
        <p:spPr>
          <a:xfrm>
            <a:off x="609480" y="1935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9-06T15:47:54Z</dcterms:modified>
  <cp:revision>13</cp:revision>
  <dc:subject/>
  <dc:title>ВОДНЫЙ ТРАНСПОРТ</dc:title>
</cp:coreProperties>
</file>