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AFC-AAEB-41BE-BB73-C3A321B9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D7B-8990-44F0-891E-1ABC860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966-85B3-4C42-841C-FD3A32D8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605-3AB7-404B-B019-9CF17AFE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E147-40CB-49EC-990A-5F2A16BC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B9DF-83CF-42DD-9316-78EB2C39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4714-67A5-42CB-A052-974097F1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8770-77D7-4E14-AA24-EEB043D7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B134-7F86-40BE-8EA5-B546F3FB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8A0-50A5-4CE4-BDC8-C1E429E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3C9-3953-42B9-AD5A-9E4D9ED4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10E-3B0B-4919-9CB4-27C5F459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007-1C4D-48C3-86FE-31A37E8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BFC-5845-42C7-9DE8-0D344238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5138-FF20-4343-832C-8285B93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77A-B3A6-42E7-B10A-E9C48017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722D-5528-4560-84FF-3FD6A471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E6E8-8FC7-48C0-AF22-6B200B4E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FC03-825C-4686-89AD-A9E60BF0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B48A-5E24-482B-8429-618605A4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47AB-DB48-4178-AB3E-8D4CEB9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A22B-0E94-44AE-9288-A4414E1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03B-0763-4C65-99E4-08B4889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DF719-88D5-4056-9572-99FCD6D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0B75-3EB2-4083-AF30-5CF4BC84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F110-F683-49BF-894A-7F231FB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B78D-6154-4760-8985-B18C3C5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35C0-0649-42A5-BDCC-8BA5DC7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12BE-7924-4C15-9568-950A2C28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6790-B71F-4B4B-BA1F-2CEF6E0E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2F19-A233-4931-8AF5-6A7B7FF7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813F-1E8B-4841-92F9-7B638E28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B09D-54A1-4956-A800-4A5A1185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22F-50A9-4134-BFED-A8344994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A044-5F27-44B8-9F24-C5EF0C8B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840C-DE1C-4F35-A880-77D23BC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F89D-6DEF-4993-A9D3-CD0BF9B6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4A7FE-12CC-45C5-9431-68662853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B9A5-9954-4D2A-8B4D-38795774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8246-7AD5-4ED7-BB92-EEE7224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A490-6013-4264-BF07-E5A11A40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2A68-00F3-4BA4-9967-CBAD7B74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1D917-99E0-4AF4-A5D8-280573A0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FA5-AB05-4518-AD8B-E35A54AE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892-BA4E-4FC6-AF96-FF4A9ADB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F13-DBBB-417C-9FB1-766E8D04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443-AD98-4CE9-9D51-9E3C2CD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B97-9825-43C8-953E-5AB926B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866-5709-4981-AB27-B7BE28A8566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2D0F-C101-4636-B975-D584DC1587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E3F7-9FA9-43A4-A72B-8BE92FC7F63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A6C5-EC66-4E1C-BDB4-D809CEBBC9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ВОДНЫЙ ТРАНСПОРТ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Содержимое 4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27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5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266688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"/>
          <p:cNvPicPr/>
          <p:nvPr/>
        </p:nvPicPr>
        <p:blipFill>
          <a:blip r:embed="rId3"/>
          <a:stretch/>
        </p:blipFill>
        <p:spPr>
          <a:xfrm>
            <a:off x="4267080" y="213372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7" descr=""/>
          <p:cNvPicPr/>
          <p:nvPr/>
        </p:nvPicPr>
        <p:blipFill>
          <a:blip r:embed="rId4"/>
          <a:stretch/>
        </p:blipFill>
        <p:spPr>
          <a:xfrm>
            <a:off x="6172200" y="41148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9" descr=""/>
          <p:cNvPicPr/>
          <p:nvPr/>
        </p:nvPicPr>
        <p:blipFill>
          <a:blip r:embed="rId1"/>
          <a:stretch/>
        </p:blipFill>
        <p:spPr>
          <a:xfrm>
            <a:off x="438120" y="401760"/>
            <a:ext cx="8267760" cy="1482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388800" y="1981080"/>
            <a:ext cx="2887920" cy="3733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428640" y="1920960"/>
            <a:ext cx="525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 волнам плывет отважно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е сбавляя быстрый ход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Лишь гудит машина важно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Что такое?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ТЕПЛОХОД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7" descr=""/>
          <p:cNvPicPr/>
          <p:nvPr/>
        </p:nvPicPr>
        <p:blipFill>
          <a:blip r:embed="rId1"/>
          <a:stretch/>
        </p:blipFill>
        <p:spPr>
          <a:xfrm>
            <a:off x="609480" y="1944720"/>
            <a:ext cx="81536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4617b"/>
                </a:solidFill>
                <a:latin typeface="Arial Black"/>
              </a:rPr>
              <a:t>ТЕПЛОХОД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ское или речное судно, приводимое в движение двигателе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 теплоходе много кают, есть ресторан  и танцевальный за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вый теплоход появился в РОСС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Содержимое 4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09520" y="1920960"/>
            <a:ext cx="48769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мотрят все разинув рот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ак огромный пароход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Повидавший целый мир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Тащит маленький..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Заголовок 9" descr=""/>
          <p:cNvPicPr/>
          <p:nvPr/>
        </p:nvPicPr>
        <p:blipFill>
          <a:blip r:embed="rId1"/>
          <a:stretch/>
        </p:blipFill>
        <p:spPr>
          <a:xfrm>
            <a:off x="438120" y="420840"/>
            <a:ext cx="8267760" cy="1481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547560" y="2209680"/>
            <a:ext cx="3186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4617b"/>
                </a:solidFill>
                <a:latin typeface="Arial Black"/>
              </a:rPr>
              <a:t>БУКСИР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4" descr=""/>
          <p:cNvPicPr/>
          <p:nvPr/>
        </p:nvPicPr>
        <p:blipFill>
          <a:blip r:embed="rId1"/>
          <a:stretch/>
        </p:blipFill>
        <p:spPr>
          <a:xfrm>
            <a:off x="60948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06T15:47:54Z</dcterms:modified>
  <cp:revision>13</cp:revision>
  <dc:subject/>
  <dc:title>ВОДНЫЙ ТРАНСПОРТ</dc:title>
</cp:coreProperties>
</file>