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43E-0785-46FA-A62A-8A2900F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9E3-BBAF-457B-BAFB-8C505B6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CC8-7CF2-4331-8875-969E17A8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7B2-3E09-4042-AEC2-6ECF5656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7A2D-D6E6-4724-9765-9CBCA1EA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C73-5D75-4A15-A7A9-BB21906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7F2B-1BF2-4877-8311-EA3BC37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0A3-BA46-4912-9BA9-270C5C6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53D-B4F3-429F-8877-E419C21C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E3F8-DFF5-4E64-AA4B-73DCE82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F143-AC54-4FDE-8F35-B8B540A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133-6C39-4D1C-BFE1-601EA3C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5FD3-064D-4399-8C20-592EFDF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0B79-76AA-4E0B-BFC5-A6CBACA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9F2F-E6E7-4A0F-A94E-469DAAF3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AAF-CD0E-4045-B61E-62372B29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583-EB03-438E-93A5-5625DCB4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7F9F-3067-4B8B-96EF-6CCF9D44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B95B-70F0-4393-9820-8D46B7C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7851-62A2-491C-A993-8D0FC292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996F-E904-47F5-802A-5F1FED25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EF65-91BA-41B1-AF53-4DCAA72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34D-E9F4-48A6-8BB0-EA42ECC5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6186-B874-4F5E-8EDF-BC516313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8472-1EE2-4132-9DDD-576EDFC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E2C7-01E3-495C-B850-8AC4DB6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9711-1396-446D-8F40-64C24C0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1716-BC29-430C-A791-0CC729E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1BB6-DFC7-4B7B-A727-2D3255A5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5874-D371-4652-AA41-A9EFACC5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281A-C679-49B6-80A7-3C0756A2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3FE3-A475-4B5C-BFFC-7C7D0DD3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9DC5-3A01-48CE-8AA9-0476263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49D-F1AA-4A2F-8BBE-E2A275F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3D75-0098-44B5-8FE1-2916A8E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3D527-0F95-464D-A00A-3BD69F7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F979-6F10-4E62-A9DC-96866A3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9D6C-17D4-4D44-9E78-5E7A74B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FF8E-98C7-4B8E-BE0D-F38CAFD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827F-EAFF-42AD-A78D-36FDFEF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C13E-03E6-4B78-8EBF-BD9F62A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AE91-3F35-4FDE-B5D1-4D07C223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AFBC-1EBC-47FD-AE34-E36F453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47F-7A94-4FDA-B284-DC6D7785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7DC-5D62-4074-B0EB-7176D4DB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4C2-2529-454B-9F9F-BFD8687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EAE-B3EA-40F0-9272-EAB9FA3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0D6-7554-4D85-B4A4-40CE90D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2AB-FBEB-4231-A742-24E03B0C6D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109-C872-44AE-9311-3532BD8DE1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69F-B90F-4E1F-8A36-8DB77F44585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6075-FE81-4CE3-8049-C495128C2E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РРРРРРРРРРРРРРРРРРРРРРРРРРРРРРРРРРРРРР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ово «буксир – означает «тянуть» Судно, предназна ченное для вождения других судов, барж, плотов на тросе или  для оказания помощи судам в открытом море и их буксировки в порт-убежищ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9" descr=""/>
          <p:cNvPicPr/>
          <p:nvPr/>
        </p:nvPicPr>
        <p:blipFill>
          <a:blip r:embed="rId1"/>
          <a:stretch/>
        </p:blipFill>
        <p:spPr>
          <a:xfrm>
            <a:off x="438120" y="420840"/>
            <a:ext cx="8267760" cy="1481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547560" y="2209680"/>
            <a:ext cx="3186360" cy="426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809520" y="1920600"/>
            <a:ext cx="4876920" cy="34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то там в дымке тает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й по волнам летает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уса меняет вахт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нос по ветру.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ЯХ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6" descr=""/>
          <p:cNvPicPr/>
          <p:nvPr/>
        </p:nvPicPr>
        <p:blipFill>
          <a:blip r:embed="rId1"/>
          <a:stretch/>
        </p:blipFill>
        <p:spPr>
          <a:xfrm>
            <a:off x="838080" y="1935000"/>
            <a:ext cx="723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ЯХТ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82880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арусное,  моторное или парусно-моторное судно, различной формы и разных размеров предназначенное для спорта, прогулок  или путешеств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8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9" descr=""/>
          <p:cNvPicPr/>
          <p:nvPr/>
        </p:nvPicPr>
        <p:blipFill>
          <a:blip r:embed="rId1"/>
          <a:stretch/>
        </p:blipFill>
        <p:spPr>
          <a:xfrm>
            <a:off x="438120" y="401760"/>
            <a:ext cx="8267760" cy="148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388800" y="1981080"/>
            <a:ext cx="2887920" cy="3733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428640" y="1920960"/>
            <a:ext cx="525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НАЗОВИТЕ ВОДНЫЙ  ТРАНСПОРТ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52:59Z</dcterms:modified>
  <cp:revision>14</cp:revision>
  <dc:subject/>
  <dc:title>ВОДНЫЙ ТРАНСПОРТ</dc:title>
</cp:coreProperties>
</file>