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DA9-3F3B-4922-B708-669017F8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0FE-B531-4CAF-9B11-DDB1434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C75-F09A-4887-ADAB-0B4EC346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A5F-72A8-4521-A9A9-25566143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F01-7034-4DC0-A76D-6EC485B5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DCDC-3BFE-4CC5-9341-5384F660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BCA3-D052-4CA9-8A26-A821337C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5294-F143-40F0-896C-489D7A89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ED56-0C1E-42F4-ADB1-770EC8B8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48EF-B33E-472B-B0E9-4F4B19D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5D7D-CB82-4F9F-87FF-B14F5C2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297-9891-41EF-92A7-35FF0562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6485-F63B-4697-A9F4-FFD7A93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8FE-82E1-45FD-A62E-F7A04BC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A474-399C-447B-A848-7843638A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EC2F-0694-4EC2-91EF-EF7006F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31CA-92FC-4A83-A9F3-54DEB1C3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2A38-1A07-40C6-96C8-88DC639A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72D2-CE2E-482C-A953-632601A4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EA05-0B28-445B-9469-A7943987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186A0-A7E1-44C2-834F-49ECBD9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FAE5-FF6D-41AC-B807-F6E9B422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BD5-4111-43B6-B079-90019364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BFD44-9B04-4C14-9A9E-BAD7D9D9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7615-3929-44A8-ABA2-96A9660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016C-3178-4987-95C2-CC90E18D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6D1C-2493-4186-97E6-5C58A44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F05FA-E657-4114-9530-E20E2345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46FF-CD7B-4D6C-8325-924B7289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9358-CACF-45E1-9F0D-F52D2BDE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B6DF-1189-443A-A13B-13424A133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05A44-2E3D-4F0C-8B60-716DB6BD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C3AD-7033-4289-BF41-3A7EC25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A86-24A2-4867-A529-FF033FD7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62D9-810F-4BFD-AB9B-D1FDDA8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4216-B429-4AA3-81B4-055EFCD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80D5D-C498-45E8-821B-BEE5A9C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E954D-565E-4DC3-AFED-5511ADCD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3C81-5152-4064-BE6B-27F84386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DC734-E2D4-4080-93FC-FA145E9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D19E-CA92-41E3-8295-8134606F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92ED-9DED-4D02-BECE-76E30ED8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433D-738E-4889-9654-418D7DCF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C2A-201D-4A16-9C95-306D8048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355-A32E-4779-A56F-6DCDD7F3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FD7-B650-4B0D-B0F9-240FE9A3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58F-F35A-452F-B367-23A5306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C95-7AF5-4F66-B1FE-29D1D2C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DDB-628B-4CC6-81B8-36F0EEC4CC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DA50-8E70-4934-A5CB-2AAFC2DC7D4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4D4-1059-4E5A-BDA3-77933ECCE68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4CA-D9A0-44E3-BE87-C2E2254DB81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БУКСИ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4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Arial Black"/>
              </a:rPr>
              <a:t>БУКСИР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=РРРРРРРРРРРРРРРРРРРРРРРРРРРРРРРРРРРРРР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0512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лово «буксир – означает «тянуть» Судно, предназна ченное для вождения других судов, барж, плотов на тросе или  для оказания помощи судам в открытом море и их буксировки в порт-убежищ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9" descr=""/>
          <p:cNvPicPr/>
          <p:nvPr/>
        </p:nvPicPr>
        <p:blipFill>
          <a:blip r:embed="rId1"/>
          <a:stretch/>
        </p:blipFill>
        <p:spPr>
          <a:xfrm>
            <a:off x="438120" y="420840"/>
            <a:ext cx="8267760" cy="1481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2"/>
          <a:stretch/>
        </p:blipFill>
        <p:spPr>
          <a:xfrm>
            <a:off x="547560" y="2209680"/>
            <a:ext cx="3186360" cy="426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809520" y="1920600"/>
            <a:ext cx="4876920" cy="34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то там в дымке тает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ей по волнам летает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уса меняет вахта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ит нос по ветру..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ЯХТ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6" descr=""/>
          <p:cNvPicPr/>
          <p:nvPr/>
        </p:nvPicPr>
        <p:blipFill>
          <a:blip r:embed="rId1"/>
          <a:stretch/>
        </p:blipFill>
        <p:spPr>
          <a:xfrm>
            <a:off x="838080" y="1935000"/>
            <a:ext cx="723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Arial Black"/>
              </a:rPr>
              <a:t>ЯХТ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82880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арусное,  моторное или парусно-моторное судно, различной формы и разных размеров предназначенное для спорта, прогулок  или путешестви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8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9" descr=""/>
          <p:cNvPicPr/>
          <p:nvPr/>
        </p:nvPicPr>
        <p:blipFill>
          <a:blip r:embed="rId1"/>
          <a:stretch/>
        </p:blipFill>
        <p:spPr>
          <a:xfrm>
            <a:off x="438120" y="401760"/>
            <a:ext cx="8267760" cy="1482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388800" y="1981080"/>
            <a:ext cx="2887920" cy="3733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3428640" y="1920960"/>
            <a:ext cx="525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НАЗОВИТЕ ВОДНЫЙ  ТРАНСПОРТ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06T15:52:59Z</dcterms:modified>
  <cp:revision>14</cp:revision>
  <dc:subject/>
  <dc:title>ВОДНЫЙ ТРАНСПОРТ</dc:title>
</cp:coreProperties>
</file>