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E39-87F2-4BE6-908B-EEB78927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9EE-211A-46DD-AA6A-64CC412D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C95-3D3F-410A-B4DF-4A1C4987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729-34FC-43A7-95E0-54D1CABD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2BF8-D0C0-4E82-A91F-9788E1C5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834A-5E00-4B98-9CCE-26DD8B59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08A9-DA86-4C33-91ED-FDA2A3B6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AD79-6909-4C8F-9D0D-E9B4666E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256C-0307-482E-B9B6-23A78DA0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B533-FAE3-4AE4-BFBF-FBFC2509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381A-443E-454B-92B3-15B79CB1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ADF-CA5D-4B1A-A255-FA1354FC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C297-9DEC-441B-BC21-B3C6C045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ADAB-FDBD-4FB1-99AB-B58FAA9C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B5C8-1304-4858-88B5-EA7CE808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C085-9214-4D19-A725-B412B8C3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582E-CB85-405D-9E86-A1BC2A83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C74C-EA13-4F7B-84E9-E187EE18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9BA8-4C41-4274-8334-D52F34EF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3074C-ED12-4998-BC2F-C687D9DD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A199-428C-4BE0-A646-9E826F14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5517-5EF8-459E-9BF9-C3D30AE3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7D8-19E6-4ED5-BEEA-C9A29F36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A174-93E5-42EA-B834-B8C9164D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FA20-8DAB-43EC-8AE0-364902D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FBD0-26D3-40D8-90B3-94DE07AF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A2A8-6A2F-4807-8C43-1130A8EF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0A4DB-A219-4D6E-B8CF-566C3682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CBBAE-FC7D-4591-9B80-91BD04B1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C876-503D-4856-A96A-59D6D2C1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EA2C0-A627-433D-8FF4-7C35B147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45044-25A6-4FCD-A47F-1B5C10B2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AFC8-F723-4C78-9CF1-95D67806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A89-EBB9-4343-971D-D1FCFB51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6E3BF-5A66-4AA0-80AF-8F42EE85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DCAF8-51F4-44F0-AED1-B2AD7405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923B-6188-4294-9D60-B78C1AA4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8343-BBCA-4CD2-9FD4-D1108208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4454-AEDE-4FD5-BB85-3E61CDF0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EE8AB-6194-4D26-AB48-8CAD19A0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A5BDA-CF20-462B-B618-4B71010E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BECE6-4E1C-4F86-BC19-C1087B88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9E9B-7ED3-4A49-9F5D-F9951A16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092-DEFF-49A0-9A2B-D663D09A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959-0F09-452A-BA2A-7BC86E76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200-FB37-4D59-9D56-16A76F44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A4C-9989-45FA-A04F-A10E6B4A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8BA-AF15-416C-B50A-18A0762F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E98D-ADEA-45DC-B464-D78A1161506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049C-1E3D-4966-80AC-A4E024FC70C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0FD4-BF48-4666-9ACF-D4C1944B615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C53D-781C-421D-9A17-9D70BB56433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КАТЕР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60560" y="1935000"/>
            <a:ext cx="70228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ЛОТ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86764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КАТАМАРАН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61293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РЕЧНОЙ ТРАМВАЙЧИК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515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АРОМ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МОТОРНАЯ ЛОДК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071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СЛОВООБРАЗОВАНИ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Если корабль из металла – то он какой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з пластмассы -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з дерева -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з бумаги -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з резины -?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з стекла -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удно с парусом -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Лодка с мотором - 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06T15:55:46Z</dcterms:modified>
  <cp:revision>15</cp:revision>
  <dc:subject/>
  <dc:title>ВОДНЫЙ ТРАНСПОРТ</dc:title>
</cp:coreProperties>
</file>