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2F83C-E7CC-4E9C-8DC5-7D5B7E8D8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C50BA-F863-4041-ACD8-010FEC037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F64EF-4AAF-46F4-8231-AC6B888BF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ED9DA-0A21-4397-BA84-4780F6D8C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6C6F2-3AFA-4222-8BE1-11BFF5EEB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91C5E-89A7-457D-AADE-2BAAC8C8D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084E5-D0F0-4B2F-8639-910886EDB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4FFA9-EF7C-4F0B-AB32-DB7247486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3CF49-B4C5-4CA9-9E2B-0EBFB6CFC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04757-FA40-43B2-9794-A257E5D4D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00F50-3455-482C-83A5-EBC6658A2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DA56F-C402-40F2-A23E-09C5E3D71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6EC0C-69B9-4FD4-A8CD-D89EA9D59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325C8-8701-4C34-B8CA-616D64F0D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B8383-F541-4A06-A283-A9AEF5AAE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517BE-776B-4A22-B2A3-E30869437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64F73-952E-459A-BB50-168C791C3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250FEB-E4F1-473A-BEC6-173ED553C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1BD325-A56A-4C27-8F9E-74F07709F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35138C-FAEC-47F7-8A9A-9057B3AA6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2FA4A2-766B-4E17-8218-5C0C14413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BDFBA5-D8F8-4C0E-91F7-0F34A42A2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272CC-6D49-425D-9F1D-654E88215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5E3522-8E29-423E-9B39-31CBE2539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54CC11-CE68-4999-A112-FD9B0233E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C29C76-63E7-4689-9B7C-122857135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7BE2F2-8CA7-44E8-8531-752636F1E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C34637-90E5-47B7-BA6B-4B48ECA19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F30D23-1A1A-45FE-A85B-53668B549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C338D9-F3A6-45CF-A52A-F6E3FE4C0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E8CB57-94E7-4795-AC42-740F0D26A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577A12-6B88-468A-9F7D-0757972EA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0B5364-7506-4E0D-AA1B-4D4184182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98FA7-7D28-4F86-97BA-A1C140A15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C47ECF-1360-43F6-A247-3470395B0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C9688B-CA82-4624-93E0-598D3A67C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5265DE-2EEB-469A-A7FE-EC9B7E2BC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B6EEF9-C043-4F96-A35A-FF3951B08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B497FA-48AA-4BAD-A5C0-2F2F3E7BC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1A10E3-D94B-442B-9781-831ADD67E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0A3664-9B00-4D43-AE58-4AFDEB42C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820415-8A03-461F-8439-C17D5378F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C49FE4-FA73-4E56-BF2D-AB93DBDA4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57F2B-E3A2-4F89-8115-51075DCFD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AB584-7189-4DD4-B06D-4BF90D2CC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AAC8B-AD84-48AD-B78E-9B576A98E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BBF38-C2D2-47FF-AFC1-BECE182DE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8677E-0C0D-4391-86C1-7603C5AD4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81A7F-D55F-489D-9238-7C9E5B83DD8B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F1CA8-DDE4-4022-83F4-17ED87495DCF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5D8B9-5421-4996-A04F-70BDA7011F21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5444B-2EC3-4E9F-8820-B0B1147F6E60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solidFill>
            <a:srgbClr val="0f6fc6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002041">
                <a:alpha val="48000"/>
              </a:srgbClr>
            </a:outerShdw>
          </a:effectLst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Constantia"/>
              </a:rPr>
              <a:t>КАТЕР</a:t>
            </a:r>
            <a:endParaRPr b="0" lang="en-US" sz="6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96" name="Picture 3" descr=""/>
          <p:cNvPicPr/>
          <p:nvPr/>
        </p:nvPicPr>
        <p:blipFill>
          <a:blip r:embed="rId1"/>
          <a:stretch/>
        </p:blipFill>
        <p:spPr>
          <a:xfrm>
            <a:off x="1060560" y="1935000"/>
            <a:ext cx="702288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solidFill>
            <a:srgbClr val="0f6fc6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002041">
                <a:alpha val="48000"/>
              </a:srgbClr>
            </a:outerShdw>
          </a:effectLst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Constantia"/>
              </a:rPr>
              <a:t>ПЛОТ</a:t>
            </a:r>
            <a:endParaRPr b="0" lang="en-US" sz="6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98" name="Picture 2" descr=""/>
          <p:cNvPicPr/>
          <p:nvPr/>
        </p:nvPicPr>
        <p:blipFill>
          <a:blip r:embed="rId1"/>
          <a:stretch/>
        </p:blipFill>
        <p:spPr>
          <a:xfrm>
            <a:off x="1523880" y="1905120"/>
            <a:ext cx="5867640" cy="44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solidFill>
            <a:srgbClr val="0f6fc6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002041">
                <a:alpha val="48000"/>
              </a:srgbClr>
            </a:outerShdw>
          </a:effectLst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Constantia"/>
              </a:rPr>
              <a:t>КАТАМАРАН</a:t>
            </a:r>
            <a:endParaRPr b="0" lang="en-US" sz="6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0" name="Picture 2" descr=""/>
          <p:cNvPicPr/>
          <p:nvPr/>
        </p:nvPicPr>
        <p:blipFill>
          <a:blip r:embed="rId1"/>
          <a:stretch/>
        </p:blipFill>
        <p:spPr>
          <a:xfrm>
            <a:off x="1676520" y="1981080"/>
            <a:ext cx="6129360" cy="459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solidFill>
            <a:srgbClr val="0f6fc6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002041">
                <a:alpha val="48000"/>
              </a:srgbClr>
            </a:outerShdw>
          </a:effectLst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Constantia"/>
              </a:rPr>
              <a:t>РЕЧНОЙ ТРАМВАЙЧИК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2" name="Picture 7" descr=""/>
          <p:cNvPicPr/>
          <p:nvPr/>
        </p:nvPicPr>
        <p:blipFill>
          <a:blip r:embed="rId1"/>
          <a:stretch/>
        </p:blipFill>
        <p:spPr>
          <a:xfrm>
            <a:off x="1143000" y="1905120"/>
            <a:ext cx="651528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solidFill>
            <a:srgbClr val="0f6fc6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002041">
                <a:alpha val="48000"/>
              </a:srgbClr>
            </a:outerShdw>
          </a:effectLst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Constantia"/>
              </a:rPr>
              <a:t>ПАРОМ</a:t>
            </a:r>
            <a:endParaRPr b="0" lang="en-US" sz="6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4" name="Picture 6" descr=""/>
          <p:cNvPicPr/>
          <p:nvPr/>
        </p:nvPicPr>
        <p:blipFill>
          <a:blip r:embed="rId1"/>
          <a:stretch/>
        </p:blipFill>
        <p:spPr>
          <a:xfrm>
            <a:off x="1066680" y="1981080"/>
            <a:ext cx="7086600" cy="42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solidFill>
            <a:srgbClr val="0f6fc6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002041">
                <a:alpha val="48000"/>
              </a:srgbClr>
            </a:outerShdw>
          </a:effectLst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Constantia"/>
              </a:rPr>
              <a:t>МОТОРНАЯ ЛОДКА</a:t>
            </a:r>
            <a:endParaRPr b="0" lang="en-US" sz="6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6" name="Picture 2" descr=""/>
          <p:cNvPicPr/>
          <p:nvPr/>
        </p:nvPicPr>
        <p:blipFill>
          <a:blip r:embed="rId1"/>
          <a:stretch/>
        </p:blipFill>
        <p:spPr>
          <a:xfrm>
            <a:off x="1143000" y="1905120"/>
            <a:ext cx="6707160" cy="445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solidFill>
            <a:srgbClr val="0f6fc6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002041">
                <a:alpha val="48000"/>
              </a:srgbClr>
            </a:outerShdw>
          </a:effectLst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Constantia"/>
              </a:rPr>
              <a:t>СЛОВООБРАЗОВАНИЕ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nstantia"/>
              </a:rPr>
              <a:t>Если корабль из металла – то он какой?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nstantia"/>
              </a:rPr>
              <a:t>Из пластмассы -?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nstantia"/>
              </a:rPr>
              <a:t>Из дерева -?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nstantia"/>
              </a:rPr>
              <a:t>Из бумаги -?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Constantia"/>
              </a:rPr>
              <a:t>Из резины -? 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nstantia"/>
              </a:rPr>
              <a:t>Из стекла -?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nstantia"/>
              </a:rPr>
              <a:t>Судно с парусом -?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nstantia"/>
              </a:rPr>
              <a:t>Лодка с мотором - ?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2-09-06T15:55:46Z</dcterms:modified>
  <cp:revision>15</cp:revision>
  <dc:subject/>
  <dc:title>ВОДНЫЙ ТРАНСПОРТ</dc:title>
</cp:coreProperties>
</file>