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6EBA-0FE5-42D8-AD87-53CC45C032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8910-8668-415D-BCCA-8F19CA3AD5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4FDD-D91A-4495-B50E-22B9A7382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029A-E957-4DC3-A2D4-8AC99FA3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34F0-7A5E-451B-93B6-FD89A72C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5453-6BA1-4BEA-99B4-471E5CC25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E902-4662-4A66-B736-F4D682EA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A320-7298-4E89-B16F-D8F3F65D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948E-4410-41CA-8F51-F8FDBFB4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ADF5-2F94-43CD-AAB6-98940C35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5BD-1747-4F14-BBA6-1335FC68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6DCE-9B78-4C0B-A241-BA20F00E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F05F-75B0-4D13-A1B7-A8E21AB2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3944-5E97-4877-BDF4-1ECE9152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FAD5-6D9E-4D91-8637-E7E4D04544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2840"/>
            <a:ext cx="8305560" cy="15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Скажем «нет» коррупции!»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еда по формированию антикоррупционного воспитан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учащихся 8-9-х класс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352680" y="4876920"/>
            <a:ext cx="5334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Подготови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социальный педагог ГБОУ школы № 5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Калининского района Санкт-Петербурга                                                                            Богачева Татьян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76320" y="50760"/>
            <a:ext cx="3060720" cy="21718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2" descr=""/>
          <p:cNvPicPr/>
          <p:nvPr/>
        </p:nvPicPr>
        <p:blipFill>
          <a:blip r:embed="rId2"/>
          <a:stretch/>
        </p:blipFill>
        <p:spPr>
          <a:xfrm>
            <a:off x="6031080" y="50760"/>
            <a:ext cx="29970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6784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3424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словицы и афоризмы о корруп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22760" indent="-122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дья суди, а за судьей гляди, куда дело пове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760" indent="-122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уд ногой – в карман ру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760" indent="-122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р виноват, а подъячий мошне его р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760" indent="-122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д прямой, да судья кри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760" indent="-122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як подъячий любит калач горяч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760" indent="-122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мне законы, коли судьи знако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760" indent="-122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ьги – не бог, а милу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760" indent="-122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говорят деньги – правда молч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760" indent="-122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одмажешь – не поеде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Коррупция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- это злоупотребление служебным положением, дача взятки, получение взятки, коммерческий подкуп либо иное незаконное использование физическим лицом своего должностного положения вопреки законным интересам общества и государства в целях получения выгоды в виде денег, ценностей, иного имущества или услуг имущественного характ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дословном переводе с латинского слово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c00000"/>
                </a:solidFill>
                <a:latin typeface="Arial"/>
              </a:rPr>
              <a:t>corrumpere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значает 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«растлевать»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en-US" sz="1600" spc="-1" strike="noStrike">
                <a:solidFill>
                  <a:srgbClr val="c00000"/>
                </a:solidFill>
                <a:latin typeface="Arial"/>
              </a:rPr>
              <a:t>corruptio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«порча»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«подкуп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2362320" y="2971800"/>
            <a:ext cx="441936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История борьбы с коррупцией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XIII век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– первое упоминание о мздоимстве (коррупции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XV век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– законодательное её ограничение. Время правления Ивана II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XVI век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– вводилась смертная казнь за взятки. Время правления Ивана IV. 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XVII век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– по Соборному Уложению 1649г. (Алексей Михайлович). Наказание за преступление, попадающее под понятие корруп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XVIII век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– телесные наказания; расцвет корруп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С 1826г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при Николае I коррупция стала механизмом государственного управ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С 1918г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– по декрету о взяточничестве полагалось тюремное заключение на 5 лет с конфискацией имуще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С 1922г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– по Уголовному Кодексу за взяточничество расстре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С 1957г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– официально борьба приостановлена, так как коррупция считалась редким явле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452400" y="3146400"/>
            <a:ext cx="1656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7920" bIns="7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886200" y="4191120"/>
            <a:ext cx="256716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" rIns="7920" tIns="7920" bIns="7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452400" y="3146400"/>
            <a:ext cx="1656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7920" bIns="7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452400" y="3146400"/>
            <a:ext cx="1656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7920" bIns="7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52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ричины корруп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3960" y="139500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изкая заработная плата государственных служащих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знание законов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Желание легкой наживы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астая сменяемость лиц на различных должностях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стабильность в стране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ррупция как привычка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изкий уровень жизни населения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лабая развитость государственных институ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езработица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развитость институтов гражданского об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2590920" y="4646520"/>
            <a:ext cx="327636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Формы корруп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Формы корруп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зят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стра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ошенничест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ымогательст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Фаворитизм - в государственной и общественной жизни страстное покровительство любимцам (фаворитам) и назначение любимцев на высокие должности, несмотря на то, что они не обладают ни способностями, ни знаниями, необходимыми для их служб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лоупотребление должностными полномоч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2895480" y="4419720"/>
            <a:ext cx="350532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Основные признаки корруп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-  Обоюдное согласие участников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-  Наличие взаимных обязательст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-  Получение определенных выгод и преимуществ обеими сторонами                                                              -  Принимаемое решение нарушает закон или противоречит моральн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орм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-  Сознательное подчинение общих интересов личной выг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-  Обе стороны стремятся скрыть свои действ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6953400" y="3733920"/>
            <a:ext cx="2190600" cy="30970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"/>
          <p:cNvPicPr/>
          <p:nvPr/>
        </p:nvPicPr>
        <p:blipFill>
          <a:blip r:embed="rId2"/>
          <a:stretch/>
        </p:blipFill>
        <p:spPr>
          <a:xfrm>
            <a:off x="2362320" y="4334040"/>
            <a:ext cx="186372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61960" y="45684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Формы коррупции в зависимости от сферы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61960" y="2209680"/>
            <a:ext cx="685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упция в сфере государственного у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ламентская корруп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овая корруп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упция на предприят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товая корруп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2" descr=""/>
          <p:cNvPicPr/>
          <p:nvPr/>
        </p:nvPicPr>
        <p:blipFill>
          <a:blip r:embed="rId1"/>
          <a:stretch/>
        </p:blipFill>
        <p:spPr>
          <a:xfrm>
            <a:off x="5486400" y="2800440"/>
            <a:ext cx="334152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3956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Федеральный закон Российской Федерации от 4 мая 2011 г. N 97-Ф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"О внесении изменений в Уголовный кодекс Российской Федерации и Кодекс Российской Федерации об административных правонарушениях в связи с совершенствованием государственного управления в области противодействия коррупции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нят Государственной Думой 20 апреля 2011 го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добрен Советом Федерации 27 апреля 2011 го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уголовном кодексе уточнены понятия “значительный размер взятки”, “крупный размер взятки” и “особо крупный размер взятки”, применяемые в статьях 290 (получение взятки), 291 (дача взятки), 291 (посредничество во взяточничестве) УК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Федеральный закон Российской Федерации от 25 декабря 2008 г. N 273-Ф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"О противодействии коррупц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нят Государственной Думой 19 декабря 2008 года. Одобрен Советом Федерации 22 декабря 2008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Законодательство в борьбе с корруп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дачи антикоррупционной поли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едупреждение коррупционных правонарушений осуществляется путем применения следующих мер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1) разработка и реализация ведомственных и муниципальных антикоррупционных програм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) антикоррупционная экспертиза правовых актов и их проект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3) мониторинг коррупционных правонарушений в целом и отдельных их видов; 4) антикоррупционные образование и пропаганд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5) оказание государственной поддержки формированию и деятельности общественных объединений, создаваемых в целях противодействия коррупци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6) опубликование отчетов о реализации мер антикоррупционной политик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7) иные меры, предусмотренные законодательст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4T16:00:30Z</dcterms:created>
  <dc:creator>Сергей</dc:creator>
  <dc:description/>
  <dc:language>en-US</dc:language>
  <cp:lastModifiedBy>79117075138</cp:lastModifiedBy>
  <dcterms:modified xsi:type="dcterms:W3CDTF">2022-04-24T12:21:4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