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B42A-8D25-4402-A097-3C5FA2FD0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7BD9-6F5C-4128-BF8D-BA60ECE35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16A-E65E-43D5-AF3F-6A1904F7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CE8-5BC7-4CCD-8709-126E8ACF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810-F3C9-4FC1-B4AF-7B87207A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541-52BA-4A8D-A69E-6EAE62C6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89F-CC76-4B33-80B8-F5E18353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392-F055-4A00-AFAA-FA9CF05F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150-311B-431F-B2AA-2145D7A4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BEB-AB60-4D10-A162-E3ACC889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61A-5DE5-4D3C-86D5-E5880A2C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678-0C5B-402A-8BA4-30FE25D4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1B8-4808-4291-9272-6664ECC8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58D-3AC9-460C-8FE8-5D01767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A71B-6818-4E68-830D-D3197B007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30556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кажем «нет» коррупции!»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а по формированию антикоррупционного воспит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чащихся 8-9-х класс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352680" y="4876920"/>
            <a:ext cx="5334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социальный педагог ГБОУ школы № 5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Калининского района Санкт-Петербурга                                                                            Богачева Татья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76320" y="50760"/>
            <a:ext cx="3060720" cy="2171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6031080" y="50760"/>
            <a:ext cx="2997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3424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словицы и афоризмы о корруп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я суди, а за судьей гляди, куда дело пове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уд ногой – в карман ру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 виноват, а подъячий мошне его р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 прямой, да судья кри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к подъячий любит калач горя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мне законы, коли судьи знако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ги – не бог, а мил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говорят деньги – правда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760" indent="-1227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одмажешь – не поед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Коррупция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 это злоупотребление служебным положением, дача взятки, получение взятки,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, ценностей, иного имущества или услуг имущественного харак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дословном переводе с латинского слов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corrumpere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значает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«растлевать»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en-US" sz="1600" spc="-1" strike="noStrike">
                <a:solidFill>
                  <a:srgbClr val="c00000"/>
                </a:solidFill>
                <a:latin typeface="Arial"/>
              </a:rPr>
              <a:t>corruptio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«порча»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«подкуп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4193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стория борьбы с коррупцией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III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первое упоминание о мздоимстве (корруп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V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законодательное её ограничение. Время правления Ивана I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VI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вводилась смертная казнь за взятки. Время правления Ивана IV.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VII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по Соборному Уложению 1649г. (Алексей Михайлович). Наказание за преступление, попадающее под понятие корруп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XVIII век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телесные наказания; расцвет корруп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 1826г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при Николае I коррупция стала механизмом государственного упр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 1918г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по декрету о взяточничестве полагалось тюремное заключение на 5 лет с конфискацией иму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 1922г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– по Уголовному Кодексу за взяточничество расстре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 1957г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– официально борьба приостановлена, так как коррупция считалась редким явл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452400" y="3146400"/>
            <a:ext cx="165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86200" y="4191120"/>
            <a:ext cx="25671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" rIns="792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452400" y="3146400"/>
            <a:ext cx="165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452400" y="3146400"/>
            <a:ext cx="1656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7920" bIns="7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5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ичины корруп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3960" y="139500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зкая заработная плата государственных служащих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знание законов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елание легкой наживы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астая сменяемость лиц на различных должностях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стабильность в стран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ррупция как привычк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зкий уровень жизни населе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лабая развитость государственных институ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езработица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развитость институтов гражданского об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2590920" y="4646520"/>
            <a:ext cx="327636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ормы корруп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ормы корруп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зят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стр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ошеннич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могатель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, несмотря на то, что они не обладают ни способностями, ни знаниями, необходимыми для их служ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лоупотребление должностными полномоч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2895480" y="4419720"/>
            <a:ext cx="35053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сновные признаки корруп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Обоюдное согласие участников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Наличие взаимных обязательст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Получение определенных выгод и преимуществ обеими сторонами                                                              -  Принимаемое решение нарушает закон или противоречит мораль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орм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Сознательное подчинение общих интересов личной выг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 Обе стороны стремятся скрыть свои действ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6953400" y="3733920"/>
            <a:ext cx="2190600" cy="30970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2362320" y="4334040"/>
            <a:ext cx="18637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61960" y="456840"/>
            <a:ext cx="64008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ормы коррупции в зависимости от сферы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61960" y="2209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упция в сфере государственного 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ламентская корруп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вая корруп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упция на предпри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овая корру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5486400" y="2800440"/>
            <a:ext cx="33415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3956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Российской Федерации от 4 мая 2011 г. N 97-Ф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"О внесении изменений в Уголовный кодекс Российской Федерации и Кодекс Российской Федерации об административных правонарушениях в связи с совершенствованием государственного управления в области противодействия коррупции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нят Государственной Думой 20 апреля 2011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добрен Советом Федерации 27 апреля 2011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уголовном кодексе уточнены понятия “значительный размер взятки”, “крупный размер взятки” и “особо крупный размер взятки”, применяемые в статьях 290 (получение взятки), 291 (дача взятки), 291 (посредничество во взяточничестве) УК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Федеральный закон Российской Федерации от 25 декабря 2008 г. N 273-Ф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"О противодействии корруп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нят Государственной Думой 19 декабря 2008 года. Одобрен Советом Федерации 22 декабря 2008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аконодательство в борьбе с корруп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адачи антикоррупционн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упреждение коррупционных правонарушений осуществляется путем применения следующих ме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) разработка и реализация ведомственных и муниципальных антикоррупционных програм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) антикоррупционная экспертиза правовых актов и их проект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3) мониторинг коррупционных правонарушений в целом и отдельных их видов; 4) антикоррупционные образование и пропаганд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5) оказание государственной поддержки формированию и деятельности общественных объединений, создаваемых в целях противодействия корруп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6) опубликование отчетов о реализации мер антикоррупционной полити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7) иные меры, предусмотренные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4T16:00:30Z</dcterms:created>
  <dc:creator>Сергей</dc:creator>
  <dc:description/>
  <dc:language>en-US</dc:language>
  <cp:lastModifiedBy>79117075138</cp:lastModifiedBy>
  <dcterms:modified xsi:type="dcterms:W3CDTF">2022-04-24T12:21:4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