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p3-slovo.ru/" TargetMode="External"/><Relationship Id="rId3" Type="http://schemas.openxmlformats.org/officeDocument/2006/relationships/hyperlink" Target="http://img0.liveinternet.ru/images/attach/c/5/86/310/86310212_red_hatochka.jpg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2641680" cy="350496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 txBox="1"/>
          <p:nvPr/>
        </p:nvSpPr>
        <p:spPr>
          <a:xfrm>
            <a:off x="1447920" y="228600"/>
            <a:ext cx="7119720" cy="180504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30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расная Шапочка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1730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828800" y="2209680"/>
            <a:ext cx="6553080" cy="60984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30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лектронная физминутка для глаз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1730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267080" y="4876920"/>
            <a:ext cx="4724640" cy="152388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30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ржевская Елена Дмитриевна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1730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30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итель начальных классов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1730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30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кола-лицей № 101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1730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30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. Караганда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1730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30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захстан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1730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781680" y="3048120"/>
            <a:ext cx="1981440" cy="159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895480" y="3886200"/>
            <a:ext cx="1409760" cy="1447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152280"/>
            <a:ext cx="109692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3886200" y="3276720"/>
            <a:ext cx="1219320" cy="717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228600"/>
            <a:ext cx="8534160" cy="6400800"/>
          </a:xfrm>
          <a:custGeom>
            <a:avLst/>
            <a:gdLst/>
            <a:ahLst/>
            <a:rect l="l" t="t" r="r" b="b"/>
            <a:pathLst>
              <a:path w="23707" h="17781">
                <a:moveTo>
                  <a:pt x="2963" y="0"/>
                </a:moveTo>
                <a:lnTo>
                  <a:pt x="2963" y="0"/>
                </a:lnTo>
                <a:cubicBezTo>
                  <a:pt x="2443" y="0"/>
                  <a:pt x="1932" y="137"/>
                  <a:pt x="1482" y="397"/>
                </a:cubicBezTo>
                <a:cubicBezTo>
                  <a:pt x="1031" y="657"/>
                  <a:pt x="657" y="1031"/>
                  <a:pt x="397" y="1482"/>
                </a:cubicBezTo>
                <a:cubicBezTo>
                  <a:pt x="137" y="1932"/>
                  <a:pt x="0" y="2443"/>
                  <a:pt x="0" y="2964"/>
                </a:cubicBezTo>
                <a:lnTo>
                  <a:pt x="0" y="14817"/>
                </a:lnTo>
                <a:lnTo>
                  <a:pt x="0" y="14818"/>
                </a:lnTo>
                <a:cubicBezTo>
                  <a:pt x="0" y="15338"/>
                  <a:pt x="137" y="15849"/>
                  <a:pt x="397" y="16299"/>
                </a:cubicBezTo>
                <a:cubicBezTo>
                  <a:pt x="657" y="16750"/>
                  <a:pt x="1031" y="17124"/>
                  <a:pt x="1482" y="17384"/>
                </a:cubicBezTo>
                <a:cubicBezTo>
                  <a:pt x="1932" y="17644"/>
                  <a:pt x="2443" y="17781"/>
                  <a:pt x="2963" y="17781"/>
                </a:cubicBezTo>
                <a:lnTo>
                  <a:pt x="20743" y="17781"/>
                </a:lnTo>
                <a:lnTo>
                  <a:pt x="20744" y="17781"/>
                </a:lnTo>
                <a:cubicBezTo>
                  <a:pt x="21264" y="17781"/>
                  <a:pt x="21775" y="17644"/>
                  <a:pt x="22225" y="17384"/>
                </a:cubicBezTo>
                <a:cubicBezTo>
                  <a:pt x="22676" y="17124"/>
                  <a:pt x="23050" y="16750"/>
                  <a:pt x="23310" y="16299"/>
                </a:cubicBezTo>
                <a:cubicBezTo>
                  <a:pt x="23570" y="15849"/>
                  <a:pt x="23707" y="15338"/>
                  <a:pt x="23707" y="14818"/>
                </a:cubicBezTo>
                <a:lnTo>
                  <a:pt x="23707" y="2963"/>
                </a:lnTo>
                <a:lnTo>
                  <a:pt x="23707" y="2964"/>
                </a:lnTo>
                <a:lnTo>
                  <a:pt x="23707" y="2963"/>
                </a:lnTo>
                <a:cubicBezTo>
                  <a:pt x="23707" y="2443"/>
                  <a:pt x="23570" y="1932"/>
                  <a:pt x="23310" y="1482"/>
                </a:cubicBezTo>
                <a:cubicBezTo>
                  <a:pt x="23050" y="1031"/>
                  <a:pt x="22676" y="657"/>
                  <a:pt x="22225" y="397"/>
                </a:cubicBezTo>
                <a:cubicBezTo>
                  <a:pt x="21775" y="137"/>
                  <a:pt x="21264" y="0"/>
                  <a:pt x="20744" y="0"/>
                </a:cubicBezTo>
                <a:lnTo>
                  <a:pt x="2963" y="0"/>
                </a:lnTo>
              </a:path>
            </a:pathLst>
          </a:custGeom>
          <a:solidFill>
            <a:srgbClr val="bbe0e3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Интернет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Музыкальное сопровождение «Дорожная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DejaVu Sans"/>
                <a:hlinkClick r:id="rId2"/>
              </a:rPr>
              <a:t>www.mp3-slovo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Красная Шапоч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600" spc="-1" strike="noStrike" u="sng">
                <a:solidFill>
                  <a:srgbClr val="ccccff"/>
                </a:solidFill>
                <a:uFillTx/>
                <a:latin typeface="Arial"/>
                <a:ea typeface="DejaVu Sans"/>
                <a:hlinkClick r:id="rId3"/>
              </a:rPr>
              <a:t>http://img0.liveinternet.ru/images/attach/c/5/86/310/86310212_red_hatochk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Обезьян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http://im4-tub-kz.yandex.net/i?id=337836911-04-72&amp;n=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Фо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http://img0.liveinternet.ru/images/foto/b/2/apps/1/442/1442378_vbxnifcloc.p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Живот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http://www.elephant.ru/images/toys/139/60955_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Бабоч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Анимация бабочка -  Коллекц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icrosof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2641680" cy="3504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638680" y="3733920"/>
            <a:ext cx="2789280" cy="2895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3276720" y="4038480"/>
            <a:ext cx="185400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dur="indefinite" fill="hold">
                      <p:stCondLst>
                        <p:cond delay="indefinite"/>
                      </p:stCondLst>
                      <p:childTnLst>
                        <p:par>
                          <p:cTn id="3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172224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46821E-007 C 0.00052 0.00301 0.00035 0.00647 0.00174 0.00902 C 0.0026 0.0104 0.01337 0.01341 0.01354 0.01341 C 0.01528 0.0141 0.01684 0.01549 0.01858 0.01572 C 0.0276 0.01711 0.03681 0.01734 0.04583 0.01803 C 0.05712 0.02312 0.06858 0.02636 0.07969 0.03145 C 0.09236 0.03723 0.09392 0.04023 0.10851 0.04277 C 0.11632 0.04624 0.12049 0.04786 0.12378 0.05873 C 0.12517 0.06312 0.12708 0.07214 0.12708 0.07214 C 0.12622 0.08694 0.12674 0.09757 0.12378 0.11052 C 0.12274 0.11514 0.12031 0.12416 0.12031 0.12416 C 0.12188 0.15052 0.12031 0.16532 0.14063 0.17364 C 0.15503 0.18636 0.13733 0.17156 0.15087 0.18058 C 0.1599 0.18659 0.16632 0.19514 0.17622 0.19861 C 0.18021 0.20624 0.18299 0.20925 0.18976 0.21202 C 0.19688 0.2215 0.20469 0.22798 0.21024 0.23931 C 0.21181 0.24994 0.2151 0.25619 0.21701 0.26636 C 0.21649 0.27468 0.21719 0.28324 0.21528 0.2911 C 0.21476 0.29364 0.21163 0.29387 0.21024 0.29572 C 0.20885 0.29757 0.20833 0.30058 0.20677 0.30243 C 0.19705 0.31353 0.17656 0.32393 0.16441 0.32948 C 0.15833 0.33757 0.15069 0.34266 0.14236 0.3452 C 0.14063 0.34821 0.13924 0.35145 0.13733 0.35422 C 0.13403 0.35908 0.12708 0.36786 0.12708 0.36786 C 0.12431 0.3785 0.12378 0.38844 0.12378 0.39954 E">
                                      <p:cBhvr>
                                        <p:cTn id="32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600"/>
            <a:ext cx="8534160" cy="6400800"/>
          </a:xfrm>
          <a:custGeom>
            <a:avLst/>
            <a:gdLst/>
            <a:ahLst/>
            <a:rect l="l" t="t" r="r" b="b"/>
            <a:pathLst>
              <a:path w="23707" h="17781">
                <a:moveTo>
                  <a:pt x="2963" y="0"/>
                </a:moveTo>
                <a:lnTo>
                  <a:pt x="2963" y="0"/>
                </a:lnTo>
                <a:cubicBezTo>
                  <a:pt x="2443" y="0"/>
                  <a:pt x="1932" y="137"/>
                  <a:pt x="1482" y="397"/>
                </a:cubicBezTo>
                <a:cubicBezTo>
                  <a:pt x="1031" y="657"/>
                  <a:pt x="657" y="1031"/>
                  <a:pt x="397" y="1482"/>
                </a:cubicBezTo>
                <a:cubicBezTo>
                  <a:pt x="137" y="1932"/>
                  <a:pt x="0" y="2443"/>
                  <a:pt x="0" y="2964"/>
                </a:cubicBezTo>
                <a:lnTo>
                  <a:pt x="0" y="14817"/>
                </a:lnTo>
                <a:lnTo>
                  <a:pt x="0" y="14818"/>
                </a:lnTo>
                <a:cubicBezTo>
                  <a:pt x="0" y="15338"/>
                  <a:pt x="137" y="15849"/>
                  <a:pt x="397" y="16299"/>
                </a:cubicBezTo>
                <a:cubicBezTo>
                  <a:pt x="657" y="16750"/>
                  <a:pt x="1031" y="17124"/>
                  <a:pt x="1482" y="17384"/>
                </a:cubicBezTo>
                <a:cubicBezTo>
                  <a:pt x="1932" y="17644"/>
                  <a:pt x="2443" y="17781"/>
                  <a:pt x="2963" y="17781"/>
                </a:cubicBezTo>
                <a:lnTo>
                  <a:pt x="20743" y="17781"/>
                </a:lnTo>
                <a:lnTo>
                  <a:pt x="20744" y="17781"/>
                </a:lnTo>
                <a:cubicBezTo>
                  <a:pt x="21264" y="17781"/>
                  <a:pt x="21775" y="17644"/>
                  <a:pt x="22225" y="17384"/>
                </a:cubicBezTo>
                <a:cubicBezTo>
                  <a:pt x="22676" y="17124"/>
                  <a:pt x="23050" y="16750"/>
                  <a:pt x="23310" y="16299"/>
                </a:cubicBezTo>
                <a:cubicBezTo>
                  <a:pt x="23570" y="15849"/>
                  <a:pt x="23707" y="15338"/>
                  <a:pt x="23707" y="14818"/>
                </a:cubicBezTo>
                <a:lnTo>
                  <a:pt x="23707" y="2963"/>
                </a:lnTo>
                <a:lnTo>
                  <a:pt x="23707" y="2964"/>
                </a:lnTo>
                <a:lnTo>
                  <a:pt x="23707" y="2963"/>
                </a:lnTo>
                <a:cubicBezTo>
                  <a:pt x="23707" y="2443"/>
                  <a:pt x="23570" y="1932"/>
                  <a:pt x="23310" y="1482"/>
                </a:cubicBezTo>
                <a:cubicBezTo>
                  <a:pt x="23050" y="1031"/>
                  <a:pt x="22676" y="657"/>
                  <a:pt x="22225" y="397"/>
                </a:cubicBezTo>
                <a:cubicBezTo>
                  <a:pt x="21775" y="137"/>
                  <a:pt x="21264" y="0"/>
                  <a:pt x="20744" y="0"/>
                </a:cubicBezTo>
                <a:lnTo>
                  <a:pt x="2963" y="0"/>
                </a:lnTo>
              </a:path>
            </a:pathLst>
          </a:custGeom>
          <a:solidFill>
            <a:srgbClr val="bbe0e3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2641680" cy="3504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2127240" cy="2595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05320" y="604800"/>
            <a:ext cx="2127240" cy="2595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2514600" y="3505320"/>
            <a:ext cx="2127240" cy="2595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248520" y="533520"/>
            <a:ext cx="2127240" cy="2595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6553080" y="3581280"/>
            <a:ext cx="2127240" cy="25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228600"/>
            <a:ext cx="8534160" cy="6400800"/>
          </a:xfrm>
          <a:custGeom>
            <a:avLst/>
            <a:gdLst/>
            <a:ahLst/>
            <a:rect l="l" t="t" r="r" b="b"/>
            <a:pathLst>
              <a:path w="23707" h="17781">
                <a:moveTo>
                  <a:pt x="2963" y="0"/>
                </a:moveTo>
                <a:lnTo>
                  <a:pt x="2963" y="0"/>
                </a:lnTo>
                <a:cubicBezTo>
                  <a:pt x="2443" y="0"/>
                  <a:pt x="1932" y="137"/>
                  <a:pt x="1482" y="397"/>
                </a:cubicBezTo>
                <a:cubicBezTo>
                  <a:pt x="1031" y="657"/>
                  <a:pt x="657" y="1031"/>
                  <a:pt x="397" y="1482"/>
                </a:cubicBezTo>
                <a:cubicBezTo>
                  <a:pt x="137" y="1932"/>
                  <a:pt x="0" y="2443"/>
                  <a:pt x="0" y="2964"/>
                </a:cubicBezTo>
                <a:lnTo>
                  <a:pt x="0" y="14817"/>
                </a:lnTo>
                <a:lnTo>
                  <a:pt x="0" y="14818"/>
                </a:lnTo>
                <a:cubicBezTo>
                  <a:pt x="0" y="15338"/>
                  <a:pt x="137" y="15849"/>
                  <a:pt x="397" y="16299"/>
                </a:cubicBezTo>
                <a:cubicBezTo>
                  <a:pt x="657" y="16750"/>
                  <a:pt x="1031" y="17124"/>
                  <a:pt x="1482" y="17384"/>
                </a:cubicBezTo>
                <a:cubicBezTo>
                  <a:pt x="1932" y="17644"/>
                  <a:pt x="2443" y="17781"/>
                  <a:pt x="2963" y="17781"/>
                </a:cubicBezTo>
                <a:lnTo>
                  <a:pt x="20743" y="17781"/>
                </a:lnTo>
                <a:lnTo>
                  <a:pt x="20744" y="17781"/>
                </a:lnTo>
                <a:cubicBezTo>
                  <a:pt x="21264" y="17781"/>
                  <a:pt x="21775" y="17644"/>
                  <a:pt x="22225" y="17384"/>
                </a:cubicBezTo>
                <a:cubicBezTo>
                  <a:pt x="22676" y="17124"/>
                  <a:pt x="23050" y="16750"/>
                  <a:pt x="23310" y="16299"/>
                </a:cubicBezTo>
                <a:cubicBezTo>
                  <a:pt x="23570" y="15849"/>
                  <a:pt x="23707" y="15338"/>
                  <a:pt x="23707" y="14818"/>
                </a:cubicBezTo>
                <a:lnTo>
                  <a:pt x="23707" y="2963"/>
                </a:lnTo>
                <a:lnTo>
                  <a:pt x="23707" y="2964"/>
                </a:lnTo>
                <a:lnTo>
                  <a:pt x="23707" y="2963"/>
                </a:lnTo>
                <a:cubicBezTo>
                  <a:pt x="23707" y="2443"/>
                  <a:pt x="23570" y="1932"/>
                  <a:pt x="23310" y="1482"/>
                </a:cubicBezTo>
                <a:cubicBezTo>
                  <a:pt x="23050" y="1031"/>
                  <a:pt x="22676" y="657"/>
                  <a:pt x="22225" y="397"/>
                </a:cubicBezTo>
                <a:cubicBezTo>
                  <a:pt x="21775" y="137"/>
                  <a:pt x="21264" y="0"/>
                  <a:pt x="20744" y="0"/>
                </a:cubicBezTo>
                <a:lnTo>
                  <a:pt x="2963" y="0"/>
                </a:lnTo>
              </a:path>
            </a:pathLst>
          </a:custGeom>
          <a:solidFill>
            <a:srgbClr val="bbe0e3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2641680" cy="3504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505320" y="1905120"/>
            <a:ext cx="30416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228600"/>
            <a:ext cx="8534160" cy="6400800"/>
          </a:xfrm>
          <a:custGeom>
            <a:avLst/>
            <a:gdLst/>
            <a:ahLst/>
            <a:rect l="l" t="t" r="r" b="b"/>
            <a:pathLst>
              <a:path w="23707" h="17781">
                <a:moveTo>
                  <a:pt x="2963" y="0"/>
                </a:moveTo>
                <a:lnTo>
                  <a:pt x="2963" y="0"/>
                </a:lnTo>
                <a:cubicBezTo>
                  <a:pt x="2443" y="0"/>
                  <a:pt x="1932" y="137"/>
                  <a:pt x="1482" y="397"/>
                </a:cubicBezTo>
                <a:cubicBezTo>
                  <a:pt x="1031" y="657"/>
                  <a:pt x="657" y="1031"/>
                  <a:pt x="397" y="1482"/>
                </a:cubicBezTo>
                <a:cubicBezTo>
                  <a:pt x="137" y="1932"/>
                  <a:pt x="0" y="2443"/>
                  <a:pt x="0" y="2964"/>
                </a:cubicBezTo>
                <a:lnTo>
                  <a:pt x="0" y="14817"/>
                </a:lnTo>
                <a:lnTo>
                  <a:pt x="0" y="14818"/>
                </a:lnTo>
                <a:cubicBezTo>
                  <a:pt x="0" y="15338"/>
                  <a:pt x="137" y="15849"/>
                  <a:pt x="397" y="16299"/>
                </a:cubicBezTo>
                <a:cubicBezTo>
                  <a:pt x="657" y="16750"/>
                  <a:pt x="1031" y="17124"/>
                  <a:pt x="1482" y="17384"/>
                </a:cubicBezTo>
                <a:cubicBezTo>
                  <a:pt x="1932" y="17644"/>
                  <a:pt x="2443" y="17781"/>
                  <a:pt x="2963" y="17781"/>
                </a:cubicBezTo>
                <a:lnTo>
                  <a:pt x="20743" y="17781"/>
                </a:lnTo>
                <a:lnTo>
                  <a:pt x="20744" y="17781"/>
                </a:lnTo>
                <a:cubicBezTo>
                  <a:pt x="21264" y="17781"/>
                  <a:pt x="21775" y="17644"/>
                  <a:pt x="22225" y="17384"/>
                </a:cubicBezTo>
                <a:cubicBezTo>
                  <a:pt x="22676" y="17124"/>
                  <a:pt x="23050" y="16750"/>
                  <a:pt x="23310" y="16299"/>
                </a:cubicBezTo>
                <a:cubicBezTo>
                  <a:pt x="23570" y="15849"/>
                  <a:pt x="23707" y="15338"/>
                  <a:pt x="23707" y="14818"/>
                </a:cubicBezTo>
                <a:lnTo>
                  <a:pt x="23707" y="2963"/>
                </a:lnTo>
                <a:lnTo>
                  <a:pt x="23707" y="2964"/>
                </a:lnTo>
                <a:lnTo>
                  <a:pt x="23707" y="2963"/>
                </a:lnTo>
                <a:cubicBezTo>
                  <a:pt x="23707" y="2443"/>
                  <a:pt x="23570" y="1932"/>
                  <a:pt x="23310" y="1482"/>
                </a:cubicBezTo>
                <a:cubicBezTo>
                  <a:pt x="23050" y="1031"/>
                  <a:pt x="22676" y="657"/>
                  <a:pt x="22225" y="397"/>
                </a:cubicBezTo>
                <a:cubicBezTo>
                  <a:pt x="21775" y="137"/>
                  <a:pt x="21264" y="0"/>
                  <a:pt x="20744" y="0"/>
                </a:cubicBezTo>
                <a:lnTo>
                  <a:pt x="2963" y="0"/>
                </a:lnTo>
              </a:path>
            </a:pathLst>
          </a:custGeom>
          <a:solidFill>
            <a:srgbClr val="bbe0e3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2641680" cy="3504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962520" y="990720"/>
            <a:ext cx="2789280" cy="46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228600"/>
            <a:ext cx="8534160" cy="6400800"/>
          </a:xfrm>
          <a:custGeom>
            <a:avLst/>
            <a:gdLst/>
            <a:ahLst/>
            <a:rect l="l" t="t" r="r" b="b"/>
            <a:pathLst>
              <a:path w="23707" h="17781">
                <a:moveTo>
                  <a:pt x="2963" y="0"/>
                </a:moveTo>
                <a:lnTo>
                  <a:pt x="2963" y="0"/>
                </a:lnTo>
                <a:cubicBezTo>
                  <a:pt x="2443" y="0"/>
                  <a:pt x="1932" y="137"/>
                  <a:pt x="1482" y="397"/>
                </a:cubicBezTo>
                <a:cubicBezTo>
                  <a:pt x="1031" y="657"/>
                  <a:pt x="657" y="1031"/>
                  <a:pt x="397" y="1482"/>
                </a:cubicBezTo>
                <a:cubicBezTo>
                  <a:pt x="137" y="1932"/>
                  <a:pt x="0" y="2443"/>
                  <a:pt x="0" y="2964"/>
                </a:cubicBezTo>
                <a:lnTo>
                  <a:pt x="0" y="14817"/>
                </a:lnTo>
                <a:lnTo>
                  <a:pt x="0" y="14818"/>
                </a:lnTo>
                <a:cubicBezTo>
                  <a:pt x="0" y="15338"/>
                  <a:pt x="137" y="15849"/>
                  <a:pt x="397" y="16299"/>
                </a:cubicBezTo>
                <a:cubicBezTo>
                  <a:pt x="657" y="16750"/>
                  <a:pt x="1031" y="17124"/>
                  <a:pt x="1482" y="17384"/>
                </a:cubicBezTo>
                <a:cubicBezTo>
                  <a:pt x="1932" y="17644"/>
                  <a:pt x="2443" y="17781"/>
                  <a:pt x="2963" y="17781"/>
                </a:cubicBezTo>
                <a:lnTo>
                  <a:pt x="20743" y="17781"/>
                </a:lnTo>
                <a:lnTo>
                  <a:pt x="20744" y="17781"/>
                </a:lnTo>
                <a:cubicBezTo>
                  <a:pt x="21264" y="17781"/>
                  <a:pt x="21775" y="17644"/>
                  <a:pt x="22225" y="17384"/>
                </a:cubicBezTo>
                <a:cubicBezTo>
                  <a:pt x="22676" y="17124"/>
                  <a:pt x="23050" y="16750"/>
                  <a:pt x="23310" y="16299"/>
                </a:cubicBezTo>
                <a:cubicBezTo>
                  <a:pt x="23570" y="15849"/>
                  <a:pt x="23707" y="15338"/>
                  <a:pt x="23707" y="14818"/>
                </a:cubicBezTo>
                <a:lnTo>
                  <a:pt x="23707" y="2963"/>
                </a:lnTo>
                <a:lnTo>
                  <a:pt x="23707" y="2964"/>
                </a:lnTo>
                <a:lnTo>
                  <a:pt x="23707" y="2963"/>
                </a:lnTo>
                <a:cubicBezTo>
                  <a:pt x="23707" y="2443"/>
                  <a:pt x="23570" y="1932"/>
                  <a:pt x="23310" y="1482"/>
                </a:cubicBezTo>
                <a:cubicBezTo>
                  <a:pt x="23050" y="1031"/>
                  <a:pt x="22676" y="657"/>
                  <a:pt x="22225" y="397"/>
                </a:cubicBezTo>
                <a:cubicBezTo>
                  <a:pt x="21775" y="137"/>
                  <a:pt x="21264" y="0"/>
                  <a:pt x="20744" y="0"/>
                </a:cubicBezTo>
                <a:lnTo>
                  <a:pt x="2963" y="0"/>
                </a:lnTo>
              </a:path>
            </a:pathLst>
          </a:custGeom>
          <a:solidFill>
            <a:srgbClr val="bbe0e3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2641320" cy="3505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324480" y="4038480"/>
            <a:ext cx="2529000" cy="14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59 -0.19029 C 0.00243 0.00763 -0.15208 0.15815 -0.33281 0.14474 C -0.51354 0.13156 -0.65451 -0.0407 -0.64618 -0.23885 C -0.63785 -0.43723 -0.48351 -0.58705 -0.30278 -0.57388 C -0.12187 -0.56047 0.01858 -0.38867 0.01059 -0.19029 Z">
                                      <p:cBhvr>
                                        <p:cTn id="136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228600"/>
            <a:ext cx="8534160" cy="6400800"/>
          </a:xfrm>
          <a:custGeom>
            <a:avLst/>
            <a:gdLst/>
            <a:ahLst/>
            <a:rect l="l" t="t" r="r" b="b"/>
            <a:pathLst>
              <a:path w="23707" h="17781">
                <a:moveTo>
                  <a:pt x="2963" y="0"/>
                </a:moveTo>
                <a:lnTo>
                  <a:pt x="2963" y="0"/>
                </a:lnTo>
                <a:cubicBezTo>
                  <a:pt x="2443" y="0"/>
                  <a:pt x="1932" y="137"/>
                  <a:pt x="1482" y="397"/>
                </a:cubicBezTo>
                <a:cubicBezTo>
                  <a:pt x="1031" y="657"/>
                  <a:pt x="657" y="1031"/>
                  <a:pt x="397" y="1482"/>
                </a:cubicBezTo>
                <a:cubicBezTo>
                  <a:pt x="137" y="1932"/>
                  <a:pt x="0" y="2443"/>
                  <a:pt x="0" y="2964"/>
                </a:cubicBezTo>
                <a:lnTo>
                  <a:pt x="0" y="14817"/>
                </a:lnTo>
                <a:lnTo>
                  <a:pt x="0" y="14818"/>
                </a:lnTo>
                <a:cubicBezTo>
                  <a:pt x="0" y="15338"/>
                  <a:pt x="137" y="15849"/>
                  <a:pt x="397" y="16299"/>
                </a:cubicBezTo>
                <a:cubicBezTo>
                  <a:pt x="657" y="16750"/>
                  <a:pt x="1031" y="17124"/>
                  <a:pt x="1482" y="17384"/>
                </a:cubicBezTo>
                <a:cubicBezTo>
                  <a:pt x="1932" y="17644"/>
                  <a:pt x="2443" y="17781"/>
                  <a:pt x="2963" y="17781"/>
                </a:cubicBezTo>
                <a:lnTo>
                  <a:pt x="20743" y="17781"/>
                </a:lnTo>
                <a:lnTo>
                  <a:pt x="20744" y="17781"/>
                </a:lnTo>
                <a:cubicBezTo>
                  <a:pt x="21264" y="17781"/>
                  <a:pt x="21775" y="17644"/>
                  <a:pt x="22225" y="17384"/>
                </a:cubicBezTo>
                <a:cubicBezTo>
                  <a:pt x="22676" y="17124"/>
                  <a:pt x="23050" y="16750"/>
                  <a:pt x="23310" y="16299"/>
                </a:cubicBezTo>
                <a:cubicBezTo>
                  <a:pt x="23570" y="15849"/>
                  <a:pt x="23707" y="15338"/>
                  <a:pt x="23707" y="14818"/>
                </a:cubicBezTo>
                <a:lnTo>
                  <a:pt x="23707" y="2963"/>
                </a:lnTo>
                <a:lnTo>
                  <a:pt x="23707" y="2964"/>
                </a:lnTo>
                <a:lnTo>
                  <a:pt x="23707" y="2963"/>
                </a:lnTo>
                <a:cubicBezTo>
                  <a:pt x="23707" y="2443"/>
                  <a:pt x="23570" y="1932"/>
                  <a:pt x="23310" y="1482"/>
                </a:cubicBezTo>
                <a:cubicBezTo>
                  <a:pt x="23050" y="1031"/>
                  <a:pt x="22676" y="657"/>
                  <a:pt x="22225" y="397"/>
                </a:cubicBezTo>
                <a:cubicBezTo>
                  <a:pt x="21775" y="137"/>
                  <a:pt x="21264" y="0"/>
                  <a:pt x="20744" y="0"/>
                </a:cubicBezTo>
                <a:lnTo>
                  <a:pt x="2963" y="0"/>
                </a:lnTo>
              </a:path>
            </a:pathLst>
          </a:custGeom>
          <a:solidFill>
            <a:srgbClr val="bbe0e3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9880" y="2666880"/>
            <a:ext cx="1494000" cy="198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17668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09480" y="533520"/>
            <a:ext cx="176688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362320" y="4114800"/>
            <a:ext cx="1766880" cy="2743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438280" y="457200"/>
            <a:ext cx="1766880" cy="2743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629400" y="2286000"/>
            <a:ext cx="2201760" cy="228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4800600" y="609480"/>
            <a:ext cx="220176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5029200" y="4267080"/>
            <a:ext cx="2201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fill="hold">
                      <p:stCondLst>
                        <p:cond delay="indefinite"/>
                      </p:stCondLst>
                      <p:childTnLst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1893960" cy="2514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553080" y="4114800"/>
            <a:ext cx="2590920" cy="2082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010280" y="2514600"/>
            <a:ext cx="1905120" cy="1665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2514600" y="380880"/>
            <a:ext cx="207648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81503E-006 L 0.03646 0.53826 E">
                                      <p:cBhvr>
                                        <p:cTn id="21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3.52601E-006 L -0.51666 -0.18867 E">
                                      <p:cBhvr>
                                        <p:cTn id="225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7341E-007 L -0.35833 -0.19977 E">
                                      <p:cBhvr>
                                        <p:cTn id="236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189396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 rot="17820000">
            <a:off x="6319080" y="2137680"/>
            <a:ext cx="1938240" cy="1320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 rot="19260000">
            <a:off x="4038480" y="4573080"/>
            <a:ext cx="1938600" cy="1320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 rot="2820000">
            <a:off x="1519560" y="5031360"/>
            <a:ext cx="1938240" cy="1320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 rot="4020000">
            <a:off x="376200" y="1983240"/>
            <a:ext cx="1938600" cy="1320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 rot="17820000">
            <a:off x="6623640" y="4956840"/>
            <a:ext cx="1938240" cy="13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dur="indefinite" fill="hold">
                      <p:stCondLst>
                        <p:cond delay="indefinite"/>
                      </p:stCondLst>
                      <p:childTnLst>
                        <p:par>
                          <p:cTn id="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6.06936E-006 L 0.30001 -0.17757 E">
                                      <p:cBhvr>
                                        <p:cTn id="24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21 0.03052 C -0.04166 0.22659 -0.13455 0.42705 -0.28403 0.46959 C -0.43264 0.51861 -0.58038 0.39399 -0.61528 0.19561 C -0.64965 -0.00162000000000001 -0.55746 -0.19908 -0.4085 -0.24555 C -0.25955 -0.29133 -0.11128 -0.16809 -0.07621 0.03052 Z">
                                      <p:cBhvr>
                                        <p:cTn id="253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dur="indefinite" fill="hold">
                      <p:stCondLst>
                        <p:cond delay="indefinite"/>
                      </p:stCondLst>
                      <p:childTnLst>
                        <p:par>
                          <p:cTn id="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dur="indefinite" fill="hold">
                      <p:stCondLst>
                        <p:cond delay="indefinite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dur="indefinite" fill="hold">
                      <p:stCondLst>
                        <p:cond delay="indefinite"/>
                      </p:stCondLst>
                      <p:childTnLst>
                        <p:par>
                          <p:cTn id="2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ge</cp:lastModifiedBy>
  <dcterms:modified xsi:type="dcterms:W3CDTF">2014-04-21T13:43:1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