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92E67-CD17-4A4B-B966-25972C33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fld id="{26353E15-1E5A-4C7F-8077-4D0D2B3BCA2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371600" y="4324320"/>
            <a:ext cx="640080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356520"/>
            <a:ext cx="777240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199280" y="1584360"/>
            <a:ext cx="4916520" cy="3057480"/>
            <a:chOff x="7199280" y="1584360"/>
            <a:chExt cx="4916520" cy="3057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199280" y="1584360"/>
              <a:ext cx="491652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227720" y="1654200"/>
              <a:ext cx="4783320" cy="292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br>
                <a:rPr sz="1800"/>
              </a:br>
              <a:r>
                <a:rPr b="1" lang="ru-RU" sz="4900" spc="-1" strike="noStrike">
                  <a:solidFill>
                    <a:srgbClr val="524eab"/>
                  </a:solidFill>
                  <a:latin typeface="Times New Roman"/>
                  <a:ea typeface="Times New Roman"/>
                </a:rPr>
                <a:t>Виктора Юзефовича Драгунского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85000" y="5778360"/>
            <a:ext cx="4380120" cy="893880"/>
            <a:chOff x="7785000" y="5778360"/>
            <a:chExt cx="4380120" cy="89388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7785000" y="5778360"/>
              <a:ext cx="438012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942320" y="5937120"/>
              <a:ext cx="406872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готовила: Украинцева Инна Сергеев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88960" y="189000"/>
            <a:ext cx="5423040" cy="64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55440" y="42840"/>
            <a:ext cx="5268960" cy="2246400"/>
            <a:chOff x="55440" y="42840"/>
            <a:chExt cx="5268960" cy="22464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5440" y="42840"/>
              <a:ext cx="526896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12760" y="200160"/>
              <a:ext cx="4960800" cy="192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По многим рассказам Виктора Драгунского сняли детские фильмы. Они так и называются «Удивительные приключения Дениса Кораблёва»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89560" y="165240"/>
            <a:ext cx="6375240" cy="3936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72960" y="2357280"/>
            <a:ext cx="1731960" cy="221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8764560" y="4308480"/>
            <a:ext cx="1606680" cy="227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455920" y="2357280"/>
            <a:ext cx="1716120" cy="221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829040" y="4308480"/>
            <a:ext cx="166860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03320" y="79200"/>
            <a:ext cx="5019480" cy="1508400"/>
            <a:chOff x="103320" y="79200"/>
            <a:chExt cx="5019480" cy="15084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03320" y="79200"/>
              <a:ext cx="501948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63520" y="237960"/>
              <a:ext cx="470700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У самого писателя было двое детей: Денис Драгунский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Ксения Драгунская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73360" y="1584360"/>
            <a:ext cx="8559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418520" y="4084560"/>
            <a:ext cx="4636800" cy="2617920"/>
            <a:chOff x="7418520" y="4084560"/>
            <a:chExt cx="4636800" cy="2617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7418520" y="4084560"/>
              <a:ext cx="4636800" cy="26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78720" y="4243320"/>
              <a:ext cx="4321080" cy="2288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а Юзефовича Драгунского уже давно нет, но весёлые и умные книги писателя остались, чтобы вызывать радость и веселье у маленьких читателей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17520" y="480960"/>
            <a:ext cx="699768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968480" y="2560680"/>
            <a:ext cx="8123400" cy="1233360"/>
            <a:chOff x="1968480" y="2560680"/>
            <a:chExt cx="8123400" cy="123336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1968480" y="2560680"/>
              <a:ext cx="81234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128680" y="2720880"/>
              <a:ext cx="7809120" cy="91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en-US" sz="5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C</a:t>
              </a:r>
              <a:r>
                <a:rPr b="1" lang="ru-RU" sz="5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пасибо за внимание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255600"/>
            <a:ext cx="3402000" cy="417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26040" y="3925800"/>
            <a:ext cx="4541760" cy="5376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529320" y="268200"/>
            <a:ext cx="5089680" cy="32432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12760" y="4157640"/>
            <a:ext cx="3673440" cy="1014480"/>
            <a:chOff x="212760" y="4157640"/>
            <a:chExt cx="3673440" cy="1014480"/>
          </a:xfrm>
        </p:grpSpPr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212760" y="4157640"/>
              <a:ext cx="367344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69720" y="4314960"/>
              <a:ext cx="3362400" cy="70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0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 Юзефович Драгунск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00120" y="371520"/>
            <a:ext cx="9271080" cy="5237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286080" y="5619600"/>
            <a:ext cx="5745240" cy="1143000"/>
            <a:chOff x="3286080" y="5619600"/>
            <a:chExt cx="5745240" cy="114300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286080" y="5619600"/>
              <a:ext cx="5745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444840" y="5780160"/>
              <a:ext cx="5432400" cy="82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 детстве маленький Витя устраивал представления, пел песни, танцева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02400" y="212760"/>
            <a:ext cx="4459320" cy="3081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6120" y="3441600"/>
            <a:ext cx="32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В 16 лет работал тока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02400" y="3257640"/>
            <a:ext cx="44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Был лодочником, катал на лодке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по Москве–реке у Нескучн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94000" y="3441600"/>
            <a:ext cx="3959280" cy="285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93600" y="6275520"/>
            <a:ext cx="84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Но мечты о сцене, поэтические фантазии все же взяли с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rcRect l="12379" t="3578" r="11432" b="33171"/>
          <a:stretch/>
        </p:blipFill>
        <p:spPr>
          <a:xfrm>
            <a:off x="179280" y="189000"/>
            <a:ext cx="486108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864400" y="5589720"/>
            <a:ext cx="5618160" cy="1136520"/>
            <a:chOff x="5864400" y="5589720"/>
            <a:chExt cx="5618160" cy="11365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864400" y="5589720"/>
              <a:ext cx="561816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24600" y="5749920"/>
              <a:ext cx="5303880" cy="82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 Юзефович много лет проработал в теат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8760" y="176040"/>
            <a:ext cx="5576760" cy="391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04080" y="907920"/>
            <a:ext cx="599256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742000" y="712800"/>
            <a:ext cx="5618160" cy="1509840"/>
            <a:chOff x="5742000" y="712800"/>
            <a:chExt cx="5618160" cy="150984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5742000" y="712800"/>
              <a:ext cx="5618160" cy="15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899320" y="870120"/>
              <a:ext cx="530676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Через некоторое время Виктор Драгунский бросает театр и уходит работать в цирк рыжим клоун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4120" y="347760"/>
            <a:ext cx="5005440" cy="622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797520" y="2438280"/>
            <a:ext cx="48769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68200" y="-6480"/>
            <a:ext cx="5738760" cy="1508400"/>
            <a:chOff x="268200" y="-6480"/>
            <a:chExt cx="5738760" cy="15084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68200" y="-6480"/>
              <a:ext cx="573876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5520" y="150840"/>
              <a:ext cx="543240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 Драгунский не только выступал перед детьми, но и писал интересные расс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97000" y="1384200"/>
            <a:ext cx="75344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7908" t="25774" r="54291" b="10502"/>
          <a:stretch/>
        </p:blipFill>
        <p:spPr>
          <a:xfrm>
            <a:off x="272880" y="225360"/>
            <a:ext cx="4962600" cy="644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51720" y="1728720"/>
            <a:ext cx="52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Главным героем всех историй является мальчуган по имени Дени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Героем стал не какой-нибудь выдуманный мальчик, а сын писателя Ден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967360" y="73080"/>
            <a:ext cx="5740560" cy="771480"/>
            <a:chOff x="5967360" y="73080"/>
            <a:chExt cx="5740560" cy="7714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967360" y="73080"/>
              <a:ext cx="57405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124680" y="235080"/>
              <a:ext cx="5432400" cy="45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Рассказ «Сверху вниз, наискосок»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15200" y="1054080"/>
            <a:ext cx="3633840" cy="498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17520" y="212760"/>
            <a:ext cx="5089680" cy="189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023920" y="4595760"/>
            <a:ext cx="3651480" cy="227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38040" y="2255760"/>
            <a:ext cx="1701720" cy="234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419200" y="2259000"/>
            <a:ext cx="1559160" cy="23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4216320" y="2259000"/>
            <a:ext cx="16272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8T20:25:06Z</dcterms:created>
  <dc:creator>Пользователь Microsoft Office</dc:creator>
  <dc:description/>
  <dc:language>en-US</dc:language>
  <cp:lastModifiedBy>валера</cp:lastModifiedBy>
  <dcterms:modified xsi:type="dcterms:W3CDTF">2019-05-03T19:48:44Z</dcterms:modified>
  <cp:revision>8</cp:revision>
  <dc:subject/>
  <dc:title>Биография  Виктора Юзефовича Драгунског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