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3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C9370-69F1-4263-AB74-BC25CD57C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3080"/>
                <a:tab algn="l" pos="9882360"/>
                <a:tab algn="l" pos="10331280"/>
                <a:tab algn="l" pos="10780560"/>
              </a:tabLst>
            </a:pPr>
            <a:fld id="{16DA0910-1747-4A9C-AC5E-E84BFC98270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2520"/>
            <a:ext cx="1097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272520"/>
            <a:ext cx="1097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4375080"/>
            <a:ext cx="12192120" cy="2482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371600" y="4324320"/>
            <a:ext cx="640080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6356520"/>
            <a:ext cx="7772400" cy="36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7199280" y="1584360"/>
            <a:ext cx="4916520" cy="3057480"/>
            <a:chOff x="7199280" y="1584360"/>
            <a:chExt cx="4916520" cy="305748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7199280" y="1584360"/>
              <a:ext cx="4916520" cy="30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227720" y="1654200"/>
              <a:ext cx="4783320" cy="2927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br>
                <a:rPr sz="1800"/>
              </a:br>
              <a:r>
                <a:rPr b="1" lang="ru-RU" sz="4900" spc="-1" strike="noStrike">
                  <a:solidFill>
                    <a:srgbClr val="524eab"/>
                  </a:solidFill>
                  <a:latin typeface="Times New Roman"/>
                  <a:ea typeface="Times New Roman"/>
                </a:rPr>
                <a:t>Виктора Юзефовича Драгунского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785000" y="5778360"/>
            <a:ext cx="4380120" cy="893880"/>
            <a:chOff x="7785000" y="5778360"/>
            <a:chExt cx="4380120" cy="893880"/>
          </a:xfrm>
        </p:grpSpPr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7785000" y="5778360"/>
              <a:ext cx="4380120" cy="8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942320" y="5937120"/>
              <a:ext cx="4068720" cy="58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готовила: Украинцева Инна Сергеев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88960" y="189000"/>
            <a:ext cx="5423040" cy="64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55440" y="42840"/>
            <a:ext cx="5268960" cy="2246400"/>
            <a:chOff x="55440" y="42840"/>
            <a:chExt cx="5268960" cy="224640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55440" y="42840"/>
              <a:ext cx="5268960" cy="22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12760" y="200160"/>
              <a:ext cx="4960800" cy="1922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1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По многим рассказам Виктора Драгунского сняли детские фильмы. Они так и называются «Удивительные приключения Дениса Кораблёва»</a:t>
              </a:r>
              <a:r>
                <a:rPr b="0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389560" y="165240"/>
            <a:ext cx="6375240" cy="3936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72960" y="2357280"/>
            <a:ext cx="1731960" cy="221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8764560" y="4308480"/>
            <a:ext cx="1606680" cy="2279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2455920" y="2357280"/>
            <a:ext cx="1716120" cy="2214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4829040" y="4308480"/>
            <a:ext cx="1668600" cy="22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03320" y="79200"/>
            <a:ext cx="5019480" cy="1508400"/>
            <a:chOff x="103320" y="79200"/>
            <a:chExt cx="5019480" cy="150840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03320" y="79200"/>
              <a:ext cx="5019480" cy="15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63520" y="237960"/>
              <a:ext cx="4707000" cy="119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1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У самого писателя было двое детей: Денис Драгунский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1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Ксения Драгунская</a:t>
              </a:r>
              <a:r>
                <a:rPr b="0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773360" y="1584360"/>
            <a:ext cx="8559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7418520" y="4084560"/>
            <a:ext cx="4636800" cy="2617920"/>
            <a:chOff x="7418520" y="4084560"/>
            <a:chExt cx="4636800" cy="261792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7418520" y="4084560"/>
              <a:ext cx="4636800" cy="26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578720" y="4243320"/>
              <a:ext cx="4321080" cy="2288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1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Виктора Юзефовича Драгунского уже давно нет, но весёлые и умные книги писателя остались, чтобы вызывать радость и веселье у маленьких читателей</a:t>
              </a:r>
              <a:r>
                <a:rPr b="0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17520" y="480960"/>
            <a:ext cx="6997680" cy="466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968480" y="2560680"/>
            <a:ext cx="8123400" cy="1233360"/>
            <a:chOff x="1968480" y="2560680"/>
            <a:chExt cx="8123400" cy="1233360"/>
          </a:xfrm>
        </p:grpSpPr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1968480" y="2560680"/>
              <a:ext cx="8123400" cy="12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128680" y="2720880"/>
              <a:ext cx="7809120" cy="916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1" lang="en-US" sz="5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C</a:t>
              </a:r>
              <a:r>
                <a:rPr b="1" lang="ru-RU" sz="5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пасибо за внимание!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62120" y="255600"/>
            <a:ext cx="3402000" cy="417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126040" y="3925800"/>
            <a:ext cx="4541760" cy="5376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529320" y="268200"/>
            <a:ext cx="5089680" cy="32432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212760" y="4157640"/>
            <a:ext cx="3673440" cy="1014480"/>
            <a:chOff x="212760" y="4157640"/>
            <a:chExt cx="3673440" cy="1014480"/>
          </a:xfrm>
        </p:grpSpPr>
        <p:pic>
          <p:nvPicPr>
            <p:cNvPr id="97" name="" descr=""/>
            <p:cNvPicPr/>
            <p:nvPr/>
          </p:nvPicPr>
          <p:blipFill>
            <a:blip r:embed="rId5"/>
            <a:stretch/>
          </p:blipFill>
          <p:spPr>
            <a:xfrm>
              <a:off x="212760" y="4157640"/>
              <a:ext cx="3673440" cy="10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69720" y="4314960"/>
              <a:ext cx="3362400" cy="703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1" lang="ru-RU" sz="20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Виктор Юзефович Драгунск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00120" y="371520"/>
            <a:ext cx="9271080" cy="523728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3286080" y="5619600"/>
            <a:ext cx="5745240" cy="1143000"/>
            <a:chOff x="3286080" y="5619600"/>
            <a:chExt cx="5745240" cy="114300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3286080" y="5619600"/>
              <a:ext cx="57452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444840" y="5780160"/>
              <a:ext cx="5432400" cy="825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1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В детстве маленький Витя устраивал представления, пел песни, танцева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02400" y="212760"/>
            <a:ext cx="4459320" cy="3081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76120" y="3441600"/>
            <a:ext cx="326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400" spc="-1" strike="noStrike">
                <a:solidFill>
                  <a:srgbClr val="4414ca"/>
                </a:solidFill>
                <a:latin typeface="Times New Roman"/>
                <a:ea typeface="Times New Roman"/>
              </a:rPr>
              <a:t>В 16 лет работал токар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02400" y="3257640"/>
            <a:ext cx="449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400" spc="-1" strike="noStrike">
                <a:solidFill>
                  <a:srgbClr val="4414ca"/>
                </a:solidFill>
                <a:latin typeface="Times New Roman"/>
                <a:ea typeface="Times New Roman"/>
              </a:rPr>
              <a:t>Был лодочником, катал на лодке люд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400" spc="-1" strike="noStrike">
                <a:solidFill>
                  <a:srgbClr val="4414ca"/>
                </a:solidFill>
                <a:latin typeface="Times New Roman"/>
                <a:ea typeface="Times New Roman"/>
              </a:rPr>
              <a:t>по Москве–реке у Нескучного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94000" y="3441600"/>
            <a:ext cx="3959280" cy="2854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93600" y="6275520"/>
            <a:ext cx="84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400" spc="-1" strike="noStrike">
                <a:solidFill>
                  <a:srgbClr val="4414ca"/>
                </a:solidFill>
                <a:latin typeface="Times New Roman"/>
                <a:ea typeface="Times New Roman"/>
              </a:rPr>
              <a:t>Но мечты о сцене, поэтические фантазии все же взяли с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rcRect l="12379" t="3578" r="11432" b="33171"/>
          <a:stretch/>
        </p:blipFill>
        <p:spPr>
          <a:xfrm>
            <a:off x="179280" y="189000"/>
            <a:ext cx="4861080" cy="31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5864400" y="5589720"/>
            <a:ext cx="5618160" cy="1136520"/>
            <a:chOff x="5864400" y="5589720"/>
            <a:chExt cx="5618160" cy="11365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864400" y="5589720"/>
              <a:ext cx="5618160" cy="11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024600" y="5749920"/>
              <a:ext cx="5303880" cy="825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1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Виктор Юзефович много лет проработал в театр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58760" y="176040"/>
            <a:ext cx="5576760" cy="3919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004080" y="907920"/>
            <a:ext cx="599256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5742000" y="712800"/>
            <a:ext cx="5618160" cy="1509840"/>
            <a:chOff x="5742000" y="712800"/>
            <a:chExt cx="5618160" cy="150984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5742000" y="712800"/>
              <a:ext cx="5618160" cy="15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899320" y="870120"/>
              <a:ext cx="5306760" cy="119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1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Через некоторое время Виктор Драгунский бросает театр и уходит работать в цирк рыжим клоуном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84120" y="347760"/>
            <a:ext cx="5005440" cy="6229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797520" y="2438280"/>
            <a:ext cx="4876920" cy="41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68200" y="-6480"/>
            <a:ext cx="5738760" cy="1508400"/>
            <a:chOff x="268200" y="-6480"/>
            <a:chExt cx="5738760" cy="15084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68200" y="-6480"/>
              <a:ext cx="5738760" cy="15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25520" y="150840"/>
              <a:ext cx="5432400" cy="119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1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Виктор Драгунский не только выступал перед детьми, но и писал интересные рассказ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097000" y="1384200"/>
            <a:ext cx="753444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rcRect l="7908" t="25774" r="54291" b="10502"/>
          <a:stretch/>
        </p:blipFill>
        <p:spPr>
          <a:xfrm>
            <a:off x="272880" y="225360"/>
            <a:ext cx="4962600" cy="6443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651720" y="1728720"/>
            <a:ext cx="524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400" spc="-1" strike="noStrike">
                <a:solidFill>
                  <a:srgbClr val="4414ca"/>
                </a:solidFill>
                <a:latin typeface="Times New Roman"/>
                <a:ea typeface="Times New Roman"/>
              </a:rPr>
              <a:t>Главным героем всех историй является мальчуган по имени Денис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400" spc="-1" strike="noStrike">
                <a:solidFill>
                  <a:srgbClr val="4414ca"/>
                </a:solidFill>
                <a:latin typeface="Times New Roman"/>
                <a:ea typeface="Times New Roman"/>
              </a:rPr>
              <a:t>Героем стал не какой-нибудь выдуманный мальчик, а сын писателя Ден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5967360" y="73080"/>
            <a:ext cx="5740560" cy="771480"/>
            <a:chOff x="5967360" y="73080"/>
            <a:chExt cx="5740560" cy="77148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5967360" y="73080"/>
              <a:ext cx="5740560" cy="7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124680" y="235080"/>
              <a:ext cx="5432400" cy="45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33080"/>
                  <a:tab algn="l" pos="9882360"/>
                  <a:tab algn="l" pos="10331280"/>
                  <a:tab algn="l" pos="10780560"/>
                </a:tabLst>
              </a:pPr>
              <a:r>
                <a:rPr b="1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Рассказ «Сверху вниз, наискосок»</a:t>
              </a:r>
              <a:r>
                <a:rPr b="0" lang="ru-RU" sz="2400" spc="-1" strike="noStrike">
                  <a:solidFill>
                    <a:srgbClr val="4414ca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315200" y="1054080"/>
            <a:ext cx="3633840" cy="4981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17520" y="212760"/>
            <a:ext cx="5089680" cy="1890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023920" y="4595760"/>
            <a:ext cx="3651480" cy="2274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338040" y="2255760"/>
            <a:ext cx="1701720" cy="2343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2419200" y="2259000"/>
            <a:ext cx="1559160" cy="2340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4216320" y="2259000"/>
            <a:ext cx="1627200" cy="235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8T20:25:06Z</dcterms:created>
  <dc:creator>Пользователь Microsoft Office</dc:creator>
  <dc:description/>
  <dc:language>en-US</dc:language>
  <cp:lastModifiedBy>валера</cp:lastModifiedBy>
  <dcterms:modified xsi:type="dcterms:W3CDTF">2019-05-03T19:48:44Z</dcterms:modified>
  <cp:revision>8</cp:revision>
  <dc:subject/>
  <dc:title>Биография  Виктора Юзефовича Драгунског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