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hammer.wav" ContentType="audio/x-wav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7F7-2368-471A-A80D-964B9F0D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C85-F209-4E76-8642-E7AE9DC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4FF-1538-4000-9790-4BB0565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6B3-B25B-492C-AD4A-124D9081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226-B49D-4DF8-803E-418D978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D10-7C0A-4CC8-867E-1A638F65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75D-E344-4B06-A0F4-8C84F8B7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859-D031-45A5-B743-75586AD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F50-B09C-4C90-9067-C936EB25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952-FF84-45E2-A071-7052D641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570-45AE-44BF-8713-C54234E7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43E-7516-408E-AA5A-1073D30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3548-BEF1-400D-B532-FE0EAD2BC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36122"/>
                </a:solidFill>
                <a:latin typeface="Monotype Corsiva"/>
              </a:rPr>
              <a:t>«Признаки делимости»</a:t>
            </a:r>
            <a:br>
              <a:rPr sz="6600"/>
            </a:br>
            <a:r>
              <a:rPr b="1" i="1" lang="ru-RU" sz="4000" spc="-1" strike="noStrike">
                <a:solidFill>
                  <a:srgbClr val="036122"/>
                </a:solidFill>
                <a:latin typeface="Monotype Corsiva"/>
              </a:rPr>
              <a:t>5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отовил учитель мате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БОУ «СШ № 12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.Новый Уренг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ниева Татьяна Виктор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Картинки по запросу картинки признаки делимости"/>
          <p:cNvPicPr/>
          <p:nvPr/>
        </p:nvPicPr>
        <p:blipFill>
          <a:blip r:embed="rId1"/>
          <a:stretch/>
        </p:blipFill>
        <p:spPr>
          <a:xfrm>
            <a:off x="685800" y="2538360"/>
            <a:ext cx="3105000" cy="42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будущему студен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41762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: 85176; 84762; 541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852130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585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384*1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число делится на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*83*69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цифры одинаковые, число делится на 9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 = 2; 5;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 =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! Мы писали самостоятельную работу по математике. Учитель, не проверяя вычислений, определил, что у меня в примерах допущены ошибки. Не могу понять, как он это сдела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ов Иван, 3а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Картинки по запросу картинки школа"/>
          <p:cNvPicPr/>
          <p:nvPr/>
        </p:nvPicPr>
        <p:blipFill>
          <a:blip r:embed="rId1"/>
          <a:stretch/>
        </p:blipFill>
        <p:spPr>
          <a:xfrm>
            <a:off x="0" y="4365720"/>
            <a:ext cx="4643280" cy="2492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) 3548 + 7256 + 8108 = 1891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) 9756 + 8322 + 6565 = 246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3" descr="Картинки по запросу картинки школа"/>
          <p:cNvPicPr/>
          <p:nvPr/>
        </p:nvPicPr>
        <p:blipFill>
          <a:blip r:embed="rId1"/>
          <a:stretch/>
        </p:blipFill>
        <p:spPr>
          <a:xfrm>
            <a:off x="2195640" y="3716280"/>
            <a:ext cx="5329080" cy="3141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! Помогите решить задачу! Ничего не получае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хар Иванов, 6б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3" descr="2012                  ДЕЛИТЕЛИ И КРАТНЫЕ№ 1.У марсиан бывает произвольное число рук.Однажды все марсиане взялись за руки т..."/>
          <p:cNvPicPr/>
          <p:nvPr/>
        </p:nvPicPr>
        <p:blipFill>
          <a:blip r:embed="rId1"/>
          <a:srcRect l="0" t="79619" r="0" b="7907"/>
          <a:stretch/>
        </p:blipFill>
        <p:spPr>
          <a:xfrm>
            <a:off x="1187280" y="2997360"/>
            <a:ext cx="7129800" cy="23382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6. 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611280" y="1557360"/>
          <a:ext cx="7993080" cy="5181480"/>
        </p:xfrm>
        <a:graphic>
          <a:graphicData uri="http://schemas.openxmlformats.org/drawingml/2006/table">
            <a:tbl>
              <a:tblPr/>
              <a:tblGrid>
                <a:gridCol w="720720"/>
                <a:gridCol w="727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945 делится на 3 и на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8569 кратно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0 делится на 2;5;3;9;10 одноврем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3 – делитель 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518 делится на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9 – делитель 8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8232 делится одновременно на 4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 делится на 2 и 3 одноврем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267 делится на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000 делится на 2;3;5;9;10 одноврем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6. 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пенье и труд всё перетр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у — время, а потехе — ч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на все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ь раз примерь, а один отреж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ье — путь к ум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лежачий камень и вода не теч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ми и туда и сюда, а делами ник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пешишь — людей насмеш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Используя справочную литературу, интернет найти еще новые признаки делимости чис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Практические задания – см. прикрепленный фай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9640" y="1557360"/>
            <a:ext cx="71640" cy="71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3933720"/>
            <a:ext cx="8964720" cy="263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26920" y="189000"/>
            <a:ext cx="7345440" cy="66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аборатория 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Times New Roman"/>
              </a:rPr>
              <a:t>« Исследование делимости чисе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Картинки по запросу картинки школа 4 Новый Уренгой"/>
          <p:cNvPicPr/>
          <p:nvPr/>
        </p:nvPicPr>
        <p:blipFill>
          <a:blip r:embed="rId1"/>
          <a:stretch/>
        </p:blipFill>
        <p:spPr>
          <a:xfrm>
            <a:off x="0" y="0"/>
            <a:ext cx="5753160" cy="3781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вещание (планер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бор корреспонд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684360" y="189000"/>
            <a:ext cx="78832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спорядок 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Картинки по запросу Картинка Учеба"/>
          <p:cNvPicPr/>
          <p:nvPr/>
        </p:nvPicPr>
        <p:blipFill>
          <a:blip r:embed="rId1"/>
          <a:stretch/>
        </p:blipFill>
        <p:spPr>
          <a:xfrm>
            <a:off x="5796000" y="2708280"/>
            <a:ext cx="3348000" cy="4149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. Совещание (планерка)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кспресс -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79280" y="1268280"/>
            <a:ext cx="8353440" cy="532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84360" y="1360440"/>
            <a:ext cx="78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а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гда число делится на 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гда число делится на 1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95640" y="1484280"/>
            <a:ext cx="4535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5085; 12344; 2300; 1065; 8192; 7920; 169317; 81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140360" y="981000"/>
            <a:ext cx="453528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395280" y="1628640"/>
            <a:ext cx="3454920" cy="3886200"/>
            <a:chOff x="395280" y="1628640"/>
            <a:chExt cx="3454920" cy="3886200"/>
          </a:xfrm>
        </p:grpSpPr>
        <p:pic>
          <p:nvPicPr>
            <p:cNvPr id="61" name="Picture 11" descr="girl6"/>
            <p:cNvPicPr/>
            <p:nvPr/>
          </p:nvPicPr>
          <p:blipFill>
            <a:blip r:embed="rId1"/>
            <a:stretch/>
          </p:blipFill>
          <p:spPr>
            <a:xfrm>
              <a:off x="1729800" y="1745280"/>
              <a:ext cx="1416240" cy="265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2" descr="boy4g"/>
            <p:cNvPicPr/>
            <p:nvPr/>
          </p:nvPicPr>
          <p:blipFill>
            <a:blip r:embed="rId2"/>
            <a:stretch/>
          </p:blipFill>
          <p:spPr>
            <a:xfrm>
              <a:off x="395280" y="2097000"/>
              <a:ext cx="1409040" cy="264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3"/>
            <p:cNvGrpSpPr/>
            <p:nvPr/>
          </p:nvGrpSpPr>
          <p:grpSpPr>
            <a:xfrm>
              <a:off x="2713680" y="1628640"/>
              <a:ext cx="1136520" cy="2495520"/>
              <a:chOff x="2713680" y="1628640"/>
              <a:chExt cx="1136520" cy="2495520"/>
            </a:xfrm>
          </p:grpSpPr>
          <p:grpSp>
            <p:nvGrpSpPr>
              <p:cNvPr id="64" name="Group 14"/>
              <p:cNvGrpSpPr/>
              <p:nvPr/>
            </p:nvGrpSpPr>
            <p:grpSpPr>
              <a:xfrm>
                <a:off x="2713680" y="1628640"/>
                <a:ext cx="1136520" cy="2495520"/>
                <a:chOff x="2713680" y="1628640"/>
                <a:chExt cx="1136520" cy="2495520"/>
              </a:xfrm>
            </p:grpSpPr>
            <p:sp>
              <p:nvSpPr>
                <p:cNvPr id="65" name="Freeform 15"/>
                <p:cNvSpPr/>
                <p:nvPr/>
              </p:nvSpPr>
              <p:spPr>
                <a:xfrm>
                  <a:off x="3301560" y="3486240"/>
                  <a:ext cx="2160" cy="56196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561960"/>
                    <a:gd name="textAreaBottom" fmla="*/ 562320 h 561960"/>
                  </a:gdLst>
                  <a:ahLst/>
                  <a:rect l="textAreaLeft" t="textAreaTop" r="textAreaRight" b="textAreaBottom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16"/>
                <p:cNvSpPr/>
                <p:nvPr/>
              </p:nvSpPr>
              <p:spPr>
                <a:xfrm>
                  <a:off x="2892960" y="3141000"/>
                  <a:ext cx="821160" cy="930960"/>
                </a:xfrm>
                <a:custGeom>
                  <a:avLst/>
                  <a:gdLst>
                    <a:gd name="textAreaLeft" fmla="*/ 0 w 821160"/>
                    <a:gd name="textAreaRight" fmla="*/ 821520 w 821160"/>
                    <a:gd name="textAreaTop" fmla="*/ 0 h 930960"/>
                    <a:gd name="textAreaBottom" fmla="*/ 931320 h 93096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333333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7"/>
                <p:cNvSpPr/>
                <p:nvPr/>
              </p:nvSpPr>
              <p:spPr>
                <a:xfrm>
                  <a:off x="3281760" y="3159720"/>
                  <a:ext cx="82440" cy="31644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8"/>
                <p:cNvSpPr/>
                <p:nvPr/>
              </p:nvSpPr>
              <p:spPr>
                <a:xfrm>
                  <a:off x="3445560" y="3148200"/>
                  <a:ext cx="222840" cy="3186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19"/>
                <p:cNvSpPr/>
                <p:nvPr/>
              </p:nvSpPr>
              <p:spPr>
                <a:xfrm>
                  <a:off x="2952360" y="3138480"/>
                  <a:ext cx="185040" cy="3380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20"/>
                <p:cNvSpPr/>
                <p:nvPr/>
              </p:nvSpPr>
              <p:spPr>
                <a:xfrm>
                  <a:off x="3019680" y="2689920"/>
                  <a:ext cx="552240" cy="477000"/>
                </a:xfrm>
                <a:custGeom>
                  <a:avLst/>
                  <a:gdLst>
                    <a:gd name="textAreaLeft" fmla="*/ 0 w 552240"/>
                    <a:gd name="textAreaRight" fmla="*/ 552600 w 55224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21"/>
                <p:cNvSpPr/>
                <p:nvPr/>
              </p:nvSpPr>
              <p:spPr>
                <a:xfrm>
                  <a:off x="3453840" y="2684880"/>
                  <a:ext cx="347040" cy="7041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04160"/>
                    <a:gd name="textAreaBottom" fmla="*/ 704520 h 70416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2"/>
                <p:cNvSpPr/>
                <p:nvPr/>
              </p:nvSpPr>
              <p:spPr>
                <a:xfrm>
                  <a:off x="2772720" y="2696760"/>
                  <a:ext cx="390600" cy="708840"/>
                </a:xfrm>
                <a:custGeom>
                  <a:avLst/>
                  <a:gdLst>
                    <a:gd name="textAreaLeft" fmla="*/ 0 w 390600"/>
                    <a:gd name="textAreaRight" fmla="*/ 390960 w 390600"/>
                    <a:gd name="textAreaTop" fmla="*/ 0 h 708840"/>
                    <a:gd name="textAreaBottom" fmla="*/ 709200 h 7088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3"/>
                <p:cNvSpPr/>
                <p:nvPr/>
              </p:nvSpPr>
              <p:spPr>
                <a:xfrm>
                  <a:off x="2796120" y="3159720"/>
                  <a:ext cx="195480" cy="22716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4"/>
                <p:cNvSpPr/>
                <p:nvPr/>
              </p:nvSpPr>
              <p:spPr>
                <a:xfrm>
                  <a:off x="3137760" y="2611440"/>
                  <a:ext cx="145800" cy="2106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25"/>
                <p:cNvSpPr/>
                <p:nvPr/>
              </p:nvSpPr>
              <p:spPr>
                <a:xfrm flipH="1">
                  <a:off x="3279240" y="2611440"/>
                  <a:ext cx="145800" cy="210600"/>
                </a:xfrm>
                <a:custGeom>
                  <a:avLst/>
                  <a:gdLst>
                    <a:gd name="textAreaLeft" fmla="*/ -360 w 145800"/>
                    <a:gd name="textAreaRight" fmla="*/ 14580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26"/>
                <p:cNvSpPr/>
                <p:nvPr/>
              </p:nvSpPr>
              <p:spPr>
                <a:xfrm>
                  <a:off x="3295800" y="3159720"/>
                  <a:ext cx="13680" cy="8794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27"/>
                <p:cNvSpPr/>
                <p:nvPr/>
              </p:nvSpPr>
              <p:spPr>
                <a:xfrm>
                  <a:off x="3287880" y="2779200"/>
                  <a:ext cx="2160" cy="35208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28"/>
                <p:cNvSpPr/>
                <p:nvPr/>
              </p:nvSpPr>
              <p:spPr>
                <a:xfrm>
                  <a:off x="2986200" y="3907080"/>
                  <a:ext cx="670680" cy="217080"/>
                </a:xfrm>
                <a:custGeom>
                  <a:avLst/>
                  <a:gdLst>
                    <a:gd name="textAreaLeft" fmla="*/ 0 w 670680"/>
                    <a:gd name="textAreaRight" fmla="*/ 671040 w 67068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29"/>
                <p:cNvSpPr/>
                <p:nvPr/>
              </p:nvSpPr>
              <p:spPr>
                <a:xfrm>
                  <a:off x="2892960" y="1628640"/>
                  <a:ext cx="759600" cy="697320"/>
                </a:xfrm>
                <a:custGeom>
                  <a:avLst/>
                  <a:gdLst>
                    <a:gd name="textAreaLeft" fmla="*/ 0 w 759600"/>
                    <a:gd name="textAreaRight" fmla="*/ 759960 w 759600"/>
                    <a:gd name="textAreaTop" fmla="*/ 0 h 697320"/>
                    <a:gd name="textAreaBottom" fmla="*/ 697680 h 69732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d20000"/>
                    </a:gs>
                    <a:gs pos="50000">
                      <a:srgbClr val="993300"/>
                    </a:gs>
                    <a:gs pos="100000">
                      <a:srgbClr val="d20000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0"/>
                <p:cNvSpPr/>
                <p:nvPr/>
              </p:nvSpPr>
              <p:spPr>
                <a:xfrm>
                  <a:off x="3656880" y="3301920"/>
                  <a:ext cx="193320" cy="2451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99" h="101">
                      <a:moveTo>
                        <a:pt x="66" y="0"/>
                      </a:moveTo>
                      <a:cubicBezTo>
                        <a:pt x="70" y="4"/>
                        <a:pt x="86" y="8"/>
                        <a:pt x="91" y="19"/>
                      </a:cubicBezTo>
                      <a:cubicBezTo>
                        <a:pt x="96" y="30"/>
                        <a:pt x="99" y="53"/>
                        <a:pt x="97" y="65"/>
                      </a:cubicBezTo>
                      <a:cubicBezTo>
                        <a:pt x="95" y="77"/>
                        <a:pt x="88" y="85"/>
                        <a:pt x="78" y="90"/>
                      </a:cubicBezTo>
                      <a:cubicBezTo>
                        <a:pt x="68" y="95"/>
                        <a:pt x="48" y="101"/>
                        <a:pt x="36" y="96"/>
                      </a:cubicBezTo>
                      <a:cubicBezTo>
                        <a:pt x="24" y="91"/>
                        <a:pt x="8" y="70"/>
                        <a:pt x="4" y="59"/>
                      </a:cubicBezTo>
                      <a:cubicBezTo>
                        <a:pt x="0" y="48"/>
                        <a:pt x="10" y="36"/>
                        <a:pt x="12" y="30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1"/>
                <p:cNvSpPr/>
                <p:nvPr/>
              </p:nvSpPr>
              <p:spPr>
                <a:xfrm>
                  <a:off x="2713680" y="3268800"/>
                  <a:ext cx="210960" cy="2692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08" h="111">
                      <a:moveTo>
                        <a:pt x="48" y="0"/>
                      </a:moveTo>
                      <a:cubicBezTo>
                        <a:pt x="42" y="5"/>
                        <a:pt x="17" y="19"/>
                        <a:pt x="10" y="31"/>
                      </a:cubicBezTo>
                      <a:cubicBezTo>
                        <a:pt x="2" y="44"/>
                        <a:pt x="0" y="66"/>
                        <a:pt x="4" y="77"/>
                      </a:cubicBezTo>
                      <a:cubicBezTo>
                        <a:pt x="8" y="87"/>
                        <a:pt x="26" y="86"/>
                        <a:pt x="36" y="91"/>
                      </a:cubicBezTo>
                      <a:cubicBezTo>
                        <a:pt x="46" y="96"/>
                        <a:pt x="55" y="111"/>
                        <a:pt x="65" y="108"/>
                      </a:cubicBezTo>
                      <a:cubicBezTo>
                        <a:pt x="75" y="105"/>
                        <a:pt x="90" y="82"/>
                        <a:pt x="97" y="71"/>
                      </a:cubicBezTo>
                      <a:cubicBezTo>
                        <a:pt x="104" y="60"/>
                        <a:pt x="106" y="50"/>
                        <a:pt x="108" y="44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2"/>
                <p:cNvSpPr/>
                <p:nvPr/>
              </p:nvSpPr>
              <p:spPr>
                <a:xfrm>
                  <a:off x="2955960" y="1876680"/>
                  <a:ext cx="655200" cy="841320"/>
                </a:xfrm>
                <a:custGeom>
                  <a:avLst/>
                  <a:gdLst>
                    <a:gd name="textAreaLeft" fmla="*/ 0 w 655200"/>
                    <a:gd name="textAreaRight" fmla="*/ 655560 w 65520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3"/>
                <p:cNvSpPr/>
                <p:nvPr/>
              </p:nvSpPr>
              <p:spPr>
                <a:xfrm>
                  <a:off x="3191040" y="2441520"/>
                  <a:ext cx="214920" cy="7524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4"/>
                <p:cNvSpPr/>
                <p:nvPr/>
              </p:nvSpPr>
              <p:spPr>
                <a:xfrm>
                  <a:off x="3262320" y="2467440"/>
                  <a:ext cx="88560" cy="234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5" h="10">
                      <a:moveTo>
                        <a:pt x="0" y="10"/>
                      </a:moveTo>
                      <a:cubicBezTo>
                        <a:pt x="2" y="8"/>
                        <a:pt x="6" y="2"/>
                        <a:pt x="10" y="1"/>
                      </a:cubicBezTo>
                      <a:cubicBezTo>
                        <a:pt x="14" y="0"/>
                        <a:pt x="21" y="4"/>
                        <a:pt x="25" y="4"/>
                      </a:cubicBezTo>
                      <a:cubicBezTo>
                        <a:pt x="29" y="4"/>
                        <a:pt x="33" y="0"/>
                        <a:pt x="36" y="1"/>
                      </a:cubicBezTo>
                      <a:cubicBezTo>
                        <a:pt x="39" y="2"/>
                        <a:pt x="43" y="8"/>
                        <a:pt x="45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5"/>
                <p:cNvSpPr/>
                <p:nvPr/>
              </p:nvSpPr>
              <p:spPr>
                <a:xfrm>
                  <a:off x="3157560" y="2169360"/>
                  <a:ext cx="120240" cy="6408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6"/>
                <p:cNvSpPr/>
                <p:nvPr/>
              </p:nvSpPr>
              <p:spPr>
                <a:xfrm>
                  <a:off x="3196800" y="2240640"/>
                  <a:ext cx="51120" cy="6084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c0504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7"/>
                <p:cNvSpPr/>
                <p:nvPr/>
              </p:nvSpPr>
              <p:spPr>
                <a:xfrm>
                  <a:off x="3155760" y="2188440"/>
                  <a:ext cx="122040" cy="849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8"/>
                <p:cNvSpPr/>
                <p:nvPr/>
              </p:nvSpPr>
              <p:spPr>
                <a:xfrm flipH="1">
                  <a:off x="3350880" y="2160360"/>
                  <a:ext cx="120240" cy="63720"/>
                </a:xfrm>
                <a:custGeom>
                  <a:avLst/>
                  <a:gdLst>
                    <a:gd name="textAreaLeft" fmla="*/ 360 w 120240"/>
                    <a:gd name="textAreaRight" fmla="*/ 120960 w 12024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9"/>
                <p:cNvSpPr/>
                <p:nvPr/>
              </p:nvSpPr>
              <p:spPr>
                <a:xfrm flipH="1">
                  <a:off x="3380400" y="2230920"/>
                  <a:ext cx="51120" cy="61560"/>
                </a:xfrm>
                <a:custGeom>
                  <a:avLst/>
                  <a:gdLst>
                    <a:gd name="textAreaLeft" fmla="*/ 360 w 51120"/>
                    <a:gd name="textAreaRight" fmla="*/ 51840 w 511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c0504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0"/>
                <p:cNvSpPr/>
                <p:nvPr/>
              </p:nvSpPr>
              <p:spPr>
                <a:xfrm flipH="1">
                  <a:off x="3350880" y="2181600"/>
                  <a:ext cx="122400" cy="8244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1"/>
                <p:cNvSpPr/>
                <p:nvPr/>
              </p:nvSpPr>
              <p:spPr>
                <a:xfrm>
                  <a:off x="3313800" y="2096280"/>
                  <a:ext cx="195120" cy="2480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2"/>
                <p:cNvSpPr/>
                <p:nvPr/>
              </p:nvSpPr>
              <p:spPr>
                <a:xfrm>
                  <a:off x="3114000" y="2110320"/>
                  <a:ext cx="195480" cy="24300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99" h="103">
                      <a:moveTo>
                        <a:pt x="1" y="31"/>
                      </a:moveTo>
                      <a:cubicBezTo>
                        <a:pt x="5" y="23"/>
                        <a:pt x="15" y="12"/>
                        <a:pt x="27" y="8"/>
                      </a:cubicBezTo>
                      <a:cubicBezTo>
                        <a:pt x="38" y="4"/>
                        <a:pt x="59" y="0"/>
                        <a:pt x="70" y="5"/>
                      </a:cubicBezTo>
                      <a:cubicBezTo>
                        <a:pt x="82" y="10"/>
                        <a:pt x="93" y="26"/>
                        <a:pt x="96" y="37"/>
                      </a:cubicBezTo>
                      <a:cubicBezTo>
                        <a:pt x="99" y="48"/>
                        <a:pt x="94" y="63"/>
                        <a:pt x="90" y="73"/>
                      </a:cubicBezTo>
                      <a:cubicBezTo>
                        <a:pt x="87" y="82"/>
                        <a:pt x="75" y="91"/>
                        <a:pt x="70" y="96"/>
                      </a:cubicBezTo>
                      <a:cubicBezTo>
                        <a:pt x="65" y="101"/>
                        <a:pt x="65" y="100"/>
                        <a:pt x="58" y="101"/>
                      </a:cubicBezTo>
                      <a:cubicBezTo>
                        <a:pt x="51" y="102"/>
                        <a:pt x="38" y="103"/>
                        <a:pt x="30" y="99"/>
                      </a:cubicBezTo>
                      <a:cubicBezTo>
                        <a:pt x="22" y="95"/>
                        <a:pt x="12" y="85"/>
                        <a:pt x="7" y="78"/>
                      </a:cubicBezTo>
                      <a:cubicBezTo>
                        <a:pt x="2" y="71"/>
                        <a:pt x="2" y="67"/>
                        <a:pt x="1" y="59"/>
                      </a:cubicBezTo>
                      <a:cubicBezTo>
                        <a:pt x="0" y="51"/>
                        <a:pt x="1" y="37"/>
                        <a:pt x="1" y="3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3"/>
                <p:cNvSpPr/>
                <p:nvPr/>
              </p:nvSpPr>
              <p:spPr>
                <a:xfrm>
                  <a:off x="3402360" y="2301840"/>
                  <a:ext cx="131760" cy="1890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4"/>
                <p:cNvSpPr/>
                <p:nvPr/>
              </p:nvSpPr>
              <p:spPr>
                <a:xfrm>
                  <a:off x="3069000" y="2316240"/>
                  <a:ext cx="147600" cy="15804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75" h="67">
                      <a:moveTo>
                        <a:pt x="0" y="26"/>
                      </a:moveTo>
                      <a:cubicBezTo>
                        <a:pt x="0" y="34"/>
                        <a:pt x="5" y="48"/>
                        <a:pt x="12" y="53"/>
                      </a:cubicBezTo>
                      <a:cubicBezTo>
                        <a:pt x="19" y="58"/>
                        <a:pt x="35" y="55"/>
                        <a:pt x="42" y="56"/>
                      </a:cubicBezTo>
                      <a:cubicBezTo>
                        <a:pt x="49" y="57"/>
                        <a:pt x="49" y="67"/>
                        <a:pt x="54" y="62"/>
                      </a:cubicBezTo>
                      <a:cubicBezTo>
                        <a:pt x="59" y="57"/>
                        <a:pt x="75" y="34"/>
                        <a:pt x="72" y="26"/>
                      </a:cubicBezTo>
                      <a:cubicBezTo>
                        <a:pt x="69" y="18"/>
                        <a:pt x="45" y="18"/>
                        <a:pt x="36" y="14"/>
                      </a:cubicBezTo>
                      <a:cubicBezTo>
                        <a:pt x="27" y="10"/>
                        <a:pt x="21" y="0"/>
                        <a:pt x="15" y="2"/>
                      </a:cubicBezTo>
                      <a:cubicBezTo>
                        <a:pt x="9" y="4"/>
                        <a:pt x="3" y="21"/>
                        <a:pt x="0" y="2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5"/>
                <p:cNvSpPr/>
                <p:nvPr/>
              </p:nvSpPr>
              <p:spPr>
                <a:xfrm>
                  <a:off x="3633120" y="3141000"/>
                  <a:ext cx="175320" cy="2548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254880"/>
                    <a:gd name="textAreaBottom" fmla="*/ 255240 h 25488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Freeform 46"/>
              <p:cNvSpPr/>
              <p:nvPr/>
            </p:nvSpPr>
            <p:spPr>
              <a:xfrm>
                <a:off x="3270600" y="2346840"/>
                <a:ext cx="76680" cy="35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9" h="15">
                    <a:moveTo>
                      <a:pt x="0" y="10"/>
                    </a:moveTo>
                    <a:cubicBezTo>
                      <a:pt x="1" y="10"/>
                      <a:pt x="3" y="15"/>
                      <a:pt x="6" y="13"/>
                    </a:cubicBezTo>
                    <a:cubicBezTo>
                      <a:pt x="9" y="11"/>
                      <a:pt x="14" y="0"/>
                      <a:pt x="18" y="0"/>
                    </a:cubicBezTo>
                    <a:cubicBezTo>
                      <a:pt x="22" y="0"/>
                      <a:pt x="27" y="11"/>
                      <a:pt x="30" y="13"/>
                    </a:cubicBezTo>
                    <a:cubicBezTo>
                      <a:pt x="33" y="15"/>
                      <a:pt x="37" y="11"/>
                      <a:pt x="39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2239560" y="3035520"/>
              <a:ext cx="1127520" cy="2479320"/>
              <a:chOff x="2239560" y="3035520"/>
              <a:chExt cx="1127520" cy="2479320"/>
            </a:xfrm>
          </p:grpSpPr>
          <p:grpSp>
            <p:nvGrpSpPr>
              <p:cNvPr id="98" name="Group 48"/>
              <p:cNvGrpSpPr/>
              <p:nvPr/>
            </p:nvGrpSpPr>
            <p:grpSpPr>
              <a:xfrm>
                <a:off x="2239560" y="3035520"/>
                <a:ext cx="1127520" cy="2479320"/>
                <a:chOff x="2239560" y="3035520"/>
                <a:chExt cx="1127520" cy="2479320"/>
              </a:xfrm>
            </p:grpSpPr>
            <p:sp>
              <p:nvSpPr>
                <p:cNvPr id="99" name="Freeform 49"/>
                <p:cNvSpPr/>
                <p:nvPr/>
              </p:nvSpPr>
              <p:spPr>
                <a:xfrm>
                  <a:off x="2804760" y="4839840"/>
                  <a:ext cx="360" cy="5688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0"/>
                <p:cNvSpPr/>
                <p:nvPr/>
              </p:nvSpPr>
              <p:spPr>
                <a:xfrm>
                  <a:off x="2410200" y="4492080"/>
                  <a:ext cx="788400" cy="942480"/>
                </a:xfrm>
                <a:custGeom>
                  <a:avLst/>
                  <a:gdLst>
                    <a:gd name="textAreaLeft" fmla="*/ 0 w 788400"/>
                    <a:gd name="textAreaRight" fmla="*/ 788760 w 78840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1"/>
                <p:cNvSpPr/>
                <p:nvPr/>
              </p:nvSpPr>
              <p:spPr>
                <a:xfrm>
                  <a:off x="2787120" y="4508640"/>
                  <a:ext cx="79560" cy="3211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2"/>
                <p:cNvSpPr/>
                <p:nvPr/>
              </p:nvSpPr>
              <p:spPr>
                <a:xfrm>
                  <a:off x="2938680" y="4499640"/>
                  <a:ext cx="215280" cy="3207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3"/>
                <p:cNvSpPr/>
                <p:nvPr/>
              </p:nvSpPr>
              <p:spPr>
                <a:xfrm>
                  <a:off x="2472840" y="4492080"/>
                  <a:ext cx="174240" cy="33768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54"/>
                <p:cNvSpPr/>
                <p:nvPr/>
              </p:nvSpPr>
              <p:spPr>
                <a:xfrm>
                  <a:off x="2532600" y="4036320"/>
                  <a:ext cx="528120" cy="479880"/>
                </a:xfrm>
                <a:custGeom>
                  <a:avLst/>
                  <a:gdLst>
                    <a:gd name="textAreaLeft" fmla="*/ 0 w 528120"/>
                    <a:gd name="textAreaRight" fmla="*/ 528480 w 528120"/>
                    <a:gd name="textAreaTop" fmla="*/ 0 h 479880"/>
                    <a:gd name="textAreaBottom" fmla="*/ 480240 h 4798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55"/>
                <p:cNvSpPr/>
                <p:nvPr/>
              </p:nvSpPr>
              <p:spPr>
                <a:xfrm>
                  <a:off x="2948400" y="4032000"/>
                  <a:ext cx="331920" cy="71064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710640"/>
                    <a:gd name="textAreaBottom" fmla="*/ 711000 h 71064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56"/>
                <p:cNvSpPr/>
                <p:nvPr/>
              </p:nvSpPr>
              <p:spPr>
                <a:xfrm>
                  <a:off x="3119040" y="4492080"/>
                  <a:ext cx="168840" cy="255240"/>
                </a:xfrm>
                <a:custGeom>
                  <a:avLst/>
                  <a:gdLst>
                    <a:gd name="textAreaLeft" fmla="*/ 0 w 168840"/>
                    <a:gd name="textAreaRight" fmla="*/ 169200 w 16884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57"/>
                <p:cNvSpPr/>
                <p:nvPr/>
              </p:nvSpPr>
              <p:spPr>
                <a:xfrm>
                  <a:off x="2295720" y="4041360"/>
                  <a:ext cx="374400" cy="71820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718200"/>
                    <a:gd name="textAreaBottom" fmla="*/ 718560 h 71820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58"/>
                <p:cNvSpPr/>
                <p:nvPr/>
              </p:nvSpPr>
              <p:spPr>
                <a:xfrm>
                  <a:off x="2319120" y="4508640"/>
                  <a:ext cx="188280" cy="23112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59"/>
                <p:cNvSpPr/>
                <p:nvPr/>
              </p:nvSpPr>
              <p:spPr>
                <a:xfrm>
                  <a:off x="2645280" y="3975480"/>
                  <a:ext cx="141480" cy="21240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60"/>
                <p:cNvSpPr/>
                <p:nvPr/>
              </p:nvSpPr>
              <p:spPr>
                <a:xfrm flipH="1">
                  <a:off x="2786400" y="3975480"/>
                  <a:ext cx="139320" cy="212400"/>
                </a:xfrm>
                <a:custGeom>
                  <a:avLst/>
                  <a:gdLst>
                    <a:gd name="textAreaLeft" fmla="*/ 0 w 139320"/>
                    <a:gd name="textAreaRight" fmla="*/ 139320 w 13932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61"/>
                <p:cNvSpPr/>
                <p:nvPr/>
              </p:nvSpPr>
              <p:spPr>
                <a:xfrm>
                  <a:off x="2798640" y="4508640"/>
                  <a:ext cx="11880" cy="887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887760"/>
                    <a:gd name="textAreaBottom" fmla="*/ 888120 h 88776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62"/>
                <p:cNvSpPr/>
                <p:nvPr/>
              </p:nvSpPr>
              <p:spPr>
                <a:xfrm>
                  <a:off x="2791080" y="4126320"/>
                  <a:ext cx="1440" cy="353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353880"/>
                    <a:gd name="textAreaBottom" fmla="*/ 354240 h 3538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63"/>
                <p:cNvSpPr/>
                <p:nvPr/>
              </p:nvSpPr>
              <p:spPr>
                <a:xfrm>
                  <a:off x="2489760" y="5302440"/>
                  <a:ext cx="662040" cy="212400"/>
                </a:xfrm>
                <a:custGeom>
                  <a:avLst/>
                  <a:gdLst>
                    <a:gd name="textAreaLeft" fmla="*/ 0 w 662040"/>
                    <a:gd name="textAreaRight" fmla="*/ 662400 w 66204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Group 64"/>
                <p:cNvGrpSpPr/>
                <p:nvPr/>
              </p:nvGrpSpPr>
              <p:grpSpPr>
                <a:xfrm>
                  <a:off x="2239560" y="3035520"/>
                  <a:ext cx="1127520" cy="1862640"/>
                  <a:chOff x="2239560" y="3035520"/>
                  <a:chExt cx="1127520" cy="1862640"/>
                </a:xfrm>
              </p:grpSpPr>
              <p:sp>
                <p:nvSpPr>
                  <p:cNvPr id="115" name="Freeform 65"/>
                  <p:cNvSpPr/>
                  <p:nvPr/>
                </p:nvSpPr>
                <p:spPr>
                  <a:xfrm>
                    <a:off x="2414160" y="3035520"/>
                    <a:ext cx="753120" cy="67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eeece1"/>
                      </a:gs>
                      <a:gs pos="50000">
                        <a:srgbClr val="333333"/>
                      </a:gs>
                      <a:gs pos="100000">
                        <a:srgbClr val="eeece1"/>
                      </a:gs>
                    </a:gsLst>
                    <a:lin ang="189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66"/>
                  <p:cNvSpPr/>
                  <p:nvPr/>
                </p:nvSpPr>
                <p:spPr>
                  <a:xfrm>
                    <a:off x="3169440" y="4636080"/>
                    <a:ext cx="197640" cy="262080"/>
                  </a:xfrm>
                  <a:custGeom>
                    <a:avLst/>
                    <a:gdLst>
                      <a:gd name="textAreaLeft" fmla="*/ 0 w 197640"/>
                      <a:gd name="textAreaRight" fmla="*/ 198000 w 19764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67"/>
                  <p:cNvSpPr/>
                  <p:nvPr/>
                </p:nvSpPr>
                <p:spPr>
                  <a:xfrm flipH="1">
                    <a:off x="2239560" y="4631760"/>
                    <a:ext cx="198000" cy="261720"/>
                  </a:xfrm>
                  <a:custGeom>
                    <a:avLst/>
                    <a:gdLst>
                      <a:gd name="textAreaLeft" fmla="*/ 360 w 198000"/>
                      <a:gd name="textAreaRight" fmla="*/ 198720 w 19800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68"/>
                  <p:cNvSpPr/>
                  <p:nvPr/>
                </p:nvSpPr>
                <p:spPr>
                  <a:xfrm>
                    <a:off x="2480040" y="3275640"/>
                    <a:ext cx="646560" cy="819720"/>
                  </a:xfrm>
                  <a:custGeom>
                    <a:avLst/>
                    <a:gdLst>
                      <a:gd name="textAreaLeft" fmla="*/ 0 w 646560"/>
                      <a:gd name="textAreaRight" fmla="*/ 646920 w 646560"/>
                      <a:gd name="textAreaTop" fmla="*/ 0 h 819720"/>
                      <a:gd name="textAreaBottom" fmla="*/ 820080 h 819720"/>
                    </a:gdLst>
                    <a:ahLst/>
                    <a:rect l="textAreaLeft" t="textAreaTop" r="textAreaRight" b="textAreaBottom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69"/>
                  <p:cNvSpPr/>
                  <p:nvPr/>
                </p:nvSpPr>
                <p:spPr>
                  <a:xfrm>
                    <a:off x="2711160" y="3826440"/>
                    <a:ext cx="213480" cy="7308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70"/>
                  <p:cNvSpPr/>
                  <p:nvPr/>
                </p:nvSpPr>
                <p:spPr>
                  <a:xfrm>
                    <a:off x="2781360" y="3854880"/>
                    <a:ext cx="88920" cy="212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71"/>
                  <p:cNvSpPr/>
                  <p:nvPr/>
                </p:nvSpPr>
                <p:spPr>
                  <a:xfrm>
                    <a:off x="2678400" y="3561840"/>
                    <a:ext cx="118080" cy="61560"/>
                  </a:xfrm>
                  <a:custGeom>
                    <a:avLst/>
                    <a:gdLst>
                      <a:gd name="textAreaLeft" fmla="*/ 0 w 118080"/>
                      <a:gd name="textAreaRight" fmla="*/ 118440 w 11808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72"/>
                  <p:cNvSpPr/>
                  <p:nvPr/>
                </p:nvSpPr>
                <p:spPr>
                  <a:xfrm>
                    <a:off x="2716920" y="3630240"/>
                    <a:ext cx="50400" cy="6156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73"/>
                  <p:cNvSpPr/>
                  <p:nvPr/>
                </p:nvSpPr>
                <p:spPr>
                  <a:xfrm>
                    <a:off x="2676600" y="3580560"/>
                    <a:ext cx="119880" cy="82800"/>
                  </a:xfrm>
                  <a:custGeom>
                    <a:avLst/>
                    <a:gdLst>
                      <a:gd name="textAreaLeft" fmla="*/ 0 w 119880"/>
                      <a:gd name="textAreaRight" fmla="*/ 120240 w 11988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74"/>
                  <p:cNvSpPr/>
                  <p:nvPr/>
                </p:nvSpPr>
                <p:spPr>
                  <a:xfrm flipH="1">
                    <a:off x="2870280" y="3552120"/>
                    <a:ext cx="118080" cy="63720"/>
                  </a:xfrm>
                  <a:custGeom>
                    <a:avLst/>
                    <a:gdLst>
                      <a:gd name="textAreaLeft" fmla="*/ 360 w 118080"/>
                      <a:gd name="textAreaRight" fmla="*/ 118800 w 11808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75"/>
                  <p:cNvSpPr/>
                  <p:nvPr/>
                </p:nvSpPr>
                <p:spPr>
                  <a:xfrm flipH="1">
                    <a:off x="2899080" y="3620520"/>
                    <a:ext cx="50040" cy="61560"/>
                  </a:xfrm>
                  <a:custGeom>
                    <a:avLst/>
                    <a:gdLst>
                      <a:gd name="textAreaLeft" fmla="*/ -360 w 50040"/>
                      <a:gd name="textAreaRight" fmla="*/ 50040 w 5004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76"/>
                  <p:cNvSpPr/>
                  <p:nvPr/>
                </p:nvSpPr>
                <p:spPr>
                  <a:xfrm flipH="1">
                    <a:off x="2869560" y="3573720"/>
                    <a:ext cx="120600" cy="80280"/>
                  </a:xfrm>
                  <a:custGeom>
                    <a:avLst/>
                    <a:gdLst>
                      <a:gd name="textAreaLeft" fmla="*/ -360 w 120600"/>
                      <a:gd name="textAreaRight" fmla="*/ 120600 w 12060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77"/>
                  <p:cNvSpPr/>
                  <p:nvPr/>
                </p:nvSpPr>
                <p:spPr>
                  <a:xfrm>
                    <a:off x="2833560" y="3490920"/>
                    <a:ext cx="191880" cy="240840"/>
                  </a:xfrm>
                  <a:custGeom>
                    <a:avLst/>
                    <a:gdLst>
                      <a:gd name="textAreaLeft" fmla="*/ 0 w 191880"/>
                      <a:gd name="textAreaRight" fmla="*/ 192240 w 1918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78"/>
                  <p:cNvSpPr/>
                  <p:nvPr/>
                </p:nvSpPr>
                <p:spPr>
                  <a:xfrm>
                    <a:off x="2633760" y="3504960"/>
                    <a:ext cx="195840" cy="234000"/>
                  </a:xfrm>
                  <a:custGeom>
                    <a:avLst/>
                    <a:gdLst>
                      <a:gd name="textAreaLeft" fmla="*/ 0 w 195840"/>
                      <a:gd name="textAreaRight" fmla="*/ 196200 w 195840"/>
                      <a:gd name="textAreaTop" fmla="*/ 0 h 234000"/>
                      <a:gd name="textAreaBottom" fmla="*/ 234360 h 234000"/>
                    </a:gdLst>
                    <a:ahLst/>
                    <a:rect l="textAreaLeft" t="textAreaTop" r="textAreaRight" b="textAreaBottom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79"/>
                  <p:cNvSpPr/>
                  <p:nvPr/>
                </p:nvSpPr>
                <p:spPr>
                  <a:xfrm>
                    <a:off x="2920680" y="3691800"/>
                    <a:ext cx="129960" cy="18396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80"/>
                  <p:cNvSpPr/>
                  <p:nvPr/>
                </p:nvSpPr>
                <p:spPr>
                  <a:xfrm>
                    <a:off x="2600640" y="3759840"/>
                    <a:ext cx="137520" cy="115920"/>
                  </a:xfrm>
                  <a:custGeom>
                    <a:avLst/>
                    <a:gdLst>
                      <a:gd name="textAreaLeft" fmla="*/ 0 w 137520"/>
                      <a:gd name="textAreaRight" fmla="*/ 137880 w 13752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" name="Freeform 81"/>
              <p:cNvSpPr/>
              <p:nvPr/>
            </p:nvSpPr>
            <p:spPr>
              <a:xfrm>
                <a:off x="2786760" y="3736440"/>
                <a:ext cx="81360" cy="399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" name="Picture 82" descr="girl5o"/>
            <p:cNvPicPr/>
            <p:nvPr/>
          </p:nvPicPr>
          <p:blipFill>
            <a:blip r:embed="rId11"/>
            <a:stretch/>
          </p:blipFill>
          <p:spPr>
            <a:xfrm>
              <a:off x="1011240" y="3035520"/>
              <a:ext cx="1361880" cy="227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и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395280" y="0"/>
            <a:ext cx="8496360" cy="6524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/>
          <p:cNvSpPr/>
          <p:nvPr/>
        </p:nvSpPr>
        <p:spPr>
          <a:xfrm>
            <a:off x="539640" y="374760"/>
            <a:ext cx="8136000" cy="2190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.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водим исследов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7" descr="Картинки по запросу Картинка Учеба"/>
          <p:cNvPicPr/>
          <p:nvPr/>
        </p:nvPicPr>
        <p:blipFill>
          <a:blip r:embed="rId2"/>
          <a:stretch/>
        </p:blipFill>
        <p:spPr>
          <a:xfrm>
            <a:off x="2916360" y="3005280"/>
            <a:ext cx="3546360" cy="3852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езультаты исслед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сло делится на 11, если 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умма циф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тоящих на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ечётных места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либо равна сумме цифр, стоящих на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чётных места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либо отличается от неё на число, делящееся на 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Картинки по запросу картинки учеба"/>
          <p:cNvPicPr/>
          <p:nvPr/>
        </p:nvPicPr>
        <p:blipFill>
          <a:blip r:embed="rId1"/>
          <a:stretch/>
        </p:blipFill>
        <p:spPr>
          <a:xfrm>
            <a:off x="4606920" y="3860640"/>
            <a:ext cx="4537080" cy="29973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Картинки по запросу картинки еда в школе обед"/>
          <p:cNvPicPr/>
          <p:nvPr/>
        </p:nvPicPr>
        <p:blipFill>
          <a:blip r:embed="rId1"/>
          <a:stretch/>
        </p:blipFill>
        <p:spPr>
          <a:xfrm>
            <a:off x="6756480" y="0"/>
            <a:ext cx="2387520" cy="2492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4. «Обед» в лаборатории 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375; 8127; 7036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567; 8110; 421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Чтобы переваривать знания, их надо поглощать с аппетитом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26920" y="112536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дущий сту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Рисунок15"/>
          <p:cNvPicPr/>
          <p:nvPr/>
        </p:nvPicPr>
        <p:blipFill>
          <a:blip r:embed="rId1"/>
          <a:stretch/>
        </p:blipFill>
        <p:spPr>
          <a:xfrm>
            <a:off x="6480" y="1603440"/>
            <a:ext cx="2565360" cy="5254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979280" y="1916280"/>
            <a:ext cx="6707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41762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852130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91212E-006 L 2.5E-006 -0.12304 E">
                                      <p:cBhvr>
                                        <p:cTn id="18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5:02:40Z</dcterms:created>
  <dc:creator>as</dc:creator>
  <dc:description/>
  <dc:language>en-US</dc:language>
  <cp:lastModifiedBy>Татьяна</cp:lastModifiedBy>
  <dcterms:modified xsi:type="dcterms:W3CDTF">2022-04-24T15:39:05Z</dcterms:modified>
  <cp:revision>133</cp:revision>
  <dc:subject/>
  <dc:title>«В математике есть своя красота, как в живописи и поэзии». Н. Е. Жуковский.</dc:title>
</cp:coreProperties>
</file>