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hammer.wav" ContentType="audio/x-wav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EF3-B33E-4B26-993B-7386FDB3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496-7287-4C91-AFD7-DC348D65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F1A-E1F8-42C0-BA2E-949DA5AE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464-F228-41A2-86D4-ADC0838A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EDDC-0813-42DD-875B-512E38ED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90E-B0D9-455E-8BF5-9915E353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871-831C-4700-9837-2268FBA0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424-FC2B-4C44-91AA-193C2B1C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CE4-9722-434D-A290-C25DA1D7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710-14AB-4744-A47E-97AAC247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5AF-5402-42B5-A9AA-73F280AB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99C-26B0-420B-844C-71F31515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79F1-1CFC-4D2E-B469-070E96D1E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jpe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36122"/>
                </a:solidFill>
                <a:latin typeface="Monotype Corsiva"/>
              </a:rPr>
              <a:t>«Признаки делимости»</a:t>
            </a:r>
            <a:br>
              <a:rPr sz="6600"/>
            </a:br>
            <a:r>
              <a:rPr b="1" i="1" lang="ru-RU" sz="4000" spc="-1" strike="noStrike">
                <a:solidFill>
                  <a:srgbClr val="036122"/>
                </a:solidFill>
                <a:latin typeface="Monotype Corsiva"/>
              </a:rPr>
              <a:t>5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готовил учитель мате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БОУ «СШ № 12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.Новый Уренг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рниева Татьяна Викторов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Картинки по запросу картинки признаки делимости"/>
          <p:cNvPicPr/>
          <p:nvPr/>
        </p:nvPicPr>
        <p:blipFill>
          <a:blip r:embed="rId1"/>
          <a:stretch/>
        </p:blipFill>
        <p:spPr>
          <a:xfrm>
            <a:off x="685800" y="2538360"/>
            <a:ext cx="3105000" cy="4286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 будущему студен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ано число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5417627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ужно вычеркнуть 3 цифры так, чтобы полученное число делилось на 1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твет: 85176; 84762; 541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Дано число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852130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ужно вычеркнуть 3 цифры так, чтобы полученное число делилось на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585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5. ПРИЕМ ПОСЕТ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384*16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- число делится на 3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*83*69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цифры одинаковые, число делится на 9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 = 2; 5;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* =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5. ПРИЕМ ПОСЕТ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ята! Мы писали самостоятельную работу по математике. Учитель, не проверяя вычислений, определил, что у меня в примерах допущены ошибки. Не могу понять, как он это сдела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ов Иван, 3а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3" descr="Картинки по запросу картинки школа"/>
          <p:cNvPicPr/>
          <p:nvPr/>
        </p:nvPicPr>
        <p:blipFill>
          <a:blip r:embed="rId1"/>
          <a:stretch/>
        </p:blipFill>
        <p:spPr>
          <a:xfrm>
            <a:off x="0" y="4365720"/>
            <a:ext cx="4643280" cy="24922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5. ПРИЕМ ПОСЕТ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) 3548 + 7256 + 8108 = 1891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) 9756 + 8322 + 6565 = 2464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Рисунок 3" descr="Картинки по запросу картинки школа"/>
          <p:cNvPicPr/>
          <p:nvPr/>
        </p:nvPicPr>
        <p:blipFill>
          <a:blip r:embed="rId1"/>
          <a:stretch/>
        </p:blipFill>
        <p:spPr>
          <a:xfrm>
            <a:off x="2195640" y="3716280"/>
            <a:ext cx="5329080" cy="3141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5. ПРИЕМ ПОСЕТ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ята! Помогите решить задачу! Ничего не получает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хар Иванов, 6б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3" descr="2012                  ДЕЛИТЕЛИ И КРАТНЫЕ№ 1.У марсиан бывает произвольное число рук.Однажды все марсиане взялись за руки т..."/>
          <p:cNvPicPr/>
          <p:nvPr/>
        </p:nvPicPr>
        <p:blipFill>
          <a:blip r:embed="rId1"/>
          <a:srcRect l="0" t="79619" r="0" b="7907"/>
          <a:stretch/>
        </p:blipFill>
        <p:spPr>
          <a:xfrm>
            <a:off x="1187280" y="2997360"/>
            <a:ext cx="7129800" cy="23382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6. Подведение ит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611280" y="1557360"/>
          <a:ext cx="7993080" cy="5181480"/>
        </p:xfrm>
        <a:graphic>
          <a:graphicData uri="http://schemas.openxmlformats.org/drawingml/2006/table">
            <a:tbl>
              <a:tblPr/>
              <a:tblGrid>
                <a:gridCol w="720720"/>
                <a:gridCol w="727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945 делится на 3 и на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8569 кратно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0 делится на 2;5;3;9;10 одновреме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3 – делитель 1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518 делится на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9 – делитель 8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8232 делится одновременно на 4 и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6 делится на 2 и 3 одновреме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1267 делится на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000 делится на 2;3;5;9;10 одновремен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6. Подведение ит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пенье и труд всё перетр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у — время, а потехе — ч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на все р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мь раз примерь, а один отреж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нье — путь к ум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лежачий камень и вода не теч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ами и туда и сюда, а делами нику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пешишь — людей насмеши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) Используя справочную литературу, интернет найти еще новые признаки делимости чис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Практические задания – см. прикрепленный фай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9640" y="1557360"/>
            <a:ext cx="71640" cy="71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3933720"/>
            <a:ext cx="8964720" cy="263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26920" y="189000"/>
            <a:ext cx="7345440" cy="66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аборатория 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504d"/>
                </a:solidFill>
                <a:latin typeface="Times New Roman"/>
              </a:rPr>
              <a:t>« Исследование делимости чисе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6" descr="Картинки по запросу картинки школа 4 Новый Уренгой"/>
          <p:cNvPicPr/>
          <p:nvPr/>
        </p:nvPicPr>
        <p:blipFill>
          <a:blip r:embed="rId1"/>
          <a:stretch/>
        </p:blipFill>
        <p:spPr>
          <a:xfrm>
            <a:off x="0" y="0"/>
            <a:ext cx="5753160" cy="37814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вещание (планерк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бор корреспонден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ем посет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дведение итог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684360" y="189000"/>
            <a:ext cx="78832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спорядок д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4" descr="Картинки по запросу Картинка Учеба"/>
          <p:cNvPicPr/>
          <p:nvPr/>
        </p:nvPicPr>
        <p:blipFill>
          <a:blip r:embed="rId1"/>
          <a:stretch/>
        </p:blipFill>
        <p:spPr>
          <a:xfrm>
            <a:off x="5796000" y="2708280"/>
            <a:ext cx="3348000" cy="4149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1. Совещание (планерка)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Экспресс - 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79280" y="1268280"/>
            <a:ext cx="8353440" cy="532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84360" y="1360440"/>
            <a:ext cx="784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ра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знак делимости на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гда число делится на 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гда число делится на 18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-36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2. Разбор корреспонден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995640" y="1484280"/>
            <a:ext cx="45356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5085; 12344; 2300; 1065; 8192; 7920; 169317; 81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140360" y="981000"/>
            <a:ext cx="4535280" cy="18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0"/>
          <p:cNvGrpSpPr/>
          <p:nvPr/>
        </p:nvGrpSpPr>
        <p:grpSpPr>
          <a:xfrm>
            <a:off x="395280" y="1628640"/>
            <a:ext cx="3454920" cy="3886200"/>
            <a:chOff x="395280" y="1628640"/>
            <a:chExt cx="3454920" cy="3886200"/>
          </a:xfrm>
        </p:grpSpPr>
        <p:pic>
          <p:nvPicPr>
            <p:cNvPr id="61" name="Picture 11" descr="girl6"/>
            <p:cNvPicPr/>
            <p:nvPr/>
          </p:nvPicPr>
          <p:blipFill>
            <a:blip r:embed="rId1"/>
            <a:stretch/>
          </p:blipFill>
          <p:spPr>
            <a:xfrm>
              <a:off x="1729800" y="1745280"/>
              <a:ext cx="1416240" cy="265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2" descr="boy4g"/>
            <p:cNvPicPr/>
            <p:nvPr/>
          </p:nvPicPr>
          <p:blipFill>
            <a:blip r:embed="rId2"/>
            <a:stretch/>
          </p:blipFill>
          <p:spPr>
            <a:xfrm>
              <a:off x="395280" y="2097000"/>
              <a:ext cx="1409040" cy="264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3"/>
            <p:cNvGrpSpPr/>
            <p:nvPr/>
          </p:nvGrpSpPr>
          <p:grpSpPr>
            <a:xfrm>
              <a:off x="2713680" y="1628640"/>
              <a:ext cx="1136520" cy="2495520"/>
              <a:chOff x="2713680" y="1628640"/>
              <a:chExt cx="1136520" cy="2495520"/>
            </a:xfrm>
          </p:grpSpPr>
          <p:grpSp>
            <p:nvGrpSpPr>
              <p:cNvPr id="64" name="Group 14"/>
              <p:cNvGrpSpPr/>
              <p:nvPr/>
            </p:nvGrpSpPr>
            <p:grpSpPr>
              <a:xfrm>
                <a:off x="2713680" y="1628640"/>
                <a:ext cx="1136520" cy="2495520"/>
                <a:chOff x="2713680" y="1628640"/>
                <a:chExt cx="1136520" cy="2495520"/>
              </a:xfrm>
            </p:grpSpPr>
            <p:sp>
              <p:nvSpPr>
                <p:cNvPr id="65" name="Freeform 15"/>
                <p:cNvSpPr/>
                <p:nvPr/>
              </p:nvSpPr>
              <p:spPr>
                <a:xfrm>
                  <a:off x="3301560" y="3486240"/>
                  <a:ext cx="2160" cy="56196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561960"/>
                    <a:gd name="textAreaBottom" fmla="*/ 562320 h 561960"/>
                  </a:gdLst>
                  <a:ahLst/>
                  <a:rect l="textAreaLeft" t="textAreaTop" r="textAreaRight" b="textAreaBottom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16"/>
                <p:cNvSpPr/>
                <p:nvPr/>
              </p:nvSpPr>
              <p:spPr>
                <a:xfrm>
                  <a:off x="2892960" y="3141000"/>
                  <a:ext cx="821160" cy="930960"/>
                </a:xfrm>
                <a:custGeom>
                  <a:avLst/>
                  <a:gdLst>
                    <a:gd name="textAreaLeft" fmla="*/ 0 w 821160"/>
                    <a:gd name="textAreaRight" fmla="*/ 821520 w 821160"/>
                    <a:gd name="textAreaTop" fmla="*/ 0 h 930960"/>
                    <a:gd name="textAreaBottom" fmla="*/ 931320 h 93096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50000">
                      <a:srgbClr val="333333"/>
                    </a:gs>
                    <a:gs pos="100000">
                      <a:srgbClr val="777777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17"/>
                <p:cNvSpPr/>
                <p:nvPr/>
              </p:nvSpPr>
              <p:spPr>
                <a:xfrm>
                  <a:off x="3281760" y="3159720"/>
                  <a:ext cx="82440" cy="316440"/>
                </a:xfrm>
                <a:custGeom>
                  <a:avLst/>
                  <a:gdLst/>
                  <a:ahLst/>
                  <a:rect l="l" t="t" r="r" b="b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8"/>
                <p:cNvSpPr/>
                <p:nvPr/>
              </p:nvSpPr>
              <p:spPr>
                <a:xfrm>
                  <a:off x="3445560" y="3148200"/>
                  <a:ext cx="222840" cy="318600"/>
                </a:xfrm>
                <a:custGeom>
                  <a:avLst/>
                  <a:gdLst/>
                  <a:ahLst/>
                  <a:rect l="l" t="t" r="r" b="b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19"/>
                <p:cNvSpPr/>
                <p:nvPr/>
              </p:nvSpPr>
              <p:spPr>
                <a:xfrm>
                  <a:off x="2952360" y="3138480"/>
                  <a:ext cx="185040" cy="338040"/>
                </a:xfrm>
                <a:custGeom>
                  <a:avLst/>
                  <a:gdLst/>
                  <a:ahLst/>
                  <a:rect l="l" t="t" r="r" b="b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50000">
                      <a:srgbClr val="4d4d4d"/>
                    </a:gs>
                    <a:gs pos="100000">
                      <a:srgbClr val="000000"/>
                    </a:gs>
                  </a:gsLst>
                  <a:lin ang="54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20"/>
                <p:cNvSpPr/>
                <p:nvPr/>
              </p:nvSpPr>
              <p:spPr>
                <a:xfrm>
                  <a:off x="3019680" y="2689920"/>
                  <a:ext cx="552240" cy="477000"/>
                </a:xfrm>
                <a:custGeom>
                  <a:avLst/>
                  <a:gdLst>
                    <a:gd name="textAreaLeft" fmla="*/ 0 w 552240"/>
                    <a:gd name="textAreaRight" fmla="*/ 552600 w 552240"/>
                    <a:gd name="textAreaTop" fmla="*/ 0 h 477000"/>
                    <a:gd name="textAreaBottom" fmla="*/ 477360 h 47700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21"/>
                <p:cNvSpPr/>
                <p:nvPr/>
              </p:nvSpPr>
              <p:spPr>
                <a:xfrm>
                  <a:off x="3453840" y="2684880"/>
                  <a:ext cx="347040" cy="70416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04160"/>
                    <a:gd name="textAreaBottom" fmla="*/ 704520 h 70416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2"/>
                <p:cNvSpPr/>
                <p:nvPr/>
              </p:nvSpPr>
              <p:spPr>
                <a:xfrm>
                  <a:off x="2772720" y="2696760"/>
                  <a:ext cx="390600" cy="708840"/>
                </a:xfrm>
                <a:custGeom>
                  <a:avLst/>
                  <a:gdLst>
                    <a:gd name="textAreaLeft" fmla="*/ 0 w 390600"/>
                    <a:gd name="textAreaRight" fmla="*/ 390960 w 390600"/>
                    <a:gd name="textAreaTop" fmla="*/ 0 h 708840"/>
                    <a:gd name="textAreaBottom" fmla="*/ 709200 h 70884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3"/>
                <p:cNvSpPr/>
                <p:nvPr/>
              </p:nvSpPr>
              <p:spPr>
                <a:xfrm>
                  <a:off x="2796120" y="3159720"/>
                  <a:ext cx="195480" cy="22716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227160"/>
                    <a:gd name="textAreaBottom" fmla="*/ 227520 h 22716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4"/>
                <p:cNvSpPr/>
                <p:nvPr/>
              </p:nvSpPr>
              <p:spPr>
                <a:xfrm>
                  <a:off x="3137760" y="2611440"/>
                  <a:ext cx="145800" cy="210600"/>
                </a:xfrm>
                <a:custGeom>
                  <a:avLst/>
                  <a:gdLst>
                    <a:gd name="textAreaLeft" fmla="*/ 0 w 145800"/>
                    <a:gd name="textAreaRight" fmla="*/ 146160 w 14580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25"/>
                <p:cNvSpPr/>
                <p:nvPr/>
              </p:nvSpPr>
              <p:spPr>
                <a:xfrm flipH="1">
                  <a:off x="3279240" y="2611440"/>
                  <a:ext cx="145800" cy="210600"/>
                </a:xfrm>
                <a:custGeom>
                  <a:avLst/>
                  <a:gdLst>
                    <a:gd name="textAreaLeft" fmla="*/ -360 w 145800"/>
                    <a:gd name="textAreaRight" fmla="*/ 145800 w 14580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26"/>
                <p:cNvSpPr/>
                <p:nvPr/>
              </p:nvSpPr>
              <p:spPr>
                <a:xfrm>
                  <a:off x="3295800" y="3159720"/>
                  <a:ext cx="13680" cy="87948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879480"/>
                    <a:gd name="textAreaBottom" fmla="*/ 879840 h 87948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27"/>
                <p:cNvSpPr/>
                <p:nvPr/>
              </p:nvSpPr>
              <p:spPr>
                <a:xfrm>
                  <a:off x="3287880" y="2779200"/>
                  <a:ext cx="2160" cy="352080"/>
                </a:xfrm>
                <a:custGeom>
                  <a:avLst/>
                  <a:gdLst>
                    <a:gd name="textAreaLeft" fmla="*/ 0 w 2160"/>
                    <a:gd name="textAreaRight" fmla="*/ 2520 w 2160"/>
                    <a:gd name="textAreaTop" fmla="*/ 0 h 352080"/>
                    <a:gd name="textAreaBottom" fmla="*/ 352440 h 35208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28"/>
                <p:cNvSpPr/>
                <p:nvPr/>
              </p:nvSpPr>
              <p:spPr>
                <a:xfrm>
                  <a:off x="2986200" y="3907080"/>
                  <a:ext cx="670680" cy="217080"/>
                </a:xfrm>
                <a:custGeom>
                  <a:avLst/>
                  <a:gdLst>
                    <a:gd name="textAreaLeft" fmla="*/ 0 w 670680"/>
                    <a:gd name="textAreaRight" fmla="*/ 671040 w 670680"/>
                    <a:gd name="textAreaTop" fmla="*/ 0 h 217080"/>
                    <a:gd name="textAreaBottom" fmla="*/ 217440 h 21708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29"/>
                <p:cNvSpPr/>
                <p:nvPr/>
              </p:nvSpPr>
              <p:spPr>
                <a:xfrm>
                  <a:off x="2892960" y="1628640"/>
                  <a:ext cx="759600" cy="697320"/>
                </a:xfrm>
                <a:custGeom>
                  <a:avLst/>
                  <a:gdLst>
                    <a:gd name="textAreaLeft" fmla="*/ 0 w 759600"/>
                    <a:gd name="textAreaRight" fmla="*/ 759960 w 759600"/>
                    <a:gd name="textAreaTop" fmla="*/ 0 h 697320"/>
                    <a:gd name="textAreaBottom" fmla="*/ 697680 h 697320"/>
                  </a:gdLst>
                  <a:ahLst/>
                  <a:rect l="textAreaLeft" t="textAreaTop" r="textAreaRight" b="textAreaBottom"/>
                  <a:pathLst>
                    <a:path w="400" h="301">
                      <a:moveTo>
                        <a:pt x="378" y="286"/>
                      </a:moveTo>
                      <a:cubicBezTo>
                        <a:pt x="381" y="275"/>
                        <a:pt x="398" y="234"/>
                        <a:pt x="399" y="220"/>
                      </a:cubicBezTo>
                      <a:cubicBezTo>
                        <a:pt x="400" y="206"/>
                        <a:pt x="386" y="211"/>
                        <a:pt x="384" y="202"/>
                      </a:cubicBezTo>
                      <a:cubicBezTo>
                        <a:pt x="382" y="193"/>
                        <a:pt x="391" y="174"/>
                        <a:pt x="387" y="166"/>
                      </a:cubicBezTo>
                      <a:cubicBezTo>
                        <a:pt x="383" y="158"/>
                        <a:pt x="363" y="158"/>
                        <a:pt x="360" y="151"/>
                      </a:cubicBezTo>
                      <a:cubicBezTo>
                        <a:pt x="357" y="144"/>
                        <a:pt x="367" y="125"/>
                        <a:pt x="366" y="121"/>
                      </a:cubicBezTo>
                      <a:cubicBezTo>
                        <a:pt x="365" y="117"/>
                        <a:pt x="363" y="133"/>
                        <a:pt x="351" y="124"/>
                      </a:cubicBezTo>
                      <a:cubicBezTo>
                        <a:pt x="339" y="115"/>
                        <a:pt x="308" y="77"/>
                        <a:pt x="294" y="67"/>
                      </a:cubicBezTo>
                      <a:cubicBezTo>
                        <a:pt x="280" y="57"/>
                        <a:pt x="275" y="66"/>
                        <a:pt x="267" y="64"/>
                      </a:cubicBezTo>
                      <a:cubicBezTo>
                        <a:pt x="259" y="62"/>
                        <a:pt x="248" y="59"/>
                        <a:pt x="247" y="53"/>
                      </a:cubicBezTo>
                      <a:cubicBezTo>
                        <a:pt x="246" y="47"/>
                        <a:pt x="255" y="32"/>
                        <a:pt x="261" y="28"/>
                      </a:cubicBezTo>
                      <a:cubicBezTo>
                        <a:pt x="267" y="24"/>
                        <a:pt x="282" y="35"/>
                        <a:pt x="282" y="31"/>
                      </a:cubicBezTo>
                      <a:cubicBezTo>
                        <a:pt x="282" y="27"/>
                        <a:pt x="273" y="0"/>
                        <a:pt x="264" y="1"/>
                      </a:cubicBezTo>
                      <a:cubicBezTo>
                        <a:pt x="255" y="2"/>
                        <a:pt x="235" y="31"/>
                        <a:pt x="228" y="40"/>
                      </a:cubicBezTo>
                      <a:cubicBezTo>
                        <a:pt x="221" y="49"/>
                        <a:pt x="225" y="60"/>
                        <a:pt x="219" y="55"/>
                      </a:cubicBezTo>
                      <a:cubicBezTo>
                        <a:pt x="213" y="50"/>
                        <a:pt x="197" y="15"/>
                        <a:pt x="192" y="10"/>
                      </a:cubicBezTo>
                      <a:cubicBezTo>
                        <a:pt x="187" y="5"/>
                        <a:pt x="184" y="15"/>
                        <a:pt x="186" y="22"/>
                      </a:cubicBezTo>
                      <a:cubicBezTo>
                        <a:pt x="188" y="29"/>
                        <a:pt x="208" y="57"/>
                        <a:pt x="204" y="55"/>
                      </a:cubicBezTo>
                      <a:cubicBezTo>
                        <a:pt x="200" y="53"/>
                        <a:pt x="172" y="17"/>
                        <a:pt x="162" y="10"/>
                      </a:cubicBezTo>
                      <a:cubicBezTo>
                        <a:pt x="152" y="3"/>
                        <a:pt x="151" y="15"/>
                        <a:pt x="144" y="16"/>
                      </a:cubicBezTo>
                      <a:cubicBezTo>
                        <a:pt x="137" y="17"/>
                        <a:pt x="125" y="16"/>
                        <a:pt x="120" y="19"/>
                      </a:cubicBezTo>
                      <a:cubicBezTo>
                        <a:pt x="115" y="22"/>
                        <a:pt x="110" y="31"/>
                        <a:pt x="114" y="34"/>
                      </a:cubicBezTo>
                      <a:cubicBezTo>
                        <a:pt x="118" y="37"/>
                        <a:pt x="140" y="33"/>
                        <a:pt x="147" y="37"/>
                      </a:cubicBezTo>
                      <a:cubicBezTo>
                        <a:pt x="154" y="41"/>
                        <a:pt x="163" y="55"/>
                        <a:pt x="159" y="58"/>
                      </a:cubicBezTo>
                      <a:cubicBezTo>
                        <a:pt x="155" y="61"/>
                        <a:pt x="133" y="53"/>
                        <a:pt x="126" y="55"/>
                      </a:cubicBezTo>
                      <a:cubicBezTo>
                        <a:pt x="119" y="57"/>
                        <a:pt x="119" y="69"/>
                        <a:pt x="114" y="73"/>
                      </a:cubicBezTo>
                      <a:cubicBezTo>
                        <a:pt x="109" y="77"/>
                        <a:pt x="100" y="76"/>
                        <a:pt x="93" y="79"/>
                      </a:cubicBezTo>
                      <a:cubicBezTo>
                        <a:pt x="86" y="82"/>
                        <a:pt x="79" y="89"/>
                        <a:pt x="72" y="94"/>
                      </a:cubicBezTo>
                      <a:cubicBezTo>
                        <a:pt x="65" y="99"/>
                        <a:pt x="56" y="101"/>
                        <a:pt x="54" y="106"/>
                      </a:cubicBezTo>
                      <a:cubicBezTo>
                        <a:pt x="52" y="111"/>
                        <a:pt x="61" y="118"/>
                        <a:pt x="60" y="124"/>
                      </a:cubicBezTo>
                      <a:cubicBezTo>
                        <a:pt x="59" y="130"/>
                        <a:pt x="51" y="137"/>
                        <a:pt x="45" y="142"/>
                      </a:cubicBezTo>
                      <a:cubicBezTo>
                        <a:pt x="39" y="147"/>
                        <a:pt x="33" y="142"/>
                        <a:pt x="27" y="154"/>
                      </a:cubicBezTo>
                      <a:cubicBezTo>
                        <a:pt x="21" y="166"/>
                        <a:pt x="16" y="194"/>
                        <a:pt x="12" y="214"/>
                      </a:cubicBezTo>
                      <a:cubicBezTo>
                        <a:pt x="8" y="234"/>
                        <a:pt x="0" y="260"/>
                        <a:pt x="3" y="274"/>
                      </a:cubicBezTo>
                      <a:cubicBezTo>
                        <a:pt x="6" y="288"/>
                        <a:pt x="27" y="295"/>
                        <a:pt x="33" y="30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d20000"/>
                    </a:gs>
                    <a:gs pos="50000">
                      <a:srgbClr val="993300"/>
                    </a:gs>
                    <a:gs pos="100000">
                      <a:srgbClr val="d20000"/>
                    </a:gs>
                  </a:gsLst>
                  <a:lin ang="18900000"/>
                </a:gra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0"/>
                <p:cNvSpPr/>
                <p:nvPr/>
              </p:nvSpPr>
              <p:spPr>
                <a:xfrm>
                  <a:off x="3656880" y="3301920"/>
                  <a:ext cx="193320" cy="245160"/>
                </a:xfrm>
                <a:custGeom>
                  <a:avLst/>
                  <a:gdLst>
                    <a:gd name="textAreaLeft" fmla="*/ 0 w 193320"/>
                    <a:gd name="textAreaRight" fmla="*/ 193680 w 193320"/>
                    <a:gd name="textAreaTop" fmla="*/ 0 h 245160"/>
                    <a:gd name="textAreaBottom" fmla="*/ 245520 h 245160"/>
                  </a:gdLst>
                  <a:ahLst/>
                  <a:rect l="textAreaLeft" t="textAreaTop" r="textAreaRight" b="textAreaBottom"/>
                  <a:pathLst>
                    <a:path w="99" h="101">
                      <a:moveTo>
                        <a:pt x="66" y="0"/>
                      </a:moveTo>
                      <a:cubicBezTo>
                        <a:pt x="70" y="4"/>
                        <a:pt x="86" y="8"/>
                        <a:pt x="91" y="19"/>
                      </a:cubicBezTo>
                      <a:cubicBezTo>
                        <a:pt x="96" y="30"/>
                        <a:pt x="99" y="53"/>
                        <a:pt x="97" y="65"/>
                      </a:cubicBezTo>
                      <a:cubicBezTo>
                        <a:pt x="95" y="77"/>
                        <a:pt x="88" y="85"/>
                        <a:pt x="78" y="90"/>
                      </a:cubicBezTo>
                      <a:cubicBezTo>
                        <a:pt x="68" y="95"/>
                        <a:pt x="48" y="101"/>
                        <a:pt x="36" y="96"/>
                      </a:cubicBezTo>
                      <a:cubicBezTo>
                        <a:pt x="24" y="91"/>
                        <a:pt x="8" y="70"/>
                        <a:pt x="4" y="59"/>
                      </a:cubicBezTo>
                      <a:cubicBezTo>
                        <a:pt x="0" y="48"/>
                        <a:pt x="10" y="36"/>
                        <a:pt x="12" y="30"/>
                      </a:cubicBez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1"/>
                <p:cNvSpPr/>
                <p:nvPr/>
              </p:nvSpPr>
              <p:spPr>
                <a:xfrm>
                  <a:off x="2713680" y="3268800"/>
                  <a:ext cx="210960" cy="26928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269280"/>
                    <a:gd name="textAreaBottom" fmla="*/ 269640 h 269280"/>
                  </a:gdLst>
                  <a:ahLst/>
                  <a:rect l="textAreaLeft" t="textAreaTop" r="textAreaRight" b="textAreaBottom"/>
                  <a:pathLst>
                    <a:path w="108" h="111">
                      <a:moveTo>
                        <a:pt x="48" y="0"/>
                      </a:moveTo>
                      <a:cubicBezTo>
                        <a:pt x="42" y="5"/>
                        <a:pt x="17" y="19"/>
                        <a:pt x="10" y="31"/>
                      </a:cubicBezTo>
                      <a:cubicBezTo>
                        <a:pt x="2" y="44"/>
                        <a:pt x="0" y="66"/>
                        <a:pt x="4" y="77"/>
                      </a:cubicBezTo>
                      <a:cubicBezTo>
                        <a:pt x="8" y="87"/>
                        <a:pt x="26" y="86"/>
                        <a:pt x="36" y="91"/>
                      </a:cubicBezTo>
                      <a:cubicBezTo>
                        <a:pt x="46" y="96"/>
                        <a:pt x="55" y="111"/>
                        <a:pt x="65" y="108"/>
                      </a:cubicBezTo>
                      <a:cubicBezTo>
                        <a:pt x="75" y="105"/>
                        <a:pt x="90" y="82"/>
                        <a:pt x="97" y="71"/>
                      </a:cubicBezTo>
                      <a:cubicBezTo>
                        <a:pt x="104" y="60"/>
                        <a:pt x="106" y="50"/>
                        <a:pt x="108" y="44"/>
                      </a:cubicBez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2"/>
                <p:cNvSpPr/>
                <p:nvPr/>
              </p:nvSpPr>
              <p:spPr>
                <a:xfrm>
                  <a:off x="2955960" y="1876680"/>
                  <a:ext cx="655200" cy="841320"/>
                </a:xfrm>
                <a:custGeom>
                  <a:avLst/>
                  <a:gdLst>
                    <a:gd name="textAreaLeft" fmla="*/ 0 w 655200"/>
                    <a:gd name="textAreaRight" fmla="*/ 655560 w 655200"/>
                    <a:gd name="textAreaTop" fmla="*/ 0 h 841320"/>
                    <a:gd name="textAreaBottom" fmla="*/ 841680 h 841320"/>
                  </a:gdLst>
                  <a:ahLst/>
                  <a:rect l="textAreaLeft" t="textAreaTop" r="textAreaRight" b="textAreaBottom"/>
                  <a:pathLst>
                    <a:path w="344" h="365">
                      <a:moveTo>
                        <a:pt x="0" y="194"/>
                      </a:moveTo>
                      <a:cubicBezTo>
                        <a:pt x="0" y="198"/>
                        <a:pt x="0" y="197"/>
                        <a:pt x="6" y="209"/>
                      </a:cubicBezTo>
                      <a:cubicBezTo>
                        <a:pt x="12" y="221"/>
                        <a:pt x="23" y="250"/>
                        <a:pt x="36" y="266"/>
                      </a:cubicBezTo>
                      <a:cubicBezTo>
                        <a:pt x="49" y="282"/>
                        <a:pt x="70" y="299"/>
                        <a:pt x="87" y="308"/>
                      </a:cubicBezTo>
                      <a:cubicBezTo>
                        <a:pt x="104" y="317"/>
                        <a:pt x="129" y="314"/>
                        <a:pt x="138" y="320"/>
                      </a:cubicBezTo>
                      <a:cubicBezTo>
                        <a:pt x="147" y="326"/>
                        <a:pt x="140" y="337"/>
                        <a:pt x="144" y="344"/>
                      </a:cubicBezTo>
                      <a:cubicBezTo>
                        <a:pt x="148" y="351"/>
                        <a:pt x="157" y="365"/>
                        <a:pt x="165" y="365"/>
                      </a:cubicBezTo>
                      <a:cubicBezTo>
                        <a:pt x="173" y="365"/>
                        <a:pt x="185" y="349"/>
                        <a:pt x="192" y="341"/>
                      </a:cubicBezTo>
                      <a:cubicBezTo>
                        <a:pt x="199" y="333"/>
                        <a:pt x="197" y="322"/>
                        <a:pt x="207" y="317"/>
                      </a:cubicBezTo>
                      <a:cubicBezTo>
                        <a:pt x="217" y="312"/>
                        <a:pt x="239" y="315"/>
                        <a:pt x="255" y="308"/>
                      </a:cubicBezTo>
                      <a:cubicBezTo>
                        <a:pt x="271" y="301"/>
                        <a:pt x="289" y="296"/>
                        <a:pt x="303" y="275"/>
                      </a:cubicBezTo>
                      <a:cubicBezTo>
                        <a:pt x="317" y="254"/>
                        <a:pt x="344" y="208"/>
                        <a:pt x="342" y="179"/>
                      </a:cubicBezTo>
                      <a:cubicBezTo>
                        <a:pt x="340" y="150"/>
                        <a:pt x="302" y="123"/>
                        <a:pt x="288" y="98"/>
                      </a:cubicBezTo>
                      <a:cubicBezTo>
                        <a:pt x="274" y="73"/>
                        <a:pt x="269" y="31"/>
                        <a:pt x="256" y="27"/>
                      </a:cubicBezTo>
                      <a:cubicBezTo>
                        <a:pt x="243" y="23"/>
                        <a:pt x="218" y="70"/>
                        <a:pt x="208" y="75"/>
                      </a:cubicBezTo>
                      <a:cubicBezTo>
                        <a:pt x="198" y="80"/>
                        <a:pt x="202" y="60"/>
                        <a:pt x="198" y="56"/>
                      </a:cubicBezTo>
                      <a:cubicBezTo>
                        <a:pt x="194" y="52"/>
                        <a:pt x="197" y="50"/>
                        <a:pt x="183" y="53"/>
                      </a:cubicBezTo>
                      <a:cubicBezTo>
                        <a:pt x="169" y="56"/>
                        <a:pt x="121" y="77"/>
                        <a:pt x="112" y="75"/>
                      </a:cubicBezTo>
                      <a:cubicBezTo>
                        <a:pt x="103" y="73"/>
                        <a:pt x="126" y="52"/>
                        <a:pt x="126" y="41"/>
                      </a:cubicBezTo>
                      <a:cubicBezTo>
                        <a:pt x="126" y="30"/>
                        <a:pt x="126" y="0"/>
                        <a:pt x="114" y="11"/>
                      </a:cubicBezTo>
                      <a:cubicBezTo>
                        <a:pt x="102" y="22"/>
                        <a:pt x="63" y="89"/>
                        <a:pt x="54" y="110"/>
                      </a:cubicBezTo>
                      <a:cubicBezTo>
                        <a:pt x="45" y="131"/>
                        <a:pt x="60" y="129"/>
                        <a:pt x="60" y="137"/>
                      </a:cubicBezTo>
                      <a:cubicBezTo>
                        <a:pt x="60" y="145"/>
                        <a:pt x="58" y="158"/>
                        <a:pt x="54" y="161"/>
                      </a:cubicBezTo>
                      <a:cubicBezTo>
                        <a:pt x="50" y="164"/>
                        <a:pt x="39" y="162"/>
                        <a:pt x="36" y="155"/>
                      </a:cubicBezTo>
                      <a:cubicBezTo>
                        <a:pt x="33" y="148"/>
                        <a:pt x="37" y="119"/>
                        <a:pt x="33" y="119"/>
                      </a:cubicBezTo>
                      <a:cubicBezTo>
                        <a:pt x="29" y="119"/>
                        <a:pt x="16" y="143"/>
                        <a:pt x="12" y="152"/>
                      </a:cubicBezTo>
                      <a:cubicBezTo>
                        <a:pt x="8" y="161"/>
                        <a:pt x="12" y="168"/>
                        <a:pt x="12" y="173"/>
                      </a:cubicBezTo>
                      <a:cubicBezTo>
                        <a:pt x="12" y="178"/>
                        <a:pt x="11" y="182"/>
                        <a:pt x="9" y="185"/>
                      </a:cubicBezTo>
                      <a:cubicBezTo>
                        <a:pt x="7" y="188"/>
                        <a:pt x="0" y="190"/>
                        <a:pt x="0" y="194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3"/>
                <p:cNvSpPr/>
                <p:nvPr/>
              </p:nvSpPr>
              <p:spPr>
                <a:xfrm>
                  <a:off x="3191040" y="2441520"/>
                  <a:ext cx="214920" cy="75240"/>
                </a:xfrm>
                <a:custGeom>
                  <a:avLst/>
                  <a:gdLst>
                    <a:gd name="textAreaLeft" fmla="*/ 0 w 214920"/>
                    <a:gd name="textAreaRight" fmla="*/ 215280 w 214920"/>
                    <a:gd name="textAreaTop" fmla="*/ 0 h 75240"/>
                    <a:gd name="textAreaBottom" fmla="*/ 75600 h 75240"/>
                  </a:gdLst>
                  <a:ahLst/>
                  <a:rect l="textAreaLeft" t="textAreaTop" r="textAreaRight" b="textAreaBottom"/>
                  <a:pathLst>
                    <a:path w="114" h="32">
                      <a:moveTo>
                        <a:pt x="0" y="0"/>
                      </a:moveTo>
                      <a:cubicBezTo>
                        <a:pt x="7" y="4"/>
                        <a:pt x="29" y="22"/>
                        <a:pt x="39" y="27"/>
                      </a:cubicBezTo>
                      <a:cubicBezTo>
                        <a:pt x="49" y="32"/>
                        <a:pt x="53" y="30"/>
                        <a:pt x="60" y="30"/>
                      </a:cubicBezTo>
                      <a:cubicBezTo>
                        <a:pt x="67" y="30"/>
                        <a:pt x="72" y="32"/>
                        <a:pt x="81" y="27"/>
                      </a:cubicBezTo>
                      <a:cubicBezTo>
                        <a:pt x="90" y="22"/>
                        <a:pt x="107" y="8"/>
                        <a:pt x="114" y="3"/>
                      </a:cubicBezTo>
                    </a:path>
                  </a:pathLst>
                </a:custGeom>
                <a:noFill/>
                <a:ln w="12600">
                  <a:solidFill>
                    <a:srgbClr val="d2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4"/>
                <p:cNvSpPr/>
                <p:nvPr/>
              </p:nvSpPr>
              <p:spPr>
                <a:xfrm>
                  <a:off x="3262320" y="2467440"/>
                  <a:ext cx="88560" cy="234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5" h="10">
                      <a:moveTo>
                        <a:pt x="0" y="10"/>
                      </a:moveTo>
                      <a:cubicBezTo>
                        <a:pt x="2" y="8"/>
                        <a:pt x="6" y="2"/>
                        <a:pt x="10" y="1"/>
                      </a:cubicBezTo>
                      <a:cubicBezTo>
                        <a:pt x="14" y="0"/>
                        <a:pt x="21" y="4"/>
                        <a:pt x="25" y="4"/>
                      </a:cubicBezTo>
                      <a:cubicBezTo>
                        <a:pt x="29" y="4"/>
                        <a:pt x="33" y="0"/>
                        <a:pt x="36" y="1"/>
                      </a:cubicBezTo>
                      <a:cubicBezTo>
                        <a:pt x="39" y="2"/>
                        <a:pt x="43" y="8"/>
                        <a:pt x="45" y="10"/>
                      </a:cubicBezTo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5"/>
                <p:cNvSpPr/>
                <p:nvPr/>
              </p:nvSpPr>
              <p:spPr>
                <a:xfrm>
                  <a:off x="3157560" y="2169360"/>
                  <a:ext cx="120240" cy="64080"/>
                </a:xfrm>
                <a:custGeom>
                  <a:avLst/>
                  <a:gdLst>
                    <a:gd name="textAreaLeft" fmla="*/ 0 w 120240"/>
                    <a:gd name="textAreaRight" fmla="*/ 120600 w 12024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36"/>
                <p:cNvSpPr/>
                <p:nvPr/>
              </p:nvSpPr>
              <p:spPr>
                <a:xfrm>
                  <a:off x="3196800" y="2240640"/>
                  <a:ext cx="51120" cy="60840"/>
                </a:xfrm>
                <a:custGeom>
                  <a:avLst/>
                  <a:gdLst>
                    <a:gd name="textAreaLeft" fmla="*/ 0 w 51120"/>
                    <a:gd name="textAreaRight" fmla="*/ 51480 w 511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c0504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37"/>
                <p:cNvSpPr/>
                <p:nvPr/>
              </p:nvSpPr>
              <p:spPr>
                <a:xfrm>
                  <a:off x="3155760" y="2188440"/>
                  <a:ext cx="122040" cy="8496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38"/>
                <p:cNvSpPr/>
                <p:nvPr/>
              </p:nvSpPr>
              <p:spPr>
                <a:xfrm flipH="1">
                  <a:off x="3350880" y="2160360"/>
                  <a:ext cx="120240" cy="63720"/>
                </a:xfrm>
                <a:custGeom>
                  <a:avLst/>
                  <a:gdLst>
                    <a:gd name="textAreaLeft" fmla="*/ 360 w 120240"/>
                    <a:gd name="textAreaRight" fmla="*/ 120960 w 12024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63" h="28">
                      <a:moveTo>
                        <a:pt x="63" y="16"/>
                      </a:moveTo>
                      <a:cubicBezTo>
                        <a:pt x="58" y="14"/>
                        <a:pt x="39" y="6"/>
                        <a:pt x="33" y="4"/>
                      </a:cubicBezTo>
                      <a:cubicBezTo>
                        <a:pt x="27" y="2"/>
                        <a:pt x="29" y="0"/>
                        <a:pt x="24" y="4"/>
                      </a:cubicBezTo>
                      <a:cubicBezTo>
                        <a:pt x="19" y="8"/>
                        <a:pt x="5" y="23"/>
                        <a:pt x="0" y="2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39"/>
                <p:cNvSpPr/>
                <p:nvPr/>
              </p:nvSpPr>
              <p:spPr>
                <a:xfrm flipH="1">
                  <a:off x="3380400" y="2230920"/>
                  <a:ext cx="51120" cy="61560"/>
                </a:xfrm>
                <a:custGeom>
                  <a:avLst/>
                  <a:gdLst>
                    <a:gd name="textAreaLeft" fmla="*/ 360 w 51120"/>
                    <a:gd name="textAreaRight" fmla="*/ 51840 w 511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27" h="27">
                      <a:moveTo>
                        <a:pt x="27" y="12"/>
                      </a:moveTo>
                      <a:cubicBezTo>
                        <a:pt x="27" y="8"/>
                        <a:pt x="16" y="0"/>
                        <a:pt x="12" y="0"/>
                      </a:cubicBezTo>
                      <a:cubicBezTo>
                        <a:pt x="8" y="0"/>
                        <a:pt x="0" y="11"/>
                        <a:pt x="0" y="15"/>
                      </a:cubicBezTo>
                      <a:cubicBezTo>
                        <a:pt x="0" y="19"/>
                        <a:pt x="11" y="27"/>
                        <a:pt x="15" y="27"/>
                      </a:cubicBezTo>
                      <a:cubicBezTo>
                        <a:pt x="19" y="27"/>
                        <a:pt x="27" y="16"/>
                        <a:pt x="27" y="12"/>
                      </a:cubicBezTo>
                      <a:close/>
                    </a:path>
                  </a:pathLst>
                </a:custGeom>
                <a:solidFill>
                  <a:srgbClr val="c0504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0"/>
                <p:cNvSpPr/>
                <p:nvPr/>
              </p:nvSpPr>
              <p:spPr>
                <a:xfrm flipH="1">
                  <a:off x="3350880" y="2181600"/>
                  <a:ext cx="122400" cy="82440"/>
                </a:xfrm>
                <a:custGeom>
                  <a:avLst/>
                  <a:gdLst>
                    <a:gd name="textAreaLeft" fmla="*/ 360 w 122400"/>
                    <a:gd name="textAreaRight" fmla="*/ 123120 w 12240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64" h="36">
                      <a:moveTo>
                        <a:pt x="4" y="31"/>
                      </a:moveTo>
                      <a:cubicBezTo>
                        <a:pt x="3" y="29"/>
                        <a:pt x="0" y="27"/>
                        <a:pt x="4" y="22"/>
                      </a:cubicBezTo>
                      <a:cubicBezTo>
                        <a:pt x="8" y="17"/>
                        <a:pt x="22" y="2"/>
                        <a:pt x="31" y="1"/>
                      </a:cubicBezTo>
                      <a:cubicBezTo>
                        <a:pt x="40" y="0"/>
                        <a:pt x="58" y="8"/>
                        <a:pt x="61" y="13"/>
                      </a:cubicBezTo>
                      <a:cubicBezTo>
                        <a:pt x="64" y="18"/>
                        <a:pt x="56" y="30"/>
                        <a:pt x="52" y="31"/>
                      </a:cubicBezTo>
                      <a:cubicBezTo>
                        <a:pt x="48" y="32"/>
                        <a:pt x="40" y="19"/>
                        <a:pt x="34" y="19"/>
                      </a:cubicBezTo>
                      <a:cubicBezTo>
                        <a:pt x="28" y="19"/>
                        <a:pt x="18" y="32"/>
                        <a:pt x="13" y="34"/>
                      </a:cubicBezTo>
                      <a:cubicBezTo>
                        <a:pt x="8" y="36"/>
                        <a:pt x="4" y="34"/>
                        <a:pt x="4" y="31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1"/>
                <p:cNvSpPr/>
                <p:nvPr/>
              </p:nvSpPr>
              <p:spPr>
                <a:xfrm>
                  <a:off x="3313800" y="2096280"/>
                  <a:ext cx="195120" cy="24804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248040"/>
                    <a:gd name="textAreaBottom" fmla="*/ 248400 h 248040"/>
                  </a:gdLst>
                  <a:ahLst/>
                  <a:rect l="textAreaLeft" t="textAreaTop" r="textAreaRight" b="textAreaBottom"/>
                  <a:pathLst>
                    <a:path w="102" h="107">
                      <a:moveTo>
                        <a:pt x="4" y="35"/>
                      </a:moveTo>
                      <a:cubicBezTo>
                        <a:pt x="9" y="25"/>
                        <a:pt x="27" y="10"/>
                        <a:pt x="37" y="5"/>
                      </a:cubicBezTo>
                      <a:cubicBezTo>
                        <a:pt x="47" y="0"/>
                        <a:pt x="57" y="0"/>
                        <a:pt x="67" y="5"/>
                      </a:cubicBezTo>
                      <a:cubicBezTo>
                        <a:pt x="77" y="10"/>
                        <a:pt x="92" y="25"/>
                        <a:pt x="97" y="35"/>
                      </a:cubicBezTo>
                      <a:cubicBezTo>
                        <a:pt x="102" y="45"/>
                        <a:pt x="101" y="57"/>
                        <a:pt x="97" y="68"/>
                      </a:cubicBezTo>
                      <a:cubicBezTo>
                        <a:pt x="93" y="79"/>
                        <a:pt x="79" y="95"/>
                        <a:pt x="70" y="101"/>
                      </a:cubicBezTo>
                      <a:cubicBezTo>
                        <a:pt x="61" y="107"/>
                        <a:pt x="49" y="105"/>
                        <a:pt x="40" y="104"/>
                      </a:cubicBezTo>
                      <a:cubicBezTo>
                        <a:pt x="31" y="103"/>
                        <a:pt x="19" y="98"/>
                        <a:pt x="13" y="92"/>
                      </a:cubicBezTo>
                      <a:cubicBezTo>
                        <a:pt x="7" y="86"/>
                        <a:pt x="2" y="74"/>
                        <a:pt x="1" y="65"/>
                      </a:cubicBezTo>
                      <a:cubicBezTo>
                        <a:pt x="0" y="56"/>
                        <a:pt x="4" y="41"/>
                        <a:pt x="4" y="35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2"/>
                <p:cNvSpPr/>
                <p:nvPr/>
              </p:nvSpPr>
              <p:spPr>
                <a:xfrm>
                  <a:off x="3114000" y="2110320"/>
                  <a:ext cx="195480" cy="243000"/>
                </a:xfrm>
                <a:custGeom>
                  <a:avLst/>
                  <a:gdLst>
                    <a:gd name="textAreaLeft" fmla="*/ 0 w 195480"/>
                    <a:gd name="textAreaRight" fmla="*/ 195840 w 1954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99" h="103">
                      <a:moveTo>
                        <a:pt x="1" y="31"/>
                      </a:moveTo>
                      <a:cubicBezTo>
                        <a:pt x="5" y="23"/>
                        <a:pt x="15" y="12"/>
                        <a:pt x="27" y="8"/>
                      </a:cubicBezTo>
                      <a:cubicBezTo>
                        <a:pt x="38" y="4"/>
                        <a:pt x="59" y="0"/>
                        <a:pt x="70" y="5"/>
                      </a:cubicBezTo>
                      <a:cubicBezTo>
                        <a:pt x="82" y="10"/>
                        <a:pt x="93" y="26"/>
                        <a:pt x="96" y="37"/>
                      </a:cubicBezTo>
                      <a:cubicBezTo>
                        <a:pt x="99" y="48"/>
                        <a:pt x="94" y="63"/>
                        <a:pt x="90" y="73"/>
                      </a:cubicBezTo>
                      <a:cubicBezTo>
                        <a:pt x="87" y="82"/>
                        <a:pt x="75" y="91"/>
                        <a:pt x="70" y="96"/>
                      </a:cubicBezTo>
                      <a:cubicBezTo>
                        <a:pt x="65" y="101"/>
                        <a:pt x="65" y="100"/>
                        <a:pt x="58" y="101"/>
                      </a:cubicBezTo>
                      <a:cubicBezTo>
                        <a:pt x="51" y="102"/>
                        <a:pt x="38" y="103"/>
                        <a:pt x="30" y="99"/>
                      </a:cubicBezTo>
                      <a:cubicBezTo>
                        <a:pt x="22" y="95"/>
                        <a:pt x="12" y="85"/>
                        <a:pt x="7" y="78"/>
                      </a:cubicBezTo>
                      <a:cubicBezTo>
                        <a:pt x="2" y="71"/>
                        <a:pt x="2" y="67"/>
                        <a:pt x="1" y="59"/>
                      </a:cubicBezTo>
                      <a:cubicBezTo>
                        <a:pt x="0" y="51"/>
                        <a:pt x="1" y="37"/>
                        <a:pt x="1" y="31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3"/>
                <p:cNvSpPr/>
                <p:nvPr/>
              </p:nvSpPr>
              <p:spPr>
                <a:xfrm>
                  <a:off x="3402360" y="2301840"/>
                  <a:ext cx="131760" cy="18900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89000"/>
                    <a:gd name="textAreaBottom" fmla="*/ 189360 h 189000"/>
                  </a:gdLst>
                  <a:ahLst/>
                  <a:rect l="textAreaLeft" t="textAreaTop" r="textAreaRight" b="textAreaBottom"/>
                  <a:pathLst>
                    <a:path w="70" h="82">
                      <a:moveTo>
                        <a:pt x="60" y="6"/>
                      </a:moveTo>
                      <a:cubicBezTo>
                        <a:pt x="70" y="8"/>
                        <a:pt x="66" y="27"/>
                        <a:pt x="63" y="39"/>
                      </a:cubicBezTo>
                      <a:cubicBezTo>
                        <a:pt x="60" y="51"/>
                        <a:pt x="53" y="82"/>
                        <a:pt x="43" y="81"/>
                      </a:cubicBezTo>
                      <a:cubicBezTo>
                        <a:pt x="33" y="80"/>
                        <a:pt x="0" y="42"/>
                        <a:pt x="3" y="30"/>
                      </a:cubicBezTo>
                      <a:cubicBezTo>
                        <a:pt x="6" y="18"/>
                        <a:pt x="50" y="0"/>
                        <a:pt x="60" y="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4"/>
                <p:cNvSpPr/>
                <p:nvPr/>
              </p:nvSpPr>
              <p:spPr>
                <a:xfrm>
                  <a:off x="3069000" y="2316240"/>
                  <a:ext cx="147600" cy="158040"/>
                </a:xfrm>
                <a:custGeom>
                  <a:avLst/>
                  <a:gdLst>
                    <a:gd name="textAreaLeft" fmla="*/ 0 w 147600"/>
                    <a:gd name="textAreaRight" fmla="*/ 147960 w 14760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75" h="67">
                      <a:moveTo>
                        <a:pt x="0" y="26"/>
                      </a:moveTo>
                      <a:cubicBezTo>
                        <a:pt x="0" y="34"/>
                        <a:pt x="5" y="48"/>
                        <a:pt x="12" y="53"/>
                      </a:cubicBezTo>
                      <a:cubicBezTo>
                        <a:pt x="19" y="58"/>
                        <a:pt x="35" y="55"/>
                        <a:pt x="42" y="56"/>
                      </a:cubicBezTo>
                      <a:cubicBezTo>
                        <a:pt x="49" y="57"/>
                        <a:pt x="49" y="67"/>
                        <a:pt x="54" y="62"/>
                      </a:cubicBezTo>
                      <a:cubicBezTo>
                        <a:pt x="59" y="57"/>
                        <a:pt x="75" y="34"/>
                        <a:pt x="72" y="26"/>
                      </a:cubicBezTo>
                      <a:cubicBezTo>
                        <a:pt x="69" y="18"/>
                        <a:pt x="45" y="18"/>
                        <a:pt x="36" y="14"/>
                      </a:cubicBezTo>
                      <a:cubicBezTo>
                        <a:pt x="27" y="10"/>
                        <a:pt x="21" y="0"/>
                        <a:pt x="15" y="2"/>
                      </a:cubicBezTo>
                      <a:cubicBezTo>
                        <a:pt x="9" y="4"/>
                        <a:pt x="3" y="21"/>
                        <a:pt x="0" y="26"/>
                      </a:cubicBezTo>
                      <a:close/>
                    </a:path>
                  </a:pathLst>
                </a:custGeom>
                <a:solidFill>
                  <a:srgbClr val="fda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5"/>
                <p:cNvSpPr/>
                <p:nvPr/>
              </p:nvSpPr>
              <p:spPr>
                <a:xfrm>
                  <a:off x="3633120" y="3141000"/>
                  <a:ext cx="175320" cy="254880"/>
                </a:xfrm>
                <a:custGeom>
                  <a:avLst/>
                  <a:gdLst>
                    <a:gd name="textAreaLeft" fmla="*/ 0 w 175320"/>
                    <a:gd name="textAreaRight" fmla="*/ 175680 w 175320"/>
                    <a:gd name="textAreaTop" fmla="*/ 0 h 254880"/>
                    <a:gd name="textAreaBottom" fmla="*/ 255240 h 25488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Freeform 46"/>
              <p:cNvSpPr/>
              <p:nvPr/>
            </p:nvSpPr>
            <p:spPr>
              <a:xfrm>
                <a:off x="3270600" y="2346840"/>
                <a:ext cx="76680" cy="352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9" h="15">
                    <a:moveTo>
                      <a:pt x="0" y="10"/>
                    </a:moveTo>
                    <a:cubicBezTo>
                      <a:pt x="1" y="10"/>
                      <a:pt x="3" y="15"/>
                      <a:pt x="6" y="13"/>
                    </a:cubicBezTo>
                    <a:cubicBezTo>
                      <a:pt x="9" y="11"/>
                      <a:pt x="14" y="0"/>
                      <a:pt x="18" y="0"/>
                    </a:cubicBezTo>
                    <a:cubicBezTo>
                      <a:pt x="22" y="0"/>
                      <a:pt x="27" y="11"/>
                      <a:pt x="30" y="13"/>
                    </a:cubicBezTo>
                    <a:cubicBezTo>
                      <a:pt x="33" y="15"/>
                      <a:pt x="37" y="11"/>
                      <a:pt x="39" y="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2239560" y="3035520"/>
              <a:ext cx="1127520" cy="2479320"/>
              <a:chOff x="2239560" y="3035520"/>
              <a:chExt cx="1127520" cy="2479320"/>
            </a:xfrm>
          </p:grpSpPr>
          <p:grpSp>
            <p:nvGrpSpPr>
              <p:cNvPr id="98" name="Group 48"/>
              <p:cNvGrpSpPr/>
              <p:nvPr/>
            </p:nvGrpSpPr>
            <p:grpSpPr>
              <a:xfrm>
                <a:off x="2239560" y="3035520"/>
                <a:ext cx="1127520" cy="2479320"/>
                <a:chOff x="2239560" y="3035520"/>
                <a:chExt cx="1127520" cy="2479320"/>
              </a:xfrm>
            </p:grpSpPr>
            <p:sp>
              <p:nvSpPr>
                <p:cNvPr id="99" name="Freeform 49"/>
                <p:cNvSpPr/>
                <p:nvPr/>
              </p:nvSpPr>
              <p:spPr>
                <a:xfrm>
                  <a:off x="2804760" y="4839840"/>
                  <a:ext cx="360" cy="568800"/>
                </a:xfrm>
                <a:custGeom>
                  <a:avLst/>
                  <a:gdLst/>
                  <a:ahLst/>
                  <a:rect l="l" t="t" r="r" b="b"/>
                  <a:pathLst>
                    <a:path w="1" h="256">
                      <a:moveTo>
                        <a:pt x="0" y="0"/>
                      </a:moveTo>
                      <a:lnTo>
                        <a:pt x="0" y="25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0"/>
                <p:cNvSpPr/>
                <p:nvPr/>
              </p:nvSpPr>
              <p:spPr>
                <a:xfrm>
                  <a:off x="2410200" y="4492080"/>
                  <a:ext cx="788400" cy="942480"/>
                </a:xfrm>
                <a:custGeom>
                  <a:avLst/>
                  <a:gdLst>
                    <a:gd name="textAreaLeft" fmla="*/ 0 w 788400"/>
                    <a:gd name="textAreaRight" fmla="*/ 788760 w 788400"/>
                    <a:gd name="textAreaTop" fmla="*/ 0 h 942480"/>
                    <a:gd name="textAreaBottom" fmla="*/ 942840 h 942480"/>
                  </a:gdLst>
                  <a:ahLst/>
                  <a:rect l="textAreaLeft" t="textAreaTop" r="textAreaRight" b="textAreaBottom"/>
                  <a:pathLst>
                    <a:path w="468" h="423">
                      <a:moveTo>
                        <a:pt x="79" y="8"/>
                      </a:moveTo>
                      <a:cubicBezTo>
                        <a:pt x="118" y="0"/>
                        <a:pt x="265" y="8"/>
                        <a:pt x="313" y="8"/>
                      </a:cubicBezTo>
                      <a:cubicBezTo>
                        <a:pt x="361" y="8"/>
                        <a:pt x="355" y="5"/>
                        <a:pt x="367" y="8"/>
                      </a:cubicBezTo>
                      <a:cubicBezTo>
                        <a:pt x="379" y="11"/>
                        <a:pt x="377" y="15"/>
                        <a:pt x="385" y="28"/>
                      </a:cubicBezTo>
                      <a:cubicBezTo>
                        <a:pt x="393" y="41"/>
                        <a:pt x="409" y="67"/>
                        <a:pt x="417" y="84"/>
                      </a:cubicBezTo>
                      <a:cubicBezTo>
                        <a:pt x="425" y="101"/>
                        <a:pt x="425" y="113"/>
                        <a:pt x="433" y="132"/>
                      </a:cubicBezTo>
                      <a:cubicBezTo>
                        <a:pt x="441" y="151"/>
                        <a:pt x="458" y="173"/>
                        <a:pt x="463" y="200"/>
                      </a:cubicBezTo>
                      <a:cubicBezTo>
                        <a:pt x="468" y="227"/>
                        <a:pt x="467" y="271"/>
                        <a:pt x="463" y="296"/>
                      </a:cubicBezTo>
                      <a:cubicBezTo>
                        <a:pt x="459" y="321"/>
                        <a:pt x="443" y="330"/>
                        <a:pt x="437" y="348"/>
                      </a:cubicBezTo>
                      <a:cubicBezTo>
                        <a:pt x="431" y="366"/>
                        <a:pt x="431" y="392"/>
                        <a:pt x="429" y="404"/>
                      </a:cubicBezTo>
                      <a:cubicBezTo>
                        <a:pt x="427" y="416"/>
                        <a:pt x="431" y="423"/>
                        <a:pt x="425" y="420"/>
                      </a:cubicBezTo>
                      <a:cubicBezTo>
                        <a:pt x="419" y="417"/>
                        <a:pt x="402" y="396"/>
                        <a:pt x="393" y="388"/>
                      </a:cubicBezTo>
                      <a:cubicBezTo>
                        <a:pt x="384" y="380"/>
                        <a:pt x="382" y="377"/>
                        <a:pt x="369" y="372"/>
                      </a:cubicBezTo>
                      <a:cubicBezTo>
                        <a:pt x="356" y="367"/>
                        <a:pt x="333" y="359"/>
                        <a:pt x="317" y="360"/>
                      </a:cubicBezTo>
                      <a:cubicBezTo>
                        <a:pt x="301" y="361"/>
                        <a:pt x="286" y="372"/>
                        <a:pt x="273" y="380"/>
                      </a:cubicBezTo>
                      <a:cubicBezTo>
                        <a:pt x="260" y="388"/>
                        <a:pt x="245" y="406"/>
                        <a:pt x="237" y="408"/>
                      </a:cubicBezTo>
                      <a:cubicBezTo>
                        <a:pt x="229" y="410"/>
                        <a:pt x="235" y="399"/>
                        <a:pt x="223" y="392"/>
                      </a:cubicBezTo>
                      <a:cubicBezTo>
                        <a:pt x="211" y="385"/>
                        <a:pt x="185" y="372"/>
                        <a:pt x="165" y="368"/>
                      </a:cubicBezTo>
                      <a:cubicBezTo>
                        <a:pt x="145" y="364"/>
                        <a:pt x="120" y="363"/>
                        <a:pt x="105" y="368"/>
                      </a:cubicBezTo>
                      <a:cubicBezTo>
                        <a:pt x="90" y="373"/>
                        <a:pt x="82" y="393"/>
                        <a:pt x="73" y="400"/>
                      </a:cubicBezTo>
                      <a:cubicBezTo>
                        <a:pt x="64" y="407"/>
                        <a:pt x="56" y="413"/>
                        <a:pt x="49" y="412"/>
                      </a:cubicBezTo>
                      <a:cubicBezTo>
                        <a:pt x="42" y="411"/>
                        <a:pt x="37" y="404"/>
                        <a:pt x="31" y="392"/>
                      </a:cubicBezTo>
                      <a:cubicBezTo>
                        <a:pt x="25" y="380"/>
                        <a:pt x="18" y="360"/>
                        <a:pt x="13" y="340"/>
                      </a:cubicBezTo>
                      <a:cubicBezTo>
                        <a:pt x="8" y="320"/>
                        <a:pt x="2" y="293"/>
                        <a:pt x="1" y="272"/>
                      </a:cubicBezTo>
                      <a:cubicBezTo>
                        <a:pt x="0" y="251"/>
                        <a:pt x="0" y="232"/>
                        <a:pt x="5" y="212"/>
                      </a:cubicBezTo>
                      <a:cubicBezTo>
                        <a:pt x="10" y="192"/>
                        <a:pt x="22" y="171"/>
                        <a:pt x="31" y="152"/>
                      </a:cubicBezTo>
                      <a:cubicBezTo>
                        <a:pt x="40" y="133"/>
                        <a:pt x="49" y="124"/>
                        <a:pt x="57" y="100"/>
                      </a:cubicBezTo>
                      <a:cubicBezTo>
                        <a:pt x="65" y="76"/>
                        <a:pt x="75" y="27"/>
                        <a:pt x="7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66cc"/>
                    </a:gs>
                    <a:gs pos="50000">
                      <a:srgbClr val="000099"/>
                    </a:gs>
                    <a:gs pos="100000">
                      <a:srgbClr val="0066cc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51"/>
                <p:cNvSpPr/>
                <p:nvPr/>
              </p:nvSpPr>
              <p:spPr>
                <a:xfrm>
                  <a:off x="2787120" y="4508640"/>
                  <a:ext cx="79560" cy="3211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321120"/>
                    <a:gd name="textAreaBottom" fmla="*/ 321480 h 321120"/>
                  </a:gdLst>
                  <a:ahLst/>
                  <a:rect l="textAreaLeft" t="textAreaTop" r="textAreaRight" b="textAreaBottom"/>
                  <a:pathLst>
                    <a:path w="48" h="144">
                      <a:moveTo>
                        <a:pt x="0" y="0"/>
                      </a:moveTo>
                      <a:lnTo>
                        <a:pt x="48" y="0"/>
                      </a:lnTo>
                      <a:lnTo>
                        <a:pt x="48" y="144"/>
                      </a:lnTo>
                      <a:lnTo>
                        <a:pt x="0" y="1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52"/>
                <p:cNvSpPr/>
                <p:nvPr/>
              </p:nvSpPr>
              <p:spPr>
                <a:xfrm>
                  <a:off x="2938680" y="4499640"/>
                  <a:ext cx="215280" cy="320760"/>
                </a:xfrm>
                <a:custGeom>
                  <a:avLst/>
                  <a:gdLst>
                    <a:gd name="textAreaLeft" fmla="*/ 0 w 215280"/>
                    <a:gd name="textAreaRight" fmla="*/ 215640 w 215280"/>
                    <a:gd name="textAreaTop" fmla="*/ 0 h 320760"/>
                    <a:gd name="textAreaBottom" fmla="*/ 321120 h 320760"/>
                  </a:gdLst>
                  <a:ahLst/>
                  <a:rect l="textAreaLeft" t="textAreaTop" r="textAreaRight" b="textAreaBottom"/>
                  <a:pathLst>
                    <a:path w="128" h="144">
                      <a:moveTo>
                        <a:pt x="127" y="133"/>
                      </a:moveTo>
                      <a:lnTo>
                        <a:pt x="128" y="144"/>
                      </a:lnTo>
                      <a:lnTo>
                        <a:pt x="0" y="4"/>
                      </a:lnTo>
                      <a:lnTo>
                        <a:pt x="60" y="0"/>
                      </a:lnTo>
                      <a:lnTo>
                        <a:pt x="127" y="13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53"/>
                <p:cNvSpPr/>
                <p:nvPr/>
              </p:nvSpPr>
              <p:spPr>
                <a:xfrm>
                  <a:off x="2472840" y="4492080"/>
                  <a:ext cx="174240" cy="337680"/>
                </a:xfrm>
                <a:custGeom>
                  <a:avLst/>
                  <a:gdLst>
                    <a:gd name="textAreaLeft" fmla="*/ 0 w 174240"/>
                    <a:gd name="textAreaRight" fmla="*/ 174600 w 174240"/>
                    <a:gd name="textAreaTop" fmla="*/ 0 h 337680"/>
                    <a:gd name="textAreaBottom" fmla="*/ 338040 h 337680"/>
                  </a:gdLst>
                  <a:ahLst/>
                  <a:rect l="textAreaLeft" t="textAreaTop" r="textAreaRight" b="textAreaBottom"/>
                  <a:pathLst>
                    <a:path w="104" h="152">
                      <a:moveTo>
                        <a:pt x="0" y="152"/>
                      </a:moveTo>
                      <a:lnTo>
                        <a:pt x="8" y="136"/>
                      </a:lnTo>
                      <a:lnTo>
                        <a:pt x="44" y="0"/>
                      </a:lnTo>
                      <a:lnTo>
                        <a:pt x="104" y="8"/>
                      </a:lnTo>
                      <a:lnTo>
                        <a:pt x="0" y="152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54"/>
                <p:cNvSpPr/>
                <p:nvPr/>
              </p:nvSpPr>
              <p:spPr>
                <a:xfrm>
                  <a:off x="2532600" y="4036320"/>
                  <a:ext cx="528120" cy="479880"/>
                </a:xfrm>
                <a:custGeom>
                  <a:avLst/>
                  <a:gdLst>
                    <a:gd name="textAreaLeft" fmla="*/ 0 w 528120"/>
                    <a:gd name="textAreaRight" fmla="*/ 528480 w 528120"/>
                    <a:gd name="textAreaTop" fmla="*/ 0 h 479880"/>
                    <a:gd name="textAreaBottom" fmla="*/ 480240 h 479880"/>
                  </a:gdLst>
                  <a:ahLst/>
                  <a:rect l="textAreaLeft" t="textAreaTop" r="textAreaRight" b="textAreaBottom"/>
                  <a:pathLst>
                    <a:path w="313" h="215">
                      <a:moveTo>
                        <a:pt x="6" y="212"/>
                      </a:moveTo>
                      <a:cubicBezTo>
                        <a:pt x="13" y="215"/>
                        <a:pt x="1" y="209"/>
                        <a:pt x="44" y="208"/>
                      </a:cubicBezTo>
                      <a:cubicBezTo>
                        <a:pt x="87" y="207"/>
                        <a:pt x="221" y="205"/>
                        <a:pt x="264" y="204"/>
                      </a:cubicBezTo>
                      <a:cubicBezTo>
                        <a:pt x="307" y="203"/>
                        <a:pt x="296" y="213"/>
                        <a:pt x="304" y="204"/>
                      </a:cubicBezTo>
                      <a:cubicBezTo>
                        <a:pt x="312" y="195"/>
                        <a:pt x="311" y="171"/>
                        <a:pt x="312" y="152"/>
                      </a:cubicBezTo>
                      <a:cubicBezTo>
                        <a:pt x="313" y="133"/>
                        <a:pt x="313" y="111"/>
                        <a:pt x="308" y="92"/>
                      </a:cubicBezTo>
                      <a:cubicBezTo>
                        <a:pt x="303" y="73"/>
                        <a:pt x="294" y="52"/>
                        <a:pt x="284" y="40"/>
                      </a:cubicBezTo>
                      <a:cubicBezTo>
                        <a:pt x="274" y="28"/>
                        <a:pt x="261" y="26"/>
                        <a:pt x="248" y="20"/>
                      </a:cubicBezTo>
                      <a:cubicBezTo>
                        <a:pt x="235" y="14"/>
                        <a:pt x="219" y="0"/>
                        <a:pt x="204" y="4"/>
                      </a:cubicBezTo>
                      <a:cubicBezTo>
                        <a:pt x="189" y="8"/>
                        <a:pt x="169" y="37"/>
                        <a:pt x="160" y="44"/>
                      </a:cubicBezTo>
                      <a:cubicBezTo>
                        <a:pt x="151" y="51"/>
                        <a:pt x="161" y="50"/>
                        <a:pt x="152" y="44"/>
                      </a:cubicBezTo>
                      <a:cubicBezTo>
                        <a:pt x="143" y="38"/>
                        <a:pt x="120" y="13"/>
                        <a:pt x="108" y="8"/>
                      </a:cubicBezTo>
                      <a:cubicBezTo>
                        <a:pt x="96" y="3"/>
                        <a:pt x="91" y="9"/>
                        <a:pt x="80" y="16"/>
                      </a:cubicBezTo>
                      <a:cubicBezTo>
                        <a:pt x="69" y="23"/>
                        <a:pt x="55" y="37"/>
                        <a:pt x="44" y="48"/>
                      </a:cubicBezTo>
                      <a:cubicBezTo>
                        <a:pt x="33" y="59"/>
                        <a:pt x="22" y="73"/>
                        <a:pt x="16" y="84"/>
                      </a:cubicBezTo>
                      <a:cubicBezTo>
                        <a:pt x="10" y="95"/>
                        <a:pt x="8" y="103"/>
                        <a:pt x="6" y="116"/>
                      </a:cubicBezTo>
                      <a:cubicBezTo>
                        <a:pt x="4" y="129"/>
                        <a:pt x="7" y="151"/>
                        <a:pt x="6" y="164"/>
                      </a:cubicBezTo>
                      <a:cubicBezTo>
                        <a:pt x="5" y="177"/>
                        <a:pt x="0" y="184"/>
                        <a:pt x="0" y="192"/>
                      </a:cubicBezTo>
                      <a:cubicBezTo>
                        <a:pt x="0" y="200"/>
                        <a:pt x="2" y="209"/>
                        <a:pt x="6" y="212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55"/>
                <p:cNvSpPr/>
                <p:nvPr/>
              </p:nvSpPr>
              <p:spPr>
                <a:xfrm>
                  <a:off x="2948400" y="4032000"/>
                  <a:ext cx="331920" cy="71064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710640"/>
                    <a:gd name="textAreaBottom" fmla="*/ 711000 h 710640"/>
                  </a:gdLst>
                  <a:ahLst/>
                  <a:rect l="textAreaLeft" t="textAreaTop" r="textAreaRight" b="textAreaBottom"/>
                  <a:pathLst>
                    <a:path w="198" h="320">
                      <a:moveTo>
                        <a:pt x="0" y="23"/>
                      </a:moveTo>
                      <a:cubicBezTo>
                        <a:pt x="8" y="16"/>
                        <a:pt x="48" y="0"/>
                        <a:pt x="74" y="7"/>
                      </a:cubicBezTo>
                      <a:cubicBezTo>
                        <a:pt x="100" y="14"/>
                        <a:pt x="139" y="46"/>
                        <a:pt x="154" y="67"/>
                      </a:cubicBezTo>
                      <a:cubicBezTo>
                        <a:pt x="169" y="88"/>
                        <a:pt x="163" y="116"/>
                        <a:pt x="166" y="135"/>
                      </a:cubicBezTo>
                      <a:cubicBezTo>
                        <a:pt x="169" y="154"/>
                        <a:pt x="168" y="161"/>
                        <a:pt x="170" y="179"/>
                      </a:cubicBezTo>
                      <a:cubicBezTo>
                        <a:pt x="172" y="197"/>
                        <a:pt x="174" y="229"/>
                        <a:pt x="178" y="243"/>
                      </a:cubicBezTo>
                      <a:cubicBezTo>
                        <a:pt x="182" y="257"/>
                        <a:pt x="198" y="252"/>
                        <a:pt x="192" y="263"/>
                      </a:cubicBezTo>
                      <a:cubicBezTo>
                        <a:pt x="186" y="274"/>
                        <a:pt x="156" y="302"/>
                        <a:pt x="144" y="311"/>
                      </a:cubicBezTo>
                      <a:cubicBezTo>
                        <a:pt x="132" y="320"/>
                        <a:pt x="126" y="319"/>
                        <a:pt x="118" y="315"/>
                      </a:cubicBezTo>
                      <a:cubicBezTo>
                        <a:pt x="110" y="311"/>
                        <a:pt x="108" y="303"/>
                        <a:pt x="98" y="287"/>
                      </a:cubicBezTo>
                      <a:cubicBezTo>
                        <a:pt x="88" y="271"/>
                        <a:pt x="63" y="236"/>
                        <a:pt x="58" y="219"/>
                      </a:cubicBezTo>
                      <a:cubicBezTo>
                        <a:pt x="53" y="202"/>
                        <a:pt x="65" y="199"/>
                        <a:pt x="66" y="183"/>
                      </a:cubicBezTo>
                      <a:cubicBezTo>
                        <a:pt x="67" y="167"/>
                        <a:pt x="69" y="142"/>
                        <a:pt x="66" y="123"/>
                      </a:cubicBezTo>
                      <a:cubicBezTo>
                        <a:pt x="63" y="104"/>
                        <a:pt x="53" y="85"/>
                        <a:pt x="48" y="71"/>
                      </a:cubicBezTo>
                      <a:cubicBezTo>
                        <a:pt x="43" y="57"/>
                        <a:pt x="42" y="47"/>
                        <a:pt x="34" y="39"/>
                      </a:cubicBezTo>
                      <a:cubicBezTo>
                        <a:pt x="26" y="31"/>
                        <a:pt x="7" y="26"/>
                        <a:pt x="0" y="23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56"/>
                <p:cNvSpPr/>
                <p:nvPr/>
              </p:nvSpPr>
              <p:spPr>
                <a:xfrm>
                  <a:off x="3119040" y="4492080"/>
                  <a:ext cx="168840" cy="255240"/>
                </a:xfrm>
                <a:custGeom>
                  <a:avLst/>
                  <a:gdLst>
                    <a:gd name="textAreaLeft" fmla="*/ 0 w 168840"/>
                    <a:gd name="textAreaRight" fmla="*/ 169200 w 168840"/>
                    <a:gd name="textAreaTop" fmla="*/ 0 h 255240"/>
                    <a:gd name="textAreaBottom" fmla="*/ 255600 h 255240"/>
                  </a:gdLst>
                  <a:ahLst/>
                  <a:rect l="textAreaLeft" t="textAreaTop" r="textAreaRight" b="textAreaBottom"/>
                  <a:pathLst>
                    <a:path w="100" h="116">
                      <a:moveTo>
                        <a:pt x="76" y="4"/>
                      </a:moveTo>
                      <a:lnTo>
                        <a:pt x="76" y="0"/>
                      </a:lnTo>
                      <a:lnTo>
                        <a:pt x="100" y="56"/>
                      </a:lnTo>
                      <a:lnTo>
                        <a:pt x="28" y="116"/>
                      </a:lnTo>
                      <a:lnTo>
                        <a:pt x="0" y="80"/>
                      </a:lnTo>
                      <a:lnTo>
                        <a:pt x="76" y="4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57"/>
                <p:cNvSpPr/>
                <p:nvPr/>
              </p:nvSpPr>
              <p:spPr>
                <a:xfrm>
                  <a:off x="2295720" y="4041360"/>
                  <a:ext cx="374400" cy="718200"/>
                </a:xfrm>
                <a:custGeom>
                  <a:avLst/>
                  <a:gdLst>
                    <a:gd name="textAreaLeft" fmla="*/ 0 w 374400"/>
                    <a:gd name="textAreaRight" fmla="*/ 374760 w 374400"/>
                    <a:gd name="textAreaTop" fmla="*/ 0 h 718200"/>
                    <a:gd name="textAreaBottom" fmla="*/ 718560 h 718200"/>
                  </a:gdLst>
                  <a:ahLst/>
                  <a:rect l="textAreaLeft" t="textAreaTop" r="textAreaRight" b="textAreaBottom"/>
                  <a:pathLst>
                    <a:path w="222" h="322">
                      <a:moveTo>
                        <a:pt x="221" y="24"/>
                      </a:moveTo>
                      <a:cubicBezTo>
                        <a:pt x="222" y="15"/>
                        <a:pt x="202" y="4"/>
                        <a:pt x="185" y="2"/>
                      </a:cubicBezTo>
                      <a:cubicBezTo>
                        <a:pt x="168" y="0"/>
                        <a:pt x="144" y="0"/>
                        <a:pt x="121" y="10"/>
                      </a:cubicBezTo>
                      <a:cubicBezTo>
                        <a:pt x="98" y="20"/>
                        <a:pt x="61" y="40"/>
                        <a:pt x="47" y="60"/>
                      </a:cubicBezTo>
                      <a:cubicBezTo>
                        <a:pt x="33" y="80"/>
                        <a:pt x="38" y="109"/>
                        <a:pt x="35" y="128"/>
                      </a:cubicBezTo>
                      <a:cubicBezTo>
                        <a:pt x="32" y="147"/>
                        <a:pt x="33" y="154"/>
                        <a:pt x="31" y="172"/>
                      </a:cubicBezTo>
                      <a:cubicBezTo>
                        <a:pt x="29" y="190"/>
                        <a:pt x="27" y="222"/>
                        <a:pt x="23" y="236"/>
                      </a:cubicBezTo>
                      <a:cubicBezTo>
                        <a:pt x="19" y="250"/>
                        <a:pt x="0" y="246"/>
                        <a:pt x="9" y="256"/>
                      </a:cubicBezTo>
                      <a:cubicBezTo>
                        <a:pt x="18" y="266"/>
                        <a:pt x="59" y="288"/>
                        <a:pt x="77" y="298"/>
                      </a:cubicBezTo>
                      <a:cubicBezTo>
                        <a:pt x="95" y="308"/>
                        <a:pt x="109" y="322"/>
                        <a:pt x="117" y="318"/>
                      </a:cubicBezTo>
                      <a:cubicBezTo>
                        <a:pt x="125" y="314"/>
                        <a:pt x="121" y="292"/>
                        <a:pt x="125" y="274"/>
                      </a:cubicBezTo>
                      <a:cubicBezTo>
                        <a:pt x="129" y="256"/>
                        <a:pt x="140" y="228"/>
                        <a:pt x="143" y="212"/>
                      </a:cubicBezTo>
                      <a:cubicBezTo>
                        <a:pt x="146" y="196"/>
                        <a:pt x="145" y="189"/>
                        <a:pt x="145" y="178"/>
                      </a:cubicBezTo>
                      <a:cubicBezTo>
                        <a:pt x="145" y="167"/>
                        <a:pt x="143" y="164"/>
                        <a:pt x="145" y="148"/>
                      </a:cubicBezTo>
                      <a:cubicBezTo>
                        <a:pt x="147" y="132"/>
                        <a:pt x="154" y="97"/>
                        <a:pt x="157" y="84"/>
                      </a:cubicBezTo>
                      <a:cubicBezTo>
                        <a:pt x="160" y="71"/>
                        <a:pt x="161" y="77"/>
                        <a:pt x="165" y="72"/>
                      </a:cubicBezTo>
                      <a:cubicBezTo>
                        <a:pt x="169" y="67"/>
                        <a:pt x="172" y="64"/>
                        <a:pt x="181" y="56"/>
                      </a:cubicBezTo>
                      <a:cubicBezTo>
                        <a:pt x="190" y="48"/>
                        <a:pt x="213" y="31"/>
                        <a:pt x="221" y="24"/>
                      </a:cubicBez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58"/>
                <p:cNvSpPr/>
                <p:nvPr/>
              </p:nvSpPr>
              <p:spPr>
                <a:xfrm>
                  <a:off x="2319120" y="4508640"/>
                  <a:ext cx="188280" cy="23112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231120"/>
                    <a:gd name="textAreaBottom" fmla="*/ 231480 h 231120"/>
                  </a:gdLst>
                  <a:ahLst/>
                  <a:rect l="textAreaLeft" t="textAreaTop" r="textAreaRight" b="textAreaBottom"/>
                  <a:pathLst>
                    <a:path w="112" h="104">
                      <a:moveTo>
                        <a:pt x="20" y="0"/>
                      </a:moveTo>
                      <a:lnTo>
                        <a:pt x="16" y="0"/>
                      </a:lnTo>
                      <a:lnTo>
                        <a:pt x="0" y="44"/>
                      </a:lnTo>
                      <a:lnTo>
                        <a:pt x="100" y="104"/>
                      </a:lnTo>
                      <a:lnTo>
                        <a:pt x="112" y="6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59"/>
                <p:cNvSpPr/>
                <p:nvPr/>
              </p:nvSpPr>
              <p:spPr>
                <a:xfrm>
                  <a:off x="2645280" y="3975480"/>
                  <a:ext cx="141480" cy="212400"/>
                </a:xfrm>
                <a:custGeom>
                  <a:avLst/>
                  <a:gdLst>
                    <a:gd name="textAreaLeft" fmla="*/ 0 w 141480"/>
                    <a:gd name="textAreaRight" fmla="*/ 141840 w 14148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60"/>
                <p:cNvSpPr/>
                <p:nvPr/>
              </p:nvSpPr>
              <p:spPr>
                <a:xfrm flipH="1">
                  <a:off x="2786400" y="3975480"/>
                  <a:ext cx="139320" cy="212400"/>
                </a:xfrm>
                <a:custGeom>
                  <a:avLst/>
                  <a:gdLst>
                    <a:gd name="textAreaLeft" fmla="*/ 0 w 139320"/>
                    <a:gd name="textAreaRight" fmla="*/ 139320 w 13932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84" h="96">
                      <a:moveTo>
                        <a:pt x="40" y="0"/>
                      </a:moveTo>
                      <a:cubicBezTo>
                        <a:pt x="34" y="12"/>
                        <a:pt x="43" y="12"/>
                        <a:pt x="28" y="12"/>
                      </a:cubicBezTo>
                      <a:lnTo>
                        <a:pt x="0" y="28"/>
                      </a:lnTo>
                      <a:lnTo>
                        <a:pt x="56" y="96"/>
                      </a:lnTo>
                      <a:lnTo>
                        <a:pt x="84" y="6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4f81bd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61"/>
                <p:cNvSpPr/>
                <p:nvPr/>
              </p:nvSpPr>
              <p:spPr>
                <a:xfrm>
                  <a:off x="2798640" y="4508640"/>
                  <a:ext cx="11880" cy="88776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0 h 887760"/>
                    <a:gd name="textAreaBottom" fmla="*/ 888120 h 887760"/>
                  </a:gdLst>
                  <a:ahLst/>
                  <a:rect l="textAreaLeft" t="textAreaTop" r="textAreaRight" b="textAreaBottom"/>
                  <a:pathLst>
                    <a:path w="8" h="400">
                      <a:moveTo>
                        <a:pt x="0" y="0"/>
                      </a:moveTo>
                      <a:lnTo>
                        <a:pt x="8" y="40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62"/>
                <p:cNvSpPr/>
                <p:nvPr/>
              </p:nvSpPr>
              <p:spPr>
                <a:xfrm>
                  <a:off x="2791080" y="4126320"/>
                  <a:ext cx="1440" cy="353880"/>
                </a:xfrm>
                <a:custGeom>
                  <a:avLst/>
                  <a:gdLst>
                    <a:gd name="textAreaLeft" fmla="*/ 0 w 1440"/>
                    <a:gd name="textAreaRight" fmla="*/ 1800 w 1440"/>
                    <a:gd name="textAreaTop" fmla="*/ 0 h 353880"/>
                    <a:gd name="textAreaBottom" fmla="*/ 354240 h 353880"/>
                  </a:gdLst>
                  <a:ahLst/>
                  <a:rect l="textAreaLeft" t="textAreaTop" r="textAreaRight" b="textAreaBottom"/>
                  <a:pathLst>
                    <a:path w="1" h="160">
                      <a:moveTo>
                        <a:pt x="0" y="0"/>
                      </a:moveTo>
                      <a:lnTo>
                        <a:pt x="0" y="1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63"/>
                <p:cNvSpPr/>
                <p:nvPr/>
              </p:nvSpPr>
              <p:spPr>
                <a:xfrm>
                  <a:off x="2489760" y="5302440"/>
                  <a:ext cx="662040" cy="212400"/>
                </a:xfrm>
                <a:custGeom>
                  <a:avLst/>
                  <a:gdLst>
                    <a:gd name="textAreaLeft" fmla="*/ 0 w 662040"/>
                    <a:gd name="textAreaRight" fmla="*/ 662400 w 662040"/>
                    <a:gd name="textAreaTop" fmla="*/ 0 h 212400"/>
                    <a:gd name="textAreaBottom" fmla="*/ 212760 h 212400"/>
                  </a:gdLst>
                  <a:ahLst/>
                  <a:rect l="textAreaLeft" t="textAreaTop" r="textAreaRight" b="textAreaBottom"/>
                  <a:pathLst>
                    <a:path w="352" h="95">
                      <a:moveTo>
                        <a:pt x="10" y="49"/>
                      </a:moveTo>
                      <a:cubicBezTo>
                        <a:pt x="0" y="62"/>
                        <a:pt x="3" y="80"/>
                        <a:pt x="11" y="86"/>
                      </a:cubicBezTo>
                      <a:cubicBezTo>
                        <a:pt x="19" y="92"/>
                        <a:pt x="31" y="86"/>
                        <a:pt x="59" y="86"/>
                      </a:cubicBezTo>
                      <a:cubicBezTo>
                        <a:pt x="87" y="86"/>
                        <a:pt x="136" y="88"/>
                        <a:pt x="181" y="88"/>
                      </a:cubicBezTo>
                      <a:cubicBezTo>
                        <a:pt x="226" y="88"/>
                        <a:pt x="304" y="95"/>
                        <a:pt x="328" y="88"/>
                      </a:cubicBezTo>
                      <a:cubicBezTo>
                        <a:pt x="352" y="81"/>
                        <a:pt x="339" y="58"/>
                        <a:pt x="325" y="43"/>
                      </a:cubicBezTo>
                      <a:cubicBezTo>
                        <a:pt x="311" y="28"/>
                        <a:pt x="268" y="2"/>
                        <a:pt x="244" y="1"/>
                      </a:cubicBezTo>
                      <a:cubicBezTo>
                        <a:pt x="220" y="0"/>
                        <a:pt x="191" y="26"/>
                        <a:pt x="181" y="40"/>
                      </a:cubicBezTo>
                      <a:cubicBezTo>
                        <a:pt x="171" y="54"/>
                        <a:pt x="191" y="86"/>
                        <a:pt x="187" y="85"/>
                      </a:cubicBezTo>
                      <a:cubicBezTo>
                        <a:pt x="183" y="84"/>
                        <a:pt x="173" y="47"/>
                        <a:pt x="154" y="34"/>
                      </a:cubicBezTo>
                      <a:cubicBezTo>
                        <a:pt x="135" y="21"/>
                        <a:pt x="94" y="4"/>
                        <a:pt x="70" y="7"/>
                      </a:cubicBezTo>
                      <a:cubicBezTo>
                        <a:pt x="46" y="10"/>
                        <a:pt x="20" y="36"/>
                        <a:pt x="10" y="49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" name="Group 64"/>
                <p:cNvGrpSpPr/>
                <p:nvPr/>
              </p:nvGrpSpPr>
              <p:grpSpPr>
                <a:xfrm>
                  <a:off x="2239560" y="3035520"/>
                  <a:ext cx="1127520" cy="1862640"/>
                  <a:chOff x="2239560" y="3035520"/>
                  <a:chExt cx="1127520" cy="1862640"/>
                </a:xfrm>
              </p:grpSpPr>
              <p:sp>
                <p:nvSpPr>
                  <p:cNvPr id="115" name="Freeform 65"/>
                  <p:cNvSpPr/>
                  <p:nvPr/>
                </p:nvSpPr>
                <p:spPr>
                  <a:xfrm>
                    <a:off x="2414160" y="3035520"/>
                    <a:ext cx="753120" cy="67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301">
                        <a:moveTo>
                          <a:pt x="378" y="286"/>
                        </a:moveTo>
                        <a:cubicBezTo>
                          <a:pt x="381" y="275"/>
                          <a:pt x="398" y="234"/>
                          <a:pt x="399" y="220"/>
                        </a:cubicBezTo>
                        <a:cubicBezTo>
                          <a:pt x="400" y="206"/>
                          <a:pt x="386" y="211"/>
                          <a:pt x="384" y="202"/>
                        </a:cubicBezTo>
                        <a:cubicBezTo>
                          <a:pt x="382" y="193"/>
                          <a:pt x="391" y="174"/>
                          <a:pt x="387" y="166"/>
                        </a:cubicBezTo>
                        <a:cubicBezTo>
                          <a:pt x="383" y="158"/>
                          <a:pt x="363" y="158"/>
                          <a:pt x="360" y="151"/>
                        </a:cubicBezTo>
                        <a:cubicBezTo>
                          <a:pt x="357" y="144"/>
                          <a:pt x="367" y="125"/>
                          <a:pt x="366" y="121"/>
                        </a:cubicBezTo>
                        <a:cubicBezTo>
                          <a:pt x="365" y="117"/>
                          <a:pt x="363" y="133"/>
                          <a:pt x="351" y="124"/>
                        </a:cubicBezTo>
                        <a:cubicBezTo>
                          <a:pt x="339" y="115"/>
                          <a:pt x="308" y="77"/>
                          <a:pt x="294" y="67"/>
                        </a:cubicBezTo>
                        <a:cubicBezTo>
                          <a:pt x="280" y="57"/>
                          <a:pt x="275" y="66"/>
                          <a:pt x="267" y="64"/>
                        </a:cubicBezTo>
                        <a:cubicBezTo>
                          <a:pt x="259" y="62"/>
                          <a:pt x="248" y="59"/>
                          <a:pt x="247" y="53"/>
                        </a:cubicBezTo>
                        <a:cubicBezTo>
                          <a:pt x="246" y="47"/>
                          <a:pt x="255" y="32"/>
                          <a:pt x="261" y="28"/>
                        </a:cubicBezTo>
                        <a:cubicBezTo>
                          <a:pt x="267" y="24"/>
                          <a:pt x="282" y="35"/>
                          <a:pt x="282" y="31"/>
                        </a:cubicBezTo>
                        <a:cubicBezTo>
                          <a:pt x="282" y="27"/>
                          <a:pt x="273" y="0"/>
                          <a:pt x="264" y="1"/>
                        </a:cubicBezTo>
                        <a:cubicBezTo>
                          <a:pt x="255" y="2"/>
                          <a:pt x="235" y="31"/>
                          <a:pt x="228" y="40"/>
                        </a:cubicBezTo>
                        <a:cubicBezTo>
                          <a:pt x="221" y="49"/>
                          <a:pt x="225" y="60"/>
                          <a:pt x="219" y="55"/>
                        </a:cubicBezTo>
                        <a:cubicBezTo>
                          <a:pt x="213" y="50"/>
                          <a:pt x="197" y="15"/>
                          <a:pt x="192" y="10"/>
                        </a:cubicBezTo>
                        <a:cubicBezTo>
                          <a:pt x="187" y="5"/>
                          <a:pt x="184" y="15"/>
                          <a:pt x="186" y="22"/>
                        </a:cubicBezTo>
                        <a:cubicBezTo>
                          <a:pt x="188" y="29"/>
                          <a:pt x="208" y="57"/>
                          <a:pt x="204" y="55"/>
                        </a:cubicBezTo>
                        <a:cubicBezTo>
                          <a:pt x="200" y="53"/>
                          <a:pt x="172" y="17"/>
                          <a:pt x="162" y="10"/>
                        </a:cubicBezTo>
                        <a:cubicBezTo>
                          <a:pt x="152" y="3"/>
                          <a:pt x="151" y="15"/>
                          <a:pt x="144" y="16"/>
                        </a:cubicBezTo>
                        <a:cubicBezTo>
                          <a:pt x="137" y="17"/>
                          <a:pt x="125" y="16"/>
                          <a:pt x="120" y="19"/>
                        </a:cubicBezTo>
                        <a:cubicBezTo>
                          <a:pt x="115" y="22"/>
                          <a:pt x="110" y="31"/>
                          <a:pt x="114" y="34"/>
                        </a:cubicBezTo>
                        <a:cubicBezTo>
                          <a:pt x="118" y="37"/>
                          <a:pt x="140" y="33"/>
                          <a:pt x="147" y="37"/>
                        </a:cubicBezTo>
                        <a:cubicBezTo>
                          <a:pt x="154" y="41"/>
                          <a:pt x="163" y="55"/>
                          <a:pt x="159" y="58"/>
                        </a:cubicBezTo>
                        <a:cubicBezTo>
                          <a:pt x="155" y="61"/>
                          <a:pt x="133" y="53"/>
                          <a:pt x="126" y="55"/>
                        </a:cubicBezTo>
                        <a:cubicBezTo>
                          <a:pt x="119" y="57"/>
                          <a:pt x="119" y="69"/>
                          <a:pt x="114" y="73"/>
                        </a:cubicBezTo>
                        <a:cubicBezTo>
                          <a:pt x="109" y="77"/>
                          <a:pt x="100" y="76"/>
                          <a:pt x="93" y="79"/>
                        </a:cubicBezTo>
                        <a:cubicBezTo>
                          <a:pt x="86" y="82"/>
                          <a:pt x="79" y="89"/>
                          <a:pt x="72" y="94"/>
                        </a:cubicBezTo>
                        <a:cubicBezTo>
                          <a:pt x="65" y="99"/>
                          <a:pt x="56" y="101"/>
                          <a:pt x="54" y="106"/>
                        </a:cubicBezTo>
                        <a:cubicBezTo>
                          <a:pt x="52" y="111"/>
                          <a:pt x="61" y="118"/>
                          <a:pt x="60" y="124"/>
                        </a:cubicBezTo>
                        <a:cubicBezTo>
                          <a:pt x="59" y="130"/>
                          <a:pt x="51" y="137"/>
                          <a:pt x="45" y="142"/>
                        </a:cubicBezTo>
                        <a:cubicBezTo>
                          <a:pt x="39" y="147"/>
                          <a:pt x="33" y="142"/>
                          <a:pt x="27" y="154"/>
                        </a:cubicBezTo>
                        <a:cubicBezTo>
                          <a:pt x="21" y="166"/>
                          <a:pt x="16" y="194"/>
                          <a:pt x="12" y="214"/>
                        </a:cubicBezTo>
                        <a:cubicBezTo>
                          <a:pt x="8" y="234"/>
                          <a:pt x="0" y="260"/>
                          <a:pt x="3" y="274"/>
                        </a:cubicBezTo>
                        <a:cubicBezTo>
                          <a:pt x="6" y="288"/>
                          <a:pt x="27" y="295"/>
                          <a:pt x="33" y="301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eeece1"/>
                      </a:gs>
                      <a:gs pos="50000">
                        <a:srgbClr val="333333"/>
                      </a:gs>
                      <a:gs pos="100000">
                        <a:srgbClr val="eeece1"/>
                      </a:gs>
                    </a:gsLst>
                    <a:lin ang="18900000"/>
                  </a:gra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66"/>
                  <p:cNvSpPr/>
                  <p:nvPr/>
                </p:nvSpPr>
                <p:spPr>
                  <a:xfrm>
                    <a:off x="3169440" y="4636080"/>
                    <a:ext cx="197640" cy="262080"/>
                  </a:xfrm>
                  <a:custGeom>
                    <a:avLst/>
                    <a:gdLst>
                      <a:gd name="textAreaLeft" fmla="*/ 0 w 197640"/>
                      <a:gd name="textAreaRight" fmla="*/ 198000 w 197640"/>
                      <a:gd name="textAreaTop" fmla="*/ 0 h 262080"/>
                      <a:gd name="textAreaBottom" fmla="*/ 262440 h 26208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67"/>
                  <p:cNvSpPr/>
                  <p:nvPr/>
                </p:nvSpPr>
                <p:spPr>
                  <a:xfrm flipH="1">
                    <a:off x="2239560" y="4631760"/>
                    <a:ext cx="198000" cy="261720"/>
                  </a:xfrm>
                  <a:custGeom>
                    <a:avLst/>
                    <a:gdLst>
                      <a:gd name="textAreaLeft" fmla="*/ 360 w 198000"/>
                      <a:gd name="textAreaRight" fmla="*/ 198720 w 19800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105" h="117">
                        <a:moveTo>
                          <a:pt x="56" y="0"/>
                        </a:moveTo>
                        <a:cubicBezTo>
                          <a:pt x="62" y="5"/>
                          <a:pt x="87" y="20"/>
                          <a:pt x="95" y="33"/>
                        </a:cubicBezTo>
                        <a:cubicBezTo>
                          <a:pt x="103" y="46"/>
                          <a:pt x="105" y="70"/>
                          <a:pt x="101" y="81"/>
                        </a:cubicBezTo>
                        <a:cubicBezTo>
                          <a:pt x="97" y="92"/>
                          <a:pt x="78" y="91"/>
                          <a:pt x="68" y="96"/>
                        </a:cubicBezTo>
                        <a:cubicBezTo>
                          <a:pt x="58" y="101"/>
                          <a:pt x="48" y="117"/>
                          <a:pt x="38" y="114"/>
                        </a:cubicBezTo>
                        <a:cubicBezTo>
                          <a:pt x="28" y="111"/>
                          <a:pt x="10" y="86"/>
                          <a:pt x="5" y="75"/>
                        </a:cubicBezTo>
                        <a:cubicBezTo>
                          <a:pt x="0" y="64"/>
                          <a:pt x="5" y="54"/>
                          <a:pt x="5" y="48"/>
                        </a:cubicBezTo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68"/>
                  <p:cNvSpPr/>
                  <p:nvPr/>
                </p:nvSpPr>
                <p:spPr>
                  <a:xfrm>
                    <a:off x="2480040" y="3275640"/>
                    <a:ext cx="646560" cy="819720"/>
                  </a:xfrm>
                  <a:custGeom>
                    <a:avLst/>
                    <a:gdLst>
                      <a:gd name="textAreaLeft" fmla="*/ 0 w 646560"/>
                      <a:gd name="textAreaRight" fmla="*/ 646920 w 646560"/>
                      <a:gd name="textAreaTop" fmla="*/ 0 h 819720"/>
                      <a:gd name="textAreaBottom" fmla="*/ 820080 h 819720"/>
                    </a:gdLst>
                    <a:ahLst/>
                    <a:rect l="textAreaLeft" t="textAreaTop" r="textAreaRight" b="textAreaBottom"/>
                    <a:pathLst>
                      <a:path w="344" h="365">
                        <a:moveTo>
                          <a:pt x="0" y="194"/>
                        </a:moveTo>
                        <a:cubicBezTo>
                          <a:pt x="0" y="198"/>
                          <a:pt x="0" y="197"/>
                          <a:pt x="6" y="209"/>
                        </a:cubicBezTo>
                        <a:cubicBezTo>
                          <a:pt x="12" y="221"/>
                          <a:pt x="23" y="250"/>
                          <a:pt x="36" y="266"/>
                        </a:cubicBezTo>
                        <a:cubicBezTo>
                          <a:pt x="49" y="282"/>
                          <a:pt x="70" y="299"/>
                          <a:pt x="87" y="308"/>
                        </a:cubicBezTo>
                        <a:cubicBezTo>
                          <a:pt x="104" y="317"/>
                          <a:pt x="129" y="314"/>
                          <a:pt x="138" y="320"/>
                        </a:cubicBezTo>
                        <a:cubicBezTo>
                          <a:pt x="147" y="326"/>
                          <a:pt x="140" y="337"/>
                          <a:pt x="144" y="344"/>
                        </a:cubicBezTo>
                        <a:cubicBezTo>
                          <a:pt x="148" y="351"/>
                          <a:pt x="157" y="365"/>
                          <a:pt x="165" y="365"/>
                        </a:cubicBezTo>
                        <a:cubicBezTo>
                          <a:pt x="173" y="365"/>
                          <a:pt x="185" y="349"/>
                          <a:pt x="192" y="341"/>
                        </a:cubicBezTo>
                        <a:cubicBezTo>
                          <a:pt x="199" y="333"/>
                          <a:pt x="197" y="322"/>
                          <a:pt x="207" y="317"/>
                        </a:cubicBezTo>
                        <a:cubicBezTo>
                          <a:pt x="217" y="312"/>
                          <a:pt x="239" y="315"/>
                          <a:pt x="255" y="308"/>
                        </a:cubicBezTo>
                        <a:cubicBezTo>
                          <a:pt x="271" y="301"/>
                          <a:pt x="289" y="296"/>
                          <a:pt x="303" y="275"/>
                        </a:cubicBezTo>
                        <a:cubicBezTo>
                          <a:pt x="317" y="254"/>
                          <a:pt x="344" y="208"/>
                          <a:pt x="342" y="179"/>
                        </a:cubicBezTo>
                        <a:cubicBezTo>
                          <a:pt x="340" y="150"/>
                          <a:pt x="302" y="123"/>
                          <a:pt x="288" y="98"/>
                        </a:cubicBezTo>
                        <a:cubicBezTo>
                          <a:pt x="274" y="73"/>
                          <a:pt x="269" y="31"/>
                          <a:pt x="256" y="27"/>
                        </a:cubicBezTo>
                        <a:cubicBezTo>
                          <a:pt x="243" y="23"/>
                          <a:pt x="218" y="70"/>
                          <a:pt x="208" y="75"/>
                        </a:cubicBezTo>
                        <a:cubicBezTo>
                          <a:pt x="198" y="80"/>
                          <a:pt x="202" y="60"/>
                          <a:pt x="198" y="56"/>
                        </a:cubicBezTo>
                        <a:cubicBezTo>
                          <a:pt x="194" y="52"/>
                          <a:pt x="197" y="50"/>
                          <a:pt x="183" y="53"/>
                        </a:cubicBezTo>
                        <a:cubicBezTo>
                          <a:pt x="169" y="56"/>
                          <a:pt x="121" y="77"/>
                          <a:pt x="112" y="75"/>
                        </a:cubicBezTo>
                        <a:cubicBezTo>
                          <a:pt x="103" y="73"/>
                          <a:pt x="126" y="52"/>
                          <a:pt x="126" y="41"/>
                        </a:cubicBezTo>
                        <a:cubicBezTo>
                          <a:pt x="126" y="30"/>
                          <a:pt x="126" y="0"/>
                          <a:pt x="114" y="11"/>
                        </a:cubicBezTo>
                        <a:cubicBezTo>
                          <a:pt x="102" y="22"/>
                          <a:pt x="63" y="89"/>
                          <a:pt x="54" y="110"/>
                        </a:cubicBezTo>
                        <a:cubicBezTo>
                          <a:pt x="45" y="131"/>
                          <a:pt x="60" y="129"/>
                          <a:pt x="60" y="137"/>
                        </a:cubicBezTo>
                        <a:cubicBezTo>
                          <a:pt x="60" y="145"/>
                          <a:pt x="58" y="158"/>
                          <a:pt x="54" y="161"/>
                        </a:cubicBezTo>
                        <a:cubicBezTo>
                          <a:pt x="50" y="164"/>
                          <a:pt x="39" y="162"/>
                          <a:pt x="36" y="155"/>
                        </a:cubicBezTo>
                        <a:cubicBezTo>
                          <a:pt x="33" y="148"/>
                          <a:pt x="37" y="119"/>
                          <a:pt x="33" y="119"/>
                        </a:cubicBezTo>
                        <a:cubicBezTo>
                          <a:pt x="29" y="119"/>
                          <a:pt x="16" y="143"/>
                          <a:pt x="12" y="152"/>
                        </a:cubicBezTo>
                        <a:cubicBezTo>
                          <a:pt x="8" y="161"/>
                          <a:pt x="12" y="168"/>
                          <a:pt x="12" y="173"/>
                        </a:cubicBezTo>
                        <a:cubicBezTo>
                          <a:pt x="12" y="178"/>
                          <a:pt x="11" y="182"/>
                          <a:pt x="9" y="185"/>
                        </a:cubicBezTo>
                        <a:cubicBezTo>
                          <a:pt x="7" y="188"/>
                          <a:pt x="0" y="190"/>
                          <a:pt x="0" y="194"/>
                        </a:cubicBez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69"/>
                  <p:cNvSpPr/>
                  <p:nvPr/>
                </p:nvSpPr>
                <p:spPr>
                  <a:xfrm>
                    <a:off x="2711160" y="3826440"/>
                    <a:ext cx="213480" cy="73080"/>
                  </a:xfrm>
                  <a:custGeom>
                    <a:avLst/>
                    <a:gdLst>
                      <a:gd name="textAreaLeft" fmla="*/ 0 w 213480"/>
                      <a:gd name="textAreaRight" fmla="*/ 213840 w 213480"/>
                      <a:gd name="textAreaTop" fmla="*/ 0 h 73080"/>
                      <a:gd name="textAreaBottom" fmla="*/ 73440 h 73080"/>
                    </a:gdLst>
                    <a:ahLst/>
                    <a:rect l="textAreaLeft" t="textAreaTop" r="textAreaRight" b="textAreaBottom"/>
                    <a:pathLst>
                      <a:path w="114" h="32">
                        <a:moveTo>
                          <a:pt x="0" y="0"/>
                        </a:moveTo>
                        <a:cubicBezTo>
                          <a:pt x="7" y="4"/>
                          <a:pt x="29" y="22"/>
                          <a:pt x="39" y="27"/>
                        </a:cubicBezTo>
                        <a:cubicBezTo>
                          <a:pt x="49" y="32"/>
                          <a:pt x="53" y="30"/>
                          <a:pt x="60" y="30"/>
                        </a:cubicBezTo>
                        <a:cubicBezTo>
                          <a:pt x="67" y="30"/>
                          <a:pt x="72" y="32"/>
                          <a:pt x="81" y="27"/>
                        </a:cubicBezTo>
                        <a:cubicBezTo>
                          <a:pt x="90" y="22"/>
                          <a:pt x="107" y="8"/>
                          <a:pt x="114" y="3"/>
                        </a:cubicBezTo>
                      </a:path>
                    </a:pathLst>
                  </a:custGeom>
                  <a:noFill/>
                  <a:ln w="12600">
                    <a:solidFill>
                      <a:srgbClr val="d2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70"/>
                  <p:cNvSpPr/>
                  <p:nvPr/>
                </p:nvSpPr>
                <p:spPr>
                  <a:xfrm>
                    <a:off x="2781360" y="3854880"/>
                    <a:ext cx="88920" cy="212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48" h="10">
                        <a:moveTo>
                          <a:pt x="0" y="10"/>
                        </a:moveTo>
                        <a:cubicBezTo>
                          <a:pt x="2" y="8"/>
                          <a:pt x="7" y="0"/>
                          <a:pt x="11" y="0"/>
                        </a:cubicBezTo>
                        <a:cubicBezTo>
                          <a:pt x="15" y="0"/>
                          <a:pt x="19" y="9"/>
                          <a:pt x="23" y="9"/>
                        </a:cubicBezTo>
                        <a:cubicBezTo>
                          <a:pt x="27" y="9"/>
                          <a:pt x="34" y="0"/>
                          <a:pt x="38" y="0"/>
                        </a:cubicBezTo>
                        <a:cubicBezTo>
                          <a:pt x="42" y="0"/>
                          <a:pt x="46" y="8"/>
                          <a:pt x="48" y="10"/>
                        </a:cubicBezTo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71"/>
                  <p:cNvSpPr/>
                  <p:nvPr/>
                </p:nvSpPr>
                <p:spPr>
                  <a:xfrm>
                    <a:off x="2678400" y="3561840"/>
                    <a:ext cx="118080" cy="61560"/>
                  </a:xfrm>
                  <a:custGeom>
                    <a:avLst/>
                    <a:gdLst>
                      <a:gd name="textAreaLeft" fmla="*/ 0 w 118080"/>
                      <a:gd name="textAreaRight" fmla="*/ 118440 w 11808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72"/>
                  <p:cNvSpPr/>
                  <p:nvPr/>
                </p:nvSpPr>
                <p:spPr>
                  <a:xfrm>
                    <a:off x="2716920" y="3630240"/>
                    <a:ext cx="50400" cy="61560"/>
                  </a:xfrm>
                  <a:custGeom>
                    <a:avLst/>
                    <a:gdLst>
                      <a:gd name="textAreaLeft" fmla="*/ 0 w 50400"/>
                      <a:gd name="textAreaRight" fmla="*/ 50760 w 5040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73"/>
                  <p:cNvSpPr/>
                  <p:nvPr/>
                </p:nvSpPr>
                <p:spPr>
                  <a:xfrm>
                    <a:off x="2676600" y="3580560"/>
                    <a:ext cx="119880" cy="82800"/>
                  </a:xfrm>
                  <a:custGeom>
                    <a:avLst/>
                    <a:gdLst>
                      <a:gd name="textAreaLeft" fmla="*/ 0 w 119880"/>
                      <a:gd name="textAreaRight" fmla="*/ 120240 w 119880"/>
                      <a:gd name="textAreaTop" fmla="*/ 0 h 82800"/>
                      <a:gd name="textAreaBottom" fmla="*/ 83160 h 8280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74"/>
                  <p:cNvSpPr/>
                  <p:nvPr/>
                </p:nvSpPr>
                <p:spPr>
                  <a:xfrm flipH="1">
                    <a:off x="2870280" y="3552120"/>
                    <a:ext cx="118080" cy="63720"/>
                  </a:xfrm>
                  <a:custGeom>
                    <a:avLst/>
                    <a:gdLst>
                      <a:gd name="textAreaLeft" fmla="*/ 360 w 118080"/>
                      <a:gd name="textAreaRight" fmla="*/ 118800 w 11808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63" h="28">
                        <a:moveTo>
                          <a:pt x="63" y="16"/>
                        </a:moveTo>
                        <a:cubicBezTo>
                          <a:pt x="58" y="14"/>
                          <a:pt x="39" y="6"/>
                          <a:pt x="33" y="4"/>
                        </a:cubicBezTo>
                        <a:cubicBezTo>
                          <a:pt x="27" y="2"/>
                          <a:pt x="29" y="0"/>
                          <a:pt x="24" y="4"/>
                        </a:cubicBezTo>
                        <a:cubicBezTo>
                          <a:pt x="19" y="8"/>
                          <a:pt x="5" y="23"/>
                          <a:pt x="0" y="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75"/>
                  <p:cNvSpPr/>
                  <p:nvPr/>
                </p:nvSpPr>
                <p:spPr>
                  <a:xfrm flipH="1">
                    <a:off x="2899080" y="3620520"/>
                    <a:ext cx="50040" cy="61560"/>
                  </a:xfrm>
                  <a:custGeom>
                    <a:avLst/>
                    <a:gdLst>
                      <a:gd name="textAreaLeft" fmla="*/ -360 w 50040"/>
                      <a:gd name="textAreaRight" fmla="*/ 50040 w 50040"/>
                      <a:gd name="textAreaTop" fmla="*/ 0 h 61560"/>
                      <a:gd name="textAreaBottom" fmla="*/ 61920 h 6156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7" y="12"/>
                        </a:moveTo>
                        <a:cubicBezTo>
                          <a:pt x="27" y="8"/>
                          <a:pt x="16" y="0"/>
                          <a:pt x="12" y="0"/>
                        </a:cubicBezTo>
                        <a:cubicBezTo>
                          <a:pt x="8" y="0"/>
                          <a:pt x="0" y="11"/>
                          <a:pt x="0" y="15"/>
                        </a:cubicBezTo>
                        <a:cubicBezTo>
                          <a:pt x="0" y="19"/>
                          <a:pt x="11" y="27"/>
                          <a:pt x="15" y="27"/>
                        </a:cubicBezTo>
                        <a:cubicBezTo>
                          <a:pt x="19" y="27"/>
                          <a:pt x="27" y="16"/>
                          <a:pt x="27" y="12"/>
                        </a:cubicBezTo>
                        <a:close/>
                      </a:path>
                    </a:pathLst>
                  </a:custGeom>
                  <a:solidFill>
                    <a:srgbClr val="c0504d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76"/>
                  <p:cNvSpPr/>
                  <p:nvPr/>
                </p:nvSpPr>
                <p:spPr>
                  <a:xfrm flipH="1">
                    <a:off x="2869560" y="3573720"/>
                    <a:ext cx="120600" cy="80280"/>
                  </a:xfrm>
                  <a:custGeom>
                    <a:avLst/>
                    <a:gdLst>
                      <a:gd name="textAreaLeft" fmla="*/ -360 w 120600"/>
                      <a:gd name="textAreaRight" fmla="*/ 120600 w 120600"/>
                      <a:gd name="textAreaTop" fmla="*/ 0 h 80280"/>
                      <a:gd name="textAreaBottom" fmla="*/ 80640 h 80280"/>
                    </a:gdLst>
                    <a:ahLst/>
                    <a:rect l="textAreaLeft" t="textAreaTop" r="textAreaRight" b="textAreaBottom"/>
                    <a:pathLst>
                      <a:path w="64" h="36">
                        <a:moveTo>
                          <a:pt x="4" y="31"/>
                        </a:moveTo>
                        <a:cubicBezTo>
                          <a:pt x="3" y="29"/>
                          <a:pt x="0" y="27"/>
                          <a:pt x="4" y="22"/>
                        </a:cubicBezTo>
                        <a:cubicBezTo>
                          <a:pt x="8" y="17"/>
                          <a:pt x="22" y="2"/>
                          <a:pt x="31" y="1"/>
                        </a:cubicBezTo>
                        <a:cubicBezTo>
                          <a:pt x="40" y="0"/>
                          <a:pt x="58" y="8"/>
                          <a:pt x="61" y="13"/>
                        </a:cubicBezTo>
                        <a:cubicBezTo>
                          <a:pt x="64" y="18"/>
                          <a:pt x="56" y="30"/>
                          <a:pt x="52" y="31"/>
                        </a:cubicBezTo>
                        <a:cubicBezTo>
                          <a:pt x="48" y="32"/>
                          <a:pt x="40" y="19"/>
                          <a:pt x="34" y="19"/>
                        </a:cubicBezTo>
                        <a:cubicBezTo>
                          <a:pt x="28" y="19"/>
                          <a:pt x="18" y="32"/>
                          <a:pt x="13" y="34"/>
                        </a:cubicBezTo>
                        <a:cubicBezTo>
                          <a:pt x="8" y="36"/>
                          <a:pt x="4" y="34"/>
                          <a:pt x="4" y="31"/>
                        </a:cubicBezTo>
                        <a:close/>
                      </a:path>
                    </a:pathLst>
                  </a:cu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77"/>
                  <p:cNvSpPr/>
                  <p:nvPr/>
                </p:nvSpPr>
                <p:spPr>
                  <a:xfrm>
                    <a:off x="2833560" y="3490920"/>
                    <a:ext cx="191880" cy="240840"/>
                  </a:xfrm>
                  <a:custGeom>
                    <a:avLst/>
                    <a:gdLst>
                      <a:gd name="textAreaLeft" fmla="*/ 0 w 191880"/>
                      <a:gd name="textAreaRight" fmla="*/ 192240 w 191880"/>
                      <a:gd name="textAreaTop" fmla="*/ 0 h 240840"/>
                      <a:gd name="textAreaBottom" fmla="*/ 241200 h 240840"/>
                    </a:gdLst>
                    <a:ahLst/>
                    <a:rect l="textAreaLeft" t="textAreaTop" r="textAreaRight" b="textAreaBottom"/>
                    <a:pathLst>
                      <a:path w="102" h="107">
                        <a:moveTo>
                          <a:pt x="4" y="35"/>
                        </a:moveTo>
                        <a:cubicBezTo>
                          <a:pt x="9" y="25"/>
                          <a:pt x="27" y="10"/>
                          <a:pt x="37" y="5"/>
                        </a:cubicBezTo>
                        <a:cubicBezTo>
                          <a:pt x="47" y="0"/>
                          <a:pt x="57" y="0"/>
                          <a:pt x="67" y="5"/>
                        </a:cubicBezTo>
                        <a:cubicBezTo>
                          <a:pt x="77" y="10"/>
                          <a:pt x="92" y="25"/>
                          <a:pt x="97" y="35"/>
                        </a:cubicBezTo>
                        <a:cubicBezTo>
                          <a:pt x="102" y="45"/>
                          <a:pt x="101" y="57"/>
                          <a:pt x="97" y="68"/>
                        </a:cubicBezTo>
                        <a:cubicBezTo>
                          <a:pt x="93" y="79"/>
                          <a:pt x="79" y="95"/>
                          <a:pt x="70" y="101"/>
                        </a:cubicBezTo>
                        <a:cubicBezTo>
                          <a:pt x="61" y="107"/>
                          <a:pt x="49" y="105"/>
                          <a:pt x="40" y="104"/>
                        </a:cubicBezTo>
                        <a:cubicBezTo>
                          <a:pt x="31" y="103"/>
                          <a:pt x="19" y="98"/>
                          <a:pt x="13" y="92"/>
                        </a:cubicBezTo>
                        <a:cubicBezTo>
                          <a:pt x="7" y="86"/>
                          <a:pt x="2" y="74"/>
                          <a:pt x="1" y="65"/>
                        </a:cubicBezTo>
                        <a:cubicBezTo>
                          <a:pt x="0" y="56"/>
                          <a:pt x="4" y="41"/>
                          <a:pt x="4" y="35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78"/>
                  <p:cNvSpPr/>
                  <p:nvPr/>
                </p:nvSpPr>
                <p:spPr>
                  <a:xfrm>
                    <a:off x="2633760" y="3504960"/>
                    <a:ext cx="195840" cy="234000"/>
                  </a:xfrm>
                  <a:custGeom>
                    <a:avLst/>
                    <a:gdLst>
                      <a:gd name="textAreaLeft" fmla="*/ 0 w 195840"/>
                      <a:gd name="textAreaRight" fmla="*/ 196200 w 195840"/>
                      <a:gd name="textAreaTop" fmla="*/ 0 h 234000"/>
                      <a:gd name="textAreaBottom" fmla="*/ 234360 h 234000"/>
                    </a:gdLst>
                    <a:ahLst/>
                    <a:rect l="textAreaLeft" t="textAreaTop" r="textAreaRight" b="textAreaBottom"/>
                    <a:pathLst>
                      <a:path w="104" h="104">
                        <a:moveTo>
                          <a:pt x="2" y="32"/>
                        </a:moveTo>
                        <a:cubicBezTo>
                          <a:pt x="6" y="23"/>
                          <a:pt x="17" y="12"/>
                          <a:pt x="29" y="8"/>
                        </a:cubicBezTo>
                        <a:cubicBezTo>
                          <a:pt x="41" y="4"/>
                          <a:pt x="62" y="0"/>
                          <a:pt x="74" y="5"/>
                        </a:cubicBezTo>
                        <a:cubicBezTo>
                          <a:pt x="86" y="10"/>
                          <a:pt x="98" y="27"/>
                          <a:pt x="101" y="38"/>
                        </a:cubicBezTo>
                        <a:cubicBezTo>
                          <a:pt x="104" y="49"/>
                          <a:pt x="99" y="64"/>
                          <a:pt x="95" y="74"/>
                        </a:cubicBezTo>
                        <a:cubicBezTo>
                          <a:pt x="91" y="84"/>
                          <a:pt x="79" y="94"/>
                          <a:pt x="74" y="98"/>
                        </a:cubicBezTo>
                        <a:cubicBezTo>
                          <a:pt x="69" y="102"/>
                          <a:pt x="69" y="97"/>
                          <a:pt x="62" y="98"/>
                        </a:cubicBezTo>
                        <a:cubicBezTo>
                          <a:pt x="55" y="99"/>
                          <a:pt x="41" y="104"/>
                          <a:pt x="32" y="101"/>
                        </a:cubicBezTo>
                        <a:cubicBezTo>
                          <a:pt x="23" y="98"/>
                          <a:pt x="12" y="87"/>
                          <a:pt x="8" y="80"/>
                        </a:cubicBezTo>
                        <a:cubicBezTo>
                          <a:pt x="4" y="73"/>
                          <a:pt x="6" y="70"/>
                          <a:pt x="5" y="62"/>
                        </a:cubicBezTo>
                        <a:cubicBezTo>
                          <a:pt x="4" y="54"/>
                          <a:pt x="0" y="40"/>
                          <a:pt x="2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79"/>
                  <p:cNvSpPr/>
                  <p:nvPr/>
                </p:nvSpPr>
                <p:spPr>
                  <a:xfrm>
                    <a:off x="2920680" y="3691800"/>
                    <a:ext cx="129960" cy="18396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183960"/>
                      <a:gd name="textAreaBottom" fmla="*/ 184320 h 183960"/>
                    </a:gdLst>
                    <a:ahLst/>
                    <a:rect l="textAreaLeft" t="textAreaTop" r="textAreaRight" b="textAreaBottom"/>
                    <a:pathLst>
                      <a:path w="70" h="82">
                        <a:moveTo>
                          <a:pt x="60" y="6"/>
                        </a:moveTo>
                        <a:cubicBezTo>
                          <a:pt x="70" y="8"/>
                          <a:pt x="66" y="27"/>
                          <a:pt x="63" y="39"/>
                        </a:cubicBezTo>
                        <a:cubicBezTo>
                          <a:pt x="60" y="51"/>
                          <a:pt x="53" y="82"/>
                          <a:pt x="43" y="81"/>
                        </a:cubicBezTo>
                        <a:cubicBezTo>
                          <a:pt x="33" y="80"/>
                          <a:pt x="0" y="42"/>
                          <a:pt x="3" y="30"/>
                        </a:cubicBezTo>
                        <a:cubicBezTo>
                          <a:pt x="6" y="18"/>
                          <a:pt x="50" y="0"/>
                          <a:pt x="60" y="6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80"/>
                  <p:cNvSpPr/>
                  <p:nvPr/>
                </p:nvSpPr>
                <p:spPr>
                  <a:xfrm>
                    <a:off x="2600640" y="3759840"/>
                    <a:ext cx="137520" cy="115920"/>
                  </a:xfrm>
                  <a:custGeom>
                    <a:avLst/>
                    <a:gdLst>
                      <a:gd name="textAreaLeft" fmla="*/ 0 w 137520"/>
                      <a:gd name="textAreaRight" fmla="*/ 137880 w 137520"/>
                      <a:gd name="textAreaTop" fmla="*/ 0 h 115920"/>
                      <a:gd name="textAreaBottom" fmla="*/ 116280 h 115920"/>
                    </a:gdLst>
                    <a:ahLst/>
                    <a:rect l="textAreaLeft" t="textAreaTop" r="textAreaRight" b="textAreaBottom"/>
                    <a:pathLst>
                      <a:path w="73" h="52">
                        <a:moveTo>
                          <a:pt x="10" y="0"/>
                        </a:moveTo>
                        <a:cubicBezTo>
                          <a:pt x="0" y="1"/>
                          <a:pt x="4" y="25"/>
                          <a:pt x="7" y="33"/>
                        </a:cubicBezTo>
                        <a:cubicBezTo>
                          <a:pt x="10" y="41"/>
                          <a:pt x="18" y="52"/>
                          <a:pt x="28" y="51"/>
                        </a:cubicBezTo>
                        <a:cubicBezTo>
                          <a:pt x="38" y="50"/>
                          <a:pt x="73" y="35"/>
                          <a:pt x="70" y="27"/>
                        </a:cubicBezTo>
                        <a:cubicBezTo>
                          <a:pt x="67" y="19"/>
                          <a:pt x="23" y="0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fda1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1" name="Freeform 81"/>
              <p:cNvSpPr/>
              <p:nvPr/>
            </p:nvSpPr>
            <p:spPr>
              <a:xfrm>
                <a:off x="2786760" y="3736440"/>
                <a:ext cx="81360" cy="399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42" h="17">
                    <a:moveTo>
                      <a:pt x="0" y="9"/>
                    </a:moveTo>
                    <a:cubicBezTo>
                      <a:pt x="1" y="9"/>
                      <a:pt x="3" y="16"/>
                      <a:pt x="6" y="15"/>
                    </a:cubicBezTo>
                    <a:cubicBezTo>
                      <a:pt x="9" y="14"/>
                      <a:pt x="16" y="0"/>
                      <a:pt x="21" y="0"/>
                    </a:cubicBezTo>
                    <a:cubicBezTo>
                      <a:pt x="26" y="0"/>
                      <a:pt x="33" y="13"/>
                      <a:pt x="36" y="15"/>
                    </a:cubicBezTo>
                    <a:cubicBezTo>
                      <a:pt x="39" y="17"/>
                      <a:pt x="41" y="13"/>
                      <a:pt x="42" y="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" name="Picture 82" descr="girl5o"/>
            <p:cNvPicPr/>
            <p:nvPr/>
          </p:nvPicPr>
          <p:blipFill>
            <a:blip r:embed="rId11"/>
            <a:stretch/>
          </p:blipFill>
          <p:spPr>
            <a:xfrm>
              <a:off x="1011240" y="3035520"/>
              <a:ext cx="1361880" cy="2273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и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7" descr="доска-маленькая.JPG"/>
          <p:cNvPicPr/>
          <p:nvPr/>
        </p:nvPicPr>
        <p:blipFill>
          <a:blip r:embed="rId1"/>
          <a:stretch/>
        </p:blipFill>
        <p:spPr>
          <a:xfrm>
            <a:off x="395280" y="0"/>
            <a:ext cx="8496360" cy="6524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5"/>
          <p:cNvSpPr/>
          <p:nvPr/>
        </p:nvSpPr>
        <p:spPr>
          <a:xfrm>
            <a:off x="539640" y="374760"/>
            <a:ext cx="8136000" cy="21906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3.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оводим исследов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7" descr="Картинки по запросу Картинка Учеба"/>
          <p:cNvPicPr/>
          <p:nvPr/>
        </p:nvPicPr>
        <p:blipFill>
          <a:blip r:embed="rId2"/>
          <a:stretch/>
        </p:blipFill>
        <p:spPr>
          <a:xfrm>
            <a:off x="2916360" y="3005280"/>
            <a:ext cx="3546360" cy="3852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езультаты исследов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исло делится на 11, если  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умма цифр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стоящих на 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нечётных места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либо равна сумме цифр, стоящих на 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чётных места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, либо отличается от неё на число, делящееся на 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Картинки по запросу картинки учеба"/>
          <p:cNvPicPr/>
          <p:nvPr/>
        </p:nvPicPr>
        <p:blipFill>
          <a:blip r:embed="rId1"/>
          <a:stretch/>
        </p:blipFill>
        <p:spPr>
          <a:xfrm>
            <a:off x="4606920" y="3860640"/>
            <a:ext cx="4537080" cy="29973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Картинки по запросу картинки еда в школе обед"/>
          <p:cNvPicPr/>
          <p:nvPr/>
        </p:nvPicPr>
        <p:blipFill>
          <a:blip r:embed="rId1"/>
          <a:stretch/>
        </p:blipFill>
        <p:spPr>
          <a:xfrm>
            <a:off x="6756480" y="0"/>
            <a:ext cx="2387520" cy="2492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4. «Обед» в лаборатории 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2375; 8127; 7036;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6567; 8110; 421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«Чтобы переваривать знания, их надо поглощать с аппетитом»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ЕМ ПОСЕТИТЕ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26920" y="1125360"/>
            <a:ext cx="46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удущий студ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Рисунок15"/>
          <p:cNvPicPr/>
          <p:nvPr/>
        </p:nvPicPr>
        <p:blipFill>
          <a:blip r:embed="rId1"/>
          <a:stretch/>
        </p:blipFill>
        <p:spPr>
          <a:xfrm>
            <a:off x="6480" y="1603440"/>
            <a:ext cx="2565360" cy="5254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979280" y="1916280"/>
            <a:ext cx="6707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 число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5417627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ужно вычеркнуть 3 цифры так, чтобы полученное число делилось на 18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 число –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8521304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ужно вычеркнуть 3 цифры так, чтобы полученное число делилось на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91212E-006 L 2.5E-006 -0.12304 E">
                                      <p:cBhvr>
                                        <p:cTn id="181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05:02:40Z</dcterms:created>
  <dc:creator>as</dc:creator>
  <dc:description/>
  <dc:language>en-US</dc:language>
  <cp:lastModifiedBy>Татьяна</cp:lastModifiedBy>
  <dcterms:modified xsi:type="dcterms:W3CDTF">2022-04-24T15:39:05Z</dcterms:modified>
  <cp:revision>133</cp:revision>
  <dc:subject/>
  <dc:title>«В математике есть своя красота, как в живописи и поэзии». Н. Е. Жуковский.</dc:title>
</cp:coreProperties>
</file>