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83A-17C7-46EE-BCB2-7F6C379B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078-B854-4E11-8B15-44F70CDE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A27-DD93-4570-A7DD-D4B3654C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483-E483-43A0-BF21-E0172883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BC14-7CC2-447F-9805-50C2974A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E7C3-6A43-4D8B-82BF-0E1D69EB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C703-64E6-41F3-A2A4-2A7635F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1FEB-88D5-48E7-9DC5-1C7D4A08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23D5-4DBD-477F-B9C5-8C017008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EB43-A278-4AD3-AED7-77C06CCF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3A8A-43A7-4681-A5D7-22B34EE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A9A-0F0D-40AE-9DFD-A14B40F3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2B02-C4AF-4ED5-9CC7-BB3F66A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ED29-5006-49DE-9983-524AAEC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3F50-EBB4-45F2-B5FA-16C48648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CBE2-AAB7-4A1F-A929-2D1F55BA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5BE0-8157-49D5-A65A-0A0BD1CB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0D1-3910-4405-A6EE-B58167A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7A1-19BB-429D-9B43-61E64831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F3C-B2AE-49E6-9BE6-FFCA59B3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D8D-EC0D-4FBE-B299-0EF83D2E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2CB-2409-4288-92A0-17BD0F73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3E1-4EE2-49BE-BD77-4481BC28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D93-26A6-4882-B844-328EF8F3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8EE3-0EF9-4316-BD4D-FCDFB4BAFF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4FC9-379C-4959-B06E-2A9B7E09E1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007-sh-438-fw-782-fh-448-pd-1&amp;p=1&amp;text=&#1073;&#1077;&#1079;&#1086;&#1087;&#1072;&#1089;&#1085;&#1086;&#1089;&#1090;&#1100;%20%20&#1076;&#1086;&#1084;&#1072;%20&#1082;&#1072;&#1088;&#1090;&#1080;&#1085;&#1082;&#1080;&amp;noreask=1&amp;pos=55&amp;rpt=simage&amp;lr=2&amp;img_url=http%3A%2F%2Fporemontu.ru%2Fmedia%2Fck%2Fblogs%2Fimages%2F136183235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%3A%2F%2Fwww.examiner.com%2Fimages%2Fblog%2FEXID17992%2Fimages%2Ffamilymealanetta%281%29.jpg&amp;uinfo=sw-1007-sh-438-fw-782-fh-448-pd-1&amp;p=8&amp;text=&#1087;&#1088;&#1077;&#1076;&#1084;&#1077;&#1090;&#1099;%20&#1082;&#1086;&#1090;&#1086;&#1088;&#1099;&#1084;&#1080;%20&#1085;&#1091;&#1078;&#1085;&#1086;%20&#1085;&#1072;&#1091;&#1095;&#1080;&#1090;&#1100;%20&#1087;&#1086;&#1083;&#1100;&#1079;&#1086;&#1074;&#1072;&#1090;&#1100;&#1089;&#1103;%20&#1088;&#1077;&#1073;&#1077;&#1085;&#1082;&#1091;%20&#1082;&#1072;&#1088;&#1090;&#1080;&#1085;&#1082;&#1080;&amp;noreask=1&amp;pos=261&amp;rpt=simage&amp;lr=2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yandex.ru/yandsearch?source=wiz&amp;img_url=http%3A%2F%2Fus.123rf.com%2F400wm%2F400%2F400%2Fgelpi%2Fgelpi0803%2Fgelpi080300102%2F2712476-n---------------------n--n.jpg&amp;uinfo=sw-1007-sh-438-fw-782-fh-448-pd-1&amp;p=9&amp;text=&#1087;&#1088;&#1077;&#1076;&#1084;&#1077;&#1090;&#1099;%20&#1082;&#1086;&#1090;&#1086;&#1088;&#1099;&#1084;&#1080;%20&#1085;&#1091;&#1078;&#1085;&#1086;%20&#1085;&#1072;&#1091;&#1095;&#1080;&#1090;&#1100;%20&#1087;&#1086;&#1083;&#1100;&#1079;&#1086;&#1074;&#1072;&#1090;&#1100;&#1089;&#1103;%20&#1088;&#1077;&#1073;&#1077;&#1085;&#1082;&#1091;%20&#1082;&#1072;&#1088;&#1090;&#1080;&#1085;&#1082;&#1080;&amp;noreask=1&amp;pos=283&amp;rpt=simage&amp;lr=2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101;&#1074;&#1072;&#1082;&#1091;&#1072;&#1094;&#1080;&#1103;%20&#1076;&#1077;&#1090;&#1077;&#1081;%20&#1080;&#1079;%20&#1076;&#1077;&#1090;&#1089;&#1082;&#1086;&#1075;&#1086;%20&#1089;&#1072;&#1076;&#1072;%20&#1082;&#1072;&#1088;&#1090;&#1080;&#1085;&#1082;&#1080;&amp;noreask=1&amp;pos=13&amp;rpt=simage&amp;lr=2&amp;uinfo=sw-1007-sh-438-fw-782-fh-448-pd-1&amp;img_url=http%3A%2F%2Ffedpress.ru%2Fsites%2Ffedpress%2Ffiles%2Fmcggs%2Fnews%2Fevaevea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source=wiz&amp;text=&#1101;&#1074;&#1072;&#1082;&#1091;&#1072;&#1094;&#1080;&#1103;%20&#1076;&#1077;&#1090;&#1077;&#1081;%20&#1080;&#1079;%20&#1076;&#1077;&#1090;&#1089;&#1082;&#1086;&#1075;&#1086;%20&#1089;&#1072;&#1076;&#1072;%20&#1082;&#1072;&#1088;&#1090;&#1080;&#1085;&#1082;&#1080;&amp;noreask=1&amp;pos=8&amp;rpt=simage&amp;lr=2&amp;uinfo=sw-1007-sh-438-fw-782-fh-448-pd-1&amp;img_url=http%3A%2F%2Fladushki150.caduk.ru%2Fimages%2Fp23_hpim5969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img_url=http%3A%2F%2Fwww.51.mchs.gov.ru%2Fupload%2Fiblock%2Fde2%2Fde21e0ee8a3d95ebba2f86bb846adf1c_98_73.png&amp;uinfo=sw-1007-sh-438-fw-782-fh-448-pd-1&amp;p=1&amp;text=&#1079;&#1072;&#1087;&#1088;&#1077;&#1097;&#1077;&#1085;&#1085;&#1099;&#1077;%20&#1076;&#1077;&#1090;&#1103;&#1084;%20&#1087;&#1088;&#1077;&#1076;&#1084;&#1077;&#1090;&#1099;%20&#1089;&#1087;&#1080;&#1095;&#1082;&#1080;%20&#1079;&#1072;&#1078;&#1080;&#1075;&#1072;&#1083;&#1082;&#1080;%20&#1090;&#1072;&#1073;&#1083;&#1077;&#1090;&#1082;&#1080;%20&#1086;&#1089;&#1090;&#1088;&#1099;&#1077;%20&#1087;&#1088;&#1077;&#1076;&#1084;&#1077;&#1090;&#1099;&amp;pos=38&amp;lr=2&amp;rpt=simag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source=psearch&amp;text=&#1079;&#1072;&#1087;&#1088;&#1077;&#1097;&#1077;&#1085;&#1085;&#1099;&#1077;%20&#1076;&#1077;&#1090;&#1103;&#1084;%20&#1087;&#1088;&#1077;&#1076;&#1084;&#1077;&#1090;&#1099;%20&#1089;&#1087;&#1080;&#1095;&#1082;&#1080;%20&#1079;&#1072;&#1078;&#1080;&#1075;&#1072;&#1083;&#1082;&#1080;%20&#1090;&#1072;&#1073;&#1083;&#1077;&#1090;&#1082;&#1080;%20&#1086;&#1089;&#1090;&#1088;&#1099;&#1077;%20&#1087;&#1088;&#1077;&#1076;&#1084;&#1077;&#1090;&#1099;&amp;pos=14&amp;rpt=simage&amp;lr=2&amp;uinfo=sw-1007-sh-438-fw-782-fh-448-pd-1&amp;img_url=http%3A%2F%2Fwww.kasparov.ru%2Fcontent%2Fmaterials%2F48687BC987B17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source=psearch&amp;text=&#1079;&#1072;&#1087;&#1088;&#1077;&#1097;&#1077;&#1085;&#1085;&#1099;&#1077;%20&#1076;&#1077;&#1090;&#1103;&#1084;%20&#1087;&#1088;&#1077;&#1076;&#1084;&#1077;&#1090;&#1099;%20&#1089;&#1087;&#1080;&#1095;&#1082;&#1080;%20&#1079;&#1072;&#1078;&#1080;&#1075;&#1072;&#1083;&#1082;&#1080;%20&#1090;&#1072;&#1073;&#1083;&#1077;&#1090;&#1082;&#1080;%20&#1086;&#1089;&#1090;&#1088;&#1099;&#1077;%20&#1087;&#1088;&#1077;&#1076;&#1084;&#1077;&#1090;&#1099;&amp;img_url=http%3A%2F%2Fm.friendfeed-media.com%2F560784cebf4f6cf89ebbd698f83ca1f2c134a2e6&amp;pos=1&amp;rpt=simage&amp;lr=2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source=psearch&amp;text=&#1079;&#1072;&#1087;&#1088;&#1077;&#1097;&#1077;&#1085;&#1085;&#1099;&#1077;%20&#1076;&#1077;&#1090;&#1103;&#1084;%20&#1087;&#1088;&#1077;&#1076;&#1084;&#1077;&#1090;&#1099;%20&#1089;&#1087;&#1080;&#1095;&#1082;&#1080;%20&#1079;&#1072;&#1078;&#1080;&#1075;&#1072;&#1083;&#1082;&#1080;%20&#1090;&#1072;&#1073;&#1083;&#1077;&#1090;&#1082;&#1080;%20&#1086;&#1089;&#1090;&#1088;&#1099;&#1077;%20&#1087;&#1088;&#1077;&#1076;&#1084;&#1077;&#1090;&#1099;&amp;img_url=http%3A%2F%2Fxn--1-ztba.xn--p1ai%2Fuploads%2Fposts%2F2013-03%2Fthumbs%2F1363849625_11.jpg&amp;pos=9&amp;rpt=simage&amp;lr=2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yandex.ru/yandsearch?text=&#1079;&#1072;&#1087;&#1088;&#1077;&#1097;&#1077;&#1085;&#1085;&#1099;&#1077;%20&#1076;&#1077;&#1090;&#1103;&#1084;%20&#1087;&#1088;&#1077;&#1076;&#1084;&#1077;&#1090;&#1099;%20%20&#1090;&#1072;&#1073;&#1083;&#1077;&#1090;&#1082;&#1080;%20&#1086;&#1089;&#1090;&#1088;&#1099;&#1077;%20&#1087;&#1088;&#1077;&#1076;&#1084;&#1077;&#1090;&#1099;&amp;pos=0&amp;uinfo=sw-1007-sh-438-fw-782-fh-448-pd-1&amp;rpt=simage&amp;img_url=http%3A%2F%2Fppt4web.ru%2Fimages%2F63%2F2577%2F310%2Fimg14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yandex.ru/yandsearch?text=&#1079;&#1072;&#1087;&#1088;&#1077;&#1097;&#1077;&#1085;&#1085;&#1099;&#1077;%20&#1076;&#1077;&#1090;&#1103;&#1084;%20&#1087;&#1088;&#1077;&#1076;&#1084;&#1077;&#1090;&#1099;%20%20&#1090;&#1072;&#1073;&#1083;&#1077;&#1090;&#1082;&#1080;%20&#1086;&#1089;&#1090;&#1088;&#1099;&#1077;%20&#1087;&#1088;&#1077;&#1076;&#1084;&#1077;&#1090;&#1099;&amp;pos=5&amp;uinfo=sw-1007-sh-438-fw-782-fh-448-pd-1&amp;rpt=simage&amp;img_url=http%3A%2F%2Fwww.from-ua.com%2Fimages%2Farticles%2F___new_230873-big.jp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9;&#1072;&#1087;&#1088;&#1077;&#1097;&#1077;&#1085;&#1085;&#1099;&#1077;%20&#1076;&#1077;&#1090;&#1103;&#1084;%20&#1087;&#1088;&#1077;&#1076;&#1084;&#1077;&#1090;&#1099;%20%20&#1090;&#1072;&#1073;&#1083;&#1077;&#1090;&#1082;&#1080;%20&#1086;&#1089;&#1090;&#1088;&#1099;&#1077;%20&#1087;&#1088;&#1077;&#1076;&#1084;&#1077;&#1090;&#1099;&amp;pos=1&amp;uinfo=sw-1007-sh-438-fw-782-fh-448-pd-1&amp;rpt=simage&amp;img_url=http%3A%2F%2Fuhouse.ru%2Fuploads%2Fposts%2F2012-08%2Fthumbs%2F1344078482_otravlenie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source=psearch&amp;img_url=http%3A%2F%2Fwww.newizv.ru%2Fimages%2Fphotos%2Fbig%2F20130128224344.jpg&amp;uinfo=sw-1007-sh-438-fw-782-fh-448-pd-1&amp;p=1&amp;text=&#1079;&#1072;&#1087;&#1088;&#1077;&#1097;&#1077;&#1085;&#1085;&#1099;&#1077;%20%20&#1087;&#1088;&#1077;&#1076;&#1084;&#1077;&#1090;&#1099;%20&#1076;&#1083;&#1103;%20&#1076;&#1077;&#1090;&#1077;&#1081;%20&#1091;&#1082;&#1089;&#1091;&#1089;&amp;pos=33&amp;lr=2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source=psearch&amp;text=&#1079;&#1072;&#1087;&#1088;&#1077;&#1097;&#1077;&#1085;&#1085;&#1099;&#1077;%20%20&#1087;&#1088;&#1077;&#1076;&#1084;&#1077;&#1090;&#1099;%20&#1076;&#1083;&#1103;%20&#1076;&#1077;&#1090;&#1077;&#1081;%20&#1091;&#1082;&#1089;&#1091;&#1089;&amp;img_url=http%3A%2F%2Fwww.fresher.ru%2Fimages2%2Fveshhi-vremyon-sssr%2F17.jpg&amp;pos=4&amp;rpt=simage&amp;lr=2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yandex.ru/yandsearch?source=psearch&amp;img_url=http%3A%2F%2Fsynews.ru%2Fuploads%2Fposts%2F2008-11%2F1227651792_shpritz.jpg&amp;uinfo=sw-1007-sh-438-fw-782-fh-448-pd-1&amp;p=7&amp;text=&#1079;&#1072;&#1087;&#1088;&#1077;&#1097;&#1077;&#1085;&#1085;&#1099;&#1077;%20%20&#1087;&#1088;&#1077;&#1076;&#1084;&#1077;&#1090;&#1099;%20&#1076;&#1083;&#1103;%20&#1076;&#1077;&#1090;&#1077;&#1081;%20&#1091;&#1082;&#1089;&#1091;&#1089;&amp;pos=230&amp;lr=2&amp;rpt=simage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езопасность в вашем дом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73360" y="41907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втор: Терехова С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спитатель высшей квалификационной категор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ГБДОУ детский сад №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8" descr="q0wqvsq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666880"/>
            <a:ext cx="28764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дметы, которыми следует научить пользоваться ребенку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i?id=56935766-6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4038480"/>
            <a:ext cx="2971800" cy="2436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?id=2922427-0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362320"/>
            <a:ext cx="238104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?id=372563665-16-72&amp;n=21"/>
          <p:cNvPicPr/>
          <p:nvPr/>
        </p:nvPicPr>
        <p:blipFill>
          <a:blip r:embed="rId5"/>
          <a:stretch/>
        </p:blipFill>
        <p:spPr>
          <a:xfrm>
            <a:off x="4038480" y="2133720"/>
            <a:ext cx="1857600" cy="142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igri-s-bumagoi"/>
          <p:cNvPicPr/>
          <p:nvPr/>
        </p:nvPicPr>
        <p:blipFill>
          <a:blip r:embed="rId6"/>
          <a:stretch/>
        </p:blipFill>
        <p:spPr>
          <a:xfrm>
            <a:off x="6019920" y="2895480"/>
            <a:ext cx="28573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равила безопасного поведения в доме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рядок в доме поддерживают не только для красоты, но и для безопасности, поэтому, игрушки и предметы надо класть на мест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ельзя пользоваться острыми предметами без взросл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тюг, пылесос, телевизор, компьютер, лампы и др. электроприборы нельзя включать без разрешения взросл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рогать руками провода, вставлять пальцы и мелкие предметы в розет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льзя играть со спичками и зажигал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ельзя трогать различные таблетки, предметы бытовой хим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асные ситуации до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Беспокоясь о безопасности  своего ребенка , взрослые должны рассказать ему о ситуациях, которые могут быть опасными (открытое окно, балкон, включенная плита и т.д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ми правилами (если ребенок остался один дома) должны быт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 видном месте напишите телефоны, по которым он может связаться: (ваш рабочий, мобильный, телефон соседей, бабушки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илиция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жарная охран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корая помощ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08560" y="4493160"/>
            <a:ext cx="7599600" cy="11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БУДЬТЕ ПРИМЕРОМ ДЛЯ СВОИХ ДЕТЕЙ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стоянно повторяйте правила повед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и неукоснительно выполняйте правила по безопас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ведение итогов соб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адача взрослых(педагогов и родителей) состоит не только в том, чтобы оберегать и защищать ребенка, но и в том, чтобы подготовить его к встрече с различными сложностями, а порой и опасными жизненными ситуация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81800" y="396000"/>
            <a:ext cx="7131960" cy="54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важаемые родители!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йдите время рассмотреть книгу, побеседуйте с ребенком, обсудите ту или иную ситуацию, ведь безопасность ваших детей находится в наших руках, и от того, как мы подготовим их к встрече с возможными трудностями, зависит не только здоровье, но и жизнь вашего ребенк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5080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знакомить родителей с работой д/с по теме: «Безопасность жизнедеятельности детей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ктивизировать знания родителей об особенностях обучения детей правилам безопасного повед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Формировать готовность родителей к сотрудничеству с педагогами д/с по проблемам развития у детей навыков безопасного повед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основ безопасности  жизнедеятельности детей в ДОУ осуществляется в разных направлен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сновные- работа с детьми, родителями, педагогическим коллективом и персонал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аботан материал по данной проблем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аботан план- программа по ознакомлению детей с ПД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ставлена картотека игр по ОБЖ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аботаны конспекты занятий, бесед, досуг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группе оборудован специальный уголок по ОБЖ, где находятся альбомы, картинки, художественная литература, дидактические и сюжетно-ролевые иг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нашем д/с проводятся тренировочные эвакуации детей и сотрудников из здания ДОУ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6" descr="evaev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590920"/>
            <a:ext cx="2876400" cy="215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p23_hpim59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3886200"/>
            <a:ext cx="35812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ажно не только оберегать ребенка от опасности, но и готовить его к встрече с возможными трудност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ормировать представление о наиболее опасных ситуациях,, о необходимости соблюдения мер предосторож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вивать ребенку навыки безопасного поведения в быту, совместно с родителями, которые выступают для ребенка примером для подраж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сновные источники опасности для ребенка дошкольника, с которыми он может столкнуться дом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пасные предме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пасные ситу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редметы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которыми ребенку категорически запрещается пользоватьс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9" descr="i?id=285924870-3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3623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48687BC987B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i?id=206996874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4343400"/>
            <a:ext cx="981000" cy="142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i?id=364868757-20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343400" y="51814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img1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24080" y="2362320"/>
            <a:ext cx="2876760" cy="215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7054_63459_614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43600" y="3200400"/>
            <a:ext cx="2876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асные предме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ытовая хим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1344078482_otravlen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971800"/>
            <a:ext cx="2876400" cy="208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?id=144178705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876920"/>
            <a:ext cx="166680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?id=113808049-67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23623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?id=109958498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648320"/>
            <a:ext cx="2162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5:05:27Z</dcterms:created>
  <dc:creator>Света</dc:creator>
  <dc:description/>
  <dc:language>en-US</dc:language>
  <cp:lastModifiedBy>Света</cp:lastModifiedBy>
  <dcterms:modified xsi:type="dcterms:W3CDTF">2013-09-22T12:58:0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