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BBA-0CC4-428F-8ED7-68F4B548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DCB-6860-4A01-935D-D982766A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933-6DE5-4C15-9806-DD1001DF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57C-4414-4C88-904B-ADB7ED31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D966-B11D-4CFC-ADF9-ABA9ADA8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19AE-F1BA-4727-9345-FC4C6C7C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D065-A0D6-4462-9660-E06B6197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53FF-3510-4426-BB16-E447A437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DE6E-0080-48FA-B96B-84D9C5BB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A439-8CC2-4658-BA40-DCB6C1B0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0E4D-8D03-49FA-8BF2-35AD0A7D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FAE-AC9F-473C-A449-8511A37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2A44-1627-41AE-9A57-4E02CDC2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60E1-5731-4EC1-A6DB-B52FF774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DA83-F105-49A8-832D-3511A807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518F-F59E-4955-AB67-83515178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CD2E-492B-48B0-8FDB-8277DC01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34F-9049-4FA3-97EF-38C4D437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A9C-0B6F-44D6-8067-2A9C05E8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B83-1702-4116-97C0-A062C2F5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EF9-7C2E-4D92-A35D-CAFFCB73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67F-5B9D-40E6-A756-3B14F8AF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683-5DFE-4FF0-812A-C0E0DFEE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DC4-9EB2-4D76-8637-9CF5EED8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715E-080F-4431-99B3-EBDAE26ED58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A04A-8EEB-44ED-A8B3-FC80A6A4B2D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uinfo=sw-1007-sh-438-fw-782-fh-448-pd-1&amp;p=1&amp;text=&#1073;&#1077;&#1079;&#1086;&#1087;&#1072;&#1089;&#1085;&#1086;&#1089;&#1090;&#1100;%20%20&#1076;&#1086;&#1084;&#1072;%20&#1082;&#1072;&#1088;&#1090;&#1080;&#1085;&#1082;&#1080;&amp;noreask=1&amp;pos=55&amp;rpt=simage&amp;lr=2&amp;img_url=http%3A%2F%2Fporemontu.ru%2Fmedia%2Fck%2Fblogs%2Fimages%2F1361832350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img_url=http%3A%2F%2Fwww.examiner.com%2Fimages%2Fblog%2FEXID17992%2Fimages%2Ffamilymealanetta%281%29.jpg&amp;uinfo=sw-1007-sh-438-fw-782-fh-448-pd-1&amp;p=8&amp;text=&#1087;&#1088;&#1077;&#1076;&#1084;&#1077;&#1090;&#1099;%20&#1082;&#1086;&#1090;&#1086;&#1088;&#1099;&#1084;&#1080;%20&#1085;&#1091;&#1078;&#1085;&#1086;%20&#1085;&#1072;&#1091;&#1095;&#1080;&#1090;&#1100;%20&#1087;&#1086;&#1083;&#1100;&#1079;&#1086;&#1074;&#1072;&#1090;&#1100;&#1089;&#1103;%20&#1088;&#1077;&#1073;&#1077;&#1085;&#1082;&#1091;%20&#1082;&#1072;&#1088;&#1090;&#1080;&#1085;&#1082;&#1080;&amp;noreask=1&amp;pos=261&amp;rpt=simage&amp;lr=2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yandex.ru/yandsearch?source=wiz&amp;img_url=http%3A%2F%2Fus.123rf.com%2F400wm%2F400%2F400%2Fgelpi%2Fgelpi0803%2Fgelpi080300102%2F2712476-n---------------------n--n.jpg&amp;uinfo=sw-1007-sh-438-fw-782-fh-448-pd-1&amp;p=9&amp;text=&#1087;&#1088;&#1077;&#1076;&#1084;&#1077;&#1090;&#1099;%20&#1082;&#1086;&#1090;&#1086;&#1088;&#1099;&#1084;&#1080;%20&#1085;&#1091;&#1078;&#1085;&#1086;%20&#1085;&#1072;&#1091;&#1095;&#1080;&#1090;&#1100;%20&#1087;&#1086;&#1083;&#1100;&#1079;&#1086;&#1074;&#1072;&#1090;&#1100;&#1089;&#1103;%20&#1088;&#1077;&#1073;&#1077;&#1085;&#1082;&#1091;%20&#1082;&#1072;&#1088;&#1090;&#1080;&#1085;&#1082;&#1080;&amp;noreask=1&amp;pos=283&amp;rpt=simage&amp;lr=2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101;&#1074;&#1072;&#1082;&#1091;&#1072;&#1094;&#1080;&#1103;%20&#1076;&#1077;&#1090;&#1077;&#1081;%20&#1080;&#1079;%20&#1076;&#1077;&#1090;&#1089;&#1082;&#1086;&#1075;&#1086;%20&#1089;&#1072;&#1076;&#1072;%20&#1082;&#1072;&#1088;&#1090;&#1080;&#1085;&#1082;&#1080;&amp;noreask=1&amp;pos=13&amp;rpt=simage&amp;lr=2&amp;uinfo=sw-1007-sh-438-fw-782-fh-448-pd-1&amp;img_url=http%3A%2F%2Ffedpress.ru%2Fsites%2Ffedpress%2Ffiles%2Fmcggs%2Fnews%2Fevaevea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ru/yandsearch?source=wiz&amp;text=&#1101;&#1074;&#1072;&#1082;&#1091;&#1072;&#1094;&#1080;&#1103;%20&#1076;&#1077;&#1090;&#1077;&#1081;%20&#1080;&#1079;%20&#1076;&#1077;&#1090;&#1089;&#1082;&#1086;&#1075;&#1086;%20&#1089;&#1072;&#1076;&#1072;%20&#1082;&#1072;&#1088;&#1090;&#1080;&#1085;&#1082;&#1080;&amp;noreask=1&amp;pos=8&amp;rpt=simage&amp;lr=2&amp;uinfo=sw-1007-sh-438-fw-782-fh-448-pd-1&amp;img_url=http%3A%2F%2Fladushki150.caduk.ru%2Fimages%2Fp23_hpim5969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img_url=http%3A%2F%2Fwww.51.mchs.gov.ru%2Fupload%2Fiblock%2Fde2%2Fde21e0ee8a3d95ebba2f86bb846adf1c_98_73.png&amp;uinfo=sw-1007-sh-438-fw-782-fh-448-pd-1&amp;p=1&amp;text=&#1079;&#1072;&#1087;&#1088;&#1077;&#1097;&#1077;&#1085;&#1085;&#1099;&#1077;%20&#1076;&#1077;&#1090;&#1103;&#1084;%20&#1087;&#1088;&#1077;&#1076;&#1084;&#1077;&#1090;&#1099;%20&#1089;&#1087;&#1080;&#1095;&#1082;&#1080;%20&#1079;&#1072;&#1078;&#1080;&#1075;&#1072;&#1083;&#1082;&#1080;%20&#1090;&#1072;&#1073;&#1083;&#1077;&#1090;&#1082;&#1080;%20&#1086;&#1089;&#1090;&#1088;&#1099;&#1077;%20&#1087;&#1088;&#1077;&#1076;&#1084;&#1077;&#1090;&#1099;&amp;pos=38&amp;lr=2&amp;rpt=simag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yandex.ru/yandsearch?source=psearch&amp;text=&#1079;&#1072;&#1087;&#1088;&#1077;&#1097;&#1077;&#1085;&#1085;&#1099;&#1077;%20&#1076;&#1077;&#1090;&#1103;&#1084;%20&#1087;&#1088;&#1077;&#1076;&#1084;&#1077;&#1090;&#1099;%20&#1089;&#1087;&#1080;&#1095;&#1082;&#1080;%20&#1079;&#1072;&#1078;&#1080;&#1075;&#1072;&#1083;&#1082;&#1080;%20&#1090;&#1072;&#1073;&#1083;&#1077;&#1090;&#1082;&#1080;%20&#1086;&#1089;&#1090;&#1088;&#1099;&#1077;%20&#1087;&#1088;&#1077;&#1076;&#1084;&#1077;&#1090;&#1099;&amp;pos=14&amp;rpt=simage&amp;lr=2&amp;uinfo=sw-1007-sh-438-fw-782-fh-448-pd-1&amp;img_url=http%3A%2F%2Fwww.kasparov.ru%2Fcontent%2Fmaterials%2F48687BC987B17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yandex.ru/yandsearch?source=psearch&amp;text=&#1079;&#1072;&#1087;&#1088;&#1077;&#1097;&#1077;&#1085;&#1085;&#1099;&#1077;%20&#1076;&#1077;&#1090;&#1103;&#1084;%20&#1087;&#1088;&#1077;&#1076;&#1084;&#1077;&#1090;&#1099;%20&#1089;&#1087;&#1080;&#1095;&#1082;&#1080;%20&#1079;&#1072;&#1078;&#1080;&#1075;&#1072;&#1083;&#1082;&#1080;%20&#1090;&#1072;&#1073;&#1083;&#1077;&#1090;&#1082;&#1080;%20&#1086;&#1089;&#1090;&#1088;&#1099;&#1077;%20&#1087;&#1088;&#1077;&#1076;&#1084;&#1077;&#1090;&#1099;&amp;img_url=http%3A%2F%2Fm.friendfeed-media.com%2F560784cebf4f6cf89ebbd698f83ca1f2c134a2e6&amp;pos=1&amp;rpt=simage&amp;lr=2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yandex.ru/yandsearch?source=psearch&amp;text=&#1079;&#1072;&#1087;&#1088;&#1077;&#1097;&#1077;&#1085;&#1085;&#1099;&#1077;%20&#1076;&#1077;&#1090;&#1103;&#1084;%20&#1087;&#1088;&#1077;&#1076;&#1084;&#1077;&#1090;&#1099;%20&#1089;&#1087;&#1080;&#1095;&#1082;&#1080;%20&#1079;&#1072;&#1078;&#1080;&#1075;&#1072;&#1083;&#1082;&#1080;%20&#1090;&#1072;&#1073;&#1083;&#1077;&#1090;&#1082;&#1080;%20&#1086;&#1089;&#1090;&#1088;&#1099;&#1077;%20&#1087;&#1088;&#1077;&#1076;&#1084;&#1077;&#1090;&#1099;&amp;img_url=http%3A%2F%2Fxn--1-ztba.xn--p1ai%2Fuploads%2Fposts%2F2013-03%2Fthumbs%2F1363849625_11.jpg&amp;pos=9&amp;rpt=simage&amp;lr=2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yandex.ru/yandsearch?text=&#1079;&#1072;&#1087;&#1088;&#1077;&#1097;&#1077;&#1085;&#1085;&#1099;&#1077;%20&#1076;&#1077;&#1090;&#1103;&#1084;%20&#1087;&#1088;&#1077;&#1076;&#1084;&#1077;&#1090;&#1099;%20%20&#1090;&#1072;&#1073;&#1083;&#1077;&#1090;&#1082;&#1080;%20&#1086;&#1089;&#1090;&#1088;&#1099;&#1077;%20&#1087;&#1088;&#1077;&#1076;&#1084;&#1077;&#1090;&#1099;&amp;pos=0&amp;uinfo=sw-1007-sh-438-fw-782-fh-448-pd-1&amp;rpt=simage&amp;img_url=http%3A%2F%2Fppt4web.ru%2Fimages%2F63%2F2577%2F310%2Fimg14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yandex.ru/yandsearch?text=&#1079;&#1072;&#1087;&#1088;&#1077;&#1097;&#1077;&#1085;&#1085;&#1099;&#1077;%20&#1076;&#1077;&#1090;&#1103;&#1084;%20&#1087;&#1088;&#1077;&#1076;&#1084;&#1077;&#1090;&#1099;%20%20&#1090;&#1072;&#1073;&#1083;&#1077;&#1090;&#1082;&#1080;%20&#1086;&#1089;&#1090;&#1088;&#1099;&#1077;%20&#1087;&#1088;&#1077;&#1076;&#1084;&#1077;&#1090;&#1099;&amp;pos=5&amp;uinfo=sw-1007-sh-438-fw-782-fh-448-pd-1&amp;rpt=simage&amp;img_url=http%3A%2F%2Fwww.from-ua.com%2Fimages%2Farticles%2F___new_230873-big.jp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79;&#1072;&#1087;&#1088;&#1077;&#1097;&#1077;&#1085;&#1085;&#1099;&#1077;%20&#1076;&#1077;&#1090;&#1103;&#1084;%20&#1087;&#1088;&#1077;&#1076;&#1084;&#1077;&#1090;&#1099;%20%20&#1090;&#1072;&#1073;&#1083;&#1077;&#1090;&#1082;&#1080;%20&#1086;&#1089;&#1090;&#1088;&#1099;&#1077;%20&#1087;&#1088;&#1077;&#1076;&#1084;&#1077;&#1090;&#1099;&amp;pos=1&amp;uinfo=sw-1007-sh-438-fw-782-fh-448-pd-1&amp;rpt=simage&amp;img_url=http%3A%2F%2Fuhouse.ru%2Fuploads%2Fposts%2F2012-08%2Fthumbs%2F1344078482_otravlenie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source=psearch&amp;img_url=http%3A%2F%2Fwww.newizv.ru%2Fimages%2Fphotos%2Fbig%2F20130128224344.jpg&amp;uinfo=sw-1007-sh-438-fw-782-fh-448-pd-1&amp;p=1&amp;text=&#1079;&#1072;&#1087;&#1088;&#1077;&#1097;&#1077;&#1085;&#1085;&#1099;&#1077;%20%20&#1087;&#1088;&#1077;&#1076;&#1084;&#1077;&#1090;&#1099;%20&#1076;&#1083;&#1103;%20&#1076;&#1077;&#1090;&#1077;&#1081;%20&#1091;&#1082;&#1089;&#1091;&#1089;&amp;pos=33&amp;lr=2&amp;rpt=simag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source=psearch&amp;text=&#1079;&#1072;&#1087;&#1088;&#1077;&#1097;&#1077;&#1085;&#1085;&#1099;&#1077;%20%20&#1087;&#1088;&#1077;&#1076;&#1084;&#1077;&#1090;&#1099;%20&#1076;&#1083;&#1103;%20&#1076;&#1077;&#1090;&#1077;&#1081;%20&#1091;&#1082;&#1089;&#1091;&#1089;&amp;img_url=http%3A%2F%2Fwww.fresher.ru%2Fimages2%2Fveshhi-vremyon-sssr%2F17.jpg&amp;pos=4&amp;rpt=simage&amp;lr=2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yandex.ru/yandsearch?source=psearch&amp;img_url=http%3A%2F%2Fsynews.ru%2Fuploads%2Fposts%2F2008-11%2F1227651792_shpritz.jpg&amp;uinfo=sw-1007-sh-438-fw-782-fh-448-pd-1&amp;p=7&amp;text=&#1079;&#1072;&#1087;&#1088;&#1077;&#1097;&#1077;&#1085;&#1085;&#1099;&#1077;%20%20&#1087;&#1088;&#1077;&#1076;&#1084;&#1077;&#1090;&#1099;%20&#1076;&#1083;&#1103;%20&#1076;&#1077;&#1090;&#1077;&#1081;%20&#1091;&#1082;&#1089;&#1091;&#1089;&amp;pos=230&amp;lr=2&amp;rpt=simage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езопасность в вашем дом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73360" y="41907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втор: Терехова С.В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Воспитатель высшей квалификационной категор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ГБДОУ детский сад №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8" descr="q0wqvsq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666880"/>
            <a:ext cx="28764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едметы, которыми следует научить пользоваться ребенку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i?id=56935766-68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4038480"/>
            <a:ext cx="2971800" cy="2436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?id=2922427-0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2362320"/>
            <a:ext cx="238104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?id=372563665-16-72&amp;n=21"/>
          <p:cNvPicPr/>
          <p:nvPr/>
        </p:nvPicPr>
        <p:blipFill>
          <a:blip r:embed="rId5"/>
          <a:stretch/>
        </p:blipFill>
        <p:spPr>
          <a:xfrm>
            <a:off x="4038480" y="2133720"/>
            <a:ext cx="1857600" cy="142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igri-s-bumagoi"/>
          <p:cNvPicPr/>
          <p:nvPr/>
        </p:nvPicPr>
        <p:blipFill>
          <a:blip r:embed="rId6"/>
          <a:stretch/>
        </p:blipFill>
        <p:spPr>
          <a:xfrm>
            <a:off x="6019920" y="2895480"/>
            <a:ext cx="28573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равила безопасного поведения в доме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рядок в доме поддерживают не только для красоты, но и для безопасности, поэтому, игрушки и предметы надо класть на мест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ельзя пользоваться острыми предметами без взрослы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тюг, пылесос, телевизор, компьютер, лампы и др. электроприборы нельзя включать без разрешения взрослы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Трогать руками провода, вставлять пальцы и мелкие предметы в розет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ельзя играть со спичками и зажигал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ельзя трогать различные таблетки, предметы бытовой хим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пасные ситуации дом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Беспокоясь о безопасности  своего ребенка , взрослые должны рассказать ему о ситуациях, которые могут быть опасными (открытое окно, балкон, включенная плита и т.д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ми правилами (если ребенок остался один дома) должны быт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На видном месте напишите телефоны, по которым он может связаться: (ваш рабочий, мобильный, телефон соседей, бабушки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Милиция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жарная охран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корая помощь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08560" y="4493160"/>
            <a:ext cx="7599600" cy="11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БУДЬТЕ ПРИМЕРОМ ДЛЯ СВОИХ ДЕТЕЙ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стоянно повторяйте правила повед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ами неукоснительно выполняйте правила по безопас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ведение итогов собра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Задача взрослых(педагогов и родителей) состоит не только в том, чтобы оберегать и защищать ребенка, но и в том, чтобы подготовить его к встрече с различными сложностями, а порой и опасными жизненными ситуация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081800" y="396000"/>
            <a:ext cx="7131960" cy="54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Уважаемые родители!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айдите время рассмотреть книгу, побеседуйте с ребенком, обсудите ту или иную ситуацию, ведь безопасность ваших детей находится в наших руках, и от того, как мы подготовим их к встрече с возможными трудностями, зависит не только здоровье, но и жизнь вашего ребенк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45080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знакомить родителей с работой д/с по теме: «Безопасность жизнедеятельности детей»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Активизировать знания родителей об особенностях обучения детей правилам безопасного повед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Формировать готовность родителей к сотрудничеству с педагогами д/с по проблемам развития у детей навыков безопасного повед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Формирование основ безопасности  жизнедеятельности детей в ДОУ осуществляется в разных направлени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сновные- работа с детьми, родителями, педагогическим коллективом и персонал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работан материал по данной проблем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работан план- программа по ознакомлению детей с ПДД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Составлена картотека игр по ОБЖ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Разработаны конспекты занятий, бесед, досуг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группе оборудован специальный уголок по ОБЖ, где находятся альбомы, картинки, художественная литература, дидактические и сюжетно-ролевые игр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 нашем д/с проводятся тренировочные эвакуации детей и сотрудников из здания ДОУ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6" descr="evaev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590920"/>
            <a:ext cx="2876400" cy="215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p23_hpim596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3886200"/>
            <a:ext cx="35812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ажно не только оберегать ребенка от опасности, но и готовить его к встрече с возможными трудност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Формировать представление о наиболее опасных ситуациях,, о необходимости соблюдения мер предосторож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вивать ребенку навыки безопасного поведения в быту, совместно с родителями, которые выступают для ребенка примером для подраж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сновные источники опасности для ребенка дошкольника, с которыми он может столкнуться дома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пасные предме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пасные ситуац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Предметы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которыми ребенку категорически запрещается пользоваться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9" descr="i?id=285924870-3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3623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48687BC987B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44197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i?id=206996874-0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4343400"/>
            <a:ext cx="981000" cy="142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i?id=364868757-20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343400" y="51814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img1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24080" y="2362320"/>
            <a:ext cx="2876760" cy="215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7054_63459_614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43600" y="3200400"/>
            <a:ext cx="2876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пасные предме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Бытовая хим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1344078482_otravlen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971800"/>
            <a:ext cx="2876400" cy="2085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?id=144178705-32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876920"/>
            <a:ext cx="1666800" cy="142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i?id=113808049-67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236232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i?id=109958498-15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4648320"/>
            <a:ext cx="2162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5:05:27Z</dcterms:created>
  <dc:creator>Света</dc:creator>
  <dc:description/>
  <dc:language>en-US</dc:language>
  <cp:lastModifiedBy>Света</cp:lastModifiedBy>
  <dcterms:modified xsi:type="dcterms:W3CDTF">2013-09-22T12:58:09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