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8.jpeg" ContentType="image/jpeg"/>
  <Override PartName="/ppt/media/image5.png" ContentType="image/png"/>
  <Override PartName="/ppt/media/image16.png" ContentType="image/png"/>
  <Override PartName="/ppt/media/image13.png" ContentType="image/png"/>
  <Override PartName="/ppt/media/image2.png" ContentType="image/png"/>
  <Override PartName="/ppt/media/audio1.wav" ContentType="audio/x-wav"/>
  <Override PartName="/ppt/media/image11.jpeg" ContentType="image/jpeg"/>
  <Override PartName="/ppt/media/image9.jpeg" ContentType="image/jpeg"/>
  <Override PartName="/ppt/media/image14.wmf" ContentType="image/x-wmf"/>
  <Override PartName="/ppt/media/image3.gif" ContentType="image/gif"/>
  <Override PartName="/ppt/media/image4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789-8D33-4CA9-B7CA-3242135B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C63-8536-4F35-A188-6182BD75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C00-E6F4-4DCE-8207-399BFBB0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06A-D38C-4327-B2DF-06E5F3B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3586-7F97-4D7F-BC7B-4F723B2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8600-49EB-4297-B081-5F9B0D93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24DA-DFBF-4346-BE7C-73FD0E0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A45D-CFCB-4DF6-A084-08AD80D6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A736-6CEF-42FB-8CF2-0D905340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8B24-38EB-46AC-84A9-A41C7E1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758-6A09-4AF8-A712-1DCB308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928-FBC8-4818-834E-B043F59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DD2-E16C-4F21-8370-0CD0555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BC27-27EE-4E63-96A3-75338AA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937-08CF-4D60-83BA-B31F96E6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7FD-C377-4333-B5AB-A6684F0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057-2D5C-4383-B197-46FCD00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A58D-6419-4144-A608-9230561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FD0D-EDA4-4D0B-9A4D-B7B0FE49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727B-41FB-4030-9C7D-7491139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581B-B2C8-4A06-8236-4D546FEF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2984-139D-4295-B8AB-333CC333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2C2-B349-4CF8-9500-8BA530C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EC2C-C76E-4D4B-A759-0D3F583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6348-3644-41DA-A8C9-45F1618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778B-7CEC-4AAA-BE56-E504215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BD83-FE92-4C20-BE27-8BD4141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A6CD-BB6D-496D-B186-6AC0E55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368B-E0D9-4B30-9D7C-B5F1781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FA4B-B686-4D3C-B2D5-55AD029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05E-1716-4233-93D3-988ADFA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D98-3557-40C6-AADD-D092D9CF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623-CBF3-4E0B-9094-EC839A52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5D3-F02F-42D0-8628-7FB63BA6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40D-988A-44C9-9FAD-593A952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B93-6E9C-4C2A-8E45-80BFAC7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E934A6-3325-45C8-A659-DA8519F91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E41F07-B676-488A-B409-E0EDB1D95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31059-F03A-4109-A9AB-0656D5E27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57800" cy="22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Урок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русского языка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сова"/>
          <p:cNvPicPr/>
          <p:nvPr/>
        </p:nvPicPr>
        <p:blipFill>
          <a:blip r:embed="rId1"/>
          <a:stretch/>
        </p:blipFill>
        <p:spPr>
          <a:xfrm>
            <a:off x="2500200" y="2281320"/>
            <a:ext cx="4000320" cy="421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allworldsms.com/images/red_sml/jpg/ph_c61_t1/p3.gif"/>
          <p:cNvPicPr/>
          <p:nvPr/>
        </p:nvPicPr>
        <p:blipFill>
          <a:blip r:embed="rId2"/>
          <a:stretch/>
        </p:blipFill>
        <p:spPr>
          <a:xfrm>
            <a:off x="3714840" y="4286160"/>
            <a:ext cx="2785680" cy="200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733400">
            <a:off x="745200" y="-3163680"/>
            <a:ext cx="7752600" cy="279828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</a:t>
            </a:r>
            <a:r>
              <a:rPr b="0" i="1" lang="ru-RU" sz="5530" spc="-1" strike="noStrike">
                <a:solidFill>
                  <a:srgbClr val="00b050"/>
                </a:solidFill>
                <a:latin typeface="Arial Black"/>
              </a:rPr>
              <a:t>ФИЗМИНУТКА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3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Обгонялки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4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Письмо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</a:t>
            </a: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Подведени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                   </a:t>
            </a: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итогов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</a:t>
            </a: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Домашне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                  </a:t>
            </a: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задани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</a:t>
            </a:r>
            <a:r>
              <a:rPr b="0" lang="ru-RU" sz="5530" spc="-1" strike="noStrike">
                <a:solidFill>
                  <a:srgbClr val="ff0066"/>
                </a:solidFill>
                <a:latin typeface="Arial"/>
              </a:rPr>
              <a:t>Рефлексия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714240" y="2143080"/>
            <a:ext cx="8071920" cy="4714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2"/>
          <p:cNvSpPr/>
          <p:nvPr/>
        </p:nvSpPr>
        <p:spPr>
          <a:xfrm>
            <a:off x="1285920" y="869400"/>
            <a:ext cx="621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54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4540" spc="-1" strike="noStrike">
                <a:solidFill>
                  <a:srgbClr val="0000ff"/>
                </a:solidFill>
                <a:latin typeface="Arial"/>
              </a:rPr>
              <a:t>СТИХОТВОРЕНИЕ</a:t>
            </a:r>
            <a:endParaRPr b="0" lang="en-US" sz="45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755640" y="476280"/>
            <a:ext cx="7200720" cy="1314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спасибо  за  работу !!!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684360" y="2857320"/>
            <a:ext cx="7848360" cy="14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о  новой  встречи!!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b1"/>
          <p:cNvPicPr/>
          <p:nvPr/>
        </p:nvPicPr>
        <p:blipFill>
          <a:blip r:embed="rId1"/>
          <a:stretch/>
        </p:blipFill>
        <p:spPr>
          <a:xfrm>
            <a:off x="395280" y="1700280"/>
            <a:ext cx="1726920" cy="25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detsad-84.narod.ru/doc/gnomiki2.png"/>
          <p:cNvPicPr/>
          <p:nvPr/>
        </p:nvPicPr>
        <p:blipFill>
          <a:blip r:embed="rId2"/>
          <a:stretch/>
        </p:blipFill>
        <p:spPr>
          <a:xfrm>
            <a:off x="5643720" y="3958920"/>
            <a:ext cx="3157200" cy="289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6"/>
          <p:cNvSpPr txBox="1"/>
          <p:nvPr/>
        </p:nvSpPr>
        <p:spPr>
          <a:xfrm rot="21058800">
            <a:off x="250560" y="1052280"/>
            <a:ext cx="6776640" cy="295560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pic>
        <p:nvPicPr>
          <p:cNvPr id="127" name="Picture 7" descr="03"/>
          <p:cNvPicPr/>
          <p:nvPr/>
        </p:nvPicPr>
        <p:blipFill>
          <a:blip r:embed="rId1"/>
          <a:stretch/>
        </p:blipFill>
        <p:spPr>
          <a:xfrm>
            <a:off x="5810400" y="0"/>
            <a:ext cx="3333240" cy="227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26"/>
          <p:cNvPicPr/>
          <p:nvPr/>
        </p:nvPicPr>
        <p:blipFill>
          <a:blip r:embed="rId2"/>
          <a:stretch/>
        </p:blipFill>
        <p:spPr>
          <a:xfrm>
            <a:off x="0" y="260280"/>
            <a:ext cx="1439640" cy="12236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7"/>
          <p:cNvSpPr/>
          <p:nvPr/>
        </p:nvSpPr>
        <p:spPr>
          <a:xfrm>
            <a:off x="-131400" y="428760"/>
            <a:ext cx="67032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 стране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rubadm.ru/sites/default/files/users/publicator/2016/10/gnom.png"/>
          <p:cNvPicPr/>
          <p:nvPr/>
        </p:nvPicPr>
        <p:blipFill>
          <a:blip r:embed="rId3"/>
          <a:stretch/>
        </p:blipFill>
        <p:spPr>
          <a:xfrm>
            <a:off x="5214960" y="3071880"/>
            <a:ext cx="3758400" cy="31428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7"/>
          <p:cNvSpPr txBox="1"/>
          <p:nvPr/>
        </p:nvSpPr>
        <p:spPr>
          <a:xfrm rot="214800">
            <a:off x="303840" y="3125880"/>
            <a:ext cx="5034960" cy="3034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Правописание  безударных   гласных 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в  корне  слова .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Обобщение  пройденного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материала.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7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428760" y="500040"/>
            <a:ext cx="8429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Вот звонок нам дал сигнал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Поработать час настал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Так что время не теряем,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И урок наш начинаем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960" y="3286440"/>
            <a:ext cx="3928680" cy="328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8760" y="500040"/>
            <a:ext cx="84294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500" spc="-1" strike="noStrike">
                <a:solidFill>
                  <a:srgbClr val="0d0d0d"/>
                </a:solidFill>
                <a:latin typeface="Arial"/>
              </a:rPr>
              <a:t>День, нам, каждый, мудрости, жизни, прибавляет, частичк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240" y="3286080"/>
            <a:ext cx="3929400" cy="328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28760" y="500040"/>
            <a:ext cx="84294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910" spc="-1" strike="noStrike">
                <a:solidFill>
                  <a:srgbClr val="0000ff"/>
                </a:solidFill>
                <a:latin typeface="Arial"/>
              </a:rPr>
              <a:t>Каждый день жизни нам прибавляет частичку мудрости</a:t>
            </a:r>
            <a:endParaRPr b="0" lang="en-US" sz="491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240" y="3286080"/>
            <a:ext cx="3929400" cy="328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5715000" y="164304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7358040" y="1571760"/>
            <a:ext cx="1785600" cy="164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4071960" y="164304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285840" y="1643040"/>
            <a:ext cx="185688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2214720" y="1643040"/>
            <a:ext cx="1928520" cy="16426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500040" y="500040"/>
            <a:ext cx="8072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инутка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coinletters5.com/data_images/579d7c23e6adc.jpg"/>
          <p:cNvPicPr/>
          <p:nvPr/>
        </p:nvPicPr>
        <p:blipFill>
          <a:blip r:embed="rId6"/>
          <a:stretch/>
        </p:blipFill>
        <p:spPr>
          <a:xfrm>
            <a:off x="1905120" y="3500280"/>
            <a:ext cx="5024160" cy="307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4put.ru/pictures/max/747/2297372.gif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detsad-84.narod.ru/doc/gnomiki2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429160" y="3714840"/>
            <a:ext cx="3071520" cy="282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1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Мозговой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турм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2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Выбирай-ка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  <Words>121</Words>
  <Paragraphs>43</Paragraphs>
  <Company>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10:28Z</dcterms:created>
  <dc:creator>NAME</dc:creator>
  <dc:description/>
  <dc:language>en-US</dc:language>
  <cp:lastModifiedBy>R730</cp:lastModifiedBy>
  <dcterms:modified xsi:type="dcterms:W3CDTF">2021-12-07T20:21:29Z</dcterms:modified>
  <cp:revision>1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