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8.jpeg" ContentType="image/jpeg"/>
  <Override PartName="/ppt/media/image5.png" ContentType="image/png"/>
  <Override PartName="/ppt/media/image16.png" ContentType="image/png"/>
  <Override PartName="/ppt/media/image13.png" ContentType="image/png"/>
  <Override PartName="/ppt/media/image2.png" ContentType="image/png"/>
  <Override PartName="/ppt/media/audio1.wav" ContentType="audio/x-wav"/>
  <Override PartName="/ppt/media/image11.jpeg" ContentType="image/jpeg"/>
  <Override PartName="/ppt/media/image9.jpeg" ContentType="image/jpeg"/>
  <Override PartName="/ppt/media/image14.wmf" ContentType="image/x-wmf"/>
  <Override PartName="/ppt/media/image3.gif" ContentType="image/gif"/>
  <Override PartName="/ppt/media/image4.gif" ContentType="image/gif"/>
  <Override PartName="/ppt/media/image1.jpeg" ContentType="image/jpeg"/>
  <Override PartName="/ppt/media/image6.jpeg" ContentType="image/jpeg"/>
  <Override PartName="/ppt/media/image10.png" ContentType="image/png"/>
  <Override PartName="/ppt/media/image7.jpeg" ContentType="image/jpeg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21B-9BE7-4DFF-898B-9E1F35C0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4CA-7F7E-4006-8663-0C53934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A45-4DEB-4C8C-8619-4D9ABB72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E29-A2D6-475E-9126-743442FF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19E-1B8F-4665-B7EF-9BD895BC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C70-DA51-40B3-98A6-07AAE5A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AD79-EC48-40B3-86C5-8060C4E7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7051-A3B0-4013-8DB5-A2318DE0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1195-B06A-40DF-9CB3-943735F9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F19-0CBA-4631-9FA2-845C098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D46F-217B-486C-B339-6BF1309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3AB-F303-4003-BAFB-2538E14B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11C-49EE-42AA-B733-14AEE9EF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9F52-F729-4EC0-8FF6-6DFF5FE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D4BC-AB4A-4DFA-A0ED-C87920F5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4EFB-2C2B-43E3-9087-93BD174D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3BB3-9EEF-4C3D-9D4D-269DA8A0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ECB8-2FEE-4B76-B211-EAC59413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D61E-0573-42A3-AA05-229665F7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56EF-7B7B-4E4B-8A93-11BB1B22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DD70B-A34C-41AF-9500-CF4AEEF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A5DB-5B3B-4855-B48E-22B549D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A32-BD5C-40D4-816C-6DDEFCD0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69C3-473C-49F4-B075-D368B554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DF7C-2434-4E80-A08F-9573E7C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9D2B-83C2-4F5A-BD4A-0AA9A475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8F212-0DC4-4626-B7FA-ABF49182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C6B3D-CC81-4436-82C7-D77E0819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FA596-98D9-4AF7-B78B-67AD321F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51F7-AE03-483C-BCF4-B41E3267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A27-377C-47AA-AB07-C1D09AB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A4B-D060-4A90-9ED9-611ECAE2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9A24-4859-40BD-8C96-4C43F528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DF9-454A-4542-8173-EECB746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AF5-DDA3-4C05-9E6B-1235EDF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A96-DA1F-4E2C-B3DF-33855BF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B2C932-B985-4F34-A15D-E3DE8B8FB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7A89CB-6103-4DA3-A853-D9490336B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ff00"/>
            </a:gs>
            <a:gs pos="100000">
              <a:srgbClr val="ff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8AF868-7E44-4552-8783-DD50113E73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57800" cy="22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Урок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русского языка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сова"/>
          <p:cNvPicPr/>
          <p:nvPr/>
        </p:nvPicPr>
        <p:blipFill>
          <a:blip r:embed="rId1"/>
          <a:stretch/>
        </p:blipFill>
        <p:spPr>
          <a:xfrm>
            <a:off x="2500200" y="2281320"/>
            <a:ext cx="4000320" cy="421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://allworldsms.com/images/red_sml/jpg/ph_c61_t1/p3.gif"/>
          <p:cNvPicPr/>
          <p:nvPr/>
        </p:nvPicPr>
        <p:blipFill>
          <a:blip r:embed="rId2"/>
          <a:stretch/>
        </p:blipFill>
        <p:spPr>
          <a:xfrm>
            <a:off x="3714840" y="4286160"/>
            <a:ext cx="2785680" cy="2004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733400">
            <a:off x="745200" y="-3163680"/>
            <a:ext cx="7752600" cy="279828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</a:t>
            </a:r>
            <a:r>
              <a:rPr b="0" i="1" lang="ru-RU" sz="5530" spc="-1" strike="noStrike">
                <a:solidFill>
                  <a:srgbClr val="00b050"/>
                </a:solidFill>
                <a:latin typeface="Arial Black"/>
              </a:rPr>
              <a:t>ФИЗМИНУТКА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3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Обгонялки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4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Письмо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</a:t>
            </a: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Подведени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                   </a:t>
            </a:r>
            <a:r>
              <a:rPr b="0" lang="ru-RU" sz="5530" spc="-1" strike="noStrike">
                <a:solidFill>
                  <a:srgbClr val="262626"/>
                </a:solidFill>
                <a:latin typeface="Arial"/>
              </a:rPr>
              <a:t>итогов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</a:t>
            </a: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Домашне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                  </a:t>
            </a:r>
            <a:r>
              <a:rPr b="0" lang="ru-RU" sz="5530" spc="-1" strike="noStrike">
                <a:solidFill>
                  <a:srgbClr val="00b050"/>
                </a:solidFill>
                <a:latin typeface="Arial"/>
              </a:rPr>
              <a:t>задание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</a:t>
            </a:r>
            <a:r>
              <a:rPr b="0" lang="ru-RU" sz="5530" spc="-1" strike="noStrike">
                <a:solidFill>
                  <a:srgbClr val="ff0066"/>
                </a:solidFill>
                <a:latin typeface="Arial"/>
              </a:rPr>
              <a:t>Рефлексия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Рисунок 2" descr="книга и карандаш.wmf"/>
          <p:cNvPicPr/>
          <p:nvPr/>
        </p:nvPicPr>
        <p:blipFill>
          <a:blip r:embed="rId1"/>
          <a:stretch/>
        </p:blipFill>
        <p:spPr>
          <a:xfrm>
            <a:off x="714240" y="2143080"/>
            <a:ext cx="8071920" cy="471456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2"/>
          <p:cNvSpPr/>
          <p:nvPr/>
        </p:nvSpPr>
        <p:spPr>
          <a:xfrm>
            <a:off x="1285920" y="869400"/>
            <a:ext cx="621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54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4540" spc="-1" strike="noStrike">
                <a:solidFill>
                  <a:srgbClr val="0000ff"/>
                </a:solidFill>
                <a:latin typeface="Arial"/>
              </a:rPr>
              <a:t>СТИХОТВОРЕНИЕ</a:t>
            </a:r>
            <a:endParaRPr b="0" lang="en-US" sz="45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755640" y="476280"/>
            <a:ext cx="7200720" cy="1314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361" strike="noStrike">
                <a:ln w="0">
                  <a:noFill/>
                </a:ln>
                <a:solidFill>
                  <a:srgbClr val="33ccff"/>
                </a:solidFill>
                <a:latin typeface="Impact"/>
              </a:rPr>
              <a:t>спасибо  за  работу !!!</a:t>
            </a:r>
            <a:endParaRPr b="0" lang="en-US" sz="3600" spc="-1" strike="noStrike">
              <a:ln w="0">
                <a:noFill/>
              </a:ln>
              <a:solidFill>
                <a:srgbClr val="33ccff"/>
              </a:solidFill>
              <a:latin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684360" y="2857320"/>
            <a:ext cx="7848360" cy="14346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о  новой  встречи!!!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b1"/>
          <p:cNvPicPr/>
          <p:nvPr/>
        </p:nvPicPr>
        <p:blipFill>
          <a:blip r:embed="rId1"/>
          <a:stretch/>
        </p:blipFill>
        <p:spPr>
          <a:xfrm>
            <a:off x="395280" y="1700280"/>
            <a:ext cx="1726920" cy="25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detsad-84.narod.ru/doc/gnomiki2.png"/>
          <p:cNvPicPr/>
          <p:nvPr/>
        </p:nvPicPr>
        <p:blipFill>
          <a:blip r:embed="rId2"/>
          <a:stretch/>
        </p:blipFill>
        <p:spPr>
          <a:xfrm>
            <a:off x="5643720" y="3958920"/>
            <a:ext cx="3157200" cy="289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6"/>
          <p:cNvSpPr txBox="1"/>
          <p:nvPr/>
        </p:nvSpPr>
        <p:spPr>
          <a:xfrm rot="21058800">
            <a:off x="250560" y="1052280"/>
            <a:ext cx="6776640" cy="2955600"/>
          </a:xfrm>
          <a:prstGeom prst="rect">
            <a:avLst/>
          </a:prstGeom>
        </p:spPr>
        <p:txBody>
          <a:bodyPr wrap="none" lIns="90000" rIns="90000" tIns="45000" bIns="45000" anchor="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3600" spc="-361" strike="noStrike">
              <a:ln w="0">
                <a:noFill/>
              </a:ln>
              <a:solidFill>
                <a:srgbClr val="729fcf"/>
              </a:solidFill>
              <a:latin typeface="Impact"/>
            </a:endParaRPr>
          </a:p>
        </p:txBody>
      </p:sp>
      <p:pic>
        <p:nvPicPr>
          <p:cNvPr id="127" name="Picture 7" descr="03"/>
          <p:cNvPicPr/>
          <p:nvPr/>
        </p:nvPicPr>
        <p:blipFill>
          <a:blip r:embed="rId1"/>
          <a:stretch/>
        </p:blipFill>
        <p:spPr>
          <a:xfrm>
            <a:off x="5810400" y="0"/>
            <a:ext cx="3333240" cy="227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26"/>
          <p:cNvPicPr/>
          <p:nvPr/>
        </p:nvPicPr>
        <p:blipFill>
          <a:blip r:embed="rId2"/>
          <a:stretch/>
        </p:blipFill>
        <p:spPr>
          <a:xfrm>
            <a:off x="0" y="260280"/>
            <a:ext cx="1439640" cy="12236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7"/>
          <p:cNvSpPr/>
          <p:nvPr/>
        </p:nvSpPr>
        <p:spPr>
          <a:xfrm>
            <a:off x="-131400" y="428760"/>
            <a:ext cx="67032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В стране русского язы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rubadm.ru/sites/default/files/users/publicator/2016/10/gnom.png"/>
          <p:cNvPicPr/>
          <p:nvPr/>
        </p:nvPicPr>
        <p:blipFill>
          <a:blip r:embed="rId3"/>
          <a:stretch/>
        </p:blipFill>
        <p:spPr>
          <a:xfrm>
            <a:off x="5214960" y="3071880"/>
            <a:ext cx="3758400" cy="31428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7"/>
          <p:cNvSpPr txBox="1"/>
          <p:nvPr/>
        </p:nvSpPr>
        <p:spPr>
          <a:xfrm rot="214800">
            <a:off x="303840" y="3125880"/>
            <a:ext cx="5034960" cy="30344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Правописание  безударных   гласных 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в  корне  слова .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Обобщение  пройденного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ff00"/>
                </a:solidFill>
                <a:latin typeface="Impact"/>
              </a:rPr>
              <a:t>материала.</a:t>
            </a:r>
            <a:endParaRPr b="0" lang="en-US" sz="3600" spc="-1" strike="noStrike">
              <a:ln w="0">
                <a:noFill/>
              </a:ln>
              <a:solidFill>
                <a:srgbClr val="00ff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7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17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7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428760" y="500040"/>
            <a:ext cx="8429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Вот звонок нам дал сигнал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Поработать час настал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Так что время не теряем,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80" spc="-1" strike="noStrike">
                <a:solidFill>
                  <a:srgbClr val="7030a0"/>
                </a:solidFill>
                <a:latin typeface="Arial"/>
              </a:rPr>
              <a:t>И урок наш начинаем.</a:t>
            </a:r>
            <a:endParaRPr b="0" lang="en-US" sz="408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960" y="3286440"/>
            <a:ext cx="3928680" cy="328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8760" y="500040"/>
            <a:ext cx="84294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500" spc="-1" strike="noStrike">
                <a:solidFill>
                  <a:srgbClr val="0d0d0d"/>
                </a:solidFill>
                <a:latin typeface="Arial"/>
              </a:rPr>
              <a:t>День, нам, каждый, мудрости, жизни, прибавляет, частичк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240" y="3286080"/>
            <a:ext cx="3929400" cy="328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428760" y="500040"/>
            <a:ext cx="84294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910" spc="-1" strike="noStrike">
                <a:solidFill>
                  <a:srgbClr val="0000ff"/>
                </a:solidFill>
                <a:latin typeface="Arial"/>
              </a:rPr>
              <a:t>Каждый день жизни нам прибавляет частичку мудрости</a:t>
            </a:r>
            <a:endParaRPr b="0" lang="en-US" sz="491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5214240" y="3286080"/>
            <a:ext cx="3929400" cy="3285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5715000" y="164304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7358040" y="1571760"/>
            <a:ext cx="1785600" cy="164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4071960" y="1643040"/>
            <a:ext cx="1642680" cy="171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4"/>
          <a:stretch/>
        </p:blipFill>
        <p:spPr>
          <a:xfrm>
            <a:off x="285840" y="1643040"/>
            <a:ext cx="1856880" cy="171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5"/>
          <a:stretch/>
        </p:blipFill>
        <p:spPr>
          <a:xfrm>
            <a:off x="2214720" y="1643040"/>
            <a:ext cx="1928520" cy="16426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500040" y="500040"/>
            <a:ext cx="8072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инутка чистопис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coinletters5.com/data_images/579d7c23e6adc.jpg"/>
          <p:cNvPicPr/>
          <p:nvPr/>
        </p:nvPicPr>
        <p:blipFill>
          <a:blip r:embed="rId6"/>
          <a:stretch/>
        </p:blipFill>
        <p:spPr>
          <a:xfrm>
            <a:off x="1905120" y="3500280"/>
            <a:ext cx="5024160" cy="3071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4put.ru/pictures/max/747/2297372.gif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detsad-84.narod.ru/doc/gnomiki2.pn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429160" y="3714840"/>
            <a:ext cx="3071520" cy="2829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7a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1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Мозговой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   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турм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noFill/>
          <a:ln w="2844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ru-RU" sz="6600" spc="-1" strike="noStrike">
                <a:solidFill>
                  <a:srgbClr val="008000"/>
                </a:solidFill>
                <a:latin typeface="Times New Roman"/>
              </a:rPr>
              <a:t>ЗАДАНИЕ  2</a:t>
            </a:r>
            <a:endParaRPr b="0" lang="ru-RU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0007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</a:t>
            </a: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«Выбирай-ка»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6"/>
              </a:spcBef>
              <a:buNone/>
              <a:tabLst>
                <a:tab algn="l" pos="0"/>
              </a:tabLst>
            </a:pPr>
            <a:r>
              <a:rPr b="0" lang="ru-RU" sz="553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           </a:t>
            </a:r>
            <a:endParaRPr b="0" lang="ru-RU" sz="553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http://rubadm.ru/sites/default/files/users/publicator/2016/10/gnom.png"/>
          <p:cNvPicPr/>
          <p:nvPr/>
        </p:nvPicPr>
        <p:blipFill>
          <a:blip r:embed="rId1"/>
          <a:stretch/>
        </p:blipFill>
        <p:spPr>
          <a:xfrm>
            <a:off x="6572160" y="4357800"/>
            <a:ext cx="2419560" cy="202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  <Words>121</Words>
  <Paragraphs>43</Paragraphs>
  <Company>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5:10:28Z</dcterms:created>
  <dc:creator>NAME</dc:creator>
  <dc:description/>
  <dc:language>en-US</dc:language>
  <cp:lastModifiedBy>R730</cp:lastModifiedBy>
  <dcterms:modified xsi:type="dcterms:W3CDTF">2021-12-07T20:21:29Z</dcterms:modified>
  <cp:revision>17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