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5145088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0438-68A2-4141-8529-FBC39A46F8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882E-8715-4698-844F-DD59085DA3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68A4-FE36-480E-8C57-74E6807A6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7103-D504-4810-B666-FC0AF865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06F1-33D1-4F5D-8EE8-090663E7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95B7-9199-4A26-97AE-6DD9ADC29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2B8D-E3DB-4906-8D69-D5633FF0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288C-6E2C-4E41-A06D-FE6C257A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BD18-F5D5-4512-BBE6-F4608595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E3D4-352F-408B-A7C0-0BF035EE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290D-258D-4728-AB39-4AC7F7DF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EB59-0EE0-440F-9DB9-EC21C892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7EC8-FAD0-475A-A0FC-84199DBF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8339-BE64-4AF8-9837-CD4D995E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D848-C806-4C21-88DB-D886E8D5F8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3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Пятиугольник 2"/>
          <p:cNvGrpSpPr/>
          <p:nvPr/>
        </p:nvGrpSpPr>
        <p:grpSpPr>
          <a:xfrm>
            <a:off x="-12600" y="-23760"/>
            <a:ext cx="9169200" cy="438120"/>
            <a:chOff x="-12600" y="-23760"/>
            <a:chExt cx="9169200" cy="438120"/>
          </a:xfrm>
        </p:grpSpPr>
        <p:pic>
          <p:nvPicPr>
            <p:cNvPr id="49" name="Пятиугольник 2" descr=""/>
            <p:cNvPicPr/>
            <p:nvPr/>
          </p:nvPicPr>
          <p:blipFill>
            <a:blip r:embed="rId1"/>
            <a:stretch/>
          </p:blipFill>
          <p:spPr>
            <a:xfrm>
              <a:off x="-12600" y="-23760"/>
              <a:ext cx="916920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 rot="10800000">
              <a:off x="0" y="-9360"/>
              <a:ext cx="914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" name="Пятиугольник 2"/>
          <p:cNvSpPr/>
          <p:nvPr/>
        </p:nvSpPr>
        <p:spPr>
          <a:xfrm rot="10800000">
            <a:off x="678960" y="320400"/>
            <a:ext cx="7877160" cy="303120"/>
          </a:xfrm>
          <a:custGeom>
            <a:avLst/>
            <a:gdLst/>
            <a:ahLst/>
            <a:rect l="l" t="t" r="r" b="b"/>
            <a:pathLst>
              <a:path w="7464124" h="936104">
                <a:moveTo>
                  <a:pt x="0" y="0"/>
                </a:moveTo>
                <a:lnTo>
                  <a:pt x="6743688" y="0"/>
                </a:lnTo>
                <a:lnTo>
                  <a:pt x="7230215" y="625070"/>
                </a:lnTo>
                <a:lnTo>
                  <a:pt x="7464124" y="926867"/>
                </a:lnTo>
                <a:lnTo>
                  <a:pt x="0" y="93610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84d7a"/>
              </a:gs>
              <a:gs pos="100000">
                <a:srgbClr val="6796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K:\АКАДЕМИЯ_ЯНВАРЬ_2017\АКАДЕМИЯ_ПРЕЗЕНТАЦИИ_ШАБЛОНЫ\шаблон для презентации академии\баннер светлый длин.png"/>
          <p:cNvPicPr/>
          <p:nvPr/>
        </p:nvPicPr>
        <p:blipFill>
          <a:blip r:embed="rId2"/>
          <a:stretch/>
        </p:blipFill>
        <p:spPr>
          <a:xfrm>
            <a:off x="-19080" y="4316400"/>
            <a:ext cx="9255240" cy="96192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1403280" y="1531800"/>
            <a:ext cx="662472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588b"/>
                </a:solidFill>
                <a:latin typeface="Calibri"/>
                <a:ea typeface="Times New Roman"/>
              </a:rPr>
              <a:t>БИОЛО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588b"/>
                </a:solidFill>
                <a:latin typeface="Calibri"/>
                <a:ea typeface="Times New Roman"/>
              </a:rPr>
              <a:t>Тема урока</a:t>
            </a:r>
            <a:r>
              <a:rPr b="0" lang="ru-RU" sz="2400" spc="-1" strike="noStrike">
                <a:solidFill>
                  <a:srgbClr val="2d588b"/>
                </a:solidFill>
                <a:latin typeface="Calibri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d588b"/>
                </a:solidFill>
                <a:latin typeface="Calibri"/>
                <a:ea typeface="Times New Roman"/>
              </a:rPr>
              <a:t>Индивидуальное развитие организм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d588b"/>
                </a:solidFill>
                <a:latin typeface="Calibri"/>
                <a:ea typeface="Times New Roman"/>
              </a:rPr>
              <a:t>(онтогенез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4314600" y="3929040"/>
            <a:ext cx="488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d588b"/>
                </a:solidFill>
                <a:latin typeface="Calibri"/>
                <a:ea typeface="Times New Roman"/>
              </a:rPr>
              <a:t>Учитель биологии: Коваленко Екатерина Михайловн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4"/>
          <p:cNvSpPr/>
          <p:nvPr/>
        </p:nvSpPr>
        <p:spPr>
          <a:xfrm>
            <a:off x="241200" y="765000"/>
            <a:ext cx="8640720" cy="89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ОРГАНОГЕНЕЗ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адка из зародышевых листков различных органов, специализация клет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>
            <a:off x="3492360" y="3219480"/>
            <a:ext cx="1998720" cy="1836720"/>
          </a:xfrm>
          <a:prstGeom prst="rect">
            <a:avLst/>
          </a:prstGeom>
          <a:ln w="0">
            <a:noFill/>
          </a:ln>
        </p:spPr>
      </p:pic>
      <p:sp>
        <p:nvSpPr>
          <p:cNvPr id="137" name="Скругленный прямоугольник 14"/>
          <p:cNvSpPr/>
          <p:nvPr/>
        </p:nvSpPr>
        <p:spPr>
          <a:xfrm>
            <a:off x="5280120" y="2065320"/>
            <a:ext cx="360036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13"/>
          <p:cNvSpPr/>
          <p:nvPr/>
        </p:nvSpPr>
        <p:spPr>
          <a:xfrm>
            <a:off x="5867280" y="2139840"/>
            <a:ext cx="27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развития тканей зародыша - </a:t>
            </a:r>
            <a:r>
              <a:rPr b="1" i="1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гистогенез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Группа 1"/>
          <p:cNvGrpSpPr/>
          <p:nvPr/>
        </p:nvGrpSpPr>
        <p:grpSpPr>
          <a:xfrm>
            <a:off x="-9360" y="-34920"/>
            <a:ext cx="9145440" cy="709560"/>
            <a:chOff x="-9360" y="-34920"/>
            <a:chExt cx="9145440" cy="709560"/>
          </a:xfrm>
        </p:grpSpPr>
        <p:grpSp>
          <p:nvGrpSpPr>
            <p:cNvPr id="140" name="Пятиугольник 2"/>
            <p:cNvGrpSpPr/>
            <p:nvPr/>
          </p:nvGrpSpPr>
          <p:grpSpPr>
            <a:xfrm>
              <a:off x="-9360" y="-34920"/>
              <a:ext cx="9145440" cy="430560"/>
              <a:chOff x="-9360" y="-34920"/>
              <a:chExt cx="9145440" cy="430560"/>
            </a:xfrm>
          </p:grpSpPr>
          <p:pic>
            <p:nvPicPr>
              <p:cNvPr id="141" name="Пятиугольник 2" descr=""/>
              <p:cNvPicPr/>
              <p:nvPr/>
            </p:nvPicPr>
            <p:blipFill>
              <a:blip r:embed="rId2"/>
              <a:stretch/>
            </p:blipFill>
            <p:spPr>
              <a:xfrm>
                <a:off x="-9360" y="-34920"/>
                <a:ext cx="9145440" cy="43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 rot="10800000">
                <a:off x="5400" y="-21600"/>
                <a:ext cx="9115200" cy="40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3" name="Пятиугольник 2"/>
            <p:cNvSpPr/>
            <p:nvPr/>
          </p:nvSpPr>
          <p:spPr>
            <a:xfrm rot="10800000">
              <a:off x="1269720" y="375480"/>
              <a:ext cx="7852320" cy="29880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Скругленный прямоугольник 21"/>
          <p:cNvSpPr/>
          <p:nvPr/>
        </p:nvSpPr>
        <p:spPr>
          <a:xfrm>
            <a:off x="241200" y="2065320"/>
            <a:ext cx="360072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аждого зародышевого листка формируется определенные ткани и орга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Скругленный прямоугольник 4"/>
          <p:cNvSpPr/>
          <p:nvPr/>
        </p:nvSpPr>
        <p:spPr>
          <a:xfrm>
            <a:off x="406440" y="781200"/>
            <a:ext cx="8640720" cy="128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ЯМОЕ ПОСТЭМБИОНАЛЬНОЕ РАЗВИТИЕ – </a:t>
            </a:r>
            <a:r>
              <a:rPr b="1" lang="ru-RU" sz="1800" spc="-1" strike="noStrike">
                <a:solidFill>
                  <a:srgbClr val="8064a2"/>
                </a:solidFill>
                <a:latin typeface="Calibri"/>
                <a:ea typeface="Times New Roman"/>
              </a:rPr>
              <a:t>развитие, при котором </a:t>
            </a: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Times New Roman"/>
              </a:rPr>
              <a:t>из яйцевых оболочек или из тела матери выходит организм со всеми органам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Times New Roman"/>
              </a:rPr>
              <a:t>свойственными взрослому животном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6" descr="mor-vir3"/>
          <p:cNvPicPr/>
          <p:nvPr/>
        </p:nvPicPr>
        <p:blipFill>
          <a:blip r:embed="rId1"/>
          <a:stretch/>
        </p:blipFill>
        <p:spPr>
          <a:xfrm>
            <a:off x="3986280" y="3103560"/>
            <a:ext cx="2438280" cy="3602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seamammal04"/>
          <p:cNvPicPr/>
          <p:nvPr/>
        </p:nvPicPr>
        <p:blipFill>
          <a:blip r:embed="rId2"/>
          <a:stretch/>
        </p:blipFill>
        <p:spPr>
          <a:xfrm>
            <a:off x="231840" y="2225520"/>
            <a:ext cx="2432160" cy="3407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049056054124052057054057050052"/>
          <p:cNvPicPr/>
          <p:nvPr/>
        </p:nvPicPr>
        <p:blipFill>
          <a:blip r:embed="rId3"/>
          <a:stretch/>
        </p:blipFill>
        <p:spPr>
          <a:xfrm>
            <a:off x="6473880" y="2792520"/>
            <a:ext cx="2590920" cy="362736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2"/>
          <p:cNvSpPr/>
          <p:nvPr/>
        </p:nvSpPr>
        <p:spPr>
          <a:xfrm>
            <a:off x="3330720" y="21938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Times New Roman"/>
              </a:rPr>
              <a:t>МЛЕКОПИТАЮЩ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Times New Roman"/>
              </a:rPr>
              <a:t>ПТИЦ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Times New Roman"/>
              </a:rPr>
              <a:t>РЕПТИЛИ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Группа 1"/>
          <p:cNvGrpSpPr/>
          <p:nvPr/>
        </p:nvGrpSpPr>
        <p:grpSpPr>
          <a:xfrm>
            <a:off x="0" y="-9360"/>
            <a:ext cx="9145440" cy="709200"/>
            <a:chOff x="0" y="-9360"/>
            <a:chExt cx="9145440" cy="709200"/>
          </a:xfrm>
        </p:grpSpPr>
        <p:grpSp>
          <p:nvGrpSpPr>
            <p:cNvPr id="151" name="Пятиугольник 2"/>
            <p:cNvGrpSpPr/>
            <p:nvPr/>
          </p:nvGrpSpPr>
          <p:grpSpPr>
            <a:xfrm>
              <a:off x="0" y="-9360"/>
              <a:ext cx="9145440" cy="435960"/>
              <a:chOff x="0" y="-9360"/>
              <a:chExt cx="9145440" cy="435960"/>
            </a:xfrm>
          </p:grpSpPr>
          <p:pic>
            <p:nvPicPr>
              <p:cNvPr id="152" name="Пятиугольник 2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-9360"/>
                <a:ext cx="9145440" cy="43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 rot="10800000">
                <a:off x="11880" y="4680"/>
                <a:ext cx="9115200" cy="40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4" name="Пятиугольник 2"/>
            <p:cNvSpPr/>
            <p:nvPr/>
          </p:nvSpPr>
          <p:spPr>
            <a:xfrm rot="10800000">
              <a:off x="1276560" y="401040"/>
              <a:ext cx="7852320" cy="29844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5" name="Рисунок 2" descr=""/>
          <p:cNvPicPr/>
          <p:nvPr/>
        </p:nvPicPr>
        <p:blipFill>
          <a:blip r:embed="rId5"/>
          <a:stretch/>
        </p:blipFill>
        <p:spPr>
          <a:xfrm>
            <a:off x="1835280" y="3495600"/>
            <a:ext cx="1887480" cy="15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C:\Users\Омега\Desktop\Рисунок6.png"/>
          <p:cNvPicPr/>
          <p:nvPr/>
        </p:nvPicPr>
        <p:blipFill>
          <a:blip r:embed="rId1"/>
          <a:stretch/>
        </p:blipFill>
        <p:spPr>
          <a:xfrm>
            <a:off x="2340000" y="2457360"/>
            <a:ext cx="4753080" cy="2705040"/>
          </a:xfrm>
          <a:prstGeom prst="rect">
            <a:avLst/>
          </a:prstGeom>
          <a:ln w="0">
            <a:noFill/>
          </a:ln>
        </p:spPr>
      </p:pic>
      <p:sp>
        <p:nvSpPr>
          <p:cNvPr id="157" name="Скругленный прямоугольник 4"/>
          <p:cNvSpPr/>
          <p:nvPr/>
        </p:nvSpPr>
        <p:spPr>
          <a:xfrm>
            <a:off x="1728720" y="765000"/>
            <a:ext cx="5742000" cy="70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ПРЯМОЕ ПОСТЭМБИОНАЛЬНОЕ РАЗВИТИЕ- развитие с метаморфоз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" name="Группа 1"/>
          <p:cNvGrpSpPr/>
          <p:nvPr/>
        </p:nvGrpSpPr>
        <p:grpSpPr>
          <a:xfrm>
            <a:off x="0" y="-9360"/>
            <a:ext cx="9145440" cy="709200"/>
            <a:chOff x="0" y="-9360"/>
            <a:chExt cx="9145440" cy="709200"/>
          </a:xfrm>
        </p:grpSpPr>
        <p:grpSp>
          <p:nvGrpSpPr>
            <p:cNvPr id="159" name="Пятиугольник 2"/>
            <p:cNvGrpSpPr/>
            <p:nvPr/>
          </p:nvGrpSpPr>
          <p:grpSpPr>
            <a:xfrm>
              <a:off x="0" y="-9360"/>
              <a:ext cx="9145440" cy="435960"/>
              <a:chOff x="0" y="-9360"/>
              <a:chExt cx="9145440" cy="435960"/>
            </a:xfrm>
          </p:grpSpPr>
          <p:pic>
            <p:nvPicPr>
              <p:cNvPr id="160" name="Пятиугольник 2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-9360"/>
                <a:ext cx="9145440" cy="43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 rot="10800000">
                <a:off x="11880" y="4680"/>
                <a:ext cx="9115200" cy="40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2" name="Пятиугольник 2"/>
            <p:cNvSpPr/>
            <p:nvPr/>
          </p:nvSpPr>
          <p:spPr>
            <a:xfrm rot="10800000">
              <a:off x="1276560" y="401040"/>
              <a:ext cx="7852320" cy="29844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Прямоугольник 5"/>
          <p:cNvSpPr/>
          <p:nvPr/>
        </p:nvSpPr>
        <p:spPr>
          <a:xfrm>
            <a:off x="149400" y="1487520"/>
            <a:ext cx="8901000" cy="11912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 яйца выходит личинка, со специальными личиночными органами, 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зрослом состоянии отсутствующи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 временем органы личинки заменяются органами, свойственными взрослым особям. Личинка превращается во взрослое животно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2081160" y="973080"/>
            <a:ext cx="5292720" cy="447120"/>
          </a:xfrm>
          <a:prstGeom prst="flowChartAlternateProcess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 неполным превращением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sarancha"/>
          <p:cNvPicPr/>
          <p:nvPr/>
        </p:nvPicPr>
        <p:blipFill>
          <a:blip r:embed="rId1"/>
          <a:stretch/>
        </p:blipFill>
        <p:spPr>
          <a:xfrm>
            <a:off x="-182520" y="1792440"/>
            <a:ext cx="4181400" cy="2487600"/>
          </a:xfrm>
          <a:prstGeom prst="rect">
            <a:avLst/>
          </a:prstGeom>
          <a:ln w="0">
            <a:noFill/>
          </a:ln>
        </p:spPr>
      </p:pic>
      <p:grpSp>
        <p:nvGrpSpPr>
          <p:cNvPr id="166" name="Группа 1"/>
          <p:cNvGrpSpPr/>
          <p:nvPr/>
        </p:nvGrpSpPr>
        <p:grpSpPr>
          <a:xfrm>
            <a:off x="-1440" y="19080"/>
            <a:ext cx="9145440" cy="709200"/>
            <a:chOff x="-1440" y="19080"/>
            <a:chExt cx="9145440" cy="709200"/>
          </a:xfrm>
        </p:grpSpPr>
        <p:grpSp>
          <p:nvGrpSpPr>
            <p:cNvPr id="167" name="Пятиугольник 2"/>
            <p:cNvGrpSpPr/>
            <p:nvPr/>
          </p:nvGrpSpPr>
          <p:grpSpPr>
            <a:xfrm>
              <a:off x="-1440" y="19080"/>
              <a:ext cx="9145440" cy="430920"/>
              <a:chOff x="-1440" y="19080"/>
              <a:chExt cx="9145440" cy="430920"/>
            </a:xfrm>
          </p:grpSpPr>
          <p:pic>
            <p:nvPicPr>
              <p:cNvPr id="168" name="Пятиугольник 2" descr=""/>
              <p:cNvPicPr/>
              <p:nvPr/>
            </p:nvPicPr>
            <p:blipFill>
              <a:blip r:embed="rId2"/>
              <a:stretch/>
            </p:blipFill>
            <p:spPr>
              <a:xfrm>
                <a:off x="-1440" y="19080"/>
                <a:ext cx="9145440" cy="43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"/>
              <p:cNvSpPr/>
              <p:nvPr/>
            </p:nvSpPr>
            <p:spPr>
              <a:xfrm rot="10800000">
                <a:off x="15120" y="31320"/>
                <a:ext cx="911520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0" name="Пятиугольник 2"/>
            <p:cNvSpPr/>
            <p:nvPr/>
          </p:nvSpPr>
          <p:spPr>
            <a:xfrm rot="10800000">
              <a:off x="1279440" y="428760"/>
              <a:ext cx="7852320" cy="29916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" name="Трапеция 15"/>
          <p:cNvSpPr/>
          <p:nvPr/>
        </p:nvSpPr>
        <p:spPr>
          <a:xfrm>
            <a:off x="6156360" y="1887480"/>
            <a:ext cx="2862360" cy="23940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ЯЙЦ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ИЧИ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МА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2" name="Прямая со стрелкой 16"/>
          <p:cNvCxnSpPr/>
          <p:nvPr/>
        </p:nvCxnSpPr>
        <p:spPr>
          <a:xfrm>
            <a:off x="7586280" y="2787480"/>
            <a:ext cx="108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3" name="Прямая со стрелкой 17"/>
          <p:cNvCxnSpPr/>
          <p:nvPr/>
        </p:nvCxnSpPr>
        <p:spPr>
          <a:xfrm>
            <a:off x="7584840" y="3394080"/>
            <a:ext cx="1080" cy="324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4" name="Скругленный прямоугольник 10"/>
          <p:cNvSpPr/>
          <p:nvPr/>
        </p:nvSpPr>
        <p:spPr>
          <a:xfrm>
            <a:off x="3605040" y="2776680"/>
            <a:ext cx="2546640" cy="7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РЯ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ужесткокрыл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рекоз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ямокрылые и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1"/>
          <p:cNvSpPr/>
          <p:nvPr/>
        </p:nvSpPr>
        <p:spPr>
          <a:xfrm>
            <a:off x="250920" y="1944720"/>
            <a:ext cx="57600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яйц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Овал 5"/>
          <p:cNvSpPr/>
          <p:nvPr/>
        </p:nvSpPr>
        <p:spPr>
          <a:xfrm>
            <a:off x="1692360" y="843120"/>
            <a:ext cx="5759280" cy="162072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00000"/>
                </a:solidFill>
                <a:latin typeface="Calibri"/>
                <a:ea typeface="Times New Roman"/>
              </a:rPr>
              <a:t>ИНДИВИДУАЛЬНОЕ РАЗВИТИЕ</a:t>
            </a:r>
            <a:r>
              <a:rPr b="1" lang="en-US" sz="2100" spc="-1" strike="noStrike">
                <a:solidFill>
                  <a:srgbClr val="c00000"/>
                </a:solidFill>
                <a:latin typeface="Calibri"/>
                <a:ea typeface="Times New Roman"/>
              </a:rPr>
              <a:t> -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00000"/>
                </a:solidFill>
                <a:latin typeface="Calibri"/>
                <a:ea typeface="Times New Roman"/>
              </a:rPr>
              <a:t>ОНТОГЕНЕЗ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Скругленный прямоугольник 7"/>
          <p:cNvSpPr/>
          <p:nvPr/>
        </p:nvSpPr>
        <p:spPr>
          <a:xfrm>
            <a:off x="1042920" y="2604960"/>
            <a:ext cx="6985080" cy="215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 греческого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ontos-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сущее и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genesis –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зникновение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это индивидуальное развития особи от зарождения (оплодотворения яйцеклетки, начала самостоятельной жизни органа вегетативного размножения или деления материнской одноклеточной особи) до конца жизни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Группа 1"/>
          <p:cNvGrpSpPr/>
          <p:nvPr/>
        </p:nvGrpSpPr>
        <p:grpSpPr>
          <a:xfrm>
            <a:off x="0" y="-9360"/>
            <a:ext cx="9145440" cy="709200"/>
            <a:chOff x="0" y="-9360"/>
            <a:chExt cx="9145440" cy="709200"/>
          </a:xfrm>
        </p:grpSpPr>
        <p:grpSp>
          <p:nvGrpSpPr>
            <p:cNvPr id="58" name="Пятиугольник 2"/>
            <p:cNvGrpSpPr/>
            <p:nvPr/>
          </p:nvGrpSpPr>
          <p:grpSpPr>
            <a:xfrm>
              <a:off x="0" y="-9360"/>
              <a:ext cx="9145440" cy="435960"/>
              <a:chOff x="0" y="-9360"/>
              <a:chExt cx="9145440" cy="435960"/>
            </a:xfrm>
          </p:grpSpPr>
          <p:pic>
            <p:nvPicPr>
              <p:cNvPr id="59" name="Пятиугольник 2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9360"/>
                <a:ext cx="9145440" cy="43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10800000">
                <a:off x="11880" y="4680"/>
                <a:ext cx="9115200" cy="40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" name="Пятиугольник 2"/>
            <p:cNvSpPr/>
            <p:nvPr/>
          </p:nvSpPr>
          <p:spPr>
            <a:xfrm rot="10800000">
              <a:off x="1276560" y="401040"/>
              <a:ext cx="7852320" cy="29844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Стрелка вниз 12"/>
          <p:cNvSpPr/>
          <p:nvPr/>
        </p:nvSpPr>
        <p:spPr>
          <a:xfrm rot="558600">
            <a:off x="2193480" y="1749240"/>
            <a:ext cx="574920" cy="4618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5642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Стрелка вниз 13"/>
          <p:cNvSpPr/>
          <p:nvPr/>
        </p:nvSpPr>
        <p:spPr>
          <a:xfrm rot="21138600">
            <a:off x="6367320" y="1765080"/>
            <a:ext cx="549360" cy="4302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662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Овал 21"/>
          <p:cNvSpPr/>
          <p:nvPr/>
        </p:nvSpPr>
        <p:spPr>
          <a:xfrm>
            <a:off x="603360" y="3179880"/>
            <a:ext cx="3450960" cy="186192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охватывает процессы происходящие с момента первого деления зиготы до выхода из яйца или рожд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Скругленный прямоугольник 17"/>
          <p:cNvSpPr/>
          <p:nvPr/>
        </p:nvSpPr>
        <p:spPr>
          <a:xfrm>
            <a:off x="611280" y="2201760"/>
            <a:ext cx="343368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МБРИОНАЛЬН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Группа 1"/>
          <p:cNvGrpSpPr/>
          <p:nvPr/>
        </p:nvGrpSpPr>
        <p:grpSpPr>
          <a:xfrm>
            <a:off x="0" y="-17640"/>
            <a:ext cx="9145440" cy="709920"/>
            <a:chOff x="0" y="-17640"/>
            <a:chExt cx="9145440" cy="709920"/>
          </a:xfrm>
        </p:grpSpPr>
        <p:grpSp>
          <p:nvGrpSpPr>
            <p:cNvPr id="67" name="Пятиугольник 2"/>
            <p:cNvGrpSpPr/>
            <p:nvPr/>
          </p:nvGrpSpPr>
          <p:grpSpPr>
            <a:xfrm>
              <a:off x="0" y="-17640"/>
              <a:ext cx="9145440" cy="431280"/>
              <a:chOff x="0" y="-17640"/>
              <a:chExt cx="9145440" cy="431280"/>
            </a:xfrm>
          </p:grpSpPr>
          <p:pic>
            <p:nvPicPr>
              <p:cNvPr id="68" name="Пятиугольник 2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17640"/>
                <a:ext cx="914544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"/>
              <p:cNvSpPr/>
              <p:nvPr/>
            </p:nvSpPr>
            <p:spPr>
              <a:xfrm rot="10800000">
                <a:off x="11880" y="-5040"/>
                <a:ext cx="911520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" name="Пятиугольник 2"/>
            <p:cNvSpPr/>
            <p:nvPr/>
          </p:nvSpPr>
          <p:spPr>
            <a:xfrm rot="10800000">
              <a:off x="1276560" y="392400"/>
              <a:ext cx="7852320" cy="29952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Овал 16"/>
          <p:cNvSpPr/>
          <p:nvPr/>
        </p:nvSpPr>
        <p:spPr>
          <a:xfrm>
            <a:off x="773280" y="719280"/>
            <a:ext cx="7619760" cy="108900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7030a0"/>
                </a:solidFill>
                <a:latin typeface="Calibri"/>
                <a:ea typeface="Times New Roman"/>
              </a:rPr>
              <a:t>ИНДИВИДУАЛЬНОЕ РАЗВИТИЕ ЖИВОТНЫ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14"/>
          <p:cNvSpPr/>
          <p:nvPr/>
        </p:nvSpPr>
        <p:spPr>
          <a:xfrm>
            <a:off x="5337000" y="2201760"/>
            <a:ext cx="321336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СТЭМБРИОНАЛЬН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Овал 15"/>
          <p:cNvSpPr/>
          <p:nvPr/>
        </p:nvSpPr>
        <p:spPr>
          <a:xfrm>
            <a:off x="5099040" y="3179880"/>
            <a:ext cx="3451320" cy="186192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витие организма с момента его рождения или выхода из яйцевых оболочек до смер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7"/>
          <p:cNvSpPr/>
          <p:nvPr/>
        </p:nvSpPr>
        <p:spPr>
          <a:xfrm>
            <a:off x="1143000" y="3435480"/>
            <a:ext cx="68580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8"/>
          <p:cNvSpPr/>
          <p:nvPr/>
        </p:nvSpPr>
        <p:spPr>
          <a:xfrm>
            <a:off x="2951280" y="4667400"/>
            <a:ext cx="34290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835200" y="1276200"/>
            <a:ext cx="3232080" cy="2767320"/>
          </a:xfrm>
          <a:prstGeom prst="flowChartAlternate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нутриутробно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канчиваетс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ождени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(большинство млекопитающих, в том числе человек и т.д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4903920" y="1276200"/>
            <a:ext cx="3376440" cy="2767320"/>
          </a:xfrm>
          <a:prstGeom prst="flowChartAlternate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не тела матер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канчивается выходом из яйцевых оболочек       (многие беспозвоночные, большинство рыб, земноводные, пресмыкающиеся, птицы, однопроходные млекопитающие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684360" y="4229280"/>
            <a:ext cx="7848360" cy="889560"/>
          </a:xfrm>
          <a:prstGeom prst="flowChartAlternateProcess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У преобладающего большинства животных эмбриональный период протекает сходным образом и состоит из 5 этапов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обления, бластуляции, гаструляции, гистогенеза и органогенез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Группа 1"/>
          <p:cNvGrpSpPr/>
          <p:nvPr/>
        </p:nvGrpSpPr>
        <p:grpSpPr>
          <a:xfrm>
            <a:off x="0" y="-9360"/>
            <a:ext cx="9145440" cy="709200"/>
            <a:chOff x="0" y="-9360"/>
            <a:chExt cx="9145440" cy="709200"/>
          </a:xfrm>
        </p:grpSpPr>
        <p:grpSp>
          <p:nvGrpSpPr>
            <p:cNvPr id="80" name="Пятиугольник 2"/>
            <p:cNvGrpSpPr/>
            <p:nvPr/>
          </p:nvGrpSpPr>
          <p:grpSpPr>
            <a:xfrm>
              <a:off x="0" y="-9360"/>
              <a:ext cx="9145440" cy="435960"/>
              <a:chOff x="0" y="-9360"/>
              <a:chExt cx="9145440" cy="435960"/>
            </a:xfrm>
          </p:grpSpPr>
          <p:pic>
            <p:nvPicPr>
              <p:cNvPr id="81" name="Пятиугольник 2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9360"/>
                <a:ext cx="9145440" cy="43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 rot="10800000">
                <a:off x="11880" y="4680"/>
                <a:ext cx="9115200" cy="40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3" name="Пятиугольник 2"/>
            <p:cNvSpPr/>
            <p:nvPr/>
          </p:nvSpPr>
          <p:spPr>
            <a:xfrm rot="10800000">
              <a:off x="1276560" y="401040"/>
              <a:ext cx="7852320" cy="29844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" name="Скругленный прямоугольник 15"/>
          <p:cNvSpPr/>
          <p:nvPr/>
        </p:nvSpPr>
        <p:spPr>
          <a:xfrm>
            <a:off x="863640" y="792000"/>
            <a:ext cx="7416720" cy="39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  <a:ea typeface="Times New Roman"/>
              </a:rPr>
              <a:t>ЭМБРИОНАЛЬНОЕ РАЗВИТИЕ ЖИВОТНЫ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Скругленный прямоугольник 4"/>
          <p:cNvSpPr/>
          <p:nvPr/>
        </p:nvSpPr>
        <p:spPr>
          <a:xfrm>
            <a:off x="1116000" y="771480"/>
            <a:ext cx="6985080" cy="66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0504d"/>
                </a:solidFill>
                <a:latin typeface="Calibri"/>
                <a:ea typeface="Times New Roman"/>
              </a:rPr>
              <a:t>ЭТАПЫ ЭМБРИОНАЛЬНОГО РАЗВИТИ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хема 6" descr=""/>
          <p:cNvPicPr/>
          <p:nvPr/>
        </p:nvPicPr>
        <p:blipFill>
          <a:blip r:embed="rId1"/>
          <a:stretch/>
        </p:blipFill>
        <p:spPr>
          <a:xfrm>
            <a:off x="530280" y="1536840"/>
            <a:ext cx="8156520" cy="3565440"/>
          </a:xfrm>
          <a:prstGeom prst="rect">
            <a:avLst/>
          </a:prstGeom>
          <a:ln w="0">
            <a:noFill/>
          </a:ln>
        </p:spPr>
      </p:pic>
      <p:grpSp>
        <p:nvGrpSpPr>
          <p:cNvPr id="87" name="Группа 1"/>
          <p:cNvGrpSpPr/>
          <p:nvPr/>
        </p:nvGrpSpPr>
        <p:grpSpPr>
          <a:xfrm>
            <a:off x="0" y="-9360"/>
            <a:ext cx="9145440" cy="709200"/>
            <a:chOff x="0" y="-9360"/>
            <a:chExt cx="9145440" cy="709200"/>
          </a:xfrm>
        </p:grpSpPr>
        <p:grpSp>
          <p:nvGrpSpPr>
            <p:cNvPr id="88" name="Пятиугольник 2"/>
            <p:cNvGrpSpPr/>
            <p:nvPr/>
          </p:nvGrpSpPr>
          <p:grpSpPr>
            <a:xfrm>
              <a:off x="0" y="-9360"/>
              <a:ext cx="9145440" cy="435960"/>
              <a:chOff x="0" y="-9360"/>
              <a:chExt cx="9145440" cy="435960"/>
            </a:xfrm>
          </p:grpSpPr>
          <p:pic>
            <p:nvPicPr>
              <p:cNvPr id="89" name="Пятиугольник 2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-9360"/>
                <a:ext cx="9145440" cy="43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 rot="10800000">
                <a:off x="11880" y="4680"/>
                <a:ext cx="9115200" cy="40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1" name="Пятиугольник 2"/>
            <p:cNvSpPr/>
            <p:nvPr/>
          </p:nvSpPr>
          <p:spPr>
            <a:xfrm rot="10800000">
              <a:off x="1276560" y="401040"/>
              <a:ext cx="7852320" cy="29844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Скругленный прямоугольник 11"/>
          <p:cNvSpPr/>
          <p:nvPr/>
        </p:nvSpPr>
        <p:spPr>
          <a:xfrm>
            <a:off x="1378080" y="4548240"/>
            <a:ext cx="5105160" cy="477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Calibri"/>
                <a:ea typeface="Times New Roman"/>
              </a:rPr>
              <a:t>А- зигота        В, С- стадия 2-х и 4-х бластомеров    </a:t>
            </a:r>
            <a:r>
              <a:rPr b="0" i="1" lang="en-US" sz="1400" spc="-1" strike="noStrike">
                <a:solidFill>
                  <a:srgbClr val="990000"/>
                </a:solidFill>
                <a:latin typeface="Calibri"/>
                <a:ea typeface="Times New Roman"/>
              </a:rPr>
              <a:t>D</a:t>
            </a:r>
            <a:r>
              <a:rPr b="0" i="1" lang="ru-RU" sz="1400" spc="-1" strike="noStrike">
                <a:solidFill>
                  <a:srgbClr val="990000"/>
                </a:solidFill>
                <a:latin typeface="Calibri"/>
                <a:ea typeface="Times New Roman"/>
              </a:rPr>
              <a:t>- морул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1754280" y="730080"/>
            <a:ext cx="5743440" cy="1148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Calibri"/>
                <a:ea typeface="Times New Roman"/>
              </a:rPr>
              <a:t>ДРОБЛЕНИЕ</a:t>
            </a:r>
            <a:r>
              <a:rPr b="1" lang="ru-RU" sz="2400" spc="-1" strike="noStrike">
                <a:solidFill>
                  <a:srgbClr val="403152"/>
                </a:solidFill>
                <a:latin typeface="Calibri"/>
                <a:ea typeface="Times New Roman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огократное деление зиготы путем митоза (без рост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Скругленный прямоугольник 7"/>
          <p:cNvSpPr/>
          <p:nvPr/>
        </p:nvSpPr>
        <p:spPr>
          <a:xfrm>
            <a:off x="1440000" y="1968480"/>
            <a:ext cx="6372000" cy="118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результате  деления из зиготы образую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начале 2 клетки, затем 4, 8, 16 и т.д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етки, возникающ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 дроблении, называются </a:t>
            </a:r>
            <a:r>
              <a:rPr b="1" i="1" lang="ru-RU" sz="1800" spc="-1" strike="noStrike">
                <a:solidFill>
                  <a:srgbClr val="990000"/>
                </a:solidFill>
                <a:latin typeface="Calibri"/>
                <a:ea typeface="Times New Roman"/>
              </a:rPr>
              <a:t>бластомерам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6" descr="r1"/>
          <p:cNvPicPr/>
          <p:nvPr/>
        </p:nvPicPr>
        <p:blipFill>
          <a:blip r:embed="rId1"/>
          <a:stretch/>
        </p:blipFill>
        <p:spPr>
          <a:xfrm>
            <a:off x="1382760" y="3286080"/>
            <a:ext cx="6572160" cy="1370160"/>
          </a:xfrm>
          <a:prstGeom prst="rect">
            <a:avLst/>
          </a:prstGeom>
          <a:ln w="0">
            <a:noFill/>
          </a:ln>
        </p:spPr>
      </p:pic>
      <p:grpSp>
        <p:nvGrpSpPr>
          <p:cNvPr id="96" name="Группа 1"/>
          <p:cNvGrpSpPr/>
          <p:nvPr/>
        </p:nvGrpSpPr>
        <p:grpSpPr>
          <a:xfrm>
            <a:off x="0" y="-9360"/>
            <a:ext cx="9145440" cy="709200"/>
            <a:chOff x="0" y="-9360"/>
            <a:chExt cx="9145440" cy="709200"/>
          </a:xfrm>
        </p:grpSpPr>
        <p:grpSp>
          <p:nvGrpSpPr>
            <p:cNvPr id="97" name="Пятиугольник 2"/>
            <p:cNvGrpSpPr/>
            <p:nvPr/>
          </p:nvGrpSpPr>
          <p:grpSpPr>
            <a:xfrm>
              <a:off x="0" y="-9360"/>
              <a:ext cx="9145440" cy="435960"/>
              <a:chOff x="0" y="-9360"/>
              <a:chExt cx="9145440" cy="435960"/>
            </a:xfrm>
          </p:grpSpPr>
          <p:pic>
            <p:nvPicPr>
              <p:cNvPr id="98" name="Пятиугольник 2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-9360"/>
                <a:ext cx="9145440" cy="43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10800000">
                <a:off x="11880" y="4680"/>
                <a:ext cx="9115200" cy="40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0" name="Пятиугольник 2"/>
            <p:cNvSpPr/>
            <p:nvPr/>
          </p:nvSpPr>
          <p:spPr>
            <a:xfrm rot="10800000">
              <a:off x="1276560" y="401040"/>
              <a:ext cx="7852320" cy="29844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Скругленный прямоугольник 6"/>
          <p:cNvSpPr/>
          <p:nvPr/>
        </p:nvSpPr>
        <p:spPr>
          <a:xfrm>
            <a:off x="598320" y="1123920"/>
            <a:ext cx="3294360" cy="3726000"/>
          </a:xfrm>
          <a:custGeom>
            <a:avLst/>
            <a:gdLst>
              <a:gd name="textAreaLeft" fmla="*/ 160560 w 3294360"/>
              <a:gd name="textAreaRight" fmla="*/ 3133800 w 3294360"/>
              <a:gd name="textAreaTop" fmla="*/ 160560 h 3726000"/>
              <a:gd name="textAreaBottom" fmla="*/ 3565440 h 3726000"/>
            </a:gdLst>
            <a:ahLst/>
            <a:rect l="textAreaLeft" t="textAreaTop" r="textAreaRight" b="textAreaBottom"/>
            <a:pathLst>
              <a:path w="21600" h="24430">
                <a:moveTo>
                  <a:pt x="3600" y="0"/>
                </a:moveTo>
                <a:arcTo wR="3600" hR="3600" stAng="16200000" swAng="-5400000"/>
                <a:lnTo>
                  <a:pt x="0" y="20830"/>
                </a:lnTo>
                <a:arcTo wR="3600" hR="3600" stAng="10800000" swAng="-5400000"/>
                <a:lnTo>
                  <a:pt x="18000" y="24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760320" y="1517760"/>
            <a:ext cx="2970360" cy="283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дробления количество клет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 растет, они становятся мельче и образуют сферу, внутр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ой возникает полость – </a:t>
            </a:r>
            <a:r>
              <a:rPr b="1" i="1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бластоцел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этого момента зародыш называетс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бластуло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golubovskyj_blastocyst"/>
          <p:cNvPicPr/>
          <p:nvPr/>
        </p:nvPicPr>
        <p:blipFill>
          <a:blip r:embed="rId1"/>
          <a:stretch/>
        </p:blipFill>
        <p:spPr>
          <a:xfrm>
            <a:off x="5433840" y="1347840"/>
            <a:ext cx="3006720" cy="3149640"/>
          </a:xfrm>
          <a:prstGeom prst="rect">
            <a:avLst/>
          </a:prstGeom>
          <a:ln w="0">
            <a:noFill/>
          </a:ln>
        </p:spPr>
      </p:pic>
      <p:sp>
        <p:nvSpPr>
          <p:cNvPr id="104" name="Line 19"/>
          <p:cNvSpPr/>
          <p:nvPr/>
        </p:nvSpPr>
        <p:spPr>
          <a:xfrm flipV="1">
            <a:off x="3419640" y="2087280"/>
            <a:ext cx="2376360" cy="12762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Line 20"/>
          <p:cNvSpPr/>
          <p:nvPr/>
        </p:nvSpPr>
        <p:spPr>
          <a:xfrm flipV="1">
            <a:off x="2843280" y="3147480"/>
            <a:ext cx="3600360" cy="100836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Группа 1"/>
          <p:cNvGrpSpPr/>
          <p:nvPr/>
        </p:nvGrpSpPr>
        <p:grpSpPr>
          <a:xfrm>
            <a:off x="0" y="-9360"/>
            <a:ext cx="9145440" cy="709200"/>
            <a:chOff x="0" y="-9360"/>
            <a:chExt cx="9145440" cy="709200"/>
          </a:xfrm>
        </p:grpSpPr>
        <p:grpSp>
          <p:nvGrpSpPr>
            <p:cNvPr id="107" name="Пятиугольник 2"/>
            <p:cNvGrpSpPr/>
            <p:nvPr/>
          </p:nvGrpSpPr>
          <p:grpSpPr>
            <a:xfrm>
              <a:off x="0" y="-9360"/>
              <a:ext cx="9145440" cy="435960"/>
              <a:chOff x="0" y="-9360"/>
              <a:chExt cx="9145440" cy="435960"/>
            </a:xfrm>
          </p:grpSpPr>
          <p:pic>
            <p:nvPicPr>
              <p:cNvPr id="108" name="Пятиугольник 2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-9360"/>
                <a:ext cx="9145440" cy="43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10800000">
                <a:off x="11880" y="4680"/>
                <a:ext cx="9115200" cy="40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0" name="Пятиугольник 2"/>
            <p:cNvSpPr/>
            <p:nvPr/>
          </p:nvSpPr>
          <p:spPr>
            <a:xfrm rot="10800000">
              <a:off x="1276560" y="401040"/>
              <a:ext cx="7852320" cy="29844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Скругленный прямоугольник 10"/>
          <p:cNvSpPr/>
          <p:nvPr/>
        </p:nvSpPr>
        <p:spPr>
          <a:xfrm>
            <a:off x="2771640" y="733320"/>
            <a:ext cx="3600720" cy="363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Calibri"/>
                <a:ea typeface="Times New Roman"/>
              </a:rPr>
              <a:t>БЛАСТУЛЯЦИЯ</a:t>
            </a:r>
            <a:r>
              <a:rPr b="1" lang="ru-RU" sz="2400" spc="-1" strike="noStrike">
                <a:solidFill>
                  <a:srgbClr val="403152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300px-Gastrulation"/>
          <p:cNvPicPr/>
          <p:nvPr/>
        </p:nvPicPr>
        <p:blipFill>
          <a:blip r:embed="rId1"/>
          <a:stretch/>
        </p:blipFill>
        <p:spPr>
          <a:xfrm>
            <a:off x="1195560" y="1936800"/>
            <a:ext cx="3509640" cy="2320920"/>
          </a:xfrm>
          <a:prstGeom prst="rect">
            <a:avLst/>
          </a:prstGeom>
          <a:ln w="0">
            <a:noFill/>
          </a:ln>
        </p:spPr>
      </p:pic>
      <p:cxnSp>
        <p:nvCxnSpPr>
          <p:cNvPr id="113" name="Прямая со стрелкой 15"/>
          <p:cNvCxnSpPr/>
          <p:nvPr/>
        </p:nvCxnSpPr>
        <p:spPr>
          <a:xfrm flipH="1">
            <a:off x="4363560" y="2095200"/>
            <a:ext cx="938880" cy="656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Прямая со стрелкой 19"/>
          <p:cNvCxnSpPr>
            <a:stCxn id="115" idx="1"/>
          </p:cNvCxnSpPr>
          <p:nvPr/>
        </p:nvCxnSpPr>
        <p:spPr>
          <a:xfrm flipH="1">
            <a:off x="4230360" y="2951280"/>
            <a:ext cx="908640" cy="18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6" name="Прямая со стрелкой 24"/>
          <p:cNvCxnSpPr>
            <a:stCxn id="117" idx="1"/>
          </p:cNvCxnSpPr>
          <p:nvPr/>
        </p:nvCxnSpPr>
        <p:spPr>
          <a:xfrm flipH="1" flipV="1">
            <a:off x="4338360" y="3252240"/>
            <a:ext cx="815040" cy="518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18" name="Группа 1"/>
          <p:cNvGrpSpPr/>
          <p:nvPr/>
        </p:nvGrpSpPr>
        <p:grpSpPr>
          <a:xfrm>
            <a:off x="0" y="-9360"/>
            <a:ext cx="9145440" cy="709200"/>
            <a:chOff x="0" y="-9360"/>
            <a:chExt cx="9145440" cy="709200"/>
          </a:xfrm>
        </p:grpSpPr>
        <p:grpSp>
          <p:nvGrpSpPr>
            <p:cNvPr id="119" name="Пятиугольник 2"/>
            <p:cNvGrpSpPr/>
            <p:nvPr/>
          </p:nvGrpSpPr>
          <p:grpSpPr>
            <a:xfrm>
              <a:off x="0" y="-9360"/>
              <a:ext cx="9145440" cy="435960"/>
              <a:chOff x="0" y="-9360"/>
              <a:chExt cx="9145440" cy="435960"/>
            </a:xfrm>
          </p:grpSpPr>
          <p:pic>
            <p:nvPicPr>
              <p:cNvPr id="120" name="Пятиугольник 2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-9360"/>
                <a:ext cx="9145440" cy="43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 rot="10800000">
                <a:off x="11880" y="4680"/>
                <a:ext cx="9115200" cy="40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2" name="Пятиугольник 2"/>
            <p:cNvSpPr/>
            <p:nvPr/>
          </p:nvSpPr>
          <p:spPr>
            <a:xfrm rot="10800000">
              <a:off x="1276560" y="401040"/>
              <a:ext cx="7852320" cy="29844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Блок-схема: альтернативный процесс 17"/>
          <p:cNvSpPr/>
          <p:nvPr/>
        </p:nvSpPr>
        <p:spPr>
          <a:xfrm>
            <a:off x="1150920" y="1298520"/>
            <a:ext cx="6842160" cy="459000"/>
          </a:xfrm>
          <a:prstGeom prst="flowChartAlternateProcess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ТРУЛА -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родыш, состоящий из двух зародышевых листк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Скругленный прямоугольник 20"/>
          <p:cNvSpPr/>
          <p:nvPr/>
        </p:nvSpPr>
        <p:spPr>
          <a:xfrm>
            <a:off x="5113440" y="1905120"/>
            <a:ext cx="3944880" cy="53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КТОДЕРМА-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жный зародышевый лис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Скругленный прямоугольник 23"/>
          <p:cNvSpPr/>
          <p:nvPr/>
        </p:nvSpPr>
        <p:spPr>
          <a:xfrm>
            <a:off x="611280" y="4471920"/>
            <a:ext cx="7999200" cy="525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це гаструлы может образоваться  третий зародышевый листок – </a:t>
            </a:r>
            <a:r>
              <a:rPr b="1" i="1" lang="ru-RU" sz="1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мезодерм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ая располагается между эктодермой и энтодермо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Скругленный прямоугольник 25"/>
          <p:cNvSpPr/>
          <p:nvPr/>
        </p:nvSpPr>
        <p:spPr>
          <a:xfrm>
            <a:off x="61920" y="747720"/>
            <a:ext cx="899640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ГАСТРУЛЯЦИЯ </a:t>
            </a:r>
            <a:r>
              <a:rPr b="1" lang="ru-RU" sz="18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- </a:t>
            </a:r>
            <a:r>
              <a:rPr b="1" lang="ru-RU" sz="1800" spc="-1" strike="noStrike">
                <a:solidFill>
                  <a:srgbClr val="403152"/>
                </a:solidFill>
                <a:latin typeface="Times New Roman"/>
              </a:rPr>
              <a:t>совокупность процессов, приводящих к образованию гаструл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кругленный прямоугольник 30"/>
          <p:cNvSpPr/>
          <p:nvPr/>
        </p:nvSpPr>
        <p:spPr>
          <a:xfrm>
            <a:off x="5138640" y="2673360"/>
            <a:ext cx="3919680" cy="55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НТОДЕРМА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ий зародышевый лис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Скругленный прямоугольник 32"/>
          <p:cNvSpPr/>
          <p:nvPr/>
        </p:nvSpPr>
        <p:spPr>
          <a:xfrm>
            <a:off x="5153040" y="3490920"/>
            <a:ext cx="3917880" cy="55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РВИЧНЫЙ Р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Скругленный прямоугольник 5"/>
          <p:cNvSpPr/>
          <p:nvPr/>
        </p:nvSpPr>
        <p:spPr>
          <a:xfrm>
            <a:off x="285840" y="790560"/>
            <a:ext cx="8569080" cy="120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285840" y="80172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ая стадия развития зародыша-</a:t>
            </a: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нейруляц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одящая к формированию – </a:t>
            </a:r>
            <a:r>
              <a:rPr b="1" i="1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нейрулы (трехслойного зародыша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начинается с 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 осевых органов: нервная трубка, хорда, кишечная трубк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" name="Группа 1"/>
          <p:cNvGrpSpPr/>
          <p:nvPr/>
        </p:nvGrpSpPr>
        <p:grpSpPr>
          <a:xfrm>
            <a:off x="0" y="68400"/>
            <a:ext cx="9145440" cy="709200"/>
            <a:chOff x="0" y="68400"/>
            <a:chExt cx="9145440" cy="709200"/>
          </a:xfrm>
        </p:grpSpPr>
        <p:grpSp>
          <p:nvGrpSpPr>
            <p:cNvPr id="130" name="Пятиугольник 2"/>
            <p:cNvGrpSpPr/>
            <p:nvPr/>
          </p:nvGrpSpPr>
          <p:grpSpPr>
            <a:xfrm>
              <a:off x="0" y="68400"/>
              <a:ext cx="9145440" cy="430920"/>
              <a:chOff x="0" y="68400"/>
              <a:chExt cx="9145440" cy="430920"/>
            </a:xfrm>
          </p:grpSpPr>
          <p:pic>
            <p:nvPicPr>
              <p:cNvPr id="131" name="Пятиугольник 2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68400"/>
                <a:ext cx="9145440" cy="43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"/>
              <p:cNvSpPr/>
              <p:nvPr/>
            </p:nvSpPr>
            <p:spPr>
              <a:xfrm rot="10800000">
                <a:off x="11880" y="81000"/>
                <a:ext cx="911520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3" name="Пятиугольник 2"/>
            <p:cNvSpPr/>
            <p:nvPr/>
          </p:nvSpPr>
          <p:spPr>
            <a:xfrm rot="10800000">
              <a:off x="1276560" y="478080"/>
              <a:ext cx="7852320" cy="29916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4" name="Рисунок 1" descr=""/>
          <p:cNvPicPr/>
          <p:nvPr/>
        </p:nvPicPr>
        <p:blipFill>
          <a:blip r:embed="rId2"/>
          <a:stretch/>
        </p:blipFill>
        <p:spPr>
          <a:xfrm>
            <a:off x="1908000" y="2077920"/>
            <a:ext cx="5832720" cy="299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8T13:10:34Z</dcterms:created>
  <dc:creator>Irina Knyazeva</dc:creator>
  <dc:description/>
  <dc:language>en-US</dc:language>
  <cp:lastModifiedBy>user</cp:lastModifiedBy>
  <cp:lastPrinted>2022-04-24T16:36:28Z</cp:lastPrinted>
  <dcterms:modified xsi:type="dcterms:W3CDTF">2022-04-24T17:00:04Z</dcterms:modified>
  <cp:revision>202</cp:revision>
  <dc:subject/>
  <dc:title>Название презентации</dc:title>
</cp:coreProperties>
</file>