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4CE2-FE28-4837-935A-699A3759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363-51D8-4451-9216-78213A05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378B-A2A8-4624-A481-3EAAA4DC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F1B0-E8D4-4365-B885-24ECBA81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E2A8-997F-471F-8C2C-6C7A256C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6EED-4952-4A9B-B4FA-99D69704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D7CC-536D-4AEF-9E22-C3FFE50B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336B-3700-4D4C-A1DF-BBCA3F19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3AC2-04DE-428B-BC0D-3A604A6D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B023-FF32-42B2-AACE-B5A318A9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3A3A-C585-477C-A406-57F62FB9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2710-B338-4C45-803C-E92C3B1A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F325-62A0-46FD-A27D-300D0178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AE8E-4C1E-43FD-8FF9-CBFBD63E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6AC1-A185-4938-8B4C-A15ABE67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79B3-4839-4805-BD57-9D23CAF6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A140-5F10-44E1-8EE3-43D665BA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4ED7-DA4A-4E3A-BD05-DF1FAF65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90B-1ED5-46F1-81E1-72511EA8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5BC4-7914-49B8-BC1E-CC1183AB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BA79-1107-492E-9172-A04C0601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BBD1-6FC5-4C22-8D54-708A3D6D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44B-EABB-4168-B5F1-D962DE66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6964-8FDB-4E51-994B-EAD3CCFB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9526-8AC5-47B5-9D31-1099A8CD4E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B595-827E-47D3-8013-E0973A148E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42472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ма: Подготовка к изучению устных приемов сложения и вычит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тематика-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зентацию урока выполнила Пищаскина М.М., 2 а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У «ПСШ №1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864360" y="2133720"/>
            <a:ext cx="749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52, 54, 56, 58, 60, 6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mic Sans MS"/>
              </a:rPr>
              <a:t>Разрядные слагаемы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340000" y="2349360"/>
            <a:ext cx="4032360" cy="180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2556000" y="4149720"/>
            <a:ext cx="1441440" cy="136836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4500720" y="4149720"/>
            <a:ext cx="1511280" cy="136692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2916360" y="45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085720" y="4532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mic Sans MS"/>
              </a:rPr>
              <a:t>Разрядные слагаемы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340000" y="2349360"/>
            <a:ext cx="4032360" cy="180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2556000" y="4149720"/>
            <a:ext cx="1441440" cy="136836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4500720" y="4149720"/>
            <a:ext cx="1511280" cy="136692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2916360" y="45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5085720" y="4532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mic Sans MS"/>
              </a:rPr>
              <a:t>Разрядные слагаемы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340000" y="2349360"/>
            <a:ext cx="4032360" cy="180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78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2556000" y="4149720"/>
            <a:ext cx="1441440" cy="136836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4500720" y="4149720"/>
            <a:ext cx="1511280" cy="136692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2916360" y="45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5085720" y="4532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mic Sans MS"/>
              </a:rPr>
              <a:t>Разрядные слагаемы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340000" y="2349360"/>
            <a:ext cx="4032360" cy="180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2556000" y="4149720"/>
            <a:ext cx="1441440" cy="136836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4500720" y="4149720"/>
            <a:ext cx="1511280" cy="136692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2916360" y="45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085720" y="4581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mic Sans MS"/>
              </a:rPr>
              <a:t>Разрядные слагаемы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2340000" y="2349360"/>
            <a:ext cx="4032360" cy="180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2556000" y="4149720"/>
            <a:ext cx="1441440" cy="136836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4500720" y="4149720"/>
            <a:ext cx="1511280" cy="136692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916360" y="45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5085720" y="4532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mic Sans MS"/>
              </a:rPr>
              <a:t>Разрядные слагаемы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2340000" y="2349360"/>
            <a:ext cx="4032360" cy="180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2556000" y="4149720"/>
            <a:ext cx="1441440" cy="136836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4500720" y="4149720"/>
            <a:ext cx="1511280" cy="136692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2916360" y="45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5085720" y="4532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7488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Comic Sans MS"/>
              </a:rPr>
              <a:t>Работа по учебник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5788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907640" y="2205000"/>
            <a:ext cx="57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бежали, прибежал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жики, ежи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точили, наточи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ожики, ножи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скакали, прискака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йчики, зайчи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у-ка вместе, ну-ка дружно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вочки! Мальчики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4" descr="cccft"/>
          <p:cNvPicPr/>
          <p:nvPr/>
        </p:nvPicPr>
        <p:blipFill>
          <a:blip r:embed="rId1"/>
          <a:stretch/>
        </p:blipFill>
        <p:spPr>
          <a:xfrm>
            <a:off x="0" y="0"/>
            <a:ext cx="37800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280" y="234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Comic Sans MS"/>
              </a:rPr>
              <a:t>Работа в тетрад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00000"/>
                </a:solidFill>
                <a:latin typeface="Comic Sans MS"/>
              </a:rPr>
              <a:t>Сче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от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до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от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до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34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от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49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до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57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от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76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до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91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640" y="1988640"/>
            <a:ext cx="5898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Comic Sans MS"/>
              </a:rPr>
              <a:t>Итог уро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mic Sans MS"/>
              </a:rPr>
              <a:t>Назови последующее число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35,  40,  70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mic Sans MS"/>
              </a:rPr>
              <a:t>Назови предыдущее число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30, 40, 70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mic Sans MS"/>
              </a:rPr>
              <a:t>Назови соседей чисел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36, 58, 99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mic Sans MS"/>
              </a:rPr>
              <a:t>Прочитайте числа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094120" y="19162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963320" y="19162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6270840" y="19162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7566480" y="19162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523320" y="184464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2222E-006 L -0.04636 0.34676 E">
                                      <p:cBhvr>
                                        <p:cTn id="65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22222E-006 L -0.19601 0.33611 E">
                                      <p:cBhvr>
                                        <p:cTn id="75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00885 0.34676 E">
                                      <p:cBhvr>
                                        <p:cTn id="85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650240" y="198900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042960" y="198900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411320" y="206064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281880" y="198900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3162960" y="198900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602960" y="198900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07407E-006 L -0.06093 0.53564 E">
                                      <p:cBhvr>
                                        <p:cTn id="12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07407E-006 L 0.08073 0.54606 E">
                                      <p:cBhvr>
                                        <p:cTn id="135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7407E-006 L 0.07292 0.21018 E">
                                      <p:cBhvr>
                                        <p:cTn id="14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-0.05313 0.21018 E">
                                      <p:cBhvr>
                                        <p:cTn id="149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7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578600" y="19162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963320" y="19162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331680" y="19162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7627320" y="19162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3523320" y="184464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1144080" y="2133720"/>
            <a:ext cx="663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16, 14, 12, 10,8, 6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9:23:17Z</dcterms:created>
  <dc:creator>User</dc:creator>
  <dc:description/>
  <dc:language>en-US</dc:language>
  <cp:lastModifiedBy>Admin</cp:lastModifiedBy>
  <dcterms:modified xsi:type="dcterms:W3CDTF">2013-02-19T16:29:51Z</dcterms:modified>
  <cp:revision>4</cp:revision>
  <dc:subject/>
  <dc:title>Тема: Вычитание вида 11-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