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A71-1DCD-4652-90AC-8EC6016D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FC3-FD5D-4E8D-A518-C02F876D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098-479B-41D5-BC38-819A4662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E705-15ED-45EB-A915-8CD3642E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A135-B485-43BB-99B7-6F540EDE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45FB-0A42-45F1-A1E5-B168D69A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3575-2896-4551-A106-D88D33B1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9586-2C27-4AC8-BCF6-D43AF21C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38F6-847A-4C2D-8DF9-2AFFE0CC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DDBB-28F7-496F-A5A7-713E4A40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66EB-4B9A-4BBA-86FF-4E8E81F5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3A6-53A8-4F7F-A19A-BF3B67EA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0842-8DC7-437F-AA0E-3BB7493A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D06B-BC52-4A06-9995-1C1C1703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7EE2-E4D5-45F5-9249-9F118CA0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DC95-2CE4-4993-878D-CC5CA9FD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4B33-C516-4316-B726-D58E99BE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8B0-D061-4A62-9AAD-BCA5D537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A0C-45D0-4558-8314-68ABB846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99B-5606-4DE7-9760-8717ABB1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A222-6EB1-4D20-A9D0-BD2ACC3E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E24-4616-44CE-AEDD-003A77F1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8E4-2C94-4ABE-9F5D-9EB57DCC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154-1E1A-46F2-A3EE-672EE6F7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07B3-6720-46BC-9C85-CF42ACBF67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F0B8-DEEF-481F-8FBB-11489C1FD4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42472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: Подготовка к изучению устных приемов сложения и вычит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ематика-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зентацию урока выполнила Пищаскина М.М., 2 а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У «ПСШ №1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864360" y="2133720"/>
            <a:ext cx="749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2, 54, 56, 58, 60, 6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Разрядные слагаемы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340000" y="2349360"/>
            <a:ext cx="4032360" cy="180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2556000" y="4149720"/>
            <a:ext cx="1441440" cy="136836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4500720" y="4149720"/>
            <a:ext cx="1511280" cy="136692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916360" y="45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085720" y="4532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Разрядные слагаемы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2340000" y="2349360"/>
            <a:ext cx="4032360" cy="180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3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2556000" y="4149720"/>
            <a:ext cx="1441440" cy="136836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4500720" y="4149720"/>
            <a:ext cx="1511280" cy="136692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2916360" y="45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5085720" y="4532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Разрядные слагаемы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340000" y="2349360"/>
            <a:ext cx="4032360" cy="180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78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2556000" y="4149720"/>
            <a:ext cx="1441440" cy="136836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500720" y="4149720"/>
            <a:ext cx="1511280" cy="136692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916360" y="45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5085720" y="4532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Разрядные слагаемы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340000" y="2349360"/>
            <a:ext cx="4032360" cy="180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2556000" y="4149720"/>
            <a:ext cx="1441440" cy="136836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4500720" y="4149720"/>
            <a:ext cx="1511280" cy="136692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2916360" y="45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085720" y="4581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Разрядные слагаемы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340000" y="2349360"/>
            <a:ext cx="4032360" cy="180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8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2556000" y="4149720"/>
            <a:ext cx="1441440" cy="136836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4500720" y="4149720"/>
            <a:ext cx="1511280" cy="136692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916360" y="45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085720" y="4532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Разрядные слагаемые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2340000" y="2349360"/>
            <a:ext cx="4032360" cy="180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2556000" y="4149720"/>
            <a:ext cx="1441440" cy="136836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4500720" y="4149720"/>
            <a:ext cx="1511280" cy="136692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2916360" y="45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5085720" y="4532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7488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omic Sans MS"/>
              </a:rPr>
              <a:t>Работа по учебник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5788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907640" y="2205000"/>
            <a:ext cx="57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бежали, прибежал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жики, еж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точили, наточи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жики, нож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скакали, прискака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йчики, зайчи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у-ка вместе, ну-ка дружно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вочки! Мальчики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4" descr="cccft"/>
          <p:cNvPicPr/>
          <p:nvPr/>
        </p:nvPicPr>
        <p:blipFill>
          <a:blip r:embed="rId1"/>
          <a:stretch/>
        </p:blipFill>
        <p:spPr>
          <a:xfrm>
            <a:off x="0" y="0"/>
            <a:ext cx="37800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280" y="23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omic Sans MS"/>
              </a:rPr>
              <a:t>Работа в тетрад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00000"/>
                </a:solidFill>
                <a:latin typeface="Comic Sans MS"/>
              </a:rPr>
              <a:t>Сче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от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до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от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до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34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от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49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до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57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от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76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до 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91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640" y="1988640"/>
            <a:ext cx="5898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Comic Sans MS"/>
              </a:rPr>
              <a:t>Итог урок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Назови последующее число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35,  40,  7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Назови предыдущее число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30, 40, 7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Назови соседей чисел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36, 58, 99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mic Sans MS"/>
              </a:rPr>
              <a:t>Прочитайте числ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094120" y="19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963320" y="19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270840" y="19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7566480" y="19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523320" y="184464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L -0.04636 0.34676 E">
                                      <p:cBhvr>
                                        <p:cTn id="6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22222E-006 L -0.19601 0.33611 E">
                                      <p:cBhvr>
                                        <p:cTn id="7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00885 0.34676 E">
                                      <p:cBhvr>
                                        <p:cTn id="85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650240" y="198900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042960" y="198900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411320" y="206064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81880" y="198900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162960" y="198900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602960" y="198900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07407E-006 L -0.06093 0.53564 E">
                                      <p:cBhvr>
                                        <p:cTn id="12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07407E-006 L 0.08073 0.54606 E">
                                      <p:cBhvr>
                                        <p:cTn id="135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07407E-006 L 0.07292 0.21018 E">
                                      <p:cBhvr>
                                        <p:cTn id="14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-0.05313 0.21018 E">
                                      <p:cBhvr>
                                        <p:cTn id="149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7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578600" y="19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963320" y="19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331680" y="19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7627320" y="19162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3523320" y="184464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5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1144080" y="2133720"/>
            <a:ext cx="663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6, 14, 12, 10,8, 6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9:23:17Z</dcterms:created>
  <dc:creator>User</dc:creator>
  <dc:description/>
  <dc:language>en-US</dc:language>
  <cp:lastModifiedBy>Admin</cp:lastModifiedBy>
  <dcterms:modified xsi:type="dcterms:W3CDTF">2013-02-19T16:29:51Z</dcterms:modified>
  <cp:revision>4</cp:revision>
  <dc:subject/>
  <dc:title>Тема: Вычитание вида 11-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