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8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4D8-F3C7-4AD4-872A-53139BD2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B37-88BC-448B-9270-0F1F4958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DA5-212D-4320-864E-E53CAF39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904-8E30-422A-A3E0-E8987836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1C42-BF2B-4F2F-A49E-68AD31E1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DA17-93BB-4D41-963D-B05359BA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67CF-FBF3-4726-9AFC-DB9B681F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A5B6-C385-4DA7-9753-7489A245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597E-FA83-42F0-8927-ACC309A2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190A-B4DC-4DFD-AA66-D1C34966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FB6F-8B0D-4C78-8EA3-3AE1CC6A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CA7-44ED-446E-A38B-F0CF0CEC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E59F-C9A7-4EED-B778-0D5B8753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769A-39C2-4858-B40B-A8ABF01F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6D86-6044-468D-9973-38CAA8BC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2070-3C5D-4195-B170-13F262EF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3C83-7685-46F6-A200-C8CF53AE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FA6-5583-4040-B707-979087F4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6D1-482D-4783-9D64-3FE56C05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86F-2A20-424B-A691-32540421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70A-3701-413D-84D7-EC6134F2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E5F-0B49-4867-88D1-EC1D373D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DAB-9CB0-4E88-A791-4B9F282B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BD6-E533-430C-ABAA-34A53225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0BD0-B5CE-4175-8EF8-6A5FEDF52D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A6D5-0585-4FDE-9CC0-09C55CC46C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6&amp;text=&#1096;&#1082;&#1086;&#1083;&#1072;%20&#1082;&#1072;&#1088;&#1090;&#1080;&#1085;&#1082;&#1080;&amp;img_url=www.law.berkeley.edu/img/grades2.jpg&amp;rpt=simage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6&amp;text=&#1096;&#1082;&#1086;&#1083;&#1072;%20&#1082;&#1072;&#1088;&#1090;&#1080;&#1085;&#1082;&#1080;&amp;img_url=www.law.berkeley.edu/img/grades2.jpg&amp;rpt=simage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hyperlink" Target="file:///australiananimals2007%20&#1087;&#1086;&#1088;&#1090;&#1092;&#1086;&#1083;&#1080;&#1086;%20-%20&#1082;&#1086;&#1087;&#1080;&#1103;.ppt" TargetMode="External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ustraliananimals2007%20&#1087;&#1086;&#1088;&#1090;&#1092;&#1086;&#1083;&#1080;&#1086;%20-%20&#1082;&#1086;&#1087;&#1080;&#1103;.ppt" TargetMode="External"/><Relationship Id="rId2" Type="http://schemas.openxmlformats.org/officeDocument/2006/relationships/image" Target="../media/image15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73120" y="1195560"/>
            <a:ext cx="7778880" cy="226044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3" descr=""/>
          <p:cNvPicPr/>
          <p:nvPr/>
        </p:nvPicPr>
        <p:blipFill>
          <a:blip r:embed="rId2"/>
          <a:stretch/>
        </p:blipFill>
        <p:spPr>
          <a:xfrm>
            <a:off x="1670040" y="3444840"/>
            <a:ext cx="6377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ти проблему – что надо изуч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 – как это назв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уальность – почему эту проблему нужно изуч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 исследования – какой результат предполагается получ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потеза – что не очевидно в объек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изна – что нового обнаружено в ходе исслед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чи исследования – что делать – теоретически и эксперименталь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ературный обзор – что уже известно по этой пробл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одика исследования – как и что исследов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зультаты исследования – собственные дан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воды – краткие ответы на поставленные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чимость – как влияют результаты на практи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3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3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3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3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3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30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3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3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2"/>
          <p:cNvSpPr/>
          <p:nvPr/>
        </p:nvSpPr>
        <p:spPr>
          <a:xfrm>
            <a:off x="324000" y="981000"/>
            <a:ext cx="307152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1"/>
          <p:cNvSpPr/>
          <p:nvPr/>
        </p:nvSpPr>
        <p:spPr>
          <a:xfrm>
            <a:off x="755640" y="134136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ПИСОК ИСПОЛЬЗУЕМЫХ ИСТОЧ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3"/>
          <p:cNvSpPr/>
          <p:nvPr/>
        </p:nvSpPr>
        <p:spPr>
          <a:xfrm>
            <a:off x="1116000" y="184464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4"/>
          <p:cNvSpPr/>
          <p:nvPr/>
        </p:nvSpPr>
        <p:spPr>
          <a:xfrm>
            <a:off x="4572000" y="170028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актическ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618760" cy="14558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6"/>
          <p:cNvSpPr/>
          <p:nvPr/>
        </p:nvSpPr>
        <p:spPr>
          <a:xfrm>
            <a:off x="4788000" y="213372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оретическ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2484360" y="256536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3348000" y="292428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4140360" y="3284640"/>
            <a:ext cx="2879640" cy="3071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5651640" y="3645000"/>
            <a:ext cx="2881080" cy="292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ИТУЛЬ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4000" y="1268280"/>
          <a:ext cx="8135640" cy="4591080"/>
        </p:xfrm>
        <a:graphic>
          <a:graphicData uri="http://schemas.openxmlformats.org/drawingml/2006/table">
            <a:tbl>
              <a:tblPr/>
              <a:tblGrid>
                <a:gridCol w="1989000"/>
                <a:gridCol w="6146640"/>
              </a:tblGrid>
              <a:tr h="9334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итульный ли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итульный лист является 1-й страницей работы. Титульный лист         не нумеруется. Содержит наименование конференции, тему работы, в скобках указывается тип проекта, название секции, сведения об авторе (Ф.И.О., класс, образовательное учреждение (в соответствии с Уставом), сведения о научном руководителе (Ф.И.О., ученая степень и  звание, должность, место работы), место  выполнения работы и год ее написания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Рисунок 25" descr="http://im4-tub-ru.yandex.net/i?id=221854955-56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013360"/>
            <a:ext cx="18730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БЛЕМ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 тема проекта взаимосвяза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БЛЕМА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то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или комплекс вопросов, решение которых представляет интерес для 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БЛЕМ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задача, содержащая противоречие, не имеющая однозначного ответа и требующая исследования и поиска ре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бле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лжна быть выполнима, решение её должно принести реальную пользу участникам исследования. Затем это надо назвать –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е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390600" y="255600"/>
            <a:ext cx="8362800" cy="878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503280" y="1557360"/>
            <a:ext cx="8183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зить в ней главное содержание всего исследования, обозначить объект и предмет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дать теме адресность, т.е. сделать ее доступной и понятной для тех, кто будет участвовать в ее разработке, а также понятной, на кого она направл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ать ее лаконичной, без лишних слов, удобной для быстрого прочтения, да к тому же благозвуч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на быть понятной, доступной (научность языка в мер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28760" y="1143000"/>
          <a:ext cx="8183520" cy="5492880"/>
        </p:xfrm>
        <a:graphic>
          <a:graphicData uri="http://schemas.openxmlformats.org/drawingml/2006/table">
            <a:tbl>
              <a:tblPr/>
              <a:tblGrid>
                <a:gridCol w="2727360"/>
                <a:gridCol w="2728800"/>
                <a:gridCol w="272736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тьевая во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 питьевой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качества питьевой воды потребляемой жителями г. Кас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рос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язанность и влюбл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никновение привязанности и влюбленности у подрост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ная и письменная публичная 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ославяниз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функционирования старославянизмов в современной устной и письменной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руктор Л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рость сборки моделей конструктора Л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кторы, влияющие на скорость сборки конструктора Л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73" name="Заголовок 4" descr=""/>
          <p:cNvPicPr/>
          <p:nvPr/>
        </p:nvPicPr>
        <p:blipFill>
          <a:blip r:embed="rId1"/>
          <a:stretch/>
        </p:blipFill>
        <p:spPr>
          <a:xfrm>
            <a:off x="420840" y="317520"/>
            <a:ext cx="819936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826920" y="1341360"/>
            <a:ext cx="68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ЛАВЛЕНИЕ/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555920" y="404640"/>
            <a:ext cx="58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ЕБОВАНИЯ К СОДЕРЖ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755640" y="1268280"/>
          <a:ext cx="7643880" cy="5000760"/>
        </p:xfrm>
        <a:graphic>
          <a:graphicData uri="http://schemas.openxmlformats.org/drawingml/2006/table">
            <a:tbl>
              <a:tblPr/>
              <a:tblGrid>
                <a:gridCol w="1903320"/>
                <a:gridCol w="5740560"/>
              </a:tblGrid>
              <a:tr h="8636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7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гл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оглавлении указываются основные разделы работы (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введение, названия глав и параграфов, заключение, список литературы, названия приложен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с указанием страниц. Последнее слово каждого заголовка соединяют отточием с соответствующим номером страницы.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Заголовки оглавления должны точно повторять заголовки в тексте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кращать или давать  их в другой формулировке, последовательности по сравнению с заголовками в тексте нельз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Рисунок 25" descr="http://im4-tub-ru.yandex.net/i?id=221854955-56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24280"/>
            <a:ext cx="19670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199360" cy="1298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28760" y="1267920"/>
            <a:ext cx="818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едение……………………………………………………………………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. Теоретическая часть (Точное наименование главы)…………………………………………………………………….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1. (Точное наименование параграфа)……………………………………………………………..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2. (Точное наименование параграфа)………………………………………………………………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3. (Точное наименование параграфа) и т.д. по всем параграфам……………………………………………………………..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I.   Практическая часть (Точное наименование главы)……………………………………………………………………….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1. (Точное наименование параграфа)………………………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2. (Точное наименование параграфа)……………………….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3. (Точное наименование параграфа) и т.д. по всем параграфам……………………………………………………………..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………………………………………………………………..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сок литературы  и Интернет-ресурсов…………………….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ложение……………………………………………………………….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едение…………………………………………………………….……….….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Теоретическая ч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1.История создания Лего …………………………………………………..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2.История возникновения названия…………………………………… ..…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3.Разнообразие  игр конструктора ЛЕГО………………………………….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4. ЛЕГО-конструирование–модная игра или серьёзное занятие?.............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5. Интересные ЛЕГО-факты…………………………………………………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Практическая часть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1. Методы и материалы исследования ………….……………………...…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2. Результаты анкетирования …………….…………………………….….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3. Организация выставки.. …………………………………………...……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4. Организация эксперимента………………………………………….….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лючение………………………………………………………..…………..…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исок литературы  и Интернет-ресурсов…………………….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ложение……………………………………………………………….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д понятием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ект» </a:t>
            </a: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нимается  творческая,  завершенная </a:t>
            </a: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работа</a:t>
            </a: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, соответствующая возрастным  возможностям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циальный характе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ся в том, что работа окружающим нравится и практически используется, например, в оформлении класса, школы или д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чностный характе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ся в том, что ребенок реализует свое собственное “Я” через самостоятельную деятельность, принятие самостоятельного решения, оценивание своей работы и получение от нее удовольст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642960" y="1571760"/>
            <a:ext cx="7643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Мои документы\Мои рисунки\Рисунок16.png"/>
          <p:cNvPicPr/>
          <p:nvPr/>
        </p:nvPicPr>
        <p:blipFill>
          <a:blip r:embed="rId1"/>
          <a:stretch/>
        </p:blipFill>
        <p:spPr>
          <a:xfrm>
            <a:off x="7164360" y="4581360"/>
            <a:ext cx="1603440" cy="18478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539640" y="1357200"/>
            <a:ext cx="806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Цель проек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лучение такого результата, который может быть как социально, так и личностно знач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1285920" y="3929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1000080" y="285768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684360" y="1341360"/>
          <a:ext cx="7848360" cy="5241960"/>
        </p:xfrm>
        <a:graphic>
          <a:graphicData uri="http://schemas.openxmlformats.org/drawingml/2006/table">
            <a:tbl>
              <a:tblPr/>
              <a:tblGrid>
                <a:gridCol w="1955520"/>
                <a:gridCol w="5892840"/>
              </a:tblGrid>
              <a:tr h="6832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86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веде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Введен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– очень ответственная часть работы, она ориентирует читателя в раскрытии темы, а также содержит важные характеристики. Во введении кратко обосновывается актуальность выбранной темы,  формулируются цель, гипотеза и задачи, указываются объект и предмет исследования, избранный метод (или методы) исследования, определяются хронологические рамки исследования, приводится краткий обзор существующих источников и литературы по данной проблеме, оговаривается, на основании каких источников написано данное исследовани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Рисунок 25" descr="http://im4-tub-ru.yandex.net/i?id=221854955-56-72"/>
          <p:cNvPicPr/>
          <p:nvPr/>
        </p:nvPicPr>
        <p:blipFill>
          <a:blip r:embed="rId1"/>
          <a:stretch/>
        </p:blipFill>
        <p:spPr>
          <a:xfrm>
            <a:off x="395280" y="4797360"/>
            <a:ext cx="2014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оловок 1"/>
          <p:cNvSpPr/>
          <p:nvPr/>
        </p:nvSpPr>
        <p:spPr>
          <a:xfrm>
            <a:off x="179280" y="0"/>
            <a:ext cx="87138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alibri"/>
              </a:rPr>
              <a:t>Тема работы и обоснование выбора т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684360" y="1557360"/>
            <a:ext cx="8064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едлагаемая вниманию читателя исследовательская работа посвящена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Задумывались ли вы когда-нибудь над тем, почему …? Я обратил внимание на … / задумался над этим вопросом, когда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сегда было интересно, почему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Желание узнать … появилось у меня еще в детстве. Меня заинтересовал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Тема нашей работы: «…». Я выбрал именно эту тему для исследования, потому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будущем я хотел бы связать свою жизнь с … поэтому уже сейчас интересуюсь … и выбрал … в качестве темы своего исследов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Я заинтересовалась … после того, как однажды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огда я … меня поразило / мне стало интересн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1" descr=""/>
          <p:cNvPicPr/>
          <p:nvPr/>
        </p:nvPicPr>
        <p:blipFill>
          <a:blip r:embed="rId1"/>
          <a:stretch/>
        </p:blipFill>
        <p:spPr>
          <a:xfrm>
            <a:off x="420840" y="139680"/>
            <a:ext cx="8242200" cy="950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важность) темы - ее значимость для развития мыслительной и практической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менно эту проблему нужно в настоящее время изуч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была выбрана именно эта тема, чем она тебя заинтересов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Актуальность темы нашей работы определяется тем, что в настоящее время 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ло сегодня неотъемлемой частью нашей жизни. Мы используем … не задумываясь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современном мире … имеет большое значение, так как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последние годы мы часто слышим и употребляем слов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огие интересуются/ увлекаются/ задумываются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егодня проблема … является одной из самых актуальных, потому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прос … в последние годы оказывается в фокусе исследовательского внимания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Тема является предметом оживленных дискуссий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ъясняется это тем, что … влияет на наше здоровье / настроение / успешность</a:t>
            </a:r>
            <a:br>
              <a:rPr sz="16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 … привлекает к себе пристальное внимание учёных и общественности из-за того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последнее время появилось … и люди стали все чаще задумываться над тем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верное, каждый человек хотя бы один раз в жизни задумывался над тем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… всегда вызывало у людей множество вопросов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сегодняшний день существует два противоположных взгляда на данную проблему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егодня ведутся споры / нет единого мнения по данному вопросу …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</a:t>
            </a:r>
            <a:br>
              <a:rPr sz="16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сегодняшний день существуют работы, посвященные … вообще. Однако мы решили изучить эту тему на примере своего класса/школы и в этом заключается новизна нашего исследования. 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конечный (конкретный) результат, которого хотел бы достичь исследователь по завершении своей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взаимосвязи неких явлений……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развития явлений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исание нового явления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бщение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закономерностей…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классификаций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готовление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ка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положения, допущения, требующие проверки на опыте и теоретического обоснования для того, чтобы стать достоверным зн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ется  предполагаемым  ответом на заданную проблему.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ипоте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является отправной точкой исследования, подтверждаемой или опровергаемой в ходе теоретических рассуждений и хода экспери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и формулировке гипотез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ычно используются словесные конструкции типа: «если..., то...»; «так как...»; «при условии что...», «предположим», «допустим», «возможно», «что, если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выбор путей и средств достижения цели в соответствии с выдвинутой гипотез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. Задачи показывают, что вы собираетесь делать. Формулировка задач тесно связана со структурой исследования. Причем, отдельные задачи могут быть поставлены для теоретической части и для эксперименталь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остижения поставленной цели нам необходимо решить следующие 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остижения этой цели мы ставим перед собой следующие 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Познакомиться, понаблюдать, провести анкетирование, эксперимент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ить литературу по тем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снить значение терминов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примеры … в … / собрать материал … / изучить состав … / измерить уровен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сти опрос / эксперимент /наблюдение/ анкетирова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ить/ сопоставить /проанализировать полученные результа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ать выводы о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комиться, понаблюдат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929720" y="0"/>
            <a:ext cx="895320" cy="1155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8000" y="1341360"/>
            <a:ext cx="7961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оекты быва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о доминирующе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сследовательские, информационные, практико-ориентированные (социальные), творческие, ролевые, прикладные и прочие проек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о содержанию: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монопредметным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выполняется на материале конкретного предмета) и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межпредметным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(интегрируется смежная тематика нескольких предметов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о продолжительности: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краткосрочным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редней продолжительности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от недели до месяца) и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долгосрочным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о характеру координации, характеру контактов и количеству участник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ндивидуальным, парный,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групповым, фронталь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20840" y="139680"/>
            <a:ext cx="8242200" cy="950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ткий обзор используемой литературы и Интернет-рес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ктовка проблемы отечественными и зарубежными учеными, специалис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ременное состояние изучаемого, исследуемого предмета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указание основных работ по вопро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ое мнение к позиции исследова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их вида источников информации освещается тема исследования? Какими авторами и какие аспекты проблемы изучены?  Какие вопросы по теме требуют дальнейшего подробного изуч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людение                                   Срав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рение                                     Экспери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                                             Синт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делирование                            Обобщ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тизация                            Прогнозир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еда                                              Анкетир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ение учебной, научно-популярной и справоч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 с кинофильм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 информации в глобальных компьютерных сет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24000" y="1268280"/>
          <a:ext cx="8501040" cy="5045040"/>
        </p:xfrm>
        <a:graphic>
          <a:graphicData uri="http://schemas.openxmlformats.org/drawingml/2006/table">
            <a:tbl>
              <a:tblPr/>
              <a:tblGrid>
                <a:gridCol w="500040"/>
                <a:gridCol w="1857240"/>
                <a:gridCol w="6143760"/>
              </a:tblGrid>
              <a:tr h="246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компон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нование выбора темы: личный интерес, противоречивость мнений по изучаемому вопросу, практическая значимость, малоизученность 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вопрос: «Что я хочу выяснить в результате проведенной работы?». Цель, как правило, начинается с глаголов: выявить, выяснить, обосновать, определить, создать, построить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и для достижения цели: изучить литературу по вопросу исследования, провести эксперимент, обосновать…, разработать… 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ернутое предположение, требующее доказательства. Как правило, гипотеза формулируется виде сложноподчиненного предложения с придаточным условия («Если…, то…», «Чем…, тем…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, раздел науки, в рамках которого находится то, что будет изучаться (например, творчество С.А. Есени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ная часть объекта, который собственно и исследуется (например, цветовые эпитеты в творчестве С.А. Есени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еск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ий обзор состояния проблемы. Указание основных работ по вопро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вопрос: «Как проводилось исследование?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"/>
          <p:cNvSpPr/>
          <p:nvPr/>
        </p:nvSpPr>
        <p:spPr>
          <a:xfrm>
            <a:off x="179280" y="-302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  <a:ea typeface="Calibri"/>
              </a:rPr>
              <a:t>Введение к исследовательской раб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39640" y="1341360"/>
          <a:ext cx="8215560" cy="5329440"/>
        </p:xfrm>
        <a:graphic>
          <a:graphicData uri="http://schemas.openxmlformats.org/drawingml/2006/table">
            <a:tbl>
              <a:tblPr/>
              <a:tblGrid>
                <a:gridCol w="1673280"/>
                <a:gridCol w="6542280"/>
              </a:tblGrid>
              <a:tr h="762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73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основной части содержится информация, собранная и обработанная автором в ходе исследования, излагаются основные факты, описывается техника исследования, излагаются полученные результаты. Основная часть делится на главы и (или) параграфы.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Глава 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обычно содержит итоги анализа специальной литературы, теоретическое обоснование темы исследования;</a:t>
                      </a:r>
                      <a:br>
                        <a:rPr sz="1800"/>
                      </a:b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Главы 2-3 описывают практические этапы рабо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интерпретацию данных, выявление определенных закономерностей в изучаемых явлениях в ходе эксперимента. Каждая глава завершается вывод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главах 2-3 описывают, где, когда, кем и как проводились опыты или наблюдения, сколько их было проведено, с какой точностью проводились измерения и подсчеты, какие способы обработки первичных данных вы использовал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Рисунок 25" descr="http://im4-tub-ru.yandex.net/i?id=221854955-56-72"/>
          <p:cNvPicPr/>
          <p:nvPr/>
        </p:nvPicPr>
        <p:blipFill>
          <a:blip r:embed="rId1"/>
          <a:stretch/>
        </p:blipFill>
        <p:spPr>
          <a:xfrm>
            <a:off x="395280" y="5229360"/>
            <a:ext cx="172872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основные термины и понятия, история вопро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лючевые понятия для нашего исследования – это …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… называется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официальном сайте … мы нашли следующее определение термина … «…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ванов В.В. в книге … определяет понятие … как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етров В.В. понимает под термином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идоров С.С. рассматривает … как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Андреев А.А. в книге «…» дает следующее определение … — э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йт … предлагает следующее определение понятия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статье Иванова «…» в журнале «…» говорится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инято считать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бщеизвестным считается 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начале обратимся к истории вопроса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стория вопроса подробно освещена на страницах современных энциклопедий, например … , а также на сайте … Впервые …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з книги … мы узнали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 пишет Иванов И.И. … в статье … «…»,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 мнению Иванова В.В.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зможно, это связан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роме того,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нтересно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спространённым является мнение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и этом необходимо подчеркнуть, что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струментарий иссле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исание проводимого экспери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собы обработки данных экспери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у обработку данных в табличном графическом или ином вариан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воды по проводимому эксперименту, позволяющему оценить правильность выдвинутой гипотезы или признать её ошибоч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478720" cy="88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ля того, чтобы выяснить … мы решили провести опрос … среди учащихся / родителей нашего класса. Опрос проводился посредством анкетирования / опроса в социальных сетях. В опросе приняли участие … учащихся и … родител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еспондентам были заданы следующие вопросы: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сследование проводилось на материале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качестве материала для исследования мы взяли …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сточником примеров стали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езультаты анкетирования представлены в таблице 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рисунке 2 вы можете видеть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рисунке 3 представлены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данном случае мы видим … / имеем дело с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При этом нельзя не отметить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Обращает на себя внимание тот факт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Диаграмма показывает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68360" y="1341360"/>
          <a:ext cx="8207280" cy="4832280"/>
        </p:xfrm>
        <a:graphic>
          <a:graphicData uri="http://schemas.openxmlformats.org/drawingml/2006/table">
            <a:tbl>
              <a:tblPr/>
              <a:tblGrid>
                <a:gridCol w="1511280"/>
                <a:gridCol w="6696000"/>
              </a:tblGrid>
              <a:tr h="6476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46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заключ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ключени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– это не просто перечень полученных результатов. Необходимо указать, удалось или нет достигнуть поставленной цели, показать практическую значимость раб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водя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и теоретического и  практического исслед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лаются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держитс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ценка результатов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мечается практическая значимость исслед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ютс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комендации по использованию и внедрению результатов исследования в практическую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ределяю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спективы дальнейшей работы (если необходим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Рисунок 25" descr="http://im4-tub-ru.yandex.net/i?id=221854955-56-72"/>
          <p:cNvPicPr/>
          <p:nvPr/>
        </p:nvPicPr>
        <p:blipFill>
          <a:blip r:embed="rId1"/>
          <a:stretch/>
        </p:blipFill>
        <p:spPr>
          <a:xfrm>
            <a:off x="468360" y="5229360"/>
            <a:ext cx="137952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основании всего вышесказанного мы можем констатировать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Все вышесказанное дает нам возможность сделать следующие выводы: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Таким образом, мы видим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ледовательно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Очевидно, что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видно из всего, сказанного выше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з вышесказанного следует, что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дводя итоги вышесказанному необходимо отметить следующее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дводя итоги главе 2 необходимо подчеркнуть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дводя промежуточные итоги, мы можем сказать, что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В результате проведенного исследования мы выяснили, что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20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Овал 8" descr=""/>
          <p:cNvPicPr/>
          <p:nvPr/>
        </p:nvPicPr>
        <p:blipFill>
          <a:blip r:embed="rId1"/>
          <a:stretch/>
        </p:blipFill>
        <p:spPr>
          <a:xfrm>
            <a:off x="2712960" y="3286080"/>
            <a:ext cx="3449880" cy="1365120"/>
          </a:xfrm>
          <a:prstGeom prst="rect">
            <a:avLst/>
          </a:prstGeom>
          <a:ln w="0">
            <a:noFill/>
          </a:ln>
        </p:spPr>
      </p:pic>
      <p:pic>
        <p:nvPicPr>
          <p:cNvPr id="95" name="Овал 8" descr=""/>
          <p:cNvPicPr/>
          <p:nvPr/>
        </p:nvPicPr>
        <p:blipFill>
          <a:blip r:embed="rId2"/>
          <a:stretch/>
        </p:blipFill>
        <p:spPr>
          <a:xfrm>
            <a:off x="622440" y="2206800"/>
            <a:ext cx="316368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3"/>
          <a:stretch/>
        </p:blipFill>
        <p:spPr>
          <a:xfrm>
            <a:off x="390600" y="182520"/>
            <a:ext cx="8240760" cy="1298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611280" y="256536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Овал 8" descr=""/>
          <p:cNvPicPr/>
          <p:nvPr/>
        </p:nvPicPr>
        <p:blipFill>
          <a:blip r:embed="rId4"/>
          <a:stretch/>
        </p:blipFill>
        <p:spPr>
          <a:xfrm>
            <a:off x="3938760" y="1487520"/>
            <a:ext cx="3449520" cy="1365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9"/>
          <p:cNvSpPr/>
          <p:nvPr/>
        </p:nvSpPr>
        <p:spPr>
          <a:xfrm>
            <a:off x="4287600" y="1700280"/>
            <a:ext cx="27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ци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вал 8" descr=""/>
          <p:cNvPicPr/>
          <p:nvPr/>
        </p:nvPicPr>
        <p:blipFill>
          <a:blip r:embed="rId5"/>
          <a:stretch/>
        </p:blipFill>
        <p:spPr>
          <a:xfrm>
            <a:off x="4578480" y="5157720"/>
            <a:ext cx="2955960" cy="1011240"/>
          </a:xfrm>
          <a:prstGeom prst="rect">
            <a:avLst/>
          </a:prstGeom>
          <a:ln w="0">
            <a:noFill/>
          </a:ln>
        </p:spPr>
      </p:pic>
      <p:pic>
        <p:nvPicPr>
          <p:cNvPr id="101" name="Овал 8" descr=""/>
          <p:cNvPicPr/>
          <p:nvPr/>
        </p:nvPicPr>
        <p:blipFill>
          <a:blip r:embed="rId6"/>
          <a:stretch/>
        </p:blipFill>
        <p:spPr>
          <a:xfrm>
            <a:off x="695160" y="4870440"/>
            <a:ext cx="3449880" cy="1365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044720" y="522936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5078520" y="54450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1" descr="MC900359093[1]"/>
          <p:cNvPicPr/>
          <p:nvPr/>
        </p:nvPicPr>
        <p:blipFill>
          <a:blip r:embed="rId7"/>
          <a:stretch/>
        </p:blipFill>
        <p:spPr>
          <a:xfrm>
            <a:off x="6659640" y="4797360"/>
            <a:ext cx="1855800" cy="1731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MC900338120[1]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71640" y="836640"/>
            <a:ext cx="1655640" cy="1652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8" descr="MC900334060[1]"/>
          <p:cNvPicPr/>
          <p:nvPr/>
        </p:nvPicPr>
        <p:blipFill>
          <a:blip r:embed="rId10"/>
          <a:stretch/>
        </p:blipFill>
        <p:spPr>
          <a:xfrm>
            <a:off x="7020000" y="765000"/>
            <a:ext cx="1706400" cy="182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8" descr="j0195384"/>
          <p:cNvPicPr/>
          <p:nvPr/>
        </p:nvPicPr>
        <p:blipFill>
          <a:blip r:embed="rId11"/>
          <a:stretch/>
        </p:blipFill>
        <p:spPr>
          <a:xfrm>
            <a:off x="1042920" y="3789360"/>
            <a:ext cx="1411200" cy="1441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9"/>
          <p:cNvSpPr/>
          <p:nvPr/>
        </p:nvSpPr>
        <p:spPr>
          <a:xfrm>
            <a:off x="2916360" y="3645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ой, рол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1" descr="j0297551"/>
          <p:cNvPicPr/>
          <p:nvPr/>
        </p:nvPicPr>
        <p:blipFill>
          <a:blip r:embed="rId12"/>
          <a:stretch/>
        </p:blipFill>
        <p:spPr>
          <a:xfrm>
            <a:off x="6156360" y="2997360"/>
            <a:ext cx="113184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заключении необходимо отметит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оведенное исследование позволило нам сделать следующие выводы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Главный вывод, который я сделал: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ходе проведённого исследования было выявлено / установлено, что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Таким образом, мы убедилис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се вышесказанное доказывает, что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 основании вышесказанного логично предположить, чт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се вышесказанное убеждает нас в том, что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иболее правдоподобной нам кажется версия …, потому что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йденные и проанализированные нами примеры позволяют выявить следующую закономерность: 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20840" y="-128520"/>
            <a:ext cx="8242200" cy="1457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Перспективы дальнейшего исследования проблемы мы видим в более подробном / детальном изучении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перспективе было бы интересно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 наш взгляд было бы интересно изучить / исследовать / рассмотрет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роме …, рассмотренных в данной работе, по нашему мнению было бы интересно изучит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бота рассматривает лишь один из аспектов проблемы. - Исследования в этом направлении могут быть продолжены. Это могло бы быть изучение не только … но и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сследование может быть полезно и интересно учащимся школ, которые увлекаются … , а также всем, кто интересует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езультаты нашего исследования могли бы помочь ребятам в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бота может представлять интерес для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езультаты исследования могут быть использованы учителями при подготовке уроков / конкурсов / викторин по теме …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бота может быть использована для проведения дальнейших исследований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ей работой я хотел привлечь внимание к проблеме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ая значимость исследования заключается в том, что его результаты легли в основу разработанных мной правил … / памятки по … для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20840" y="-128520"/>
            <a:ext cx="8242200" cy="1457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процессе написания работы я узнал/ научился/ открыл для себя/ выяснил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бота помогла мне понять / осознать / решить проблему / по-новому взглянут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процессе работы над исследованием я приобрел опыт … Думаю, что полученные мной знания позволят мне избежать ошибок / помогут правильно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езультаты исследования заставили меня задуматься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ольше всего сложностей вызвало у меня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сследование в корне изменило мое мнение / представление о 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539640" y="1341360"/>
          <a:ext cx="8064720" cy="5470560"/>
        </p:xfrm>
        <a:graphic>
          <a:graphicData uri="http://schemas.openxmlformats.org/drawingml/2006/table">
            <a:tbl>
              <a:tblPr/>
              <a:tblGrid>
                <a:gridCol w="2008440"/>
                <a:gridCol w="6056280"/>
              </a:tblGrid>
              <a:tr h="7923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82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исок используемой литерату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библиограф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библиографический список заносятся публикации, издания  и источники, которые использовались автором. Информация о каждом издании включает в себя: фамилию, инициалы автора, название книги, выходные данные издательства, год издания, номер выпуска (если издание периодическое), количество страниц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дания должны быть пронумерованы и расположены   в алфавитном порядке. В тексте работы должны быть ссылки на тот или иной научный источник (номер ссылки соответствует порядковому номеру источника   в библиографическом списке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Рисунок 25" descr="http://im4-tub-ru.yandex.net/i?id=221854955-56-72"/>
          <p:cNvPicPr/>
          <p:nvPr/>
        </p:nvPicPr>
        <p:blipFill>
          <a:blip r:embed="rId1"/>
          <a:stretch/>
        </p:blipFill>
        <p:spPr>
          <a:xfrm>
            <a:off x="611280" y="5013360"/>
            <a:ext cx="18000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07880" y="176040"/>
            <a:ext cx="8255160" cy="914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кадьевС.К. Гражданский процесс зарубежных стран.-М.: «Зеркало», 2008.- 304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й энциклопедический словарь: В 2-х т. / Гл. ред. А.М. Прохорова.- М.: Советская энциклопедия, 1991. Т.1 – 863 с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ачихина О.Д. Распространенные ошибки при выполнении учащимися исследовательских работ // Исследовательская работа школьников. 2004. №2. С.77-8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но-исследовательский зоологический музей МГУ.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eu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395280" y="1125360"/>
          <a:ext cx="8209080" cy="6031080"/>
        </p:xfrm>
        <a:graphic>
          <a:graphicData uri="http://schemas.openxmlformats.org/drawingml/2006/table">
            <a:tbl>
              <a:tblPr/>
              <a:tblGrid>
                <a:gridCol w="1878120"/>
                <a:gridCol w="6330960"/>
              </a:tblGrid>
              <a:tr h="1059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9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Приложе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должны тщательно отбираться и иллюстрировать наиболее яркие моменты работы. В приложения рекомендуется включать вспомогательные или дополнительные материалы, если они помогут лучшему пониманию полученных результатов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копии редких документов, различные анкеты и таблицы, графики, диаграммы, схемы, фотографии,  рисунк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ждое приложение начинается с новой страницы и имеет своё обо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ъём приложений(как правило) не ограничен и не включается в обязательное количество страни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ложения нумеруются. Обязательны ссылки на приложения в тексте исследования, например: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риложение 1).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Рисунок 25" descr="http://im4-tub-ru.yandex.net/i?id=221854955-56-72"/>
          <p:cNvPicPr/>
          <p:nvPr/>
        </p:nvPicPr>
        <p:blipFill>
          <a:blip r:embed="rId1"/>
          <a:stretch/>
        </p:blipFill>
        <p:spPr>
          <a:xfrm>
            <a:off x="395280" y="5013360"/>
            <a:ext cx="182736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68200" y="17604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Текст работы печатается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d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на одной стороне белой бумаги формата А4   через 1,5 интервала.  Шрифт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imes Nev Roma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, ненаклонный, размер 1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ля: слева – 30 мм, справа – 15 мм, сверху и снизу – по 20 мм (контуры полей не наносятс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пустимо рукописное оформление отдельных фрагментов (формулы, чертежный материал и т.п.), которые выполняются черной паст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умерация страниц начинается с раздела «Введение»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ереплет произвольный, листы с текстом работы в файлы не вкладываю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Объем работы – не более 10 страниц машинописного текста, не считая титульного листа и оглав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иложения должны быть пронумерованы и озаглавлены. В тексте работы на них должны содержаться ссыл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1268280" y="1420920"/>
            <a:ext cx="6828120" cy="1182600"/>
          </a:xfrm>
          <a:prstGeom prst="rect">
            <a:avLst/>
          </a:prstGeom>
          <a:ln w="0">
            <a:noFill/>
          </a:ln>
        </p:spPr>
      </p:pic>
      <p:pic>
        <p:nvPicPr>
          <p:cNvPr id="239" name="i-main-pic" descr="Картинка 8 из 102443"/>
          <p:cNvPicPr/>
          <p:nvPr/>
        </p:nvPicPr>
        <p:blipFill>
          <a:blip r:embed="rId2"/>
          <a:stretch/>
        </p:blipFill>
        <p:spPr>
          <a:xfrm>
            <a:off x="1500120" y="3071880"/>
            <a:ext cx="59263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4" descr="j0195384"/>
          <p:cNvPicPr/>
          <p:nvPr/>
        </p:nvPicPr>
        <p:blipFill>
          <a:blip r:embed="rId1"/>
          <a:stretch/>
        </p:blipFill>
        <p:spPr>
          <a:xfrm>
            <a:off x="5724360" y="3213000"/>
            <a:ext cx="2114640" cy="2159280"/>
          </a:xfrm>
          <a:prstGeom prst="rect">
            <a:avLst/>
          </a:prstGeom>
          <a:ln w="0">
            <a:noFill/>
          </a:ln>
        </p:spPr>
      </p:pic>
      <p:sp>
        <p:nvSpPr>
          <p:cNvPr id="111" name="Заголовок 1"/>
          <p:cNvSpPr/>
          <p:nvPr/>
        </p:nvSpPr>
        <p:spPr>
          <a:xfrm>
            <a:off x="53964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Информационный прое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971640" y="170028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сбор, анализ, оформление и 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1"/>
          <p:cNvGrpSpPr/>
          <p:nvPr/>
        </p:nvGrpSpPr>
        <p:grpSpPr>
          <a:xfrm>
            <a:off x="826920" y="2708280"/>
            <a:ext cx="3816360" cy="3457440"/>
            <a:chOff x="826920" y="2708280"/>
            <a:chExt cx="3816360" cy="3457440"/>
          </a:xfrm>
        </p:grpSpPr>
        <p:pic>
          <p:nvPicPr>
            <p:cNvPr id="114" name="Овал 8" descr=""/>
            <p:cNvPicPr/>
            <p:nvPr/>
          </p:nvPicPr>
          <p:blipFill>
            <a:blip r:embed="rId2"/>
            <a:stretch/>
          </p:blipFill>
          <p:spPr>
            <a:xfrm>
              <a:off x="826920" y="2708280"/>
              <a:ext cx="3816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0"/>
            <p:cNvSpPr/>
            <p:nvPr/>
          </p:nvSpPr>
          <p:spPr>
            <a:xfrm>
              <a:off x="1334520" y="3500280"/>
              <a:ext cx="2815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вивается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вершенствуе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формацион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5"/>
          <p:cNvSpPr/>
          <p:nvPr/>
        </p:nvSpPr>
        <p:spPr>
          <a:xfrm>
            <a:off x="4572000" y="2852640"/>
            <a:ext cx="4321080" cy="32418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148360" y="3860640"/>
            <a:ext cx="3240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минирующ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53964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Исследовательский прое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MC900338120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508640"/>
            <a:ext cx="1655640" cy="1652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755640" y="177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доказательство или опровержение гипотезы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5651640" y="2421000"/>
            <a:ext cx="2808000" cy="2665440"/>
            <a:chOff x="5651640" y="2421000"/>
            <a:chExt cx="2808000" cy="2665440"/>
          </a:xfrm>
        </p:grpSpPr>
        <p:pic>
          <p:nvPicPr>
            <p:cNvPr id="122" name="Овал 8" descr=""/>
            <p:cNvPicPr/>
            <p:nvPr/>
          </p:nvPicPr>
          <p:blipFill>
            <a:blip r:embed="rId3"/>
            <a:stretch/>
          </p:blipFill>
          <p:spPr>
            <a:xfrm>
              <a:off x="5651640" y="2421000"/>
              <a:ext cx="280800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0"/>
            <p:cNvSpPr/>
            <p:nvPr/>
          </p:nvSpPr>
          <p:spPr>
            <a:xfrm>
              <a:off x="5797800" y="3141720"/>
              <a:ext cx="243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ормиру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ыслитель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5"/>
          <p:cNvSpPr/>
          <p:nvPr/>
        </p:nvSpPr>
        <p:spPr>
          <a:xfrm>
            <a:off x="611280" y="2924280"/>
            <a:ext cx="4321080" cy="324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187280" y="3500280"/>
            <a:ext cx="32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тоды современ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и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ологический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1116000" y="3429000"/>
            <a:ext cx="33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минирующ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 результа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бщение, 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закономер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делать вы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новывать свою точку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5"/>
          <p:cNvSpPr/>
          <p:nvPr/>
        </p:nvSpPr>
        <p:spPr>
          <a:xfrm>
            <a:off x="611280" y="2924280"/>
            <a:ext cx="4321080" cy="324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39528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Практико-ориентированный (социальный)   </a:t>
            </a: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755640" y="177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решение практических задач заказчик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0"/>
          <p:cNvGrpSpPr/>
          <p:nvPr/>
        </p:nvGrpSpPr>
        <p:grpSpPr>
          <a:xfrm>
            <a:off x="5651640" y="2924280"/>
            <a:ext cx="2808000" cy="2665440"/>
            <a:chOff x="5651640" y="2924280"/>
            <a:chExt cx="2808000" cy="2665440"/>
          </a:xfrm>
        </p:grpSpPr>
        <p:pic>
          <p:nvPicPr>
            <p:cNvPr id="131" name="Овал 8" descr=""/>
            <p:cNvPicPr/>
            <p:nvPr/>
          </p:nvPicPr>
          <p:blipFill>
            <a:blip r:embed="rId1"/>
            <a:stretch/>
          </p:blipFill>
          <p:spPr>
            <a:xfrm>
              <a:off x="5651640" y="2924280"/>
              <a:ext cx="280800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9"/>
            <p:cNvSpPr/>
            <p:nvPr/>
          </p:nvSpPr>
          <p:spPr>
            <a:xfrm>
              <a:off x="5799240" y="3718080"/>
              <a:ext cx="246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ормиру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еятельнос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2"/>
          <p:cNvSpPr/>
          <p:nvPr/>
        </p:nvSpPr>
        <p:spPr>
          <a:xfrm>
            <a:off x="1187280" y="350028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минирую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конкретного заказа в определенной учебно-предметн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40328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403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125000" y="3429000"/>
            <a:ext cx="331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требительски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е пособие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инета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кет рекоменда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ческий атл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рь фразеолог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1"/>
          <p:cNvSpPr/>
          <p:nvPr/>
        </p:nvSpPr>
        <p:spPr>
          <a:xfrm>
            <a:off x="53964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Творческий прое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55640" y="1773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создание произведения любого жан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95280" y="2924280"/>
            <a:ext cx="4032360" cy="324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828720" y="3429000"/>
            <a:ext cx="316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гинальное офор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ьм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цен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фи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4500720" y="2781360"/>
            <a:ext cx="2808000" cy="2665440"/>
            <a:chOff x="4500720" y="2781360"/>
            <a:chExt cx="2808000" cy="2665440"/>
          </a:xfrm>
        </p:grpSpPr>
        <p:pic>
          <p:nvPicPr>
            <p:cNvPr id="142" name="Овал 8" descr=""/>
            <p:cNvPicPr/>
            <p:nvPr/>
          </p:nvPicPr>
          <p:blipFill>
            <a:blip r:embed="rId1"/>
            <a:stretch/>
          </p:blipFill>
          <p:spPr>
            <a:xfrm>
              <a:off x="4500720" y="2781360"/>
              <a:ext cx="280800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3"/>
            <p:cNvSpPr/>
            <p:nvPr/>
          </p:nvSpPr>
          <p:spPr>
            <a:xfrm>
              <a:off x="4547520" y="3502080"/>
              <a:ext cx="267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ормиру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муникати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14" descr="MC900359093[1]"/>
          <p:cNvPicPr/>
          <p:nvPr/>
        </p:nvPicPr>
        <p:blipFill>
          <a:blip r:embed="rId2"/>
          <a:stretch/>
        </p:blipFill>
        <p:spPr>
          <a:xfrm>
            <a:off x="6804000" y="4437000"/>
            <a:ext cx="185580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1"/>
          <p:cNvSpPr/>
          <p:nvPr/>
        </p:nvSpPr>
        <p:spPr>
          <a:xfrm>
            <a:off x="539640" y="189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Игровые и ролевые проек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755640" y="177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вовлечение публики (детей и взрослых) в решение проблем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2411280" y="3068640"/>
            <a:ext cx="2808000" cy="2665440"/>
            <a:chOff x="2411280" y="3068640"/>
            <a:chExt cx="2808000" cy="2665440"/>
          </a:xfrm>
        </p:grpSpPr>
        <p:pic>
          <p:nvPicPr>
            <p:cNvPr id="148" name="Овал 8" descr=""/>
            <p:cNvPicPr/>
            <p:nvPr/>
          </p:nvPicPr>
          <p:blipFill>
            <a:blip r:embed="rId1"/>
            <a:stretch/>
          </p:blipFill>
          <p:spPr>
            <a:xfrm>
              <a:off x="2411280" y="3068640"/>
              <a:ext cx="280800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9"/>
            <p:cNvSpPr/>
            <p:nvPr/>
          </p:nvSpPr>
          <p:spPr>
            <a:xfrm>
              <a:off x="2458080" y="3789360"/>
              <a:ext cx="267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ормиру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муникати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12" descr="j0240719"/>
          <p:cNvPicPr/>
          <p:nvPr/>
        </p:nvPicPr>
        <p:blipFill>
          <a:blip r:embed="rId2"/>
          <a:stretch/>
        </p:blipFill>
        <p:spPr>
          <a:xfrm>
            <a:off x="6659640" y="3068640"/>
            <a:ext cx="1558800" cy="24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j0297551"/>
          <p:cNvPicPr/>
          <p:nvPr/>
        </p:nvPicPr>
        <p:blipFill>
          <a:blip r:embed="rId3"/>
          <a:stretch/>
        </p:blipFill>
        <p:spPr>
          <a:xfrm>
            <a:off x="684360" y="3357720"/>
            <a:ext cx="1855800" cy="28321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4932360" y="2708280"/>
            <a:ext cx="4032360" cy="32418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5416560" y="3448080"/>
            <a:ext cx="311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  ролей литературных, исторических  персонажей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уманных  гер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зультат проекта непредсказу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teacher</cp:lastModifiedBy>
  <dcterms:modified xsi:type="dcterms:W3CDTF">2022-04-15T14:15:04Z</dcterms:modified>
  <cp:revision>98</cp:revision>
  <dc:subject/>
  <dc:title>Слайд 1</dc:title>
</cp:coreProperties>
</file>