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13.png" ContentType="image/png"/>
  <Override PartName="/ppt/media/image17.wmf" ContentType="image/x-wmf"/>
  <Override PartName="/ppt/media/image9.png" ContentType="image/png"/>
  <Override PartName="/ppt/media/image39.png" ContentType="image/png"/>
  <Override PartName="/ppt/media/image41.png" ContentType="image/png"/>
  <Override PartName="/ppt/media/image40.jpeg" ContentType="image/jpeg"/>
  <Override PartName="/ppt/media/image44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48.jpeg" ContentType="image/jpeg"/>
  <Override PartName="/ppt/media/image38.png" ContentType="image/png"/>
  <Override PartName="/ppt/media/image8.png" ContentType="image/png"/>
  <Override PartName="/ppt/media/image16.wmf" ContentType="image/x-wmf"/>
  <Override PartName="/ppt/media/image37.png" ContentType="image/png"/>
  <Override PartName="/ppt/media/image7.png" ContentType="image/png"/>
  <Override PartName="/ppt/media/image15.wmf" ContentType="image/x-wmf"/>
  <Override PartName="/ppt/media/image36.png" ContentType="image/png"/>
  <Override PartName="/ppt/media/image6.png" ContentType="image/png"/>
  <Override PartName="/ppt/media/image14.wmf" ContentType="image/x-wmf"/>
  <Override PartName="/ppt/media/image29.png" ContentType="image/png"/>
  <Override PartName="/ppt/media/image10.png" ContentType="image/png"/>
  <Override PartName="/ppt/media/image47.png" ContentType="image/png"/>
  <Override PartName="/ppt/media/image5.png" ContentType="image/png"/>
  <Override PartName="/ppt/media/image3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7E23-EEB4-41CE-9C3D-F9571F747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098D-E37E-4515-8337-0C5F476FD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DC12-7BB1-4B79-87FD-B8F1494AB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8BC4-44AC-4C6B-9EE8-E105D1E6E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5F046-CBEA-44D4-8A04-2F76B3833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E9BDD-AA86-4C00-BB27-032FB6481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4D087-EF5F-4ECF-BD63-A0F6275E7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DB93B-D084-44A6-A2AE-D9542BA47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9CEEF-8D26-4076-8D53-1DB3E70D3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39816-1F0F-431B-8107-D2980D75C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202FC-B6B8-4E70-8BD6-6C849E83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32D1-141C-4BF6-BCBD-A3D5E7EE1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C0076-F1CD-4FB1-BC26-B98BCF65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4487A-F5D6-4C82-A38D-A6BCCCC8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C3877-62CC-4555-8194-714DFD168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E6985-6410-43E6-9CB8-7CBF38EC5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71062-997F-450D-AD42-131639B81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E884-3A73-4F68-9DFD-103FD0202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89D6-AA09-4FFD-B88F-18A3C19E3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F84E-9DF7-4E9B-A5E3-00D95B304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99BA-4780-435B-9B40-F1BA5F12A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F122-5823-4F88-B935-40B9D73B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4107-68DC-40A7-A344-29226460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D939-A144-4585-A2EE-7703C842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15329-4ACF-4921-AF48-FA22A5F6C0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C395D-C33B-441D-886E-25014FF6CA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16&amp;text=&#1096;&#1082;&#1086;&#1083;&#1072;%20&#1082;&#1072;&#1088;&#1090;&#1080;&#1085;&#1082;&#1080;&amp;img_url=www.law.berkeley.edu/img/grades2.jpg&amp;rpt=simage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16&amp;text=&#1096;&#1082;&#1086;&#1083;&#1072;%20&#1082;&#1072;&#1088;&#1090;&#1080;&#1085;&#1082;&#1080;&amp;img_url=www.law.berkeley.edu/img/grades2.jpg&amp;rpt=simage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wmf"/><Relationship Id="rId8" Type="http://schemas.openxmlformats.org/officeDocument/2006/relationships/hyperlink" Target="file:///australiananimals2007%20&#1087;&#1086;&#1088;&#1090;&#1092;&#1086;&#1083;&#1080;&#1086;%20-%20&#1082;&#1086;&#1087;&#1080;&#1103;.ppt" TargetMode="External"/><Relationship Id="rId9" Type="http://schemas.openxmlformats.org/officeDocument/2006/relationships/image" Target="../media/image15.wmf"/><Relationship Id="rId10" Type="http://schemas.openxmlformats.org/officeDocument/2006/relationships/image" Target="../media/image16.wmf"/><Relationship Id="rId11" Type="http://schemas.openxmlformats.org/officeDocument/2006/relationships/image" Target="../media/image17.wmf"/><Relationship Id="rId12" Type="http://schemas.openxmlformats.org/officeDocument/2006/relationships/image" Target="../media/image18.wmf"/><Relationship Id="rId1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australiananimals2007%20&#1087;&#1086;&#1088;&#1090;&#1092;&#1086;&#1083;&#1080;&#1086;%20-%20&#1082;&#1086;&#1087;&#1080;&#1103;.ppt" TargetMode="External"/><Relationship Id="rId2" Type="http://schemas.openxmlformats.org/officeDocument/2006/relationships/image" Target="../media/image15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573120" y="1195560"/>
            <a:ext cx="7778880" cy="2260440"/>
          </a:xfrm>
          <a:prstGeom prst="rect">
            <a:avLst/>
          </a:prstGeom>
          <a:ln w="0">
            <a:noFill/>
          </a:ln>
        </p:spPr>
      </p:pic>
      <p:pic>
        <p:nvPicPr>
          <p:cNvPr id="83" name="TextBox 3" descr=""/>
          <p:cNvPicPr/>
          <p:nvPr/>
        </p:nvPicPr>
        <p:blipFill>
          <a:blip r:embed="rId2"/>
          <a:stretch/>
        </p:blipFill>
        <p:spPr>
          <a:xfrm>
            <a:off x="1670040" y="3444840"/>
            <a:ext cx="637704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Заголовок 1" descr=""/>
          <p:cNvPicPr/>
          <p:nvPr/>
        </p:nvPicPr>
        <p:blipFill>
          <a:blip r:embed="rId1"/>
          <a:stretch/>
        </p:blipFill>
        <p:spPr>
          <a:xfrm>
            <a:off x="420840" y="133200"/>
            <a:ext cx="8242200" cy="9572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йти проблему – что надо изуча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ма – как это назва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ктуальность – почему эту проблему нужно изуча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ль исследования – какой результат предполагается получи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ипотеза – что не очевидно в объект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овизна – что нового обнаружено в ходе исследова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дачи исследования – что делать – теоретически и экспериментальн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итературный обзор – что уже известно по этой проблем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етодика исследования – как и что исследовал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зультаты исследования – собственные данны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воды – краткие ответы на поставленные задач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начимость – как влияют результаты на практик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3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3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3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3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30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30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30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30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3000"/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3000"/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3000"/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Прямоугольник 12"/>
          <p:cNvSpPr/>
          <p:nvPr/>
        </p:nvSpPr>
        <p:spPr>
          <a:xfrm>
            <a:off x="324000" y="981000"/>
            <a:ext cx="3071520" cy="3143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РИЛ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11"/>
          <p:cNvSpPr/>
          <p:nvPr/>
        </p:nvSpPr>
        <p:spPr>
          <a:xfrm>
            <a:off x="755640" y="1341360"/>
            <a:ext cx="3071880" cy="3143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СПИСОК ИСПОЛЬЗУЕМЫХ ИСТОЧН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13"/>
          <p:cNvSpPr/>
          <p:nvPr/>
        </p:nvSpPr>
        <p:spPr>
          <a:xfrm>
            <a:off x="1116000" y="1844640"/>
            <a:ext cx="3071880" cy="3143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ЗАКЛЮ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14"/>
          <p:cNvSpPr/>
          <p:nvPr/>
        </p:nvSpPr>
        <p:spPr>
          <a:xfrm>
            <a:off x="4572000" y="1700280"/>
            <a:ext cx="3071880" cy="3143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рактическая ч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Заголовок 1" descr=""/>
          <p:cNvPicPr/>
          <p:nvPr/>
        </p:nvPicPr>
        <p:blipFill>
          <a:blip r:embed="rId1"/>
          <a:stretch/>
        </p:blipFill>
        <p:spPr>
          <a:xfrm>
            <a:off x="353880" y="-103320"/>
            <a:ext cx="8618760" cy="145584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оугольник 6"/>
          <p:cNvSpPr/>
          <p:nvPr/>
        </p:nvSpPr>
        <p:spPr>
          <a:xfrm>
            <a:off x="4788000" y="2133720"/>
            <a:ext cx="3071880" cy="3143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Теоретическая ч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7"/>
          <p:cNvSpPr/>
          <p:nvPr/>
        </p:nvSpPr>
        <p:spPr>
          <a:xfrm>
            <a:off x="2484360" y="2565360"/>
            <a:ext cx="3071880" cy="3143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ОСНОВНАЯ Ч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8"/>
          <p:cNvSpPr/>
          <p:nvPr/>
        </p:nvSpPr>
        <p:spPr>
          <a:xfrm>
            <a:off x="3348000" y="2924280"/>
            <a:ext cx="3071880" cy="3143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ВЕ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9"/>
          <p:cNvSpPr/>
          <p:nvPr/>
        </p:nvSpPr>
        <p:spPr>
          <a:xfrm>
            <a:off x="4140360" y="3284640"/>
            <a:ext cx="2879640" cy="3071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ОГЛ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10"/>
          <p:cNvSpPr/>
          <p:nvPr/>
        </p:nvSpPr>
        <p:spPr>
          <a:xfrm>
            <a:off x="5651640" y="3645000"/>
            <a:ext cx="2881080" cy="2927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ТИТУЛЬНЫЙ ЛИ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324000" y="1268280"/>
          <a:ext cx="8135640" cy="4591080"/>
        </p:xfrm>
        <a:graphic>
          <a:graphicData uri="http://schemas.openxmlformats.org/drawingml/2006/table">
            <a:tbl>
              <a:tblPr/>
              <a:tblGrid>
                <a:gridCol w="1989000"/>
                <a:gridCol w="6146640"/>
              </a:tblGrid>
              <a:tr h="93348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трукту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ребования к содержани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76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итульный ли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итульный лист является 1-й страницей работы. Титульный лист         не нумеруется. Содержит наименование конференции, тему работы, в скобках указывается тип проекта, название секции, сведения об авторе (Ф.И.О., класс, образовательное учреждение (в соответствии с Уставом), сведения о научном руководителе (Ф.И.О., ученая степень и  звание, должность, место работы), место  выполнения работы и год ее написания 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7" name="Рисунок 25" descr="http://im4-tub-ru.yandex.net/i?id=221854955-56-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5013360"/>
            <a:ext cx="187308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Заголовок 1" descr=""/>
          <p:cNvPicPr/>
          <p:nvPr/>
        </p:nvPicPr>
        <p:blipFill>
          <a:blip r:embed="rId1"/>
          <a:stretch/>
        </p:blipFill>
        <p:spPr>
          <a:xfrm>
            <a:off x="420840" y="133200"/>
            <a:ext cx="8242200" cy="9572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ПРОБЛЕМА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и тема проекта взаимосвязан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ПРОБЛЕМА 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это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прос или комплекс вопросов, решение которых представляет интерес для 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ПРОБЛЕМА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 задача, содержащая противоречие, не имеющая однозначного ответа и требующая исследования и поиска решен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роблем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лжна быть выполнима, решение её должно принести реальную пользу участникам исследования. Затем это надо назвать – 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тем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Заголовок 1" descr=""/>
          <p:cNvPicPr/>
          <p:nvPr/>
        </p:nvPicPr>
        <p:blipFill>
          <a:blip r:embed="rId1"/>
          <a:stretch/>
        </p:blipFill>
        <p:spPr>
          <a:xfrm>
            <a:off x="390600" y="255600"/>
            <a:ext cx="8362800" cy="8780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>
            <a:off x="503280" y="1557360"/>
            <a:ext cx="81835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разить в ней главное содержание всего исследования, обозначить объект и предмет исследов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дать теме адресность, т.е. сделать ее доступной и понятной для тех, кто будет участвовать в ее разработке, а также понятной, на кого она направле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делать ее лаконичной, без лишних слов, удобной для быстрого прочтения, да к тому же благозвучн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лжна быть понятной, доступной (научность языка в меру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428760" y="1143000"/>
          <a:ext cx="8183520" cy="5492880"/>
        </p:xfrm>
        <a:graphic>
          <a:graphicData uri="http://schemas.openxmlformats.org/drawingml/2006/table">
            <a:tbl>
              <a:tblPr/>
              <a:tblGrid>
                <a:gridCol w="2727360"/>
                <a:gridCol w="2728800"/>
                <a:gridCol w="2727360"/>
              </a:tblGrid>
              <a:tr h="72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ЪЕКТ ИССЛЕД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МЕТ ИССЛЕД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ЕМА ИССЛЕД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итьевая вод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чество питьевой в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ценка качества питьевой воды потребляемой жителями г. Кас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рост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вязанность и влюбленно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зникновение привязанности и влюбленности у подрост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стная и письменная публичная реч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рославяниз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обенности функционирования старославянизмов в современной устной и письменной ре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структор Л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корость сборки моделей конструктора Л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акторы, влияющие на скорость сборки конструктора Л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173" name="Заголовок 4" descr=""/>
          <p:cNvPicPr/>
          <p:nvPr/>
        </p:nvPicPr>
        <p:blipFill>
          <a:blip r:embed="rId1"/>
          <a:stretch/>
        </p:blipFill>
        <p:spPr>
          <a:xfrm>
            <a:off x="420840" y="317520"/>
            <a:ext cx="8199360" cy="84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1"/>
          <p:cNvSpPr/>
          <p:nvPr/>
        </p:nvSpPr>
        <p:spPr>
          <a:xfrm>
            <a:off x="826920" y="1341360"/>
            <a:ext cx="6840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ИТУЛЬНЫЙ ЛИ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ГЛАВЛЕНИЕ/ 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АВ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ОРЕТИЧЕСКАЯ ЧАСТ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АВ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КТИЧЕСКА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ИСОК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2"/>
          <p:cNvSpPr/>
          <p:nvPr/>
        </p:nvSpPr>
        <p:spPr>
          <a:xfrm>
            <a:off x="1555920" y="404640"/>
            <a:ext cx="58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РЕБОВАНИЯ К СОДЕРЖА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755640" y="1268280"/>
          <a:ext cx="7643880" cy="5000760"/>
        </p:xfrm>
        <a:graphic>
          <a:graphicData uri="http://schemas.openxmlformats.org/drawingml/2006/table">
            <a:tbl>
              <a:tblPr/>
              <a:tblGrid>
                <a:gridCol w="1903320"/>
                <a:gridCol w="5740560"/>
              </a:tblGrid>
              <a:tr h="86364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трукту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ребования к содержани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37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главл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 оглавлении указываются основные разделы работы (</a:t>
                      </a: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Calibri"/>
                        </a:rPr>
                        <a:t>введение, названия глав и параграфов, заключение, список литературы, названия приложени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й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) с указанием страниц. Последнее слово каждого заголовка соединяют отточием с соответствующим номером страницы. 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Заголовки оглавления должны точно повторять заголовки в тексте.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окращать или давать  их в другой формулировке, последовательности по сравнению с заголовками в тексте нельз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7" name="Рисунок 25" descr="http://im4-tub-ru.yandex.net/i?id=221854955-56-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4724280"/>
            <a:ext cx="196704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Заголовок 1" descr=""/>
          <p:cNvPicPr/>
          <p:nvPr/>
        </p:nvPicPr>
        <p:blipFill>
          <a:blip r:embed="rId1"/>
          <a:stretch/>
        </p:blipFill>
        <p:spPr>
          <a:xfrm>
            <a:off x="420840" y="-6480"/>
            <a:ext cx="8199360" cy="12988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428760" y="1267920"/>
            <a:ext cx="81835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ведение……………………………………………………………………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I. Теоретическая часть (Точное наименование главы)…………………………………………………………………….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1. (Точное наименование параграфа)……………………………………………………………..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2. (Точное наименование параграфа)………………………………………………………………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3. (Точное наименование параграфа) и т.д. по всем параграфам……………………………………………………………..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II.   Практическая часть (Точное наименование главы)……………………………………………………………………….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1. (Точное наименование параграфа)………………………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2. (Точное наименование параграфа)……………………….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3. (Точное наименование параграфа) и т.д. по всем параграфам……………………………………………………………..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ключение………………………………………………………………..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писок литературы  и Интернет-ресурсов…………………….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ложение……………………………………………………………….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Заголовок 1" descr=""/>
          <p:cNvPicPr/>
          <p:nvPr/>
        </p:nvPicPr>
        <p:blipFill>
          <a:blip r:embed="rId1"/>
          <a:stretch/>
        </p:blipFill>
        <p:spPr>
          <a:xfrm>
            <a:off x="420840" y="133200"/>
            <a:ext cx="8242200" cy="9572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 txBox="1"/>
          <p:nvPr/>
        </p:nvSpPr>
        <p:spPr>
          <a:xfrm>
            <a:off x="45720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ведение…………………………………………………………….……….…..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Теоретическая ча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1.История создания Лего …………………………………………………...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2.История возникновения названия…………………………………… ..…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3.Разнообразие  игр конструктора ЛЕГО…………………………………..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4. ЛЕГО-конструирование–модная игра или серьёзное занятие?..............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5. Интересные ЛЕГО-факты…………………………………………………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Практическая часть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1. Методы и материалы исследования ………….……………………...…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2. Результаты анкетирования …………….…………………………….….6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3. Организация выставки.. …………………………………………...…….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4. Организация эксперимента………………………………………….…..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ключение………………………………………………………..…………..…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писок литературы  и Интернет-ресурсов…………………….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ложение……………………………………………………………….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830124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Под понятием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роект» </a:t>
            </a:r>
            <a:r>
              <a:rPr b="1" lang="ru-RU" sz="24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понимается  творческая,  завершенная </a:t>
            </a:r>
            <a:r>
              <a:rPr b="1" lang="ru-RU" sz="24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работа</a:t>
            </a:r>
            <a:r>
              <a:rPr b="1" lang="ru-RU" sz="24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, соответствующая возрастным  возможностям учащих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оциальный характер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является в том, что работа окружающим нравится и практически используется, например, в оформлении класса, школы или дом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Личностный характер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является в том, что ребенок реализует свое собственное “Я” через самостоятельную деятельность, принятие самостоятельного решения, оценивание своей работы и получение от нее удовольств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ик 3"/>
          <p:cNvSpPr/>
          <p:nvPr/>
        </p:nvSpPr>
        <p:spPr>
          <a:xfrm>
            <a:off x="642960" y="1571760"/>
            <a:ext cx="76438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d:\Мои документы\Мои рисунки\Рисунок16.png"/>
          <p:cNvPicPr/>
          <p:nvPr/>
        </p:nvPicPr>
        <p:blipFill>
          <a:blip r:embed="rId1"/>
          <a:stretch/>
        </p:blipFill>
        <p:spPr>
          <a:xfrm>
            <a:off x="7164360" y="4581360"/>
            <a:ext cx="1603440" cy="184788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5"/>
          <p:cNvSpPr/>
          <p:nvPr/>
        </p:nvSpPr>
        <p:spPr>
          <a:xfrm>
            <a:off x="539640" y="1357200"/>
            <a:ext cx="80647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Цель проектной деятельности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 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олучение такого результата, который может быть как социально, так и личностно знач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6"/>
          <p:cNvSpPr/>
          <p:nvPr/>
        </p:nvSpPr>
        <p:spPr>
          <a:xfrm>
            <a:off x="1285920" y="392904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7"/>
          <p:cNvSpPr/>
          <p:nvPr/>
        </p:nvSpPr>
        <p:spPr>
          <a:xfrm>
            <a:off x="1000080" y="285768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684360" y="1341360"/>
          <a:ext cx="7848360" cy="5241960"/>
        </p:xfrm>
        <a:graphic>
          <a:graphicData uri="http://schemas.openxmlformats.org/drawingml/2006/table">
            <a:tbl>
              <a:tblPr/>
              <a:tblGrid>
                <a:gridCol w="1955520"/>
                <a:gridCol w="5892840"/>
              </a:tblGrid>
              <a:tr h="68328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трукту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ребования к содержани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868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ведение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Calibri"/>
                        </a:rPr>
                        <a:t>Введение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– очень ответственная часть работы, она ориентирует читателя в раскрытии темы, а также содержит важные характеристики. Во введении кратко обосновывается актуальность выбранной темы,  формулируются цель, гипотеза и задачи, указываются объект и предмет исследования, избранный метод (или методы) исследования, определяются хронологические рамки исследования, приводится краткий обзор существующих источников и литературы по данной проблеме, оговаривается, на основании каких источников написано данное исследование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3" name="Рисунок 25" descr="http://im4-tub-ru.yandex.net/i?id=221854955-56-72"/>
          <p:cNvPicPr/>
          <p:nvPr/>
        </p:nvPicPr>
        <p:blipFill>
          <a:blip r:embed="rId1"/>
          <a:stretch/>
        </p:blipFill>
        <p:spPr>
          <a:xfrm>
            <a:off x="395280" y="4797360"/>
            <a:ext cx="201456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Заголовок 1"/>
          <p:cNvSpPr/>
          <p:nvPr/>
        </p:nvSpPr>
        <p:spPr>
          <a:xfrm>
            <a:off x="179280" y="0"/>
            <a:ext cx="87138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933c"/>
                </a:solidFill>
                <a:latin typeface="Calibri"/>
              </a:rPr>
              <a:t>Тема работы и обоснование выбора тем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1"/>
          <p:cNvSpPr/>
          <p:nvPr/>
        </p:nvSpPr>
        <p:spPr>
          <a:xfrm>
            <a:off x="684360" y="1557360"/>
            <a:ext cx="806436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разы-шаблоны для исследовательской рабо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Предлагаемая вниманию читателя исследовательская работа посвящена 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Задумывались ли вы когда-нибудь над тем, почему …? Я обратил внимание на … / задумался над этим вопросом, когда 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Мне всегда было интересно, почему 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- Желание узнать … появилось у меня еще в детстве. Меня заинтересовало 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- Тема нашей работы: «…». Я выбрал именно эту тему для исследования, потому что 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В будущем я хотел бы связать свою жизнь с … поэтому уже сейчас интересуюсь … и выбрал … в качестве темы своего исследования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Я заинтересовалась … после того, как однажды 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Когда я … меня поразило / мне стало интересно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Заголовок 1" descr=""/>
          <p:cNvPicPr/>
          <p:nvPr/>
        </p:nvPicPr>
        <p:blipFill>
          <a:blip r:embed="rId1"/>
          <a:stretch/>
        </p:blipFill>
        <p:spPr>
          <a:xfrm>
            <a:off x="420840" y="139680"/>
            <a:ext cx="8242200" cy="9507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АКТУАЛЬНОС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важность) темы - ее значимость для развития мыслительной и практической деятельности челове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чему именно эту проблему нужно в настоящее время изуча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чему была выбрана именно эта тема, чем она тебя заинтересова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Заголовок 1" descr=""/>
          <p:cNvPicPr/>
          <p:nvPr/>
        </p:nvPicPr>
        <p:blipFill>
          <a:blip r:embed="rId1"/>
          <a:stretch/>
        </p:blipFill>
        <p:spPr>
          <a:xfrm>
            <a:off x="420840" y="133200"/>
            <a:ext cx="8242200" cy="9572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 txBox="1"/>
          <p:nvPr/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разы-шаблоны для исследовательской рабо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 Актуальность темы нашей работы определяется тем, что в настоящее время …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ало сегодня неотъемлемой частью нашей жизни. Мы используем … не задумываясь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В современном мире … имеет большое значение, так как 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В последние годы мы часто слышим и употребляем слово 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Многие интересуются/ увлекаются/ задумываются 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Сегодня проблема … является одной из самых актуальных, потому что 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Вопрос … в последние годы оказывается в фокусе исследовательского внимания 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Тема является предметом оживленных дискуссий 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ъясняется это тем, что … влияет на наше здоровье / настроение / успешность</a:t>
            </a:r>
            <a:br>
              <a:rPr sz="1600"/>
            </a:br>
            <a:br>
              <a:rPr sz="12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Заголовок 1" descr=""/>
          <p:cNvPicPr/>
          <p:nvPr/>
        </p:nvPicPr>
        <p:blipFill>
          <a:blip r:embed="rId1"/>
          <a:stretch/>
        </p:blipFill>
        <p:spPr>
          <a:xfrm>
            <a:off x="420840" y="133200"/>
            <a:ext cx="8242200" cy="9572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 txBox="1"/>
          <p:nvPr/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разы-шаблоны для исследовательской работы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блема … привлекает к себе пристальное внимание учёных и общественности из-за того, что 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В последнее время появилось … и люди стали все чаще задумываться над тем 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Наверное, каждый человек хотя бы один раз в жизни задумывался над тем 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… всегда вызывало у людей множество вопросов 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На сегодняшний день существует два противоположных взгляда на данную проблему 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Сегодня ведутся споры / нет единого мнения по данному вопросу …</a:t>
            </a:r>
            <a:br>
              <a:rPr sz="12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Заголовок 1" descr=""/>
          <p:cNvPicPr/>
          <p:nvPr/>
        </p:nvPicPr>
        <p:blipFill>
          <a:blip r:embed="rId1"/>
          <a:stretch/>
        </p:blipFill>
        <p:spPr>
          <a:xfrm>
            <a:off x="420840" y="133200"/>
            <a:ext cx="8242200" cy="9572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 txBox="1"/>
          <p:nvPr/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разы-шаблоны для исследовательской работы</a:t>
            </a:r>
            <a:br>
              <a:rPr sz="16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На сегодняшний день существуют работы, посвященные … вообще. Однако мы решили изучить эту тему на примере своего класса/школы и в этом заключается новизна нашего исследования. </a:t>
            </a:r>
            <a:br>
              <a:rPr sz="12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Заголовок 1" descr=""/>
          <p:cNvPicPr/>
          <p:nvPr/>
        </p:nvPicPr>
        <p:blipFill>
          <a:blip r:embed="rId1"/>
          <a:stretch/>
        </p:blipFill>
        <p:spPr>
          <a:xfrm>
            <a:off x="420840" y="133200"/>
            <a:ext cx="8242200" cy="9572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то конечный (конкретный) результат, которого хотел бы достичь исследователь по завершении своей рабо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явление взаимосвязи неких явлений………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учение развития явлений……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исание нового явления……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общение………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явление закономерностей……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здание классификаций………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готовление………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ценка……………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Заголовок 1" descr=""/>
          <p:cNvPicPr/>
          <p:nvPr/>
        </p:nvPicPr>
        <p:blipFill>
          <a:blip r:embed="rId1"/>
          <a:stretch/>
        </p:blipFill>
        <p:spPr>
          <a:xfrm>
            <a:off x="420840" y="133200"/>
            <a:ext cx="8242200" cy="9572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то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едположения, допущения, требующие проверки на опыте и теоретического обоснования для того, чтобы стать достоверным знание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Гипотез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является  предполагаемым  ответом на заданную проблему.</a:t>
            </a:r>
            <a:br>
              <a:rPr sz="24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Гипотез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является отправной точкой исследования, подтверждаемой или опровергаемой в ходе теоретических рассуждений и хода эксперимен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При формулировке гипотезы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ычно используются словесные конструкции типа: «если..., то...»; «так как...»; «при условии что...», «предположим», «допустим», «возможно», «что, если»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Заголовок 1" descr=""/>
          <p:cNvPicPr/>
          <p:nvPr/>
        </p:nvPicPr>
        <p:blipFill>
          <a:blip r:embed="rId1"/>
          <a:stretch/>
        </p:blipFill>
        <p:spPr>
          <a:xfrm>
            <a:off x="420840" y="133200"/>
            <a:ext cx="8242200" cy="9572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то выбор путей и средств достижения цели в соответствии с выдвинутой гипотезо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. Задачи показывают, что вы собираетесь делать. Формулировка задач тесно связана со структурой исследования. Причем, отдельные задачи могут быть поставлены для теоретической части и для экспериментальн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достижения поставленной цели нам необходимо решить следующие задачи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достижения этой цели мы ставим перед собой следующие задачи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Познакомиться, понаблюдать, провести анкетирование, эксперимент и т.д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Заголовок 1" descr=""/>
          <p:cNvPicPr/>
          <p:nvPr/>
        </p:nvPicPr>
        <p:blipFill>
          <a:blip r:embed="rId1"/>
          <a:stretch/>
        </p:blipFill>
        <p:spPr>
          <a:xfrm>
            <a:off x="420840" y="133200"/>
            <a:ext cx="8242200" cy="9572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разы-шаблоны для исследовательской работ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учить литературу по тем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яснить значение терминов …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йти примеры … в … / собрать материал … / изучить состав … / измерить уровень …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вести опрос / эксперимент /наблюдение/ анкетирование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равнить/ сопоставить /проанализировать полученные результаты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делать выводы о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знакомиться, понаблюдать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420840" y="133200"/>
            <a:ext cx="8242200" cy="957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d:\Мои документы\Мои рисунки\Рисунок16.png"/>
          <p:cNvPicPr/>
          <p:nvPr/>
        </p:nvPicPr>
        <p:blipFill>
          <a:blip r:embed="rId2"/>
          <a:stretch/>
        </p:blipFill>
        <p:spPr>
          <a:xfrm>
            <a:off x="7929720" y="0"/>
            <a:ext cx="895320" cy="11556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68000" y="1341360"/>
            <a:ext cx="79614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Проекты бываю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mbria"/>
              </a:rPr>
              <a:t>По доминирующей деятельности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исследовательские, информационные, практико-ориентированные (социальные), творческие, ролевые, прикладные и прочие проект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mbria"/>
              </a:rPr>
              <a:t>По содержанию: </a:t>
            </a: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монопредметным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(выполняется на материале конкретного предмета) и </a:t>
            </a: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межпредметным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 (интегрируется смежная тематика нескольких предметов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mbria"/>
              </a:rPr>
              <a:t>По продолжительности: </a:t>
            </a: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краткосрочными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средней продолжительности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(от недели до месяца) и </a:t>
            </a: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долгосрочными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mbria"/>
              </a:rPr>
              <a:t>По характеру координации, характеру контактов и количеству участников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индивидуальным, парный,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групповым, фронтальны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420840" y="139680"/>
            <a:ext cx="8242200" cy="9507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раткий обзор используемой литературы и Интернет-ресурс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актовка проблемы отечественными и зарубежными учеными, специалист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временное состояние изучаемого, исследуемого предмета,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указание основных работ по вопрос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бственное мнение к позиции исследовате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каких вида источников информации освещается тема исследования? Какими авторами и какие аспекты проблемы изучены?  Какие вопросы по теме требуют дальнейшего подробного изучени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1" descr=""/>
          <p:cNvPicPr/>
          <p:nvPr/>
        </p:nvPicPr>
        <p:blipFill>
          <a:blip r:embed="rId1"/>
          <a:stretch/>
        </p:blipFill>
        <p:spPr>
          <a:xfrm>
            <a:off x="420840" y="133200"/>
            <a:ext cx="8242200" cy="957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блюдение                                   Сравн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мерение                                     Эксперимен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нализ                                             Синте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оделирование                            Обобщ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истематизация                            Прогнозиров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еседа                                              Анкетировани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ение учебной, научно-популярной и справочной литерату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комство с кинофильм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иск информации в глобальных компьютерных сетя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324000" y="1268280"/>
          <a:ext cx="8501040" cy="5045040"/>
        </p:xfrm>
        <a:graphic>
          <a:graphicData uri="http://schemas.openxmlformats.org/drawingml/2006/table">
            <a:tbl>
              <a:tblPr/>
              <a:tblGrid>
                <a:gridCol w="500040"/>
                <a:gridCol w="1857240"/>
                <a:gridCol w="6143760"/>
              </a:tblGrid>
              <a:tr h="246240"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он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 компонен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57600" rIns="576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уа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снование выбора темы: личный интерес, противоречивость мнений по изучаемому вопросу, практическая значимость, малоизученность и т.п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57600" rIns="576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 на вопрос: «Что я хочу выяснить в результате проведенной работы?». Цель, как правило, начинается с глаголов: выявить, выяснить, обосновать, определить, создать, построить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57600" rIns="576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аги для достижения цели: изучить литературу по вопросу исследования, провести эксперимент, обосновать…, разработать… и т.п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57600" rIns="576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поте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ернутое предположение, требующее доказательства. Как правило, гипотеза формулируется виде сложноподчиненного предложения с придаточным условия («Если…, то…», «Чем…, тем…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57600" rIns="576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к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ь, раздел науки, в рамках которого находится то, что будет изучаться (например, творчество С.А. Есенин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57600" rIns="576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ретная часть объекта, который собственно и исследуется (например, цветовые эпитеты в творчестве С.А. Есенин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57600" rIns="576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оретическое обос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ткий обзор состояния проблемы. Указание основных работ по вопрос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57600" rIns="576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 на вопрос: «Как проводилось исследование?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Rectangle 1"/>
          <p:cNvSpPr/>
          <p:nvPr/>
        </p:nvSpPr>
        <p:spPr>
          <a:xfrm>
            <a:off x="179280" y="-3024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f6228"/>
                </a:solidFill>
                <a:latin typeface="Calibri"/>
                <a:ea typeface="Calibri"/>
              </a:rPr>
              <a:t>Введение к исследовательской рабо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539640" y="1341360"/>
          <a:ext cx="8215560" cy="5329440"/>
        </p:xfrm>
        <a:graphic>
          <a:graphicData uri="http://schemas.openxmlformats.org/drawingml/2006/table">
            <a:tbl>
              <a:tblPr/>
              <a:tblGrid>
                <a:gridCol w="1673280"/>
                <a:gridCol w="6542280"/>
              </a:tblGrid>
              <a:tr h="762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трукту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ребования к содержани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7320"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ая ч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 основной части содержится информация, собранная и обработанная автором в ходе исследования, излагаются основные факты, описывается техника исследования, излагаются полученные результаты. Основная часть делится на главы и (или) параграфы.</a:t>
                      </a: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Calibri"/>
                        </a:rPr>
                        <a:t>Глава 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обычно содержит итоги анализа специальной литературы, теоретическое обоснование темы исследования;</a:t>
                      </a:r>
                      <a:br>
                        <a:rPr sz="1800"/>
                      </a:b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Calibri"/>
                        </a:rPr>
                        <a:t>Главы 2-3 описывают практические этапы работы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, интерпретацию данных, выявление определенных закономерностей в изучаемых явлениях в ходе эксперимента. Каждая глава завершается выводам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 главах 2-3 описывают, где, когда, кем и как проводились опыты или наблюдения, сколько их было проведено, с какой точностью проводились измерения и подсчеты, какие способы обработки первичных данных вы использовали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9" name="Рисунок 25" descr="http://im4-tub-ru.yandex.net/i?id=221854955-56-72"/>
          <p:cNvPicPr/>
          <p:nvPr/>
        </p:nvPicPr>
        <p:blipFill>
          <a:blip r:embed="rId1"/>
          <a:stretch/>
        </p:blipFill>
        <p:spPr>
          <a:xfrm>
            <a:off x="395280" y="5229360"/>
            <a:ext cx="1728720" cy="12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Заголовок 1" descr=""/>
          <p:cNvPicPr/>
          <p:nvPr/>
        </p:nvPicPr>
        <p:blipFill>
          <a:blip r:embed="rId1"/>
          <a:stretch/>
        </p:blipFill>
        <p:spPr>
          <a:xfrm>
            <a:off x="420840" y="133200"/>
            <a:ext cx="8242200" cy="9572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это основные термины и понятия, история вопрос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разы-шаблоны для исследовательской работ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Ключевые понятия для нашего исследования – это …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… называется 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На официальном сайте … мы нашли следующее определение термина … «…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ванов В.В. в книге … определяет понятие … как 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Петров В.В. понимает под термином 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Сидоров С.С. рассматривает … как 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-Андреев А.А. в книге «…» дает следующее определение … — это 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Сайт … предлагает следующее определение понятия 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В статье Иванова «…» в журнале «…» говорится, что 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Принято считать, что 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Общеизвестным считается …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Заголовок 1" descr=""/>
          <p:cNvPicPr/>
          <p:nvPr/>
        </p:nvPicPr>
        <p:blipFill>
          <a:blip r:embed="rId1"/>
          <a:stretch/>
        </p:blipFill>
        <p:spPr>
          <a:xfrm>
            <a:off x="420840" y="133200"/>
            <a:ext cx="8242200" cy="957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разы-шаблоны для исследовательской рабо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В начале обратимся к истории вопроса 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История вопроса подробно освещена на страницах современных энциклопедий, например … , а также на сайте … Впервые …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Из книги … мы узнали, что 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Как пишет Иванов И.И. … в статье … «…», 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По мнению Иванова В.В. 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Возможно, это связано 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Кроме того, 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Интересно, что 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Распространённым является мнение, что 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При этом необходимо подчеркнуть, что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1" descr=""/>
          <p:cNvPicPr/>
          <p:nvPr/>
        </p:nvPicPr>
        <p:blipFill>
          <a:blip r:embed="rId1"/>
          <a:stretch/>
        </p:blipFill>
        <p:spPr>
          <a:xfrm>
            <a:off x="420840" y="133200"/>
            <a:ext cx="8242200" cy="9572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держи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струментарий исслед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писание проводимого эксперимен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пособы обработки данных эксперимен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аму обработку данных в табличном графическом или ином вариан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ыводы по проводимому эксперименту, позволяющему оценить правильность выдвинутой гипотезы или признать её ошибочн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Заголовок 1" descr=""/>
          <p:cNvPicPr/>
          <p:nvPr/>
        </p:nvPicPr>
        <p:blipFill>
          <a:blip r:embed="rId1"/>
          <a:stretch/>
        </p:blipFill>
        <p:spPr>
          <a:xfrm>
            <a:off x="420840" y="208080"/>
            <a:ext cx="8478720" cy="8823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разы-шаблоны для исследовательской рабо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Для того, чтобы выяснить … мы решили провести опрос … среди учащихся / родителей нашего класса. Опрос проводился посредством анкетирования / опроса в социальных сетях. В опросе приняли участие … учащихся и … родителей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Респондентам были заданы следующие вопросы: 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Исследование проводилось на материале 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В качестве материала для исследования мы взяли …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Источником примеров стали 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Результаты анкетирования представлены в таблице 1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На рисунке 2 вы можете видеть 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На рисунке 3 представлены 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В данном случае мы видим … / имеем дело с 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- При этом нельзя не отметить 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- Обращает на себя внимание тот факт, что 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- Диаграмма показывает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468360" y="1341360"/>
          <a:ext cx="8207280" cy="4832280"/>
        </p:xfrm>
        <a:graphic>
          <a:graphicData uri="http://schemas.openxmlformats.org/drawingml/2006/table">
            <a:tbl>
              <a:tblPr/>
              <a:tblGrid>
                <a:gridCol w="1511280"/>
                <a:gridCol w="6696000"/>
              </a:tblGrid>
              <a:tr h="64764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трукту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ребования к содержани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464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ыв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заключени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Заключение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– это не просто перечень полученных результатов. Необходимо указать, удалось или нет достигнуть поставленной цели, показать практическую значимость работ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дводятс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тоги теоретического и  практического исследов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елаются выв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одержится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ценка результатов исслед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тмечается практическая значимость исследова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аются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екомендации по использованию и внедрению результатов исследования в практическую дея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пределяют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ерспективы дальнейшей работы (если необходим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9" name="Рисунок 25" descr="http://im4-tub-ru.yandex.net/i?id=221854955-56-72"/>
          <p:cNvPicPr/>
          <p:nvPr/>
        </p:nvPicPr>
        <p:blipFill>
          <a:blip r:embed="rId1"/>
          <a:stretch/>
        </p:blipFill>
        <p:spPr>
          <a:xfrm>
            <a:off x="468360" y="5229360"/>
            <a:ext cx="1379520" cy="9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420840" y="133200"/>
            <a:ext cx="8242200" cy="9572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разы-шаблоны для исследовательской работ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 основании всего вышесказанного мы можем констатировать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Все вышесказанное дает нам возможность сделать следующие выводы: …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Таким образом, мы видим …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Следовательно …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Очевидно, что …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Как видно из всего, сказанного выше …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Из вышесказанного следует, что …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Подводя итоги вышесказанному необходимо отметить следующее …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Подводя итоги главе 2 необходимо подчеркнуть …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Подводя промежуточные итоги, мы можем сказать, что …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В результате проведенного исследования мы выяснили, что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…</a:t>
            </a:r>
            <a:br>
              <a:rPr sz="2000"/>
            </a:b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Овал 8" descr=""/>
          <p:cNvPicPr/>
          <p:nvPr/>
        </p:nvPicPr>
        <p:blipFill>
          <a:blip r:embed="rId1"/>
          <a:stretch/>
        </p:blipFill>
        <p:spPr>
          <a:xfrm>
            <a:off x="2712960" y="3286080"/>
            <a:ext cx="3449880" cy="1365120"/>
          </a:xfrm>
          <a:prstGeom prst="rect">
            <a:avLst/>
          </a:prstGeom>
          <a:ln w="0">
            <a:noFill/>
          </a:ln>
        </p:spPr>
      </p:pic>
      <p:pic>
        <p:nvPicPr>
          <p:cNvPr id="95" name="Овал 8" descr=""/>
          <p:cNvPicPr/>
          <p:nvPr/>
        </p:nvPicPr>
        <p:blipFill>
          <a:blip r:embed="rId2"/>
          <a:stretch/>
        </p:blipFill>
        <p:spPr>
          <a:xfrm>
            <a:off x="622440" y="2206800"/>
            <a:ext cx="3163680" cy="1152360"/>
          </a:xfrm>
          <a:prstGeom prst="rect">
            <a:avLst/>
          </a:prstGeom>
          <a:ln w="0">
            <a:noFill/>
          </a:ln>
        </p:spPr>
      </p:pic>
      <p:pic>
        <p:nvPicPr>
          <p:cNvPr id="96" name="Заголовок 1" descr=""/>
          <p:cNvPicPr/>
          <p:nvPr/>
        </p:nvPicPr>
        <p:blipFill>
          <a:blip r:embed="rId3"/>
          <a:stretch/>
        </p:blipFill>
        <p:spPr>
          <a:xfrm>
            <a:off x="390600" y="182520"/>
            <a:ext cx="8240760" cy="1298520"/>
          </a:xfrm>
          <a:prstGeom prst="rect">
            <a:avLst/>
          </a:prstGeom>
          <a:ln w="0">
            <a:noFill/>
          </a:ln>
        </p:spPr>
      </p:pic>
      <p:sp>
        <p:nvSpPr>
          <p:cNvPr id="97" name="TextBox 7"/>
          <p:cNvSpPr/>
          <p:nvPr/>
        </p:nvSpPr>
        <p:spPr>
          <a:xfrm>
            <a:off x="611280" y="2565360"/>
            <a:ext cx="31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следовательски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Овал 8" descr=""/>
          <p:cNvPicPr/>
          <p:nvPr/>
        </p:nvPicPr>
        <p:blipFill>
          <a:blip r:embed="rId4"/>
          <a:stretch/>
        </p:blipFill>
        <p:spPr>
          <a:xfrm>
            <a:off x="3938760" y="1487520"/>
            <a:ext cx="3449520" cy="13651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9"/>
          <p:cNvSpPr/>
          <p:nvPr/>
        </p:nvSpPr>
        <p:spPr>
          <a:xfrm>
            <a:off x="4287600" y="1700280"/>
            <a:ext cx="273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ктик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иентирова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социальны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Овал 8" descr=""/>
          <p:cNvPicPr/>
          <p:nvPr/>
        </p:nvPicPr>
        <p:blipFill>
          <a:blip r:embed="rId5"/>
          <a:stretch/>
        </p:blipFill>
        <p:spPr>
          <a:xfrm>
            <a:off x="4578480" y="5157720"/>
            <a:ext cx="2955960" cy="1011240"/>
          </a:xfrm>
          <a:prstGeom prst="rect">
            <a:avLst/>
          </a:prstGeom>
          <a:ln w="0">
            <a:noFill/>
          </a:ln>
        </p:spPr>
      </p:pic>
      <p:pic>
        <p:nvPicPr>
          <p:cNvPr id="101" name="Овал 8" descr=""/>
          <p:cNvPicPr/>
          <p:nvPr/>
        </p:nvPicPr>
        <p:blipFill>
          <a:blip r:embed="rId6"/>
          <a:stretch/>
        </p:blipFill>
        <p:spPr>
          <a:xfrm>
            <a:off x="695160" y="4870440"/>
            <a:ext cx="3449880" cy="13651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25"/>
          <p:cNvSpPr/>
          <p:nvPr/>
        </p:nvSpPr>
        <p:spPr>
          <a:xfrm>
            <a:off x="1044720" y="5229360"/>
            <a:ext cx="27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6"/>
          <p:cNvSpPr/>
          <p:nvPr/>
        </p:nvSpPr>
        <p:spPr>
          <a:xfrm>
            <a:off x="5078520" y="5445000"/>
            <a:ext cx="18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вор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1" descr="MC900359093[1]"/>
          <p:cNvPicPr/>
          <p:nvPr/>
        </p:nvPicPr>
        <p:blipFill>
          <a:blip r:embed="rId7"/>
          <a:stretch/>
        </p:blipFill>
        <p:spPr>
          <a:xfrm>
            <a:off x="6659640" y="4797360"/>
            <a:ext cx="1855800" cy="17319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6" descr="MC900338120[1]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971640" y="836640"/>
            <a:ext cx="1655640" cy="1652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8" descr="MC900334060[1]"/>
          <p:cNvPicPr/>
          <p:nvPr/>
        </p:nvPicPr>
        <p:blipFill>
          <a:blip r:embed="rId10"/>
          <a:stretch/>
        </p:blipFill>
        <p:spPr>
          <a:xfrm>
            <a:off x="7020000" y="765000"/>
            <a:ext cx="1706400" cy="1825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8" descr="j0195384"/>
          <p:cNvPicPr/>
          <p:nvPr/>
        </p:nvPicPr>
        <p:blipFill>
          <a:blip r:embed="rId11"/>
          <a:stretch/>
        </p:blipFill>
        <p:spPr>
          <a:xfrm>
            <a:off x="1042920" y="3789360"/>
            <a:ext cx="1411200" cy="14414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49"/>
          <p:cNvSpPr/>
          <p:nvPr/>
        </p:nvSpPr>
        <p:spPr>
          <a:xfrm>
            <a:off x="2916360" y="364500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гровой, роле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1" descr="j0297551"/>
          <p:cNvPicPr/>
          <p:nvPr/>
        </p:nvPicPr>
        <p:blipFill>
          <a:blip r:embed="rId12"/>
          <a:stretch/>
        </p:blipFill>
        <p:spPr>
          <a:xfrm>
            <a:off x="6156360" y="2997360"/>
            <a:ext cx="1131840" cy="172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420840" y="133200"/>
            <a:ext cx="8242200" cy="9572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В заключении необходимо отметить …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Проведенное исследование позволило нам сделать следующие выводы …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Главный вывод, который я сделал: …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В ходе проведённого исследования было выявлено / установлено, что …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Таким образом, мы убедились …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Все вышесказанное доказывает, что …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На основании вышесказанного логично предположить, что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Все вышесказанное убеждает нас в том, что …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Наиболее правдоподобной нам кажется версия …, потому что …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Найденные и проанализированные нами примеры позволяют выявить следующую закономерность: …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420840" y="-128520"/>
            <a:ext cx="8242200" cy="14572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разы-шаблоны для исследовательской работ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 Перспективы дальнейшего исследования проблемы мы видим в более подробном / детальном изучении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В перспективе было бы интересно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На наш взгляд было бы интересно изучить / исследовать / рассмотреть …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Кроме …, рассмотренных в данной работе, по нашему мнению было бы интересно изучить …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Работа рассматривает лишь один из аспектов проблемы. - Исследования в этом направлении могут быть продолжены. Это могло бы быть изучение не только … но и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420840" y="133200"/>
            <a:ext cx="8242200" cy="9572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Исследование может быть полезно и интересно учащимся школ, которые увлекаются … , а также всем, кто интересуется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Результаты нашего исследования могли бы помочь ребятам в …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Работа может представлять интерес для …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Результаты исследования могут быть использованы учителями при подготовке уроков / конкурсов / викторин по теме …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Работа может быть использована для проведения дальнейших исследований …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воей работой я хотел привлечь внимание к проблеме …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ктическая значимость исследования заключается в том, что его результаты легли в основу разработанных мной правил … / памятки по … для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Заголовок 1" descr=""/>
          <p:cNvPicPr/>
          <p:nvPr/>
        </p:nvPicPr>
        <p:blipFill>
          <a:blip r:embed="rId1"/>
          <a:stretch/>
        </p:blipFill>
        <p:spPr>
          <a:xfrm>
            <a:off x="420840" y="-128520"/>
            <a:ext cx="8242200" cy="1457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разы-шаблоны для исследовательской работ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В процессе написания работы я узнал/ научился/ открыл для себя/ выяснил …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Работа помогла мне понять / осознать / решить проблему / по-новому взглянуть …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В процессе работы над исследованием я приобрел опыт … Думаю, что полученные мной знания позволят мне избежать ошибок / помогут правильно …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Результаты исследования заставили меня задуматься …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Больше всего сложностей вызвало у меня …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Исследование в корне изменило мое мнение / представление о …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"/>
          <p:cNvGraphicFramePr/>
          <p:nvPr/>
        </p:nvGraphicFramePr>
        <p:xfrm>
          <a:off x="539640" y="1341360"/>
          <a:ext cx="8064720" cy="5470560"/>
        </p:xfrm>
        <a:graphic>
          <a:graphicData uri="http://schemas.openxmlformats.org/drawingml/2006/table">
            <a:tbl>
              <a:tblPr/>
              <a:tblGrid>
                <a:gridCol w="2008440"/>
                <a:gridCol w="6056280"/>
              </a:tblGrid>
              <a:tr h="79236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трукту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ребования к содержани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82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писок используемой литератур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библиографи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 библиографический список заносятся публикации, издания  и источники, которые использовались автором. Информация о каждом издании включает в себя: фамилию, инициалы автора, название книги, выходные данные издательства, год издания, номер выпуска (если издание периодическое), количество страниц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здания должны быть пронумерованы и расположены   в алфавитном порядке. В тексте работы должны быть ссылки на тот или иной научный источник (номер ссылки соответствует порядковому номеру источника   в библиографическом списке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1" name="Рисунок 25" descr="http://im4-tub-ru.yandex.net/i?id=221854955-56-72"/>
          <p:cNvPicPr/>
          <p:nvPr/>
        </p:nvPicPr>
        <p:blipFill>
          <a:blip r:embed="rId1"/>
          <a:stretch/>
        </p:blipFill>
        <p:spPr>
          <a:xfrm>
            <a:off x="611280" y="5013360"/>
            <a:ext cx="180000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407880" y="176040"/>
            <a:ext cx="8255160" cy="9144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ркадьевС.К. Гражданский процесс зарубежных стран.-М.: «Зеркало», 2008.- 304 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ольшой энциклопедический словарь: В 2-х т. / Гл. ред. А.М. Прохорова.- М.: Советская энциклопедия, 1991. Т.1 – 863 с.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лачихина О.Д. Распространенные ошибки при выполнении учащимися исследовательских работ // Исследовательская работа школьников. 2004. №2. С.77-8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учно-исследовательский зоологический музей МГУ. –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NET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/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seum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u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2008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395280" y="1125360"/>
          <a:ext cx="8209080" cy="6031080"/>
        </p:xfrm>
        <a:graphic>
          <a:graphicData uri="http://schemas.openxmlformats.org/drawingml/2006/table">
            <a:tbl>
              <a:tblPr/>
              <a:tblGrid>
                <a:gridCol w="1878120"/>
                <a:gridCol w="6330960"/>
              </a:tblGrid>
              <a:tr h="1059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трукту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ребования к содержани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96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ило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1" i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Calibri"/>
                        </a:rPr>
                        <a:t>Приложени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должны тщательно отбираться и иллюстрировать наиболее яркие моменты работы. В приложения рекомендуется включать вспомогательные или дополнительные материалы, если они помогут лучшему пониманию полученных результатов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: копии редких документов, различные анкеты и таблицы, графики, диаграммы, схемы, фотографии,  рисунки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аждое приложение начинается с новой страницы и имеет своё обозначе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бъём приложений(как правило) не ограничен и не включается в обязательное количество страниц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иложения нумеруются. Обязательны ссылки на приложения в тексте исследования, например: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Приложение 1).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5" name="Рисунок 25" descr="http://im4-tub-ru.yandex.net/i?id=221854955-56-72"/>
          <p:cNvPicPr/>
          <p:nvPr/>
        </p:nvPicPr>
        <p:blipFill>
          <a:blip r:embed="rId1"/>
          <a:stretch/>
        </p:blipFill>
        <p:spPr>
          <a:xfrm>
            <a:off x="395280" y="5013360"/>
            <a:ext cx="1827360" cy="12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1" descr=""/>
          <p:cNvPicPr/>
          <p:nvPr/>
        </p:nvPicPr>
        <p:blipFill>
          <a:blip r:embed="rId1"/>
          <a:stretch/>
        </p:blipFill>
        <p:spPr>
          <a:xfrm>
            <a:off x="268200" y="176040"/>
            <a:ext cx="8504280" cy="914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1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Текст работы печатается в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Worde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 на одной стороне белой бумаги формата А4   через 1,5 интервала.  Шрифт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Times Nev Roman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, ненаклонный, размер 14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2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Поля: слева – 30 мм, справа – 15 мм, сверху и снизу – по 20 мм (контуры полей не наносятся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3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Допустимо рукописное оформление отдельных фрагментов (формулы, чертежный материал и т.п.), которые выполняются черной паст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4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Нумерация страниц начинается с раздела «Введение»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5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Переплет произвольный, листы с текстом работы в файлы не вкладываютс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6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Объем работы – не более 10 страниц машинописного текста, не считая титульного листа и оглавлен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7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Приложения должны быть пронумерованы и озаглавлены. В тексте работы на них должны содержаться ссыл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Прямоугольник 4" descr=""/>
          <p:cNvPicPr/>
          <p:nvPr/>
        </p:nvPicPr>
        <p:blipFill>
          <a:blip r:embed="rId1"/>
          <a:stretch/>
        </p:blipFill>
        <p:spPr>
          <a:xfrm>
            <a:off x="1268280" y="1420920"/>
            <a:ext cx="6828120" cy="1182600"/>
          </a:xfrm>
          <a:prstGeom prst="rect">
            <a:avLst/>
          </a:prstGeom>
          <a:ln w="0">
            <a:noFill/>
          </a:ln>
        </p:spPr>
      </p:pic>
      <p:pic>
        <p:nvPicPr>
          <p:cNvPr id="239" name="i-main-pic" descr="Картинка 8 из 102443"/>
          <p:cNvPicPr/>
          <p:nvPr/>
        </p:nvPicPr>
        <p:blipFill>
          <a:blip r:embed="rId2"/>
          <a:stretch/>
        </p:blipFill>
        <p:spPr>
          <a:xfrm>
            <a:off x="1500120" y="3071880"/>
            <a:ext cx="592632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4" descr="j0195384"/>
          <p:cNvPicPr/>
          <p:nvPr/>
        </p:nvPicPr>
        <p:blipFill>
          <a:blip r:embed="rId1"/>
          <a:stretch/>
        </p:blipFill>
        <p:spPr>
          <a:xfrm>
            <a:off x="5724360" y="3213000"/>
            <a:ext cx="2114640" cy="2159280"/>
          </a:xfrm>
          <a:prstGeom prst="rect">
            <a:avLst/>
          </a:prstGeom>
          <a:ln w="0">
            <a:noFill/>
          </a:ln>
        </p:spPr>
      </p:pic>
      <p:sp>
        <p:nvSpPr>
          <p:cNvPr id="111" name="Заголовок 1"/>
          <p:cNvSpPr/>
          <p:nvPr/>
        </p:nvSpPr>
        <p:spPr>
          <a:xfrm>
            <a:off x="539640" y="33336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Информационный проек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971640" y="170028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ь: сбор, анализ, оформление и представление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11"/>
          <p:cNvGrpSpPr/>
          <p:nvPr/>
        </p:nvGrpSpPr>
        <p:grpSpPr>
          <a:xfrm>
            <a:off x="826920" y="2708280"/>
            <a:ext cx="3816360" cy="3457440"/>
            <a:chOff x="826920" y="2708280"/>
            <a:chExt cx="3816360" cy="3457440"/>
          </a:xfrm>
        </p:grpSpPr>
        <p:pic>
          <p:nvPicPr>
            <p:cNvPr id="114" name="Овал 8" descr=""/>
            <p:cNvPicPr/>
            <p:nvPr/>
          </p:nvPicPr>
          <p:blipFill>
            <a:blip r:embed="rId2"/>
            <a:stretch/>
          </p:blipFill>
          <p:spPr>
            <a:xfrm>
              <a:off x="826920" y="2708280"/>
              <a:ext cx="3816360" cy="34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10"/>
            <p:cNvSpPr/>
            <p:nvPr/>
          </p:nvSpPr>
          <p:spPr>
            <a:xfrm>
              <a:off x="1334520" y="3500280"/>
              <a:ext cx="281556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азвивается 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овершенствуетс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нформационна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омпетентн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AutoShape 5"/>
          <p:cNvSpPr/>
          <p:nvPr/>
        </p:nvSpPr>
        <p:spPr>
          <a:xfrm>
            <a:off x="4572000" y="2852640"/>
            <a:ext cx="4321080" cy="32418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5148360" y="3860640"/>
            <a:ext cx="32400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Доминирующая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 с информаци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Заголовок 1"/>
          <p:cNvSpPr/>
          <p:nvPr/>
        </p:nvSpPr>
        <p:spPr>
          <a:xfrm>
            <a:off x="539640" y="115920"/>
            <a:ext cx="822960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933c"/>
                </a:solidFill>
                <a:latin typeface="Calibri"/>
              </a:rPr>
              <a:t>Исследовательский проек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MC900338120[1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4508640"/>
            <a:ext cx="1655640" cy="16524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8"/>
          <p:cNvSpPr/>
          <p:nvPr/>
        </p:nvSpPr>
        <p:spPr>
          <a:xfrm>
            <a:off x="755640" y="177336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ь: доказательство или опровержение гипотезы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11"/>
          <p:cNvGrpSpPr/>
          <p:nvPr/>
        </p:nvGrpSpPr>
        <p:grpSpPr>
          <a:xfrm>
            <a:off x="5651640" y="2421000"/>
            <a:ext cx="2808000" cy="2665440"/>
            <a:chOff x="5651640" y="2421000"/>
            <a:chExt cx="2808000" cy="2665440"/>
          </a:xfrm>
        </p:grpSpPr>
        <p:pic>
          <p:nvPicPr>
            <p:cNvPr id="122" name="Овал 8" descr=""/>
            <p:cNvPicPr/>
            <p:nvPr/>
          </p:nvPicPr>
          <p:blipFill>
            <a:blip r:embed="rId3"/>
            <a:stretch/>
          </p:blipFill>
          <p:spPr>
            <a:xfrm>
              <a:off x="5651640" y="2421000"/>
              <a:ext cx="2808000" cy="26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10"/>
            <p:cNvSpPr/>
            <p:nvPr/>
          </p:nvSpPr>
          <p:spPr>
            <a:xfrm>
              <a:off x="5797800" y="3141720"/>
              <a:ext cx="2433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Формируетс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мыслительна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омпетентн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AutoShape 5"/>
          <p:cNvSpPr/>
          <p:nvPr/>
        </p:nvSpPr>
        <p:spPr>
          <a:xfrm>
            <a:off x="611280" y="2924280"/>
            <a:ext cx="4321080" cy="324144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3"/>
          <p:cNvSpPr/>
          <p:nvPr/>
        </p:nvSpPr>
        <p:spPr>
          <a:xfrm>
            <a:off x="1187280" y="3500280"/>
            <a:ext cx="32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етоды современной на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сперимен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дел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циологический о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9"/>
          <p:cNvSpPr/>
          <p:nvPr/>
        </p:nvSpPr>
        <p:spPr>
          <a:xfrm>
            <a:off x="1116000" y="3429000"/>
            <a:ext cx="338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Доминирующая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 результа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общение, срав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явление закономер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ение делать вывод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основывать свою точку з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5"/>
          <p:cNvSpPr/>
          <p:nvPr/>
        </p:nvSpPr>
        <p:spPr>
          <a:xfrm>
            <a:off x="611280" y="2924280"/>
            <a:ext cx="4321080" cy="324144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Заголовок 1"/>
          <p:cNvSpPr/>
          <p:nvPr/>
        </p:nvSpPr>
        <p:spPr>
          <a:xfrm>
            <a:off x="395280" y="115920"/>
            <a:ext cx="856944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7933c"/>
                </a:solidFill>
                <a:latin typeface="Calibri"/>
              </a:rPr>
              <a:t>Практико-ориентированный (социальный)   </a:t>
            </a:r>
            <a:r>
              <a:rPr b="1" lang="ru-RU" sz="4400" spc="-1" strike="noStrike">
                <a:solidFill>
                  <a:srgbClr val="77933c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77933c"/>
                </a:solidFill>
                <a:latin typeface="Calibri"/>
              </a:rPr>
              <a:t>проек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755640" y="177336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ь: решение практических задач заказчика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10"/>
          <p:cNvGrpSpPr/>
          <p:nvPr/>
        </p:nvGrpSpPr>
        <p:grpSpPr>
          <a:xfrm>
            <a:off x="5651640" y="2924280"/>
            <a:ext cx="2808000" cy="2665440"/>
            <a:chOff x="5651640" y="2924280"/>
            <a:chExt cx="2808000" cy="2665440"/>
          </a:xfrm>
        </p:grpSpPr>
        <p:pic>
          <p:nvPicPr>
            <p:cNvPr id="131" name="Овал 8" descr=""/>
            <p:cNvPicPr/>
            <p:nvPr/>
          </p:nvPicPr>
          <p:blipFill>
            <a:blip r:embed="rId1"/>
            <a:stretch/>
          </p:blipFill>
          <p:spPr>
            <a:xfrm>
              <a:off x="5651640" y="2924280"/>
              <a:ext cx="2808000" cy="26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9"/>
            <p:cNvSpPr/>
            <p:nvPr/>
          </p:nvSpPr>
          <p:spPr>
            <a:xfrm>
              <a:off x="5799240" y="3718080"/>
              <a:ext cx="2469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Формируетс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деятельностн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омпетентн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Text Box 12"/>
          <p:cNvSpPr/>
          <p:nvPr/>
        </p:nvSpPr>
        <p:spPr>
          <a:xfrm>
            <a:off x="1187280" y="3500280"/>
            <a:ext cx="3024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Доминирующ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работка конкретного заказа в определенной учебно-предметной обла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1403280" y="3357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140328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1125000" y="3429000"/>
            <a:ext cx="3314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требительские сво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оду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бное пособие д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бинета би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кет рекомендац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рический атл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оварь фразеологиз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Заголовок 1"/>
          <p:cNvSpPr/>
          <p:nvPr/>
        </p:nvSpPr>
        <p:spPr>
          <a:xfrm>
            <a:off x="53964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933c"/>
                </a:solidFill>
                <a:latin typeface="Calibri"/>
              </a:rPr>
              <a:t>Творческий проек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755640" y="177336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ь: создание произведения любого жан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395280" y="2924280"/>
            <a:ext cx="4032360" cy="324144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828720" y="3429000"/>
            <a:ext cx="3160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ригинальное оформ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езульт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з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ьман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ценар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еофиль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аз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11"/>
          <p:cNvGrpSpPr/>
          <p:nvPr/>
        </p:nvGrpSpPr>
        <p:grpSpPr>
          <a:xfrm>
            <a:off x="4500720" y="2781360"/>
            <a:ext cx="2808000" cy="2665440"/>
            <a:chOff x="4500720" y="2781360"/>
            <a:chExt cx="2808000" cy="2665440"/>
          </a:xfrm>
        </p:grpSpPr>
        <p:pic>
          <p:nvPicPr>
            <p:cNvPr id="142" name="Овал 8" descr=""/>
            <p:cNvPicPr/>
            <p:nvPr/>
          </p:nvPicPr>
          <p:blipFill>
            <a:blip r:embed="rId1"/>
            <a:stretch/>
          </p:blipFill>
          <p:spPr>
            <a:xfrm>
              <a:off x="4500720" y="2781360"/>
              <a:ext cx="2808000" cy="26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 Box 13"/>
            <p:cNvSpPr/>
            <p:nvPr/>
          </p:nvSpPr>
          <p:spPr>
            <a:xfrm>
              <a:off x="4547520" y="3502080"/>
              <a:ext cx="2672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Формируетс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оммуникативн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омпетентн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4" name="Picture 14" descr="MC900359093[1]"/>
          <p:cNvPicPr/>
          <p:nvPr/>
        </p:nvPicPr>
        <p:blipFill>
          <a:blip r:embed="rId2"/>
          <a:stretch/>
        </p:blipFill>
        <p:spPr>
          <a:xfrm>
            <a:off x="6804000" y="4437000"/>
            <a:ext cx="1855800" cy="173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Заголовок 1"/>
          <p:cNvSpPr/>
          <p:nvPr/>
        </p:nvSpPr>
        <p:spPr>
          <a:xfrm>
            <a:off x="539640" y="189000"/>
            <a:ext cx="82296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933c"/>
                </a:solidFill>
                <a:latin typeface="Calibri"/>
              </a:rPr>
              <a:t>Игровые и ролевые проект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755640" y="177336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ь: вовлечение публики (детей и взрослых) в решение проблемы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7"/>
          <p:cNvGrpSpPr/>
          <p:nvPr/>
        </p:nvGrpSpPr>
        <p:grpSpPr>
          <a:xfrm>
            <a:off x="2411280" y="3068640"/>
            <a:ext cx="2808000" cy="2665440"/>
            <a:chOff x="2411280" y="3068640"/>
            <a:chExt cx="2808000" cy="2665440"/>
          </a:xfrm>
        </p:grpSpPr>
        <p:pic>
          <p:nvPicPr>
            <p:cNvPr id="148" name="Овал 8" descr=""/>
            <p:cNvPicPr/>
            <p:nvPr/>
          </p:nvPicPr>
          <p:blipFill>
            <a:blip r:embed="rId1"/>
            <a:stretch/>
          </p:blipFill>
          <p:spPr>
            <a:xfrm>
              <a:off x="2411280" y="3068640"/>
              <a:ext cx="2808000" cy="26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9"/>
            <p:cNvSpPr/>
            <p:nvPr/>
          </p:nvSpPr>
          <p:spPr>
            <a:xfrm>
              <a:off x="2458080" y="3789360"/>
              <a:ext cx="2672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Формируетс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оммуникативн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омпетентн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Picture 12" descr="j0240719"/>
          <p:cNvPicPr/>
          <p:nvPr/>
        </p:nvPicPr>
        <p:blipFill>
          <a:blip r:embed="rId2"/>
          <a:stretch/>
        </p:blipFill>
        <p:spPr>
          <a:xfrm>
            <a:off x="6659640" y="3068640"/>
            <a:ext cx="1558800" cy="2448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3" descr="j0297551"/>
          <p:cNvPicPr/>
          <p:nvPr/>
        </p:nvPicPr>
        <p:blipFill>
          <a:blip r:embed="rId3"/>
          <a:stretch/>
        </p:blipFill>
        <p:spPr>
          <a:xfrm>
            <a:off x="684360" y="3357720"/>
            <a:ext cx="1855800" cy="283212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5"/>
          <p:cNvSpPr/>
          <p:nvPr/>
        </p:nvSpPr>
        <p:spPr>
          <a:xfrm>
            <a:off x="4932360" y="2708280"/>
            <a:ext cx="4032360" cy="32418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6"/>
          <p:cNvSpPr/>
          <p:nvPr/>
        </p:nvSpPr>
        <p:spPr>
          <a:xfrm>
            <a:off x="5416560" y="3448080"/>
            <a:ext cx="3116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нение  ролей литературных, исторических  персонажей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думанных  геро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езультат проекта непредсказу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2T07:30:24Z</dcterms:created>
  <dc:creator>Comp</dc:creator>
  <dc:description/>
  <dc:language>en-US</dc:language>
  <cp:lastModifiedBy>teacher</cp:lastModifiedBy>
  <dcterms:modified xsi:type="dcterms:W3CDTF">2022-04-15T14:15:04Z</dcterms:modified>
  <cp:revision>98</cp:revision>
  <dc:subject/>
  <dc:title>Слайд 1</dc:title>
</cp:coreProperties>
</file>