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A2DE0-2A56-4309-A9DD-85F94E2E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38158D-7446-4334-BF79-AF8F1D8288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CE7F1B-F512-47C6-89BB-A07AA9519A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973945-92CF-4CC0-9203-2173463AE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2EC11-8583-4010-8CAE-6B5F3EE54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44DD93-6C09-4000-8165-62548E6F3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21851C-9BAD-453A-87B2-7687AD89FF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48180-9598-45D5-B7EB-00F5E0D9B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51D2D-9124-4402-85B9-35159FC284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5DC53-B2EA-439B-B829-43452F9508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9E163-8863-44B1-80A9-958E9C7E9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C819B3-A087-4155-9C58-CF96262A0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9788C7-8AF8-46C5-A14A-3B70C2318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5AE-2E81-4603-B968-B1E70A0A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060-D5FB-4F83-A6F2-93FDE6A1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4D8-C12A-4C65-883D-5955F253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1FC-17DB-41C0-8BCD-C44385A6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3D95-E7D7-47FF-ADA4-CC541B98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248A-9B87-4CAD-949D-6D742AE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C90B-3339-499F-AD8B-F01AD8C3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9C86-B1AD-4441-B343-69E6DD64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499-339E-47DE-AA46-6F91FD98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357-8720-4F9F-BAB9-82FCD5BA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2A1-5AAB-4727-A695-096D578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982-84B3-4E6C-BEFF-FA523FDF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24D6-4DC6-476B-8A7D-6B85E49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D49-AFE6-401F-8762-C4B2084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707-C2FF-4FEB-92F4-5F618ADC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C95B-AE44-41C9-93F8-72C7A402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381-6224-4F6F-B09A-4643EAE7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89E-4B98-4B6A-9F07-957DE18C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BD9-569E-4A07-87A0-CC074E46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0C4-E904-4F82-872C-09204F7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B55-12A0-4EF2-976D-5C1CDB2B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825-971D-4DA8-B3CD-014445D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9DB-E34C-4DC4-A8C6-55BFA22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EC8-38CF-4CB3-B0D2-4DC8DCC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EFB37D-4D0C-4BF7-A574-A0EEAE5456F3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3E0D43-6881-4FDC-8827-5438EAC6A8D0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smeshariki.akxa.ru/PNG/kro/kro16.png" TargetMode="External"/><Relationship Id="rId3" Type="http://schemas.openxmlformats.org/officeDocument/2006/relationships/hyperlink" Target="http://www.vsluh.ru/system/post_images/original/266/266480/&#1053;&#1102;&#1096;&#1072;.jpg?1369995355" TargetMode="External"/><Relationship Id="rId4" Type="http://schemas.openxmlformats.org/officeDocument/2006/relationships/hyperlink" Target="http://smeshariki.akxa.ru/PNG/kro/kro13.png" TargetMode="External"/><Relationship Id="rId5" Type="http://schemas.openxmlformats.org/officeDocument/2006/relationships/hyperlink" Target="http://smeshariki.akxa.ru/PNG/nush/nush38.png" TargetMode="External"/><Relationship Id="rId6" Type="http://schemas.openxmlformats.org/officeDocument/2006/relationships/hyperlink" Target="http://smeshariki.akxa.ru/PNG/bar/bar32.png" TargetMode="External"/><Relationship Id="rId7" Type="http://schemas.openxmlformats.org/officeDocument/2006/relationships/hyperlink" Target="http://smeshariki.akxa.ru/PNG/kar/kar12.png" TargetMode="External"/><Relationship Id="rId8" Type="http://schemas.openxmlformats.org/officeDocument/2006/relationships/hyperlink" Target="http://smeshariki.akxa.ru/PNG/los/los18.png" TargetMode="External"/><Relationship Id="rId9" Type="http://schemas.openxmlformats.org/officeDocument/2006/relationships/hyperlink" Target="http://smeshariki.akxa.ru/PNG/e/e05.png" TargetMode="External"/><Relationship Id="rId10" Type="http://schemas.openxmlformats.org/officeDocument/2006/relationships/hyperlink" Target="http://smeshariki.akxa.ru/PNG/sov/sov08.png" TargetMode="External"/><Relationship Id="rId11" Type="http://schemas.openxmlformats.org/officeDocument/2006/relationships/hyperlink" Target="http://smeshariki.akxa.ru/PNG/pin/pin17.png" TargetMode="External"/><Relationship Id="rId12" Type="http://schemas.openxmlformats.org/officeDocument/2006/relationships/hyperlink" Target="http://smeshariki.akxa.ru/PNG/kop/kop20.png" TargetMode="External"/><Relationship Id="rId13" Type="http://schemas.openxmlformats.org/officeDocument/2006/relationships/hyperlink" Target="http://smeshariki.akxa.ru/PNG/bin/bin09.png" TargetMode="External"/><Relationship Id="rId14" Type="http://schemas.openxmlformats.org/officeDocument/2006/relationships/hyperlink" Target="http://smeshariki.akxa.ru/alfavit_smechariki/alfavit-smechariki/SHR6-1.png" TargetMode="External"/><Relationship Id="rId15" Type="http://schemas.openxmlformats.org/officeDocument/2006/relationships/hyperlink" Target="http://smeshariki.akxa.ru/alfavit_smechariki/alfavit-smechariki/SHR6-1.png" TargetMode="External"/><Relationship Id="rId16" Type="http://schemas.openxmlformats.org/officeDocument/2006/relationships/hyperlink" Target="http://i064.radikal.ru/1210/69/1e28940e2db5.jpg" TargetMode="External"/><Relationship Id="rId17" Type="http://schemas.openxmlformats.org/officeDocument/2006/relationships/hyperlink" Target="http://www.it-n.ru/communities.aspx?cat_no=13748&amp;d_no=222265&amp;ext=Attachment.aspx?Id=97001" TargetMode="External"/><Relationship Id="rId18" Type="http://schemas.openxmlformats.org/officeDocument/2006/relationships/slide" Target="slide1.xml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55640" y="3789000"/>
            <a:ext cx="4104000" cy="152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втор презентации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АОУ лицея №21 г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ванов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Ранько Еле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0" descr="Рисунок18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6000" y="6453360"/>
            <a:ext cx="1284840" cy="287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3"/>
          <p:cNvSpPr/>
          <p:nvPr/>
        </p:nvSpPr>
        <p:spPr>
          <a:xfrm>
            <a:off x="1506960" y="2061000"/>
            <a:ext cx="6619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Тренажер «Сложение и вычитание в пределах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с переходом через деся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Прием «Анимированная сорбо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5" descr="Рисунок2.png"/>
          <p:cNvPicPr/>
          <p:nvPr/>
        </p:nvPicPr>
        <p:blipFill>
          <a:blip r:embed="rId4"/>
          <a:stretch/>
        </p:blipFill>
        <p:spPr>
          <a:xfrm>
            <a:off x="899640" y="188640"/>
            <a:ext cx="7416360" cy="1747440"/>
          </a:xfrm>
          <a:prstGeom prst="rect">
            <a:avLst/>
          </a:prstGeom>
          <a:ln w="0">
            <a:noFill/>
          </a:ln>
        </p:spPr>
      </p:pic>
      <p:sp>
        <p:nvSpPr>
          <p:cNvPr id="92" name="Стрелка вправо с вырезом 6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5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4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4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4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Овал 25"/>
          <p:cNvSpPr/>
          <p:nvPr/>
        </p:nvSpPr>
        <p:spPr>
          <a:xfrm>
            <a:off x="97164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4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4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4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4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4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4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4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4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4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4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7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493" name="Рисунок 60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49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restart="whenNotActive" nodeType="interactiveSeq" fill="hold">
                <p:stCondLst>
                  <p:cond delay="0" evt="onClick">
                    <p:tgtEl>
                      <p:spTgt spid="457"/>
                    </p:tgtEl>
                  </p:cond>
                </p:stCondLst>
                <p:childTnLst>
                  <p:par>
                    <p:cTn id="892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delay="0" evt="onClick">
                    <p:tgtEl>
                      <p:spTgt spid="464"/>
                    </p:tgtEl>
                  </p:cond>
                </p:stCondLst>
                <p:childTnLst>
                  <p:par>
                    <p:cTn id="913" fill="hold">
                      <p:stCondLst>
                        <p:cond delay="0"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0"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delay="0" evt="onClick">
                    <p:tgtEl>
                      <p:spTgt spid="471"/>
                    </p:tgtEl>
                  </p:cond>
                </p:stCondLst>
                <p:childTnLst>
                  <p:par>
                    <p:cTn id="934" fill="hold">
                      <p:stCondLst>
                        <p:cond delay="0"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0"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delay="0" evt="onClick">
                    <p:tgtEl>
                      <p:spTgt spid="478"/>
                    </p:tgtEl>
                  </p:cond>
                </p:stCondLst>
                <p:childTnLst>
                  <p:par>
                    <p:cTn id="955" fill="hold">
                      <p:stCondLst>
                        <p:cond delay="0"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0"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delay="0" evt="onClick">
                    <p:tgtEl>
                      <p:spTgt spid="485"/>
                    </p:tgtEl>
                  </p:cond>
                </p:stCondLst>
                <p:childTnLst>
                  <p:par>
                    <p:cTn id="976" fill="hold">
                      <p:stCondLst>
                        <p:cond delay="0"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0"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delay="0" evt="onClick">
                    <p:tgtEl>
                      <p:spTgt spid="492"/>
                    </p:tgtEl>
                  </p:cond>
                </p:stCondLst>
                <p:childTnLst>
                  <p:par>
                    <p:cTn id="99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5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5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5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5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5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5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5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5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5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5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5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5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5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43" name="Рисунок 62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544" name="Стрелка вправо с вырезом 60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restart="whenNotActive" nodeType="interactiveSeq" fill="hold">
                <p:stCondLst>
                  <p:cond delay="0" evt="onClick">
                    <p:tgtEl>
                      <p:spTgt spid="507"/>
                    </p:tgtEl>
                  </p:cond>
                </p:stCondLst>
                <p:childTnLst>
                  <p:par>
                    <p:cTn id="1019" fill="hold">
                      <p:stCondLst>
                        <p:cond delay="0"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0"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delay="0" evt="onClick">
                    <p:tgtEl>
                      <p:spTgt spid="514"/>
                    </p:tgtEl>
                  </p:cond>
                </p:stCondLst>
                <p:childTnLst>
                  <p:par>
                    <p:cTn id="1040" fill="hold">
                      <p:stCondLst>
                        <p:cond delay="0"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0"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delay="0" evt="onClick">
                    <p:tgtEl>
                      <p:spTgt spid="521"/>
                    </p:tgtEl>
                  </p:cond>
                </p:stCondLst>
                <p:childTnLst>
                  <p:par>
                    <p:cTn id="1061" fill="hold">
                      <p:stCondLst>
                        <p:cond delay="0"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0"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delay="0" evt="onClick">
                    <p:tgtEl>
                      <p:spTgt spid="528"/>
                    </p:tgtEl>
                  </p:cond>
                </p:stCondLst>
                <p:childTnLst>
                  <p:par>
                    <p:cTn id="1082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delay="0" evt="onClick">
                    <p:tgtEl>
                      <p:spTgt spid="535"/>
                    </p:tgtEl>
                  </p:cond>
                </p:stCondLst>
                <p:childTnLst>
                  <p:par>
                    <p:cTn id="1103" fill="hold">
                      <p:stCondLst>
                        <p:cond delay="0"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0"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delay="0" evt="onClick">
                    <p:tgtEl>
                      <p:spTgt spid="542"/>
                    </p:tgtEl>
                  </p:cond>
                </p:stCondLst>
                <p:childTnLst>
                  <p:par>
                    <p:cTn id="1124" fill="hold">
                      <p:stCondLst>
                        <p:cond delay="0"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0"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5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5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5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5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5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5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5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5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5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5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5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5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5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9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28360" y="6482160"/>
            <a:ext cx="9255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restart="whenNotActive" nodeType="interactiveSeq" fill="hold">
                <p:stCondLst>
                  <p:cond delay="0" evt="onClick">
                    <p:tgtEl>
                      <p:spTgt spid="557"/>
                    </p:tgtEl>
                  </p:cond>
                </p:stCondLst>
                <p:childTnLst>
                  <p:par>
                    <p:cTn id="1146" fill="hold">
                      <p:stCondLst>
                        <p:cond delay="0"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0"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delay="0" evt="onClick">
                    <p:tgtEl>
                      <p:spTgt spid="564"/>
                    </p:tgtEl>
                  </p:cond>
                </p:stCondLst>
                <p:childTnLst>
                  <p:par>
                    <p:cTn id="1167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delay="0" evt="onClick">
                    <p:tgtEl>
                      <p:spTgt spid="571"/>
                    </p:tgtEl>
                  </p:cond>
                </p:stCondLst>
                <p:childTnLst>
                  <p:par>
                    <p:cTn id="1188" fill="hold">
                      <p:stCondLst>
                        <p:cond delay="0"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0"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delay="0" evt="onClick">
                    <p:tgtEl>
                      <p:spTgt spid="578"/>
                    </p:tgtEl>
                  </p:cond>
                </p:stCondLst>
                <p:childTnLst>
                  <p:par>
                    <p:cTn id="1209" fill="hold">
                      <p:stCondLst>
                        <p:cond delay="0"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0"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delay="0" evt="onClick">
                    <p:tgtEl>
                      <p:spTgt spid="585"/>
                    </p:tgtEl>
                  </p:cond>
                </p:stCondLst>
                <p:childTnLst>
                  <p:par>
                    <p:cTn id="1230" fill="hold">
                      <p:stCondLst>
                        <p:cond delay="0"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0"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delay="0" evt="onClick">
                    <p:tgtEl>
                      <p:spTgt spid="592"/>
                    </p:tgtEl>
                  </p:cond>
                </p:stCondLst>
                <p:childTnLst>
                  <p:par>
                    <p:cTn id="1251" fill="hold">
                      <p:stCondLst>
                        <p:cond delay="0"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0"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0" y="3316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оугольник 7"/>
          <p:cNvSpPr/>
          <p:nvPr/>
        </p:nvSpPr>
        <p:spPr>
          <a:xfrm>
            <a:off x="251640" y="188640"/>
            <a:ext cx="8640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Times New Roman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251640" y="908640"/>
            <a:ext cx="8712720" cy="44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2"/>
              </a:rPr>
              <a:t>http://smeshariki.akxa.ru/PNG/kro/kro16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о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1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c00000"/>
                </a:solidFill>
                <a:uFillTx/>
                <a:latin typeface="Times New Roman"/>
                <a:hlinkClick r:id="rId3"/>
              </a:rPr>
              <a:t>http://www.vsluh.ru/system/post_images/original/266/266480/%D0%9D%D1%8E%D1%88%D0%B0.jpg?1369995355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юш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4"/>
              </a:rPr>
              <a:t>http://smeshariki.akxa.ru/PNG/kro/kro13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о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5"/>
              </a:rPr>
              <a:t>http://smeshariki.akxa.ru/PNG/nush/nush3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юш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6"/>
              </a:rPr>
              <a:t>http://smeshariki.akxa.ru/PNG/bar/bar32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ара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7"/>
              </a:rPr>
              <a:t>http://smeshariki.akxa.ru/PNG/kar/kar12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р-Карыч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8"/>
              </a:rPr>
              <a:t>http://smeshariki.akxa.ru/PNG/los/los1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ося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9"/>
              </a:rPr>
              <a:t>http://smeshariki.akxa.ru/PNG/e/e05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0"/>
              </a:rPr>
              <a:t>http://smeshariki.akxa.ru/PNG/sov/sov0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вунь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1"/>
              </a:rPr>
              <a:t>http://smeshariki.akxa.ru/PNG/pin/pin17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ин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2"/>
              </a:rPr>
              <a:t>http://smeshariki.akxa.ru/PNG/kop/kop20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патыч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3"/>
              </a:rPr>
              <a:t>http://smeshariki.akxa.ru/PNG/bin/bin09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б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4"/>
              </a:rPr>
              <a:t>http://</a:t>
            </a:r>
            <a:r>
              <a:rPr b="0" i="1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5"/>
              </a:rPr>
              <a:t>smeshariki.akxa.ru/alfavit_smechariki/alfavit-smechariki/SHR6-1.png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лфавит со смешар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6"/>
              </a:rPr>
              <a:t>http://i064.radikal.ru/1210/69/1e28940e2db5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ртинка для создания ф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хнологический прием «Анимированная сорбонка» (Аствацатуров Г.О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7"/>
              </a:rPr>
              <a:t>http://www.it-n.ru/communities.aspx?cat_no=13748&amp;d_no=222265&amp;ext=Attachment.aspx?Id=97001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трелка вправо с вырезом 4">
            <a:hlinkClick r:id="rId18" action="ppaction://hlinksldjump"/>
          </p:cNvPr>
          <p:cNvSpPr/>
          <p:nvPr/>
        </p:nvSpPr>
        <p:spPr>
          <a:xfrm flipH="1">
            <a:off x="8459640" y="6453360"/>
            <a:ext cx="503640" cy="287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1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8"/>
          <p:cNvSpPr/>
          <p:nvPr/>
        </p:nvSpPr>
        <p:spPr>
          <a:xfrm>
            <a:off x="179640" y="188640"/>
            <a:ext cx="8712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20000"/>
                </a:solidFill>
                <a:latin typeface="Times New Roman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На цветочках записаны примеры, реши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Чтобы проверить себя, надо левой кнопкой мышки щёлкнуть по цветку с приме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На другой стор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откро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20000"/>
                </a:solidFill>
                <a:latin typeface="Times New Roman"/>
              </a:rPr>
              <a:t>Желаю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с вырезом 3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2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1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1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1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1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1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1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1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1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1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1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1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1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1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8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107"/>
          <p:cNvSpPr/>
          <p:nvPr/>
        </p:nvSpPr>
        <p:spPr>
          <a:xfrm>
            <a:off x="551988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3" name="Рисунок 63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14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66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1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1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2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1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1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1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1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1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1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Овал 83"/>
          <p:cNvSpPr/>
          <p:nvPr/>
        </p:nvSpPr>
        <p:spPr>
          <a:xfrm>
            <a:off x="104364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1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1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1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1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3" name="Рисунок 5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19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delay="0" evt="onClick">
                    <p:tgtEl>
                      <p:spTgt spid="164"/>
                    </p:tgtEl>
                  </p:cond>
                </p:stCondLst>
                <p:childTnLst>
                  <p:par>
                    <p:cTn id="151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93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214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2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2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3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Овал 25"/>
          <p:cNvSpPr/>
          <p:nvPr/>
        </p:nvSpPr>
        <p:spPr>
          <a:xfrm>
            <a:off x="98352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2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2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Овал 67"/>
          <p:cNvSpPr/>
          <p:nvPr/>
        </p:nvSpPr>
        <p:spPr>
          <a:xfrm>
            <a:off x="321588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2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2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2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2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2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2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2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2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43" name="Рисунок 50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244" name="Стрелка вправо с вырезом 53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278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22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0"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32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34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362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2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2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2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2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2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2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2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2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2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Овал 83"/>
          <p:cNvSpPr/>
          <p:nvPr/>
        </p:nvSpPr>
        <p:spPr>
          <a:xfrm>
            <a:off x="105552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2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2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2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2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93" name="Рисунок 6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право с вырезом 5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delay="0" evt="onClick">
                    <p:tgtEl>
                      <p:spTgt spid="257"/>
                    </p:tgtEl>
                  </p:cond>
                </p:stCondLst>
                <p:childTnLst>
                  <p:par>
                    <p:cTn id="384" fill="hold">
                      <p:stCondLst>
                        <p:cond delay="0"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0"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delay="0" evt="onClick">
                    <p:tgtEl>
                      <p:spTgt spid="264"/>
                    </p:tgtEl>
                  </p:cond>
                </p:stCondLst>
                <p:childTnLst>
                  <p:par>
                    <p:cTn id="405" fill="hold">
                      <p:stCondLst>
                        <p:cond delay="0"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0"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426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447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46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delay="0" evt="onClick">
                    <p:tgtEl>
                      <p:spTgt spid="292"/>
                    </p:tgtEl>
                  </p:cond>
                </p:stCondLst>
                <p:childTnLst>
                  <p:par>
                    <p:cTn id="489" fill="hold">
                      <p:stCondLst>
                        <p:cond delay="0"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0"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3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3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3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Овал 25"/>
          <p:cNvSpPr/>
          <p:nvPr/>
        </p:nvSpPr>
        <p:spPr>
          <a:xfrm>
            <a:off x="97164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3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3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3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3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3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3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3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3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3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3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34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34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delay="0" evt="onClick">
                    <p:tgtEl>
                      <p:spTgt spid="307"/>
                    </p:tgtEl>
                  </p:cond>
                </p:stCondLst>
                <p:childTnLst>
                  <p:par>
                    <p:cTn id="511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delay="0" evt="onClick">
                    <p:tgtEl>
                      <p:spTgt spid="314"/>
                    </p:tgtEl>
                  </p:cond>
                </p:stCondLst>
                <p:childTnLst>
                  <p:par>
                    <p:cTn id="532" fill="hold">
                      <p:stCondLst>
                        <p:cond delay="0"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0"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553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delay="0" evt="onClick">
                    <p:tgtEl>
                      <p:spTgt spid="328"/>
                    </p:tgtEl>
                  </p:cond>
                </p:stCondLst>
                <p:childTnLst>
                  <p:par>
                    <p:cTn id="574" fill="hold">
                      <p:stCondLst>
                        <p:cond delay="0"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0"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335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0"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delay="0" evt="onClick">
                    <p:tgtEl>
                      <p:spTgt spid="342"/>
                    </p:tgtEl>
                  </p:cond>
                </p:stCondLst>
                <p:childTnLst>
                  <p:par>
                    <p:cTn id="616" fill="hold">
                      <p:stCondLst>
                        <p:cond delay="0"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0"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3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3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3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Овал 25"/>
          <p:cNvSpPr/>
          <p:nvPr/>
        </p:nvSpPr>
        <p:spPr>
          <a:xfrm>
            <a:off x="97164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3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3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3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3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Овал 75"/>
          <p:cNvSpPr/>
          <p:nvPr/>
        </p:nvSpPr>
        <p:spPr>
          <a:xfrm>
            <a:off x="544788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3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3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Овал 83"/>
          <p:cNvSpPr/>
          <p:nvPr/>
        </p:nvSpPr>
        <p:spPr>
          <a:xfrm>
            <a:off x="104364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3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3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3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3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Овал 107"/>
          <p:cNvSpPr/>
          <p:nvPr/>
        </p:nvSpPr>
        <p:spPr>
          <a:xfrm>
            <a:off x="551988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393" name="Рисунок 6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39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63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delay="0" evt="onClick">
                    <p:tgtEl>
                      <p:spTgt spid="364"/>
                    </p:tgtEl>
                  </p:cond>
                </p:stCondLst>
                <p:childTnLst>
                  <p:par>
                    <p:cTn id="659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delay="0" evt="onClick">
                    <p:tgtEl>
                      <p:spTgt spid="371"/>
                    </p:tgtEl>
                  </p:cond>
                </p:stCondLst>
                <p:childTnLst>
                  <p:par>
                    <p:cTn id="680" fill="hold">
                      <p:stCondLst>
                        <p:cond delay="0"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0"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delay="0" evt="onClick">
                    <p:tgtEl>
                      <p:spTgt spid="378"/>
                    </p:tgtEl>
                  </p:cond>
                </p:stCondLst>
                <p:childTnLst>
                  <p:par>
                    <p:cTn id="701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722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74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4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4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4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3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4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4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4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4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4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4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Овал 83"/>
          <p:cNvSpPr/>
          <p:nvPr/>
        </p:nvSpPr>
        <p:spPr>
          <a:xfrm>
            <a:off x="104364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4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4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4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4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44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44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delay="0" evt="onClick">
                    <p:tgtEl>
                      <p:spTgt spid="407"/>
                    </p:tgtEl>
                  </p:cond>
                </p:stCondLst>
                <p:childTnLst>
                  <p:par>
                    <p:cTn id="765" fill="hold">
                      <p:stCondLst>
                        <p:cond delay="0"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0"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delay="0" evt="onClick">
                    <p:tgtEl>
                      <p:spTgt spid="414"/>
                    </p:tgtEl>
                  </p:cond>
                </p:stCondLst>
                <p:childTnLst>
                  <p:par>
                    <p:cTn id="786" fill="hold">
                      <p:stCondLst>
                        <p:cond delay="0"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0"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delay="0" evt="onClick">
                    <p:tgtEl>
                      <p:spTgt spid="421"/>
                    </p:tgtEl>
                  </p:cond>
                </p:stCondLst>
                <p:childTnLst>
                  <p:par>
                    <p:cTn id="807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428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0"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delay="0" evt="onClick">
                    <p:tgtEl>
                      <p:spTgt spid="435"/>
                    </p:tgtEl>
                  </p:cond>
                </p:stCondLst>
                <p:childTnLst>
                  <p:par>
                    <p:cTn id="849" fill="hold">
                      <p:stCondLst>
                        <p:cond delay="0"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0"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delay="0" evt="onClick">
                    <p:tgtEl>
                      <p:spTgt spid="442"/>
                    </p:tgtEl>
                  </p:cond>
                </p:stCondLst>
                <p:childTnLst>
                  <p:par>
                    <p:cTn id="870" fill="hold">
                      <p:stCondLst>
                        <p:cond delay="0"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0"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2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2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  <Words>451</Words>
  <Paragraphs>16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Елена</dc:creator>
  <dc:description/>
  <dc:language>en-US</dc:language>
  <cp:lastModifiedBy>Елена</cp:lastModifiedBy>
  <dcterms:modified xsi:type="dcterms:W3CDTF">2014-05-11T15:53:44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