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6C6-0AE9-40B7-AC32-C95BDE35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26D-91A9-448C-87EA-AA104AD8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362-8B12-41E9-BD03-778818FB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75E-9704-4E32-96BB-FA299B50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F2D-55F1-472A-AA09-99B4F4B8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A3F-A520-4A52-9B2D-C86C771A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505-D7A3-4551-827F-67EDE2D3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82A-B115-4203-8BD4-133AA9F1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926-E371-4F88-AD78-18DB3480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E6D-F17C-4BBF-A97E-4906162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7F7-52A0-410D-82D7-09392870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79D-3B37-4A4D-832A-584C7E2A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8D9B-C81E-40FF-9DD5-821613A77C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МК «Гармония»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Математика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2 класс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ма: «УМНОЖЕНИЕ»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итель начальных классо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алич Елена Алексее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 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6" name="Picture 7" descr="45"/>
          <p:cNvPicPr/>
          <p:nvPr/>
        </p:nvPicPr>
        <p:blipFill>
          <a:blip r:embed="rId1"/>
          <a:stretch/>
        </p:blipFill>
        <p:spPr>
          <a:xfrm>
            <a:off x="1981080" y="685800"/>
            <a:ext cx="4953240" cy="574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8"/>
          <p:cNvSpPr txBox="1"/>
          <p:nvPr/>
        </p:nvSpPr>
        <p:spPr>
          <a:xfrm>
            <a:off x="1066680" y="457200"/>
            <a:ext cx="6705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Посчитаем устно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+7=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+4+4+4+4=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+6+6+6+6+6+6+6=4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dis16"/>
          <p:cNvPicPr/>
          <p:nvPr/>
        </p:nvPicPr>
        <p:blipFill>
          <a:blip r:embed="rId1"/>
          <a:stretch/>
        </p:blipFill>
        <p:spPr>
          <a:xfrm>
            <a:off x="5500800" y="1523880"/>
            <a:ext cx="2095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записи умножения используют зн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или 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228600" y="762120"/>
            <a:ext cx="8763120" cy="2743200"/>
          </a:xfrm>
          <a:prstGeom prst="flowChartAlternateProcess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жение одинаковых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агаемы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зывают умножени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омпоненты при умножении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066680" y="2514600"/>
            <a:ext cx="7086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х 5 = 60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304920" y="182880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ож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505320" y="182880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ножите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1752480" y="4419720"/>
            <a:ext cx="6400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изве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g503"/>
          <p:cNvPicPr/>
          <p:nvPr/>
        </p:nvPicPr>
        <p:blipFill>
          <a:blip r:embed="rId1"/>
          <a:stretch/>
        </p:blipFill>
        <p:spPr>
          <a:xfrm>
            <a:off x="609480" y="762120"/>
            <a:ext cx="140184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g503"/>
          <p:cNvPicPr/>
          <p:nvPr/>
        </p:nvPicPr>
        <p:blipFill>
          <a:blip r:embed="rId2"/>
          <a:stretch/>
        </p:blipFill>
        <p:spPr>
          <a:xfrm>
            <a:off x="615960" y="4267080"/>
            <a:ext cx="147168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g504"/>
          <p:cNvPicPr/>
          <p:nvPr/>
        </p:nvPicPr>
        <p:blipFill>
          <a:blip r:embed="rId3"/>
          <a:stretch/>
        </p:blipFill>
        <p:spPr>
          <a:xfrm>
            <a:off x="7010280" y="2819520"/>
            <a:ext cx="1401840" cy="15238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2666880" y="457200"/>
            <a:ext cx="4267440" cy="1219320"/>
          </a:xfrm>
          <a:prstGeom prst="wedgeRoundRectCallout">
            <a:avLst>
              <a:gd name="adj1" fmla="val -48662"/>
              <a:gd name="adj2" fmla="val 103777"/>
              <a:gd name="adj3" fmla="val 166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ый множитель обозначает, какие слагаемые складывают, а второй – сколько таких слагаем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3048120" y="4419720"/>
            <a:ext cx="3886200" cy="990360"/>
          </a:xfrm>
          <a:prstGeom prst="wedgeRoundRectCallout">
            <a:avLst>
              <a:gd name="adj1" fmla="val -60296"/>
              <a:gd name="adj2" fmla="val 77722"/>
              <a:gd name="adj3" fmla="val 166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знаю, как Миша нашел результат. Он Умножение заменил слож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ubRRectCallout"/>
          <p:cNvSpPr/>
          <p:nvPr/>
        </p:nvSpPr>
        <p:spPr>
          <a:xfrm>
            <a:off x="2743200" y="2514600"/>
            <a:ext cx="3657600" cy="152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я вычислил значение произвед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9 ∙ 5=45,  7 ∙ 4=24, 8 ∙ 5=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685800" y="685800"/>
            <a:ext cx="7391520" cy="1739880"/>
            <a:chOff x="685800" y="685800"/>
            <a:chExt cx="7391520" cy="1739880"/>
          </a:xfrm>
        </p:grpSpPr>
        <p:sp>
          <p:nvSpPr>
            <p:cNvPr id="62" name="AutoShape 8"/>
            <p:cNvSpPr/>
            <p:nvPr/>
          </p:nvSpPr>
          <p:spPr>
            <a:xfrm>
              <a:off x="685800" y="685800"/>
              <a:ext cx="7391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974880" y="830160"/>
              <a:ext cx="1738800" cy="72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3584880" y="830160"/>
              <a:ext cx="1737720" cy="101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6193440" y="830160"/>
              <a:ext cx="1883880" cy="159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5033160" y="1265400"/>
              <a:ext cx="14472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4599000" y="126540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4"/>
            <p:cNvSpPr/>
            <p:nvPr/>
          </p:nvSpPr>
          <p:spPr>
            <a:xfrm>
              <a:off x="4163760" y="1265400"/>
              <a:ext cx="14436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15"/>
            <p:cNvSpPr/>
            <p:nvPr/>
          </p:nvSpPr>
          <p:spPr>
            <a:xfrm>
              <a:off x="3729240" y="1555920"/>
              <a:ext cx="14580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16"/>
            <p:cNvSpPr/>
            <p:nvPr/>
          </p:nvSpPr>
          <p:spPr>
            <a:xfrm>
              <a:off x="3729240" y="126540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17"/>
            <p:cNvSpPr/>
            <p:nvPr/>
          </p:nvSpPr>
          <p:spPr>
            <a:xfrm>
              <a:off x="503316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18"/>
            <p:cNvSpPr/>
            <p:nvPr/>
          </p:nvSpPr>
          <p:spPr>
            <a:xfrm>
              <a:off x="459900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9"/>
            <p:cNvSpPr/>
            <p:nvPr/>
          </p:nvSpPr>
          <p:spPr>
            <a:xfrm>
              <a:off x="4163760" y="975960"/>
              <a:ext cx="14544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0"/>
            <p:cNvSpPr/>
            <p:nvPr/>
          </p:nvSpPr>
          <p:spPr>
            <a:xfrm>
              <a:off x="3729240" y="975960"/>
              <a:ext cx="14364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1"/>
            <p:cNvSpPr/>
            <p:nvPr/>
          </p:nvSpPr>
          <p:spPr>
            <a:xfrm>
              <a:off x="126540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1699560" y="975960"/>
              <a:ext cx="144720" cy="143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3"/>
            <p:cNvSpPr/>
            <p:nvPr/>
          </p:nvSpPr>
          <p:spPr>
            <a:xfrm>
              <a:off x="213516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>
              <a:off x="5033160" y="1555920"/>
              <a:ext cx="14652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25"/>
            <p:cNvSpPr/>
            <p:nvPr/>
          </p:nvSpPr>
          <p:spPr>
            <a:xfrm>
              <a:off x="4599000" y="155592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26"/>
            <p:cNvSpPr/>
            <p:nvPr/>
          </p:nvSpPr>
          <p:spPr>
            <a:xfrm>
              <a:off x="4163760" y="1555920"/>
              <a:ext cx="14436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27"/>
            <p:cNvSpPr/>
            <p:nvPr/>
          </p:nvSpPr>
          <p:spPr>
            <a:xfrm>
              <a:off x="1265400" y="126540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28"/>
            <p:cNvSpPr/>
            <p:nvPr/>
          </p:nvSpPr>
          <p:spPr>
            <a:xfrm>
              <a:off x="1699560" y="1265400"/>
              <a:ext cx="14472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29"/>
            <p:cNvSpPr/>
            <p:nvPr/>
          </p:nvSpPr>
          <p:spPr>
            <a:xfrm>
              <a:off x="2135160" y="1265400"/>
              <a:ext cx="146880" cy="146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6627600" y="126540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1"/>
            <p:cNvSpPr/>
            <p:nvPr/>
          </p:nvSpPr>
          <p:spPr>
            <a:xfrm>
              <a:off x="7787520" y="975960"/>
              <a:ext cx="14544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2"/>
            <p:cNvSpPr/>
            <p:nvPr/>
          </p:nvSpPr>
          <p:spPr>
            <a:xfrm>
              <a:off x="7497000" y="975960"/>
              <a:ext cx="14688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3"/>
            <p:cNvSpPr/>
            <p:nvPr/>
          </p:nvSpPr>
          <p:spPr>
            <a:xfrm>
              <a:off x="7207560" y="975960"/>
              <a:ext cx="144360" cy="143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4"/>
            <p:cNvSpPr/>
            <p:nvPr/>
          </p:nvSpPr>
          <p:spPr>
            <a:xfrm>
              <a:off x="691812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35"/>
            <p:cNvSpPr/>
            <p:nvPr/>
          </p:nvSpPr>
          <p:spPr>
            <a:xfrm>
              <a:off x="6627600" y="97596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36"/>
            <p:cNvSpPr/>
            <p:nvPr/>
          </p:nvSpPr>
          <p:spPr>
            <a:xfrm>
              <a:off x="6338160" y="2136240"/>
              <a:ext cx="14544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37"/>
            <p:cNvSpPr/>
            <p:nvPr/>
          </p:nvSpPr>
          <p:spPr>
            <a:xfrm>
              <a:off x="6338160" y="1846080"/>
              <a:ext cx="14364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38"/>
            <p:cNvSpPr/>
            <p:nvPr/>
          </p:nvSpPr>
          <p:spPr>
            <a:xfrm>
              <a:off x="6338160" y="1555920"/>
              <a:ext cx="14436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39"/>
            <p:cNvSpPr/>
            <p:nvPr/>
          </p:nvSpPr>
          <p:spPr>
            <a:xfrm>
              <a:off x="6338160" y="1265400"/>
              <a:ext cx="14436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40"/>
            <p:cNvSpPr/>
            <p:nvPr/>
          </p:nvSpPr>
          <p:spPr>
            <a:xfrm>
              <a:off x="6338160" y="975960"/>
              <a:ext cx="14364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41"/>
            <p:cNvSpPr/>
            <p:nvPr/>
          </p:nvSpPr>
          <p:spPr>
            <a:xfrm>
              <a:off x="7787520" y="155592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42"/>
            <p:cNvSpPr/>
            <p:nvPr/>
          </p:nvSpPr>
          <p:spPr>
            <a:xfrm>
              <a:off x="7497000" y="1555920"/>
              <a:ext cx="14472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43"/>
            <p:cNvSpPr/>
            <p:nvPr/>
          </p:nvSpPr>
          <p:spPr>
            <a:xfrm>
              <a:off x="7207560" y="1555920"/>
              <a:ext cx="14652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44"/>
            <p:cNvSpPr/>
            <p:nvPr/>
          </p:nvSpPr>
          <p:spPr>
            <a:xfrm>
              <a:off x="6918120" y="155592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45"/>
            <p:cNvSpPr/>
            <p:nvPr/>
          </p:nvSpPr>
          <p:spPr>
            <a:xfrm>
              <a:off x="6627600" y="1555920"/>
              <a:ext cx="144720" cy="1454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46"/>
            <p:cNvSpPr/>
            <p:nvPr/>
          </p:nvSpPr>
          <p:spPr>
            <a:xfrm>
              <a:off x="7787520" y="1265400"/>
              <a:ext cx="14472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47"/>
            <p:cNvSpPr/>
            <p:nvPr/>
          </p:nvSpPr>
          <p:spPr>
            <a:xfrm>
              <a:off x="7497000" y="1265400"/>
              <a:ext cx="145440" cy="146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48"/>
            <p:cNvSpPr/>
            <p:nvPr/>
          </p:nvSpPr>
          <p:spPr>
            <a:xfrm>
              <a:off x="7207560" y="1265400"/>
              <a:ext cx="14364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49"/>
            <p:cNvSpPr/>
            <p:nvPr/>
          </p:nvSpPr>
          <p:spPr>
            <a:xfrm>
              <a:off x="6918120" y="1265400"/>
              <a:ext cx="144720" cy="1465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50"/>
            <p:cNvSpPr/>
            <p:nvPr/>
          </p:nvSpPr>
          <p:spPr>
            <a:xfrm>
              <a:off x="7787520" y="184608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51"/>
            <p:cNvSpPr/>
            <p:nvPr/>
          </p:nvSpPr>
          <p:spPr>
            <a:xfrm>
              <a:off x="7497000" y="184608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52"/>
            <p:cNvSpPr/>
            <p:nvPr/>
          </p:nvSpPr>
          <p:spPr>
            <a:xfrm>
              <a:off x="7207560" y="2136240"/>
              <a:ext cx="14652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53"/>
            <p:cNvSpPr/>
            <p:nvPr/>
          </p:nvSpPr>
          <p:spPr>
            <a:xfrm>
              <a:off x="7207560" y="1846080"/>
              <a:ext cx="14436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54"/>
            <p:cNvSpPr/>
            <p:nvPr/>
          </p:nvSpPr>
          <p:spPr>
            <a:xfrm>
              <a:off x="6918120" y="213624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55"/>
            <p:cNvSpPr/>
            <p:nvPr/>
          </p:nvSpPr>
          <p:spPr>
            <a:xfrm>
              <a:off x="6918120" y="184608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56"/>
            <p:cNvSpPr/>
            <p:nvPr/>
          </p:nvSpPr>
          <p:spPr>
            <a:xfrm>
              <a:off x="6627600" y="2136240"/>
              <a:ext cx="145440" cy="14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57"/>
            <p:cNvSpPr/>
            <p:nvPr/>
          </p:nvSpPr>
          <p:spPr>
            <a:xfrm>
              <a:off x="6627600" y="184608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58"/>
            <p:cNvSpPr/>
            <p:nvPr/>
          </p:nvSpPr>
          <p:spPr>
            <a:xfrm>
              <a:off x="7787520" y="2136240"/>
              <a:ext cx="144720" cy="143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59"/>
            <p:cNvSpPr/>
            <p:nvPr/>
          </p:nvSpPr>
          <p:spPr>
            <a:xfrm>
              <a:off x="7497000" y="2136240"/>
              <a:ext cx="144720" cy="1443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Rectangle 60"/>
          <p:cNvSpPr/>
          <p:nvPr/>
        </p:nvSpPr>
        <p:spPr>
          <a:xfrm>
            <a:off x="304920" y="3265200"/>
            <a:ext cx="84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∙ 2                 4 ∙ 3               6 ∙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∙ 3                 3 ∙ 4               5 ∙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1" descr="89855549_41748"/>
          <p:cNvPicPr/>
          <p:nvPr/>
        </p:nvPicPr>
        <p:blipFill>
          <a:blip r:embed="rId1"/>
          <a:stretch/>
        </p:blipFill>
        <p:spPr>
          <a:xfrm>
            <a:off x="914400" y="4648320"/>
            <a:ext cx="1682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Arial"/>
              </a:rPr>
              <a:t>2 </a:t>
            </a:r>
            <a:r>
              <a:rPr b="0" lang="ru-RU" sz="6000" spc="-1" strike="noStrike">
                <a:solidFill>
                  <a:srgbClr val="ccffff"/>
                </a:solidFill>
                <a:latin typeface="Arial"/>
                <a:ea typeface="Arial"/>
              </a:rPr>
              <a:t>∙ 6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Picture 4" descr="img502"/>
          <p:cNvPicPr/>
          <p:nvPr/>
        </p:nvPicPr>
        <p:blipFill>
          <a:blip r:embed="rId1"/>
          <a:stretch/>
        </p:blipFill>
        <p:spPr>
          <a:xfrm>
            <a:off x="1219320" y="1981080"/>
            <a:ext cx="7010280" cy="203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89855549_41748"/>
          <p:cNvPicPr/>
          <p:nvPr/>
        </p:nvPicPr>
        <p:blipFill>
          <a:blip r:embed="rId2"/>
          <a:stretch/>
        </p:blipFill>
        <p:spPr>
          <a:xfrm>
            <a:off x="914400" y="3962520"/>
            <a:ext cx="216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g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&lt;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+9+9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9+9+9+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4+34+34+34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34+34+34+34+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∙ 9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2 ∙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55 ∙ 6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55 ∙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5+5+5+5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5+5+5+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7+7-7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7+7+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∙ 2+6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6 ∙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Галич</cp:lastModifiedBy>
  <dcterms:modified xsi:type="dcterms:W3CDTF">2016-06-18T12:34:2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