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0F7-0B7B-492E-B4E8-1F9F11AA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CEB-80C9-4972-906A-7C28F90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D3F-AB70-4853-A2E5-25015F61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2C4-953F-45E8-AC37-AF30F662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C59B-2903-4806-A8C8-B3CE3FFC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D9A8-1F95-4372-A945-2941867F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B813-27E8-4694-86AE-0B81BD04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7551-BCE5-4991-8345-D0157665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C8FF-1A1F-4FF5-BFE9-3BE77DD1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75572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C7AF-6BE8-47D6-A3CE-7BCE274F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3414-1D58-4B5D-AE2E-6892058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9D9-2A4C-4895-B888-0A4DAD27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6867-818A-4BFE-A155-566D1BC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7508-FEA2-4B53-A558-D2884BB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72E4-876C-41B6-87DD-C248746E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04D-9932-4ADD-9930-95F0C006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16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328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16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16FE-E3D0-4C8B-A61C-7533E064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921-6772-499D-BA56-8727E70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018-27DC-41C4-BFFC-98E3DCE4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385-5261-4EA3-9E6A-5D0565D9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75572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778-C141-41CF-AB19-86B42ED7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FF7-989A-44EE-A0A3-25EE2A19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F6A-1BE2-4CF8-8D4C-FC731A4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A95-243B-4ECC-9B31-BB622C6C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67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280" y="5164200"/>
            <a:ext cx="319212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516420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256C-EBB8-4E42-B5A7-D390DC9E0C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354560"/>
            <a:ext cx="10078920" cy="131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txBody>
          <a:bodyPr lIns="0" rIns="0" tIns="21240" bIns="0" anchor="t">
            <a:normAutofit fontScale="85000"/>
          </a:bodyPr>
          <a:p>
            <a:pPr marL="29160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BBB4-4636-4532-8D92-00C50791C1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75572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а В. Звуки </a:t>
            </a:r>
            <a:r>
              <a:rPr b="1" lang="ru-RU" sz="32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В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5640" y="132840"/>
            <a:ext cx="90709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а В. Звуки </a:t>
            </a:r>
            <a:r>
              <a:rPr b="1" lang="ru-RU" sz="32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В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079640"/>
            <a:ext cx="90709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вук </a:t>
            </a:r>
            <a:r>
              <a:rPr b="1" lang="ru-RU" sz="26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— согласный звук, потому что есть преграда 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губы и зуб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— твёрдый согл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— мягкий согл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 «Кубики» -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носи звук </a:t>
            </a:r>
            <a:r>
              <a:rPr b="1" lang="ru-RU" sz="18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ли звук </a:t>
            </a:r>
            <a:r>
              <a:rPr b="1" lang="ru-RU" sz="1800" spc="-1" strike="noStrike">
                <a:solidFill>
                  <a:srgbClr val="00cc00"/>
                </a:solidFill>
                <a:latin typeface="Times New Roman"/>
              </a:rPr>
              <a:t>В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соответствии с цветом кубика. Сколько мягких звуков, а твёрды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6841" t="19843" r="6217" b="15335"/>
          <a:stretch/>
        </p:blipFill>
        <p:spPr>
          <a:xfrm>
            <a:off x="7559640" y="1655640"/>
            <a:ext cx="137952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53080" y="2016000"/>
            <a:ext cx="503280" cy="503280"/>
          </a:xfrm>
          <a:prstGeom prst="ellipse">
            <a:avLst/>
          </a:prstGeom>
          <a:solidFill>
            <a:srgbClr val="0019f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51280" y="2736720"/>
            <a:ext cx="503280" cy="503280"/>
          </a:xfrm>
          <a:prstGeom prst="ellipse">
            <a:avLst/>
          </a:prstGeom>
          <a:solidFill>
            <a:srgbClr val="007c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84360" y="4751280"/>
            <a:ext cx="287280" cy="28728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4535640"/>
            <a:ext cx="503280" cy="50292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48000" y="4535640"/>
            <a:ext cx="287280" cy="28728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9640" y="4608360"/>
            <a:ext cx="503280" cy="50328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7640" y="4248000"/>
            <a:ext cx="360360" cy="36036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67280" y="4535640"/>
            <a:ext cx="503280" cy="50292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32360" y="4103640"/>
            <a:ext cx="216000" cy="21600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12000" y="4103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4248000"/>
            <a:ext cx="431640" cy="43200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446400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0" y="20484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496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 все картинки со звуком </a:t>
            </a:r>
            <a:r>
              <a:rPr b="1" lang="ru-RU" sz="28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звук В может быть в начале или  середине слова).</a:t>
            </a:r>
            <a:br>
              <a:rPr sz="20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волк, шапка, самокат, ворона, корова, сова, сыр, диван, вулкан, лиса)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4905" t="7710" r="4368" b="4922"/>
          <a:stretch/>
        </p:blipFill>
        <p:spPr>
          <a:xfrm>
            <a:off x="576360" y="1623960"/>
            <a:ext cx="1079280" cy="104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20000" y="3546360"/>
            <a:ext cx="1473120" cy="98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08360" y="2270160"/>
            <a:ext cx="1190880" cy="10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97160" y="2836800"/>
            <a:ext cx="1014480" cy="906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0" t="9877" r="1688" b="10379"/>
          <a:stretch/>
        </p:blipFill>
        <p:spPr>
          <a:xfrm>
            <a:off x="3168720" y="1440000"/>
            <a:ext cx="819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rcRect l="4905" t="14430" r="4368" b="15001"/>
          <a:stretch/>
        </p:blipFill>
        <p:spPr>
          <a:xfrm>
            <a:off x="720720" y="4032360"/>
            <a:ext cx="739800" cy="57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rcRect l="8282" t="0" r="4351" b="0"/>
          <a:stretch/>
        </p:blipFill>
        <p:spPr>
          <a:xfrm>
            <a:off x="6146640" y="3422520"/>
            <a:ext cx="909720" cy="1041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rcRect l="2117" t="10409" r="4412" b="11090"/>
          <a:stretch/>
        </p:blipFill>
        <p:spPr>
          <a:xfrm>
            <a:off x="3456000" y="3882960"/>
            <a:ext cx="1295280" cy="723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rcRect l="18360" t="4351" r="27868" b="4922"/>
          <a:stretch/>
        </p:blipFill>
        <p:spPr>
          <a:xfrm>
            <a:off x="6408720" y="1305000"/>
            <a:ext cx="720720" cy="1216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8352000" y="2016000"/>
            <a:ext cx="11458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907128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496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 все картинки со звуком </a:t>
            </a:r>
            <a:r>
              <a:rPr b="1" lang="ru-RU" sz="28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звук Вь может быть в начале или  середине слова).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висток, ковёр, Винни Пух, веер, заяц, сумка, ведро, верблюд, виноград, ёж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8192" r="0" b="11393"/>
          <a:stretch/>
        </p:blipFill>
        <p:spPr>
          <a:xfrm>
            <a:off x="8358120" y="1368360"/>
            <a:ext cx="1362240" cy="7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10754" t="8450" r="10204" b="9011"/>
          <a:stretch/>
        </p:blipFill>
        <p:spPr>
          <a:xfrm>
            <a:off x="7272360" y="2521080"/>
            <a:ext cx="728640" cy="79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12566" t="0" r="0" b="0"/>
          <a:stretch/>
        </p:blipFill>
        <p:spPr>
          <a:xfrm>
            <a:off x="3168720" y="3735360"/>
            <a:ext cx="1079280" cy="8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6724" t="0" r="6166" b="0"/>
          <a:stretch/>
        </p:blipFill>
        <p:spPr>
          <a:xfrm>
            <a:off x="5532480" y="1517760"/>
            <a:ext cx="874800" cy="107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rcRect l="0" t="4698" r="10346" b="0"/>
          <a:stretch/>
        </p:blipFill>
        <p:spPr>
          <a:xfrm>
            <a:off x="552600" y="3456000"/>
            <a:ext cx="887400" cy="82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rcRect l="0" t="0" r="4351" b="11624"/>
          <a:stretch/>
        </p:blipFill>
        <p:spPr>
          <a:xfrm>
            <a:off x="576360" y="1623960"/>
            <a:ext cx="969840" cy="895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24360" y="1440000"/>
            <a:ext cx="1279440" cy="766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0" t="0" r="0" b="5020"/>
          <a:stretch/>
        </p:blipFill>
        <p:spPr>
          <a:xfrm>
            <a:off x="8712360" y="3816360"/>
            <a:ext cx="93024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rcRect l="4922" t="4368" r="7710" b="4905"/>
          <a:stretch/>
        </p:blipFill>
        <p:spPr>
          <a:xfrm>
            <a:off x="2160720" y="2664000"/>
            <a:ext cx="901440" cy="93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5327640" y="3035160"/>
            <a:ext cx="79056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000" y="20484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 «Разноцветные ведёрки». 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инем ведёрке будут картинки со звуком </a:t>
            </a:r>
            <a:r>
              <a:rPr b="0" lang="ru-RU" sz="20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в зелёном — со звуком </a:t>
            </a:r>
            <a:r>
              <a:rPr b="0" lang="ru-RU" sz="20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агон, ванна, верёвка, варежки, весло, вертолёт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6360" y="302436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18360" t="0" r="14430" b="0"/>
          <a:stretch/>
        </p:blipFill>
        <p:spPr>
          <a:xfrm>
            <a:off x="3743280" y="1584360"/>
            <a:ext cx="86364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8282" t="7710" r="7710" b="4922"/>
          <a:stretch/>
        </p:blipFill>
        <p:spPr>
          <a:xfrm>
            <a:off x="8496360" y="1368360"/>
            <a:ext cx="76032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47640" y="3672000"/>
            <a:ext cx="1371600" cy="992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11041" t="11718" r="4250" b="8698"/>
          <a:stretch/>
        </p:blipFill>
        <p:spPr>
          <a:xfrm>
            <a:off x="7775640" y="331164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024360" y="3978360"/>
            <a:ext cx="1152360" cy="772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rcRect l="0" t="11087" r="0" b="11624"/>
          <a:stretch/>
        </p:blipFill>
        <p:spPr>
          <a:xfrm>
            <a:off x="863640" y="1511280"/>
            <a:ext cx="102060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rcRect l="0" t="27788" r="0" b="24954"/>
          <a:stretch/>
        </p:blipFill>
        <p:spPr>
          <a:xfrm>
            <a:off x="6019920" y="1655640"/>
            <a:ext cx="125244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280" y="144360"/>
            <a:ext cx="9071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и </a:t>
            </a:r>
            <a:r>
              <a:rPr b="1" lang="ru-RU" sz="24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4 лишний». </a:t>
            </a:r>
            <a:br>
              <a:rPr sz="2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ем со звуками В и Вь. Назови все картинки в ряду и найди «лишнюю» - слушай внимательно звуки в словах!!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афли, воробей, волк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елосипед;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ветер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ро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, веник, вишня)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2851" t="20889" r="12825" b="21618"/>
          <a:stretch/>
        </p:blipFill>
        <p:spPr>
          <a:xfrm>
            <a:off x="431640" y="1655640"/>
            <a:ext cx="1152720" cy="516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87640" y="1655640"/>
            <a:ext cx="1020600" cy="728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600360" y="1623960"/>
            <a:ext cx="1079640" cy="82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4879" t="6278" r="4398" b="6960"/>
          <a:stretch/>
        </p:blipFill>
        <p:spPr>
          <a:xfrm>
            <a:off x="5256360" y="1714680"/>
            <a:ext cx="1152360" cy="733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39640" y="3240000"/>
            <a:ext cx="120168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rcRect l="0" t="0" r="4680" b="0"/>
          <a:stretch/>
        </p:blipFill>
        <p:spPr>
          <a:xfrm>
            <a:off x="2160720" y="3240000"/>
            <a:ext cx="807840" cy="968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rcRect l="12663" t="0" r="12090" b="0"/>
          <a:stretch/>
        </p:blipFill>
        <p:spPr>
          <a:xfrm>
            <a:off x="3600360" y="3244680"/>
            <a:ext cx="936720" cy="93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rcRect l="5343" t="0" r="4865" b="0"/>
          <a:stretch/>
        </p:blipFill>
        <p:spPr>
          <a:xfrm>
            <a:off x="5256360" y="3260880"/>
            <a:ext cx="93636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720" y="144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67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 «Составь слово». </a:t>
            </a:r>
            <a:br>
              <a:rPr sz="2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гадай слово по первым звукам в названии картинок. Нарисуй схему к нему, используя карандаши красного, синего и зелёного цвета)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щелчку мышки появятся картинки-отгадки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9597" t="0" r="19101" b="0"/>
          <a:stretch/>
        </p:blipFill>
        <p:spPr>
          <a:xfrm>
            <a:off x="7920000" y="1409760"/>
            <a:ext cx="1025640" cy="125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559640" y="3384720"/>
            <a:ext cx="1814400" cy="779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rcRect l="0" t="7710" r="0" b="11641"/>
          <a:stretch/>
        </p:blipFill>
        <p:spPr>
          <a:xfrm>
            <a:off x="503280" y="1405080"/>
            <a:ext cx="936720" cy="75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728720" y="1368360"/>
            <a:ext cx="1498680" cy="841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rcRect l="10079" t="7710" r="17789" b="0"/>
          <a:stretch/>
        </p:blipFill>
        <p:spPr>
          <a:xfrm>
            <a:off x="3527280" y="1440000"/>
            <a:ext cx="757440" cy="968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rcRect l="7614" t="6278" r="7161" b="11090"/>
          <a:stretch/>
        </p:blipFill>
        <p:spPr>
          <a:xfrm>
            <a:off x="4861080" y="1512720"/>
            <a:ext cx="1116000" cy="71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rcRect l="0" t="27543" r="0" b="24186"/>
          <a:stretch/>
        </p:blipFill>
        <p:spPr>
          <a:xfrm rot="19080000">
            <a:off x="191880" y="3257280"/>
            <a:ext cx="1538280" cy="519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1511280" y="3095640"/>
            <a:ext cx="1427040" cy="79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rcRect l="25420" t="4851" r="27871" b="5513"/>
          <a:stretch/>
        </p:blipFill>
        <p:spPr>
          <a:xfrm>
            <a:off x="3095640" y="2924280"/>
            <a:ext cx="720720" cy="1035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227480" y="3095640"/>
            <a:ext cx="81108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5292720" y="3228840"/>
            <a:ext cx="118728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75572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а В. Звуки </a:t>
            </a:r>
            <a:r>
              <a:rPr b="1" lang="ru-RU" sz="32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В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3041280"/>
            <a:ext cx="9070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t">
            <a:normAutofit fontScale="99000"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6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7:56:27Z</dcterms:created>
  <dc:creator/>
  <dc:description/>
  <dc:language>en-US</dc:language>
  <cp:lastModifiedBy/>
  <dcterms:modified xsi:type="dcterms:W3CDTF">2022-02-02T06:46:54Z</dcterms:modified>
  <cp:revision>11</cp:revision>
  <dc:subject/>
  <dc:title>Bright Blue</dc:title>
</cp:coreProperties>
</file>