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1DB-0932-43F4-8D64-31AA78EA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906768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480200"/>
            <a:ext cx="906768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B5A-DC43-421E-8DF5-6086A733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48020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48020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45D-79D7-4718-B212-AE4DD930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304128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304128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48020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48020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48020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00C9-C83D-4EAA-91C8-93847F6C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ADAE-F776-49F2-AD9A-70AA497F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3280" y="3041280"/>
            <a:ext cx="906768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199E-826C-43AE-8FBD-B0CBB2E9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906768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ED42-70E0-4722-9281-808BE837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32A4-4430-42DE-85CE-846C6638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B976-6875-41EE-A7AC-4864D549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75572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872E-4B30-4432-9E0C-EF4097BF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3280" y="448020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BCBE-FD92-40E7-B2D2-3AFC499B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3041280"/>
            <a:ext cx="906768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405-4F15-4EF0-A959-7382D7B0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9800" y="448020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4FEE-179E-4681-90D7-CBC24C06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280" y="4480200"/>
            <a:ext cx="906768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502F-F444-4D50-904B-521B8EDE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906768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280" y="4480200"/>
            <a:ext cx="906768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2055-BC72-464F-A8B7-AD1F5F78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3280" y="448020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9800" y="448020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72AF-6CC4-413A-8354-A00BE0AE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304128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160" y="304128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3280" y="448020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48020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160" y="4480200"/>
            <a:ext cx="291960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7B48-1E01-4CCC-98B1-76CB5961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906768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25A-046A-4C95-B4E7-0962A743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B67-4C9D-438C-AEC7-998E6E2B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950D-8F12-4F69-BB26-BEF13E74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75572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8F8-E9D4-4301-916C-D53C9D39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48020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A65-B01D-4374-974C-CAA19C77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2754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48020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D87-735F-4D8B-B7F3-1B28FF85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3041280"/>
            <a:ext cx="442476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480200"/>
            <a:ext cx="9067680" cy="1313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26C7-EF97-4E1C-8BC4-7AEB04E5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58680" y="81000"/>
            <a:ext cx="7794720" cy="120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676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368360"/>
            <a:ext cx="906948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516420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280" y="5164200"/>
            <a:ext cx="319212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5920" y="516420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91CF9-4233-4256-9064-C40274E775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354560"/>
            <a:ext cx="10078920" cy="1316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75572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3280" y="3041280"/>
            <a:ext cx="9067680" cy="2754360"/>
          </a:xfrm>
          <a:prstGeom prst="rect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txBody>
          <a:bodyPr lIns="0" rIns="0" tIns="21240" bIns="0" anchor="t">
            <a:normAutofit fontScale="85000"/>
          </a:bodyPr>
          <a:p>
            <a:pPr marL="291600" indent="0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600" indent="-29160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91600" indent="-29160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91600" indent="-29160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91600" indent="-29160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91600" indent="-29160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91600" indent="-291600">
              <a:lnSpc>
                <a:spcPct val="93000"/>
              </a:lnSpc>
              <a:spcBef>
                <a:spcPts val="1063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48B8A-E835-4053-8143-538ADF964F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75572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уква В. Звуки </a:t>
            </a:r>
            <a:r>
              <a:rPr b="1" lang="ru-RU" sz="32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В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5640" y="132840"/>
            <a:ext cx="907092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уква В. Звуки </a:t>
            </a:r>
            <a:r>
              <a:rPr b="1" lang="ru-RU" sz="32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В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079640"/>
            <a:ext cx="907092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вук </a:t>
            </a:r>
            <a:r>
              <a:rPr b="1" lang="ru-RU" sz="26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— согласный звук, потому что есть преграда 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губы и зуб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— твёрдый соглас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c00"/>
                </a:solidFill>
                <a:latin typeface="Times New Roman"/>
              </a:rPr>
              <a:t>В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— мягкий соглас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а «Кубики» -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износи звук </a:t>
            </a:r>
            <a:r>
              <a:rPr b="1" lang="ru-RU" sz="18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или звук </a:t>
            </a:r>
            <a:r>
              <a:rPr b="1" lang="ru-RU" sz="1800" spc="-1" strike="noStrike">
                <a:solidFill>
                  <a:srgbClr val="00cc00"/>
                </a:solidFill>
                <a:latin typeface="Times New Roman"/>
              </a:rPr>
              <a:t>В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соответствии с цветом кубика. Сколько мягких звуков, а твёрды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6841" t="19843" r="6217" b="15335"/>
          <a:stretch/>
        </p:blipFill>
        <p:spPr>
          <a:xfrm>
            <a:off x="7559640" y="1655640"/>
            <a:ext cx="1379520" cy="720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753080" y="2016000"/>
            <a:ext cx="503280" cy="503280"/>
          </a:xfrm>
          <a:prstGeom prst="ellipse">
            <a:avLst/>
          </a:prstGeom>
          <a:solidFill>
            <a:srgbClr val="0019f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51280" y="2736720"/>
            <a:ext cx="503280" cy="503280"/>
          </a:xfrm>
          <a:prstGeom prst="ellipse">
            <a:avLst/>
          </a:prstGeom>
          <a:solidFill>
            <a:srgbClr val="007c00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84360" y="4751280"/>
            <a:ext cx="287280" cy="287280"/>
          </a:xfrm>
          <a:prstGeom prst="rect">
            <a:avLst/>
          </a:prstGeom>
          <a:solidFill>
            <a:srgbClr val="0099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280" y="4535640"/>
            <a:ext cx="503280" cy="502920"/>
          </a:xfrm>
          <a:prstGeom prst="rect">
            <a:avLst/>
          </a:prstGeom>
          <a:solidFill>
            <a:srgbClr val="3333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48000" y="4535640"/>
            <a:ext cx="287280" cy="287280"/>
          </a:xfrm>
          <a:prstGeom prst="rect">
            <a:avLst/>
          </a:prstGeom>
          <a:solidFill>
            <a:srgbClr val="3333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9640" y="4608360"/>
            <a:ext cx="503280" cy="503280"/>
          </a:xfrm>
          <a:prstGeom prst="rect">
            <a:avLst/>
          </a:prstGeom>
          <a:solidFill>
            <a:srgbClr val="0099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7640" y="4248000"/>
            <a:ext cx="360360" cy="360360"/>
          </a:xfrm>
          <a:prstGeom prst="rect">
            <a:avLst/>
          </a:prstGeom>
          <a:solidFill>
            <a:srgbClr val="0099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67280" y="4535640"/>
            <a:ext cx="503280" cy="502920"/>
          </a:xfrm>
          <a:prstGeom prst="rect">
            <a:avLst/>
          </a:prstGeom>
          <a:solidFill>
            <a:srgbClr val="3333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32360" y="4103640"/>
            <a:ext cx="216000" cy="216000"/>
          </a:xfrm>
          <a:prstGeom prst="rect">
            <a:avLst/>
          </a:prstGeom>
          <a:solidFill>
            <a:srgbClr val="3333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12000" y="4103640"/>
            <a:ext cx="21600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4248000"/>
            <a:ext cx="431640" cy="432000"/>
          </a:xfrm>
          <a:prstGeom prst="rect">
            <a:avLst/>
          </a:prstGeom>
          <a:solidFill>
            <a:srgbClr val="3333ff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80000" y="4464000"/>
            <a:ext cx="216000" cy="216000"/>
          </a:xfrm>
          <a:prstGeom prst="rect">
            <a:avLst/>
          </a:prstGeom>
          <a:solidFill>
            <a:srgbClr val="0099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000" y="20484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4968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йди все картинки со звуком </a:t>
            </a:r>
            <a:r>
              <a:rPr b="1" lang="ru-RU" sz="28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звук В может быть в начале или  середине слова).</a:t>
            </a:r>
            <a:br>
              <a:rPr sz="20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(волк, шапка, самокат, ворона, корова, сова, сыр, диван, вулкан, лиса)</a:t>
            </a:r>
            <a:endParaRPr b="0" lang="en-US" sz="15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4905" t="7710" r="4368" b="4922"/>
          <a:stretch/>
        </p:blipFill>
        <p:spPr>
          <a:xfrm>
            <a:off x="576360" y="1623960"/>
            <a:ext cx="1079280" cy="104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20000" y="3546360"/>
            <a:ext cx="1473120" cy="98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08360" y="2270160"/>
            <a:ext cx="1190880" cy="1041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297160" y="2836800"/>
            <a:ext cx="1014480" cy="906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rcRect l="0" t="9877" r="1688" b="10379"/>
          <a:stretch/>
        </p:blipFill>
        <p:spPr>
          <a:xfrm>
            <a:off x="3168720" y="1440000"/>
            <a:ext cx="81900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rcRect l="4905" t="14430" r="4368" b="15001"/>
          <a:stretch/>
        </p:blipFill>
        <p:spPr>
          <a:xfrm>
            <a:off x="720720" y="4032360"/>
            <a:ext cx="739800" cy="57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rcRect l="8282" t="0" r="4351" b="0"/>
          <a:stretch/>
        </p:blipFill>
        <p:spPr>
          <a:xfrm>
            <a:off x="6146640" y="3422520"/>
            <a:ext cx="909720" cy="1041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rcRect l="2117" t="10409" r="4412" b="11090"/>
          <a:stretch/>
        </p:blipFill>
        <p:spPr>
          <a:xfrm>
            <a:off x="3456000" y="3882960"/>
            <a:ext cx="1295280" cy="723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rcRect l="18360" t="4351" r="27868" b="4922"/>
          <a:stretch/>
        </p:blipFill>
        <p:spPr>
          <a:xfrm>
            <a:off x="6408720" y="1305000"/>
            <a:ext cx="720720" cy="1216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8352000" y="2016000"/>
            <a:ext cx="114588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907128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4968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йди все картинки со звуком </a:t>
            </a:r>
            <a:r>
              <a:rPr b="1" lang="ru-RU" sz="2800" spc="-1" strike="noStrike">
                <a:solidFill>
                  <a:srgbClr val="007c00"/>
                </a:solidFill>
                <a:latin typeface="Times New Roman"/>
              </a:rPr>
              <a:t>В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звук Вь может быть в начале или  середине слова).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свисток, ковёр, Винни Пух, веер, заяц, сумка, ведро, верблюд, виноград, ёж)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18192" r="0" b="11393"/>
          <a:stretch/>
        </p:blipFill>
        <p:spPr>
          <a:xfrm>
            <a:off x="8358120" y="1368360"/>
            <a:ext cx="1362240" cy="792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10754" t="8450" r="10204" b="9011"/>
          <a:stretch/>
        </p:blipFill>
        <p:spPr>
          <a:xfrm>
            <a:off x="7272360" y="2521080"/>
            <a:ext cx="728640" cy="79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12566" t="0" r="0" b="0"/>
          <a:stretch/>
        </p:blipFill>
        <p:spPr>
          <a:xfrm>
            <a:off x="3168720" y="3735360"/>
            <a:ext cx="1079280" cy="847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rcRect l="6724" t="0" r="6166" b="0"/>
          <a:stretch/>
        </p:blipFill>
        <p:spPr>
          <a:xfrm>
            <a:off x="5532480" y="1517760"/>
            <a:ext cx="874800" cy="1074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rcRect l="0" t="4698" r="10346" b="0"/>
          <a:stretch/>
        </p:blipFill>
        <p:spPr>
          <a:xfrm>
            <a:off x="552600" y="3456000"/>
            <a:ext cx="887400" cy="825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rcRect l="0" t="0" r="4351" b="11624"/>
          <a:stretch/>
        </p:blipFill>
        <p:spPr>
          <a:xfrm>
            <a:off x="576360" y="1623960"/>
            <a:ext cx="969840" cy="895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3024360" y="1440000"/>
            <a:ext cx="1279440" cy="766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rcRect l="0" t="0" r="0" b="5020"/>
          <a:stretch/>
        </p:blipFill>
        <p:spPr>
          <a:xfrm>
            <a:off x="8712360" y="3816360"/>
            <a:ext cx="930240" cy="647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rcRect l="4922" t="4368" r="7710" b="4905"/>
          <a:stretch/>
        </p:blipFill>
        <p:spPr>
          <a:xfrm>
            <a:off x="2160720" y="2664000"/>
            <a:ext cx="901440" cy="93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5327640" y="3035160"/>
            <a:ext cx="790560" cy="10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000" y="20484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6084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а «Разноцветные ведёрки». 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инем ведёрке будут картинки со звуком </a:t>
            </a:r>
            <a:r>
              <a:rPr b="0" lang="ru-RU" sz="20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 в зелёном — со звуком </a:t>
            </a:r>
            <a:r>
              <a:rPr b="0" lang="ru-RU" sz="2000" spc="-1" strike="noStrike">
                <a:solidFill>
                  <a:srgbClr val="007c00"/>
                </a:solidFill>
                <a:latin typeface="Times New Roman"/>
              </a:rPr>
              <a:t>В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вагон, ванна, верёвка, варежки, весло, вертолёт)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56360" y="3024360"/>
            <a:ext cx="1081080" cy="1144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18360" t="0" r="14430" b="0"/>
          <a:stretch/>
        </p:blipFill>
        <p:spPr>
          <a:xfrm>
            <a:off x="3743280" y="1584360"/>
            <a:ext cx="863640" cy="12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8282" t="7710" r="7710" b="4922"/>
          <a:stretch/>
        </p:blipFill>
        <p:spPr>
          <a:xfrm>
            <a:off x="8496360" y="1368360"/>
            <a:ext cx="760320" cy="792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47640" y="3672000"/>
            <a:ext cx="1371600" cy="992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11041" t="11718" r="4250" b="8698"/>
          <a:stretch/>
        </p:blipFill>
        <p:spPr>
          <a:xfrm>
            <a:off x="7775640" y="3311640"/>
            <a:ext cx="936720" cy="761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3024360" y="3978360"/>
            <a:ext cx="1152360" cy="772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rcRect l="0" t="11087" r="0" b="11624"/>
          <a:stretch/>
        </p:blipFill>
        <p:spPr>
          <a:xfrm>
            <a:off x="863640" y="1511280"/>
            <a:ext cx="1020600" cy="792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rcRect l="0" t="27788" r="0" b="24954"/>
          <a:stretch/>
        </p:blipFill>
        <p:spPr>
          <a:xfrm>
            <a:off x="6019920" y="1655640"/>
            <a:ext cx="125244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280" y="144360"/>
            <a:ext cx="90712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6084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уки </a:t>
            </a:r>
            <a:r>
              <a:rPr b="1" lang="ru-RU" sz="24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007c00"/>
                </a:solidFill>
                <a:latin typeface="Times New Roman"/>
              </a:rPr>
              <a:t>В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 «4 лишний». </a:t>
            </a:r>
            <a:br>
              <a:rPr sz="26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граем со звуками В и Вь. Назови все картинки в ряду и найди «лишнюю» - слушай внимательно звуки в словах!!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вафли, воробей, волк,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елосипед;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ветер,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орон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, веник, вишня)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2851" t="20889" r="12825" b="21618"/>
          <a:stretch/>
        </p:blipFill>
        <p:spPr>
          <a:xfrm>
            <a:off x="431640" y="1655640"/>
            <a:ext cx="1152720" cy="516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087640" y="1655640"/>
            <a:ext cx="1020600" cy="728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600360" y="1623960"/>
            <a:ext cx="1079640" cy="824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4879" t="6278" r="4398" b="6960"/>
          <a:stretch/>
        </p:blipFill>
        <p:spPr>
          <a:xfrm>
            <a:off x="5256360" y="1714680"/>
            <a:ext cx="1152360" cy="733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39640" y="3240000"/>
            <a:ext cx="1201680" cy="792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rcRect l="0" t="0" r="4680" b="0"/>
          <a:stretch/>
        </p:blipFill>
        <p:spPr>
          <a:xfrm>
            <a:off x="2160720" y="3240000"/>
            <a:ext cx="807840" cy="968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rcRect l="12663" t="0" r="12090" b="0"/>
          <a:stretch/>
        </p:blipFill>
        <p:spPr>
          <a:xfrm>
            <a:off x="3600360" y="3244680"/>
            <a:ext cx="936720" cy="932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rcRect l="5343" t="0" r="4865" b="0"/>
          <a:stretch/>
        </p:blipFill>
        <p:spPr>
          <a:xfrm>
            <a:off x="5256360" y="3260880"/>
            <a:ext cx="93636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720" y="144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67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гра «Составь слово». </a:t>
            </a:r>
            <a:br>
              <a:rPr sz="2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гадай слово по первым звукам в названии картинок. Нарисуй схему к нему, используя карандаши красного, синего и зелёного цвета)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 щелчку мышки появятся картинки-отгадки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9597" t="0" r="19101" b="0"/>
          <a:stretch/>
        </p:blipFill>
        <p:spPr>
          <a:xfrm>
            <a:off x="7920000" y="1409760"/>
            <a:ext cx="1025640" cy="1254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559640" y="3384720"/>
            <a:ext cx="1814400" cy="779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rcRect l="0" t="7710" r="0" b="11641"/>
          <a:stretch/>
        </p:blipFill>
        <p:spPr>
          <a:xfrm>
            <a:off x="503280" y="1405080"/>
            <a:ext cx="936720" cy="755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1728720" y="1368360"/>
            <a:ext cx="1498680" cy="841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rcRect l="10079" t="7710" r="17789" b="0"/>
          <a:stretch/>
        </p:blipFill>
        <p:spPr>
          <a:xfrm>
            <a:off x="3527280" y="1440000"/>
            <a:ext cx="757440" cy="968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rcRect l="7614" t="6278" r="7161" b="11090"/>
          <a:stretch/>
        </p:blipFill>
        <p:spPr>
          <a:xfrm>
            <a:off x="4861080" y="1512720"/>
            <a:ext cx="1116000" cy="719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rcRect l="0" t="27543" r="0" b="24186"/>
          <a:stretch/>
        </p:blipFill>
        <p:spPr>
          <a:xfrm rot="19080000">
            <a:off x="191880" y="3257280"/>
            <a:ext cx="1538280" cy="519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1511280" y="3095640"/>
            <a:ext cx="1427040" cy="792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rcRect l="25420" t="4851" r="27871" b="5513"/>
          <a:stretch/>
        </p:blipFill>
        <p:spPr>
          <a:xfrm>
            <a:off x="3095640" y="2924280"/>
            <a:ext cx="720720" cy="1035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227480" y="3095640"/>
            <a:ext cx="811080" cy="952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5292720" y="3228840"/>
            <a:ext cx="1187280" cy="7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75572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5688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уква В. Звуки </a:t>
            </a:r>
            <a:r>
              <a:rPr b="1" lang="ru-RU" sz="3200" spc="-1" strike="noStrike">
                <a:solidFill>
                  <a:srgbClr val="0019fc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009900"/>
                </a:solidFill>
                <a:latin typeface="Times New Roman"/>
              </a:rPr>
              <a:t>В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3041280"/>
            <a:ext cx="907092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t">
            <a:normAutofit fontScale="99000"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6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6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зентацию составила учитель-логопед ГБУ ДО ЦППМСП Петродворцового района «Доверие» Бузлаева И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1T17:56:27Z</dcterms:created>
  <dc:creator/>
  <dc:description/>
  <dc:language>en-US</dc:language>
  <cp:lastModifiedBy/>
  <dcterms:modified xsi:type="dcterms:W3CDTF">2022-02-02T06:46:54Z</dcterms:modified>
  <cp:revision>11</cp:revision>
  <dc:subject/>
  <dc:title>Bright Blue</dc:title>
</cp:coreProperties>
</file>