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174D-4A0B-464F-B181-02F9DCF4FA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D1AB-A605-493D-B952-A7ED4BFF190B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3F90C63-784F-48FF-9F5D-FD08BD22ED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981F-C6E3-4161-9555-5D0E89C9CA1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ADA0ECFE-FDB3-400E-ABE7-B7DF6DC08A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2858-B345-496F-B43B-1C067F7AAA1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02A3F72-B8BE-4CA4-8CBE-FDBB5D8848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5480-180F-4A3A-9917-E86CC5871821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FB0129E-594A-4342-9AC2-BBCED9F235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8AB8-4DE4-4A9B-93DE-01F8C9E9BE1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27000" y="685800"/>
            <a:ext cx="498312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3F95-D0DB-4DA4-915F-E56E83167AC6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FB466B8-2197-462E-9A5B-E4746E5EA3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8B7B-F52E-49C3-A1F4-D92C1242912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27000" y="685800"/>
            <a:ext cx="498312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CF8D-771A-4249-91AB-AF600F85D46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AB89061-A05F-4CB4-BADB-46D32F6AEE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EE4-43A7-4804-BF22-E062DC9E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654-4742-4C02-BAF3-85EE7AC1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4E6-1718-4608-90C4-7741DB59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D08-C31D-4919-8929-04E9AE40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639-408B-46C5-848E-E6CF974E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BF3-0573-4AC6-B329-3CA2C0BE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460-58BD-4746-A099-8E37F78D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CC3-3779-492A-A04F-02E0E968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767-9529-48B3-BD85-ED9A99F8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737-479F-415D-AED1-65EE51EF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45D-D3FC-489B-8E8C-5ADE24B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E65-6C83-4654-B5DA-15E2F79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30A2-3917-45D4-864B-187129360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4284720" y="260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ДОУ Центр развития ребёнк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5148360" y="573264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найкина М.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E:\дидакт.Мордовские игры\1614861225_40-p-fon-belorusskii-ornament-49 - копия.png"/>
          <p:cNvPicPr/>
          <p:nvPr/>
        </p:nvPicPr>
        <p:blipFill>
          <a:blip r:embed="rId1"/>
          <a:srcRect l="-2008" t="743" r="2009" b="6938"/>
          <a:stretch/>
        </p:blipFill>
        <p:spPr>
          <a:xfrm>
            <a:off x="-12600" y="61920"/>
            <a:ext cx="4503600" cy="5311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3840120" y="1413000"/>
            <a:ext cx="5459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e001b"/>
                </a:solidFill>
                <a:latin typeface="Times New Roman"/>
                <a:ea typeface="Times New Roman"/>
              </a:rPr>
              <a:t>Дидактическая иг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e001b"/>
                </a:solidFill>
                <a:latin typeface="Times New Roman"/>
                <a:ea typeface="Times New Roman"/>
              </a:rPr>
              <a:t>по поликультурному воспитанию детей дошкольного возрас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e001b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8e001b"/>
                </a:solidFill>
                <a:latin typeface="Times New Roman"/>
                <a:ea typeface="Times New Roman"/>
              </a:rPr>
              <a:t>«Одень куклу в национальный костюм</a:t>
            </a:r>
            <a:r>
              <a:rPr b="1" lang="ru-RU" sz="3000" spc="-1" strike="noStrike">
                <a:solidFill>
                  <a:srgbClr val="8e001b"/>
                </a:solidFill>
                <a:latin typeface="Times New Roman"/>
                <a:ea typeface="Calibri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s://ds02.infourok.ru/uploads/ex/1308/00088aff-cd8323f1/hello_html_m6964f551.png"/>
          <p:cNvPicPr/>
          <p:nvPr/>
        </p:nvPicPr>
        <p:blipFill>
          <a:blip r:embed="rId2"/>
          <a:stretch/>
        </p:blipFill>
        <p:spPr>
          <a:xfrm>
            <a:off x="3141720" y="4151160"/>
            <a:ext cx="18302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-38160"/>
            <a:ext cx="536400" cy="688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8604360" y="-22320"/>
            <a:ext cx="539640" cy="6880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501480" y="-11160"/>
            <a:ext cx="8114040" cy="549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501480" y="6308640"/>
            <a:ext cx="8114040" cy="549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871560" y="765000"/>
            <a:ext cx="73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ую игру можно использовать на занятиях по ознакомлению с традиционно бытовой культурой народа; «Речевое развитие» (при чтении народных сказок) и на занятиях по изобразительной деятельности (лепка, рисование, аппликация, а также в самостоятельной игровой деятельности или индивидуально. Кукол можно использовать в театрализованных играх, во время драматизации сказок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C:\Users\USER\Desktop\фото для семинара\20220330_143943.jpg"/>
          <p:cNvPicPr/>
          <p:nvPr/>
        </p:nvPicPr>
        <p:blipFill>
          <a:blip r:embed="rId5"/>
          <a:stretch/>
        </p:blipFill>
        <p:spPr>
          <a:xfrm>
            <a:off x="871560" y="3597120"/>
            <a:ext cx="1644480" cy="219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USER\Desktop\фото для семинара\20220330_143955.jpg"/>
          <p:cNvPicPr/>
          <p:nvPr/>
        </p:nvPicPr>
        <p:blipFill>
          <a:blip r:embed="rId6"/>
          <a:srcRect l="0" t="4888" r="0" b="0"/>
          <a:stretch/>
        </p:blipFill>
        <p:spPr>
          <a:xfrm>
            <a:off x="3924360" y="3703680"/>
            <a:ext cx="1646280" cy="2087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-38160"/>
            <a:ext cx="536400" cy="688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8604360" y="-22320"/>
            <a:ext cx="539640" cy="688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501480" y="-11160"/>
            <a:ext cx="8114040" cy="54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501480" y="6308640"/>
            <a:ext cx="8114040" cy="549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2271600" y="206064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c0024"/>
                </a:solidFill>
                <a:latin typeface="Times New Roman"/>
                <a:ea typeface="Times New Roman"/>
              </a:rPr>
              <a:t>Спасибо </a:t>
            </a:r>
            <a:br>
              <a:rPr sz="4800"/>
            </a:br>
            <a:r>
              <a:rPr b="1" lang="ru-RU" sz="4800" spc="-1" strike="noStrike">
                <a:solidFill>
                  <a:srgbClr val="bc0024"/>
                </a:solidFill>
                <a:latin typeface="Times New Roman"/>
                <a:ea typeface="Times New Roman"/>
              </a:rPr>
              <a:t>за внимание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дидакт.Мордовские игры\hello_html_3099c336.png"/>
          <p:cNvPicPr/>
          <p:nvPr/>
        </p:nvPicPr>
        <p:blipFill>
          <a:blip r:embed="rId1"/>
          <a:stretch/>
        </p:blipFill>
        <p:spPr>
          <a:xfrm>
            <a:off x="-252360" y="189000"/>
            <a:ext cx="93218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755640" y="692280"/>
            <a:ext cx="7416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Поликультурное воспит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оспитание ребенка на культуре народов региона, где он проживает, с приоритетом культуры его национальности, формирование толерантности. Образование, начиная с дошкольного возраста, должно способствовать тому, чтобы, с одной стороны, ребенок осознал свои корни, с другой – привить ему уважение к другим культур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2"/>
          <a:srcRect l="0" t="-379" r="0" b="0"/>
          <a:stretch/>
        </p:blipFill>
        <p:spPr>
          <a:xfrm>
            <a:off x="5541840" y="2851200"/>
            <a:ext cx="2556000" cy="3154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3"/>
          <a:stretch/>
        </p:blipFill>
        <p:spPr>
          <a:xfrm>
            <a:off x="744480" y="3075120"/>
            <a:ext cx="2122560" cy="2708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"/>
          <p:cNvPicPr/>
          <p:nvPr/>
        </p:nvPicPr>
        <p:blipFill>
          <a:blip r:embed="rId4"/>
          <a:srcRect l="0" t="-994" r="0" b="0"/>
          <a:stretch/>
        </p:blipFill>
        <p:spPr>
          <a:xfrm>
            <a:off x="3198960" y="3068640"/>
            <a:ext cx="20779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дидакт.Мордовские игры\hello_html_3099c336.png"/>
          <p:cNvPicPr/>
          <p:nvPr/>
        </p:nvPicPr>
        <p:blipFill>
          <a:blip r:embed="rId1"/>
          <a:stretch/>
        </p:blipFill>
        <p:spPr>
          <a:xfrm>
            <a:off x="-52560" y="0"/>
            <a:ext cx="93218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057320" y="17733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Дидактическая игр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возрасте является одним из основных средств развития ребенка. И именно средствами дидактической игры можно привить ребенку этнокультурные ценности, основы поликультурного образ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rcRect l="0" t="4538" r="-2939" b="0"/>
          <a:stretch/>
        </p:blipFill>
        <p:spPr>
          <a:xfrm>
            <a:off x="8634240" y="258840"/>
            <a:ext cx="509760" cy="654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68360" cy="65469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619280" y="25884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mbria Math"/>
                <a:ea typeface="Cambria Math"/>
              </a:rPr>
              <a:t>Дидактическая иг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mbria Math"/>
                <a:ea typeface="Cambria Math"/>
              </a:rPr>
              <a:t>«Одень куклу в мордовс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mbria Math"/>
                <a:ea typeface="Cambria Math"/>
              </a:rPr>
              <a:t>народный костю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USER\Desktop\фото для семинара\IMG-f121e780647829f89792293fe1838ec0-V.jpg"/>
          <p:cNvPicPr/>
          <p:nvPr/>
        </p:nvPicPr>
        <p:blipFill>
          <a:blip r:embed="rId3"/>
          <a:stretch/>
        </p:blipFill>
        <p:spPr>
          <a:xfrm>
            <a:off x="3276720" y="1969920"/>
            <a:ext cx="3605040" cy="27655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-38160"/>
            <a:ext cx="536400" cy="6880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604360" y="-22320"/>
            <a:ext cx="539640" cy="688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501480" y="-11160"/>
            <a:ext cx="811404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4"/>
          <a:stretch/>
        </p:blipFill>
        <p:spPr>
          <a:xfrm>
            <a:off x="501480" y="6308640"/>
            <a:ext cx="8114040" cy="549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268200" y="58896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Дидактическая иг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«Одень куклу в мордовский народный костю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755640" y="142884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Cambria Math"/>
                <a:ea typeface="Cambria Math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ль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закреплять знания детей о мордовском национальном костюме; учить различать элементы мордовского костю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585720" y="2984400"/>
            <a:ext cx="79437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ал к игр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умажные куклы, комплекты национальной одежды, картинки  с образцами костюмов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рукци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одеть куклу из картона в разные национальные костюмы. Дети внимательно рассматривают образцы костюмов. Затем подбирают части предметов одежды и накладывают их на силуэт кукол. Во время игры дети должны называть, какую одежду они подобр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444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F:\фото с\IMG-99e7be6971a06339cf92c562899928cc-V.jpg"/>
          <p:cNvPicPr/>
          <p:nvPr/>
        </p:nvPicPr>
        <p:blipFill>
          <a:blip r:embed="rId2"/>
          <a:srcRect l="0" t="32608" r="-2123" b="0"/>
          <a:stretch/>
        </p:blipFill>
        <p:spPr>
          <a:xfrm>
            <a:off x="534960" y="1413000"/>
            <a:ext cx="4322880" cy="380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F:\фото с\IMG-c4b4e9d6651bba7b028865cad95de541-V.jpg"/>
          <p:cNvPicPr/>
          <p:nvPr/>
        </p:nvPicPr>
        <p:blipFill>
          <a:blip r:embed="rId3"/>
          <a:stretch/>
        </p:blipFill>
        <p:spPr>
          <a:xfrm>
            <a:off x="5483160" y="1203480"/>
            <a:ext cx="3167280" cy="42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-38160"/>
            <a:ext cx="536400" cy="6880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604360" y="-22320"/>
            <a:ext cx="539640" cy="688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90680" y="-22320"/>
            <a:ext cx="8113680" cy="549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501480" y="6308640"/>
            <a:ext cx="8114040" cy="549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738360" y="1414440"/>
            <a:ext cx="7545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Cambria Math"/>
                <a:ea typeface="Cambria Math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 систематизирование знаний детей о национальном костюме мордовского народа и его элементах, развитие умений составлять узор на костюме из знакомых элементов национального орнамен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mbria Math"/>
              </a:rPr>
              <a:t>Материал к иг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:  Большая плоскостная кукла из плотной бумаг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mbria Math"/>
              </a:rPr>
              <a:t>,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илуэты мордовских платьев, элементы мордовского орнамента (звёздочки, ромбики, зигзаги, галочки, волнистые линии), магнитная лен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mbria Math"/>
              </a:rPr>
              <a:t>Инстру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: Детям предлагается украсить мордовский народный костюм знакомыми элементами национального орна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900000" y="5875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Дидактическая иг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«Одень куклу в мордовский народный костю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44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USER\Desktop\фото для семинара\20220330_162214.jpg"/>
          <p:cNvPicPr/>
          <p:nvPr/>
        </p:nvPicPr>
        <p:blipFill>
          <a:blip r:embed="rId2"/>
          <a:srcRect l="14989" t="21078" r="36992" b="5449"/>
          <a:stretch/>
        </p:blipFill>
        <p:spPr>
          <a:xfrm>
            <a:off x="1619280" y="533520"/>
            <a:ext cx="2749680" cy="560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USER\Desktop\фото для семинара\20220330_141052.jpg"/>
          <p:cNvPicPr/>
          <p:nvPr/>
        </p:nvPicPr>
        <p:blipFill>
          <a:blip r:embed="rId3"/>
          <a:srcRect l="8207" t="27847" r="10827" b="10932"/>
          <a:stretch/>
        </p:blipFill>
        <p:spPr>
          <a:xfrm>
            <a:off x="6084720" y="1015920"/>
            <a:ext cx="1924200" cy="1941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USER\Desktop\фото для семинара\20220330_161749.jpg"/>
          <p:cNvPicPr/>
          <p:nvPr/>
        </p:nvPicPr>
        <p:blipFill>
          <a:blip r:embed="rId4"/>
          <a:srcRect l="15296" t="2350" r="11027" b="2163"/>
          <a:stretch/>
        </p:blipFill>
        <p:spPr>
          <a:xfrm>
            <a:off x="5148360" y="3025800"/>
            <a:ext cx="32050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-38160"/>
            <a:ext cx="536400" cy="6880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8604360" y="-22320"/>
            <a:ext cx="539640" cy="688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01480" y="-11160"/>
            <a:ext cx="8114040" cy="549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501480" y="6308640"/>
            <a:ext cx="8114040" cy="549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68200" y="588960"/>
            <a:ext cx="887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Дидактическая иг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«Одень куклу в мордовский народный костю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755640" y="142884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Cambria Math"/>
                <a:ea typeface="Cambria Math"/>
              </a:rPr>
              <a:t>3 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ль 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закреплять знания детей о мордовском национальном костюме; учить различать элементы мордовского костю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528480" y="2444760"/>
            <a:ext cx="79441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ал к иг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уклы и комплекты национальной одежды из материала фет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рукц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льно одеть куклу из фетра в национальный костю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ить к одежде липучки или закрепляющие вставки, чтобы удобно было цеплять на кукол. Обратить внимание детей на детали элементов одежды. Описывают части костюма, вышивку, ц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USER\Desktop\фото для семинара\20220330_115729.jpg"/>
          <p:cNvPicPr/>
          <p:nvPr/>
        </p:nvPicPr>
        <p:blipFill>
          <a:blip r:embed="rId5"/>
          <a:srcRect l="5501" t="23771" r="5092" b="15883"/>
          <a:stretch/>
        </p:blipFill>
        <p:spPr>
          <a:xfrm>
            <a:off x="3203640" y="4653000"/>
            <a:ext cx="2836800" cy="14367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6:05:57Z</dcterms:created>
  <dc:creator>Пользователь</dc:creator>
  <dc:description/>
  <dc:language>en-US</dc:language>
  <cp:lastModifiedBy>USER</cp:lastModifiedBy>
  <dcterms:modified xsi:type="dcterms:W3CDTF">2022-04-25T07:22:37Z</dcterms:modified>
  <cp:revision>170</cp:revision>
  <dc:subject/>
  <dc:title>Презентация PowerPoint</dc:title>
</cp:coreProperties>
</file>