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F0C7-595B-4D96-8298-BFC5E2E11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9280-932D-48D6-B052-FDE218D3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1BAF-A81F-4A38-AD97-2F05B54C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762C-9DB7-4B69-817B-9235B73F2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0D91E-BDE0-4D62-B750-1F0C0C29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2D1A3-C1EC-41A7-8C63-CC4D3E23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69E29-F9F8-4C75-B785-6422E446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FB456-205C-449B-95B3-8304D41F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2146B-9777-405E-8E79-262AD3D2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7285D-CED9-4185-9CBA-18C9498B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19A3B-16F0-4518-81C8-5E0849F1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D574-AB2B-46E2-8CFE-AAE4F0D2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57A7B-FCDA-4C9C-8688-801C0B7F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008FB-E9F5-41E3-9582-01C9146B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0CE60-2713-4F4C-8F56-8D50464C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52B25-F0C1-49E9-871C-DDF2BA51F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1C6DF-191E-4B23-9A3D-4C15B8EB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DD8F4-BBCC-4F4B-9AF1-61E35F064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6E53B-2817-4460-BF36-0B824C24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0778F-8CC2-4856-9912-F3FFA889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5B94F-E384-44D5-BF2D-7090C8CA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CE223-4F25-4622-A64C-DD1709B4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F005-C8F5-4DD6-904C-F102C5D1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271BD-9F37-4D30-8EEF-AAC1B588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24800-6C36-45C9-BBEF-892C4150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D9F9C-AD7C-4052-B0A5-61EC8E6F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E7D14-ED1A-44C5-A810-4B1D56C1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0B4D2-BB7D-40DC-8F5A-F13EA0AF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8E671-CAC7-4C48-AB2E-0E7B2582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4CD6A-B992-4537-ACF5-4BF05C9E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1AB2AA-D7BA-494F-93ED-8B96FBF54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A5C0E5-0592-49DE-9CB4-D4BD8029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542D5E-0785-40B1-8762-9FFE5DB2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9175-ACFD-4531-A66D-26848A1A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870572-B952-4F8F-8F57-99B88998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5FA9E0-2CB6-484B-B866-9FD99879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17F45E-D383-4821-AA12-511F4505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EF8536-1B11-450F-8F3F-40EEBDF0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991377-0AF0-4874-9C67-5FD34D8C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BA6DC2-E010-466E-9205-F1DF0CBB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183F5D-156F-4221-A1A0-4F7B0AA2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D2B1F7-23D8-4048-8362-294F5873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C4D357-0773-4376-BE74-87ECACABE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A401-ECE2-4319-A88A-3BB4B2CD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C233-DF18-47FE-94BF-7C2182FB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757D-5EFD-495D-BBF6-99DF47B9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833C-C5BB-47A9-B726-990ADCFA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9547-58F2-4EC3-A2DB-A5D8A29C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C04F-9BCE-4596-9214-94F7C2FF18E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E4C1-ACDA-44C2-AD89-504B7FFF36D7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09E5-5A5B-4D25-995F-579B5734A18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50C4-082E-4AB2-B988-9837592C8A0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440"/>
            <a:ext cx="8305920" cy="26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efac9"/>
                </a:solidFill>
                <a:latin typeface="Constantia"/>
              </a:rPr>
              <a:t>                                             </a:t>
            </a:r>
            <a:r>
              <a:rPr b="1" i="1" lang="ru-RU" sz="1800" spc="-1" strike="noStrike">
                <a:solidFill>
                  <a:srgbClr val="0d0d0d"/>
                </a:solidFill>
                <a:latin typeface="Constantia"/>
              </a:rPr>
              <a:t>Пускай назад история листает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d0d0d"/>
                </a:solidFill>
                <a:latin typeface="Constantia"/>
              </a:rPr>
              <a:t>                                       </a:t>
            </a:r>
            <a:r>
              <a:rPr b="1" i="1" lang="ru-RU" sz="1800" spc="-1" strike="noStrike">
                <a:solidFill>
                  <a:srgbClr val="0d0d0d"/>
                </a:solidFill>
                <a:latin typeface="Constantia"/>
              </a:rPr>
              <a:t>Страницы легендарные сво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d0d0d"/>
                </a:solidFill>
                <a:latin typeface="Constantia"/>
              </a:rPr>
              <a:t>                                              </a:t>
            </a:r>
            <a:r>
              <a:rPr b="1" i="1" lang="ru-RU" sz="1800" spc="-1" strike="noStrike">
                <a:solidFill>
                  <a:srgbClr val="0d0d0d"/>
                </a:solidFill>
                <a:latin typeface="Constantia"/>
              </a:rPr>
              <a:t>Через года, великий путь сверяя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d0d0d"/>
                </a:solidFill>
                <a:latin typeface="Constantia"/>
              </a:rPr>
              <a:t>                                                </a:t>
            </a:r>
            <a:r>
              <a:rPr b="1" i="1" lang="ru-RU" sz="1800" spc="-1" strike="noStrike">
                <a:solidFill>
                  <a:srgbClr val="0d0d0d"/>
                </a:solidFill>
                <a:latin typeface="Constantia"/>
              </a:rPr>
              <a:t>Припомним исторические дни. </a:t>
            </a:r>
            <a:r>
              <a:rPr b="0" lang="ru-RU" sz="1600" spc="-1" strike="noStrike">
                <a:solidFill>
                  <a:srgbClr val="fefac9"/>
                </a:solidFill>
                <a:latin typeface="Constantia"/>
              </a:rPr>
              <a:t>   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3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Содержимое 3" descr="Немецкие оокупанты во Льгове. 1942 год.jpg"/>
          <p:cNvPicPr/>
          <p:nvPr/>
        </p:nvPicPr>
        <p:blipFill>
          <a:blip r:embed="rId1"/>
          <a:stretch/>
        </p:blipFill>
        <p:spPr>
          <a:xfrm>
            <a:off x="1908000" y="2230560"/>
            <a:ext cx="5472360" cy="3935160"/>
          </a:xfrm>
          <a:prstGeom prst="rect">
            <a:avLst/>
          </a:prstGeom>
          <a:ln w="0">
            <a:noFill/>
          </a:ln>
        </p:spPr>
      </p:pic>
      <p:pic>
        <p:nvPicPr>
          <p:cNvPr id="173" name="Заголовок 2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2296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Заголовок 4" descr=""/>
          <p:cNvPicPr/>
          <p:nvPr/>
        </p:nvPicPr>
        <p:blipFill>
          <a:blip r:embed="rId1"/>
          <a:stretch/>
        </p:blipFill>
        <p:spPr>
          <a:xfrm>
            <a:off x="249120" y="152280"/>
            <a:ext cx="4535640" cy="2194200"/>
          </a:xfrm>
          <a:prstGeom prst="rect">
            <a:avLst/>
          </a:prstGeom>
          <a:ln w="0">
            <a:noFill/>
          </a:ln>
        </p:spPr>
      </p:pic>
      <p:pic>
        <p:nvPicPr>
          <p:cNvPr id="175" name="Содержимое 7" descr="76 №865 Листовка Молодой гвардии г.jpg"/>
          <p:cNvPicPr/>
          <p:nvPr/>
        </p:nvPicPr>
        <p:blipFill>
          <a:blip r:embed="rId2"/>
          <a:stretch/>
        </p:blipFill>
        <p:spPr>
          <a:xfrm>
            <a:off x="4859280" y="1628640"/>
            <a:ext cx="3792600" cy="4572000"/>
          </a:xfrm>
          <a:prstGeom prst="rect">
            <a:avLst/>
          </a:prstGeom>
          <a:ln w="0">
            <a:noFill/>
          </a:ln>
        </p:spPr>
      </p:pic>
      <p:pic>
        <p:nvPicPr>
          <p:cNvPr id="176" name="Содержимое 8" descr="77 №866 Листовка Молодой гвадии.JPG"/>
          <p:cNvPicPr/>
          <p:nvPr/>
        </p:nvPicPr>
        <p:blipFill>
          <a:blip r:embed="rId3"/>
          <a:stretch/>
        </p:blipFill>
        <p:spPr>
          <a:xfrm>
            <a:off x="468360" y="2781360"/>
            <a:ext cx="4059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Заголовок 4" descr=""/>
          <p:cNvPicPr/>
          <p:nvPr/>
        </p:nvPicPr>
        <p:blipFill>
          <a:blip r:embed="rId1"/>
          <a:stretch/>
        </p:blipFill>
        <p:spPr>
          <a:xfrm>
            <a:off x="457200" y="5303880"/>
            <a:ext cx="8229600" cy="931680"/>
          </a:xfrm>
          <a:prstGeom prst="rect">
            <a:avLst/>
          </a:prstGeom>
          <a:ln w="0">
            <a:noFill/>
          </a:ln>
        </p:spPr>
      </p:pic>
      <p:pic>
        <p:nvPicPr>
          <p:cNvPr id="178" name="Содержимое 7" descr="диверсия2.jpg"/>
          <p:cNvPicPr/>
          <p:nvPr/>
        </p:nvPicPr>
        <p:blipFill>
          <a:blip r:embed="rId2"/>
          <a:stretch/>
        </p:blipFill>
        <p:spPr>
          <a:xfrm>
            <a:off x="563400" y="404640"/>
            <a:ext cx="3848400" cy="3600720"/>
          </a:xfrm>
          <a:prstGeom prst="rect">
            <a:avLst/>
          </a:prstGeom>
          <a:ln w="0">
            <a:noFill/>
          </a:ln>
        </p:spPr>
      </p:pic>
      <p:pic>
        <p:nvPicPr>
          <p:cNvPr id="179" name="Содержимое 8" descr="диверсия.jpg"/>
          <p:cNvPicPr/>
          <p:nvPr/>
        </p:nvPicPr>
        <p:blipFill>
          <a:blip r:embed="rId3"/>
          <a:stretch/>
        </p:blipFill>
        <p:spPr>
          <a:xfrm>
            <a:off x="4648320" y="2378160"/>
            <a:ext cx="405900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Содержимое 7" descr="ПАРОВОЗНАЯ ДЕТАЛЬ ДЛЯ ДИВЕРСИЙ НА ЖД.jpg"/>
          <p:cNvPicPr/>
          <p:nvPr/>
        </p:nvPicPr>
        <p:blipFill>
          <a:blip r:embed="rId1"/>
          <a:stretch/>
        </p:blipFill>
        <p:spPr>
          <a:xfrm>
            <a:off x="1420920" y="1523880"/>
            <a:ext cx="6302160" cy="4572000"/>
          </a:xfrm>
          <a:prstGeom prst="rect">
            <a:avLst/>
          </a:prstGeom>
          <a:ln w="0">
            <a:noFill/>
          </a:ln>
        </p:spPr>
      </p:pic>
      <p:pic>
        <p:nvPicPr>
          <p:cNvPr id="181" name="Заголовок 4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Текст 7" descr=""/>
          <p:cNvPicPr/>
          <p:nvPr/>
        </p:nvPicPr>
        <p:blipFill>
          <a:blip r:embed="rId1"/>
          <a:stretch/>
        </p:blipFill>
        <p:spPr>
          <a:xfrm>
            <a:off x="347760" y="1054080"/>
            <a:ext cx="4151160" cy="1817640"/>
          </a:xfrm>
          <a:prstGeom prst="rect">
            <a:avLst/>
          </a:prstGeom>
          <a:ln w="0">
            <a:noFill/>
          </a:ln>
        </p:spPr>
      </p:pic>
      <p:pic>
        <p:nvPicPr>
          <p:cNvPr id="183" name="Содержимое 11" descr="4-27.01.2017.jpg"/>
          <p:cNvPicPr/>
          <p:nvPr/>
        </p:nvPicPr>
        <p:blipFill>
          <a:blip r:embed="rId2"/>
          <a:stretch/>
        </p:blipFill>
        <p:spPr>
          <a:xfrm>
            <a:off x="468360" y="2708280"/>
            <a:ext cx="3816360" cy="3406680"/>
          </a:xfrm>
          <a:prstGeom prst="rect">
            <a:avLst/>
          </a:prstGeom>
          <a:ln w="0">
            <a:noFill/>
          </a:ln>
        </p:spPr>
      </p:pic>
      <p:pic>
        <p:nvPicPr>
          <p:cNvPr id="184" name="Содержимое 12" descr="21880.jpg"/>
          <p:cNvPicPr/>
          <p:nvPr/>
        </p:nvPicPr>
        <p:blipFill>
          <a:blip r:embed="rId3"/>
          <a:stretch/>
        </p:blipFill>
        <p:spPr>
          <a:xfrm>
            <a:off x="4649760" y="2643120"/>
            <a:ext cx="4038480" cy="3378240"/>
          </a:xfrm>
          <a:prstGeom prst="rect">
            <a:avLst/>
          </a:prstGeom>
          <a:ln w="0">
            <a:noFill/>
          </a:ln>
        </p:spPr>
      </p:pic>
      <p:pic>
        <p:nvPicPr>
          <p:cNvPr id="185" name="Заголовок 6" descr=""/>
          <p:cNvPicPr/>
          <p:nvPr/>
        </p:nvPicPr>
        <p:blipFill>
          <a:blip r:embed="rId4"/>
          <a:stretch/>
        </p:blipFill>
        <p:spPr>
          <a:xfrm>
            <a:off x="457200" y="158760"/>
            <a:ext cx="8229600" cy="1139760"/>
          </a:xfrm>
          <a:prstGeom prst="rect">
            <a:avLst/>
          </a:prstGeom>
          <a:ln w="0">
            <a:noFill/>
          </a:ln>
        </p:spPr>
      </p:pic>
      <p:grpSp>
        <p:nvGrpSpPr>
          <p:cNvPr id="186" name="Текст 9"/>
          <p:cNvGrpSpPr/>
          <p:nvPr/>
        </p:nvGrpSpPr>
        <p:grpSpPr>
          <a:xfrm>
            <a:off x="4651200" y="1401840"/>
            <a:ext cx="4035600" cy="1237680"/>
            <a:chOff x="4651200" y="1401840"/>
            <a:chExt cx="4035600" cy="1237680"/>
          </a:xfrm>
        </p:grpSpPr>
        <p:pic>
          <p:nvPicPr>
            <p:cNvPr id="187" name="Текст 9" descr=""/>
            <p:cNvPicPr/>
            <p:nvPr/>
          </p:nvPicPr>
          <p:blipFill>
            <a:blip r:embed="rId5"/>
            <a:stretch/>
          </p:blipFill>
          <p:spPr>
            <a:xfrm>
              <a:off x="4653720" y="1403280"/>
              <a:ext cx="4031280" cy="123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4651200" y="1401840"/>
              <a:ext cx="403560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efac9"/>
                  </a:solidFill>
                  <a:latin typeface="Constantia"/>
                </a:rPr>
                <a:t>Памятник Льговским молодогвардейцам г.Льгов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7T03:02:15Z</dcterms:created>
  <dc:creator>Светлана Колесникова</dc:creator>
  <dc:description/>
  <dc:language>en-US</dc:language>
  <cp:lastModifiedBy>Пользователь</cp:lastModifiedBy>
  <dcterms:modified xsi:type="dcterms:W3CDTF">2022-04-24T22:13:53Z</dcterms:modified>
  <cp:revision>12</cp:revision>
  <dc:subject/>
  <dc:title>ЛЬГОВ В ОККУПАЦИИ</dc:title>
</cp:coreProperties>
</file>