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C10-FAF4-42F4-A2B0-3ACD58E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AFD-F478-43F4-8FE7-60A79DE1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1E9-3C2D-4D53-880F-C745C0A1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46B-42D7-4D55-A080-31390592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A163-D1D5-4B4B-AA80-3C2CA8DC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1EFF5-64F6-4C19-9886-28919AF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E61E-E8FC-4455-9302-3128299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852B2-0A9C-46D5-991C-A569559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E0BE0-0FA7-4842-AF42-7A9DE0ED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E257F-839D-41A9-ABFE-10A1037F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D149-1A60-47D8-BB87-40D2CEC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96F-088D-4C68-A98E-785E298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B2DE6-8369-4252-A551-851A77E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0951-0398-4D7D-8461-220137D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0B7DA-98DE-4F42-8050-C0718A3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A400A-3A4D-45BF-8055-C1EFD163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FC38-BF1A-4E78-9415-266F92E9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8A49-5538-48B5-96E8-4E2CD8B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2B47-AFF9-460E-AE8E-8E615BF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EB87-95A3-4F4F-80F1-816B13D5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1C94-9219-4F85-BCEA-264003C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C9E3-03D8-406C-ABFF-07B77DB4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DBC-DDD8-43EC-98FE-D02B3360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AD09-A110-415B-959B-3C936D09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2FDC-C1A5-4847-AAB7-ED0CC39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EF93-DC33-4BB7-ADBD-34A8136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AF24-97F1-4729-915C-831181C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B486-0A85-49BF-A9F1-F4E1FEE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6E78-387F-4B02-8C90-A91DA5AB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A5AC-27C3-476F-8378-3B0A9864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DE3A5-626E-4DA9-8CFF-8FC89F24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41323-527C-445D-A441-551B8F2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27731-EC6E-4B7E-BB0C-21ED6DB0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544-04B3-4CF8-B0AA-ED82251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B6274-0CE2-4DE6-92CB-B4117EA2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F8A96-403D-4751-9B18-D2D01EF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CED45-DF30-4761-B31B-230B29F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0CB10-4EAA-43B0-85A4-7B42309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5AD2B-4D4C-43BA-BDC3-35705B6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D8CC7-DCED-40CA-87BB-304E667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59D66-B9A1-42FB-93DF-391E2D6C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1E557-4943-4130-9425-40F9DEBF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196A9-A145-4652-935C-40BC10F6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CA0-0FB6-494E-AE13-DD281D9F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A23-1F94-4FB1-994D-4A1FC6B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E46-8757-4D4B-AF58-635B104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E03-EBFD-496D-9A22-4AF6AF9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76B-09D5-4C73-A646-136BD57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48F-78D6-4EDF-8F6D-D4F5982BFC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6DB4-ED3C-4187-AE65-732BCD3041E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3133-37D4-496A-A3B9-0F36D44EC1C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C25F-69D2-416E-BE5E-CA80D16A31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6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                                            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Пускай назад история листает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Страницы легендарные сво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       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Через года, великий путь сверя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         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Припомним исторические дни. </a:t>
            </a: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  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3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Немецкие оокупанты во Льгове. 1942 год.jpg"/>
          <p:cNvPicPr/>
          <p:nvPr/>
        </p:nvPicPr>
        <p:blipFill>
          <a:blip r:embed="rId1"/>
          <a:stretch/>
        </p:blipFill>
        <p:spPr>
          <a:xfrm>
            <a:off x="1908000" y="2230560"/>
            <a:ext cx="5472360" cy="393516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4" descr=""/>
          <p:cNvPicPr/>
          <p:nvPr/>
        </p:nvPicPr>
        <p:blipFill>
          <a:blip r:embed="rId1"/>
          <a:stretch/>
        </p:blipFill>
        <p:spPr>
          <a:xfrm>
            <a:off x="249120" y="152280"/>
            <a:ext cx="4535640" cy="219420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7" descr="76 №865 Листовка Молодой гвардии г.jpg"/>
          <p:cNvPicPr/>
          <p:nvPr/>
        </p:nvPicPr>
        <p:blipFill>
          <a:blip r:embed="rId2"/>
          <a:stretch/>
        </p:blipFill>
        <p:spPr>
          <a:xfrm>
            <a:off x="4859280" y="1628640"/>
            <a:ext cx="3792600" cy="457200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8" descr="77 №866 Листовка Молодой гвадии.JPG"/>
          <p:cNvPicPr/>
          <p:nvPr/>
        </p:nvPicPr>
        <p:blipFill>
          <a:blip r:embed="rId3"/>
          <a:stretch/>
        </p:blipFill>
        <p:spPr>
          <a:xfrm>
            <a:off x="468360" y="2781360"/>
            <a:ext cx="4059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4" descr=""/>
          <p:cNvPicPr/>
          <p:nvPr/>
        </p:nvPicPr>
        <p:blipFill>
          <a:blip r:embed="rId1"/>
          <a:stretch/>
        </p:blipFill>
        <p:spPr>
          <a:xfrm>
            <a:off x="457200" y="5303880"/>
            <a:ext cx="8229600" cy="9316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7" descr="диверсия2.jpg"/>
          <p:cNvPicPr/>
          <p:nvPr/>
        </p:nvPicPr>
        <p:blipFill>
          <a:blip r:embed="rId2"/>
          <a:stretch/>
        </p:blipFill>
        <p:spPr>
          <a:xfrm>
            <a:off x="563400" y="404640"/>
            <a:ext cx="3848400" cy="36007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8" descr="диверсия.jpg"/>
          <p:cNvPicPr/>
          <p:nvPr/>
        </p:nvPicPr>
        <p:blipFill>
          <a:blip r:embed="rId3"/>
          <a:stretch/>
        </p:blipFill>
        <p:spPr>
          <a:xfrm>
            <a:off x="4648320" y="2378160"/>
            <a:ext cx="40590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7" descr="ПАРОВОЗНАЯ ДЕТАЛЬ ДЛЯ ДИВЕРСИЙ НА ЖД.jpg"/>
          <p:cNvPicPr/>
          <p:nvPr/>
        </p:nvPicPr>
        <p:blipFill>
          <a:blip r:embed="rId1"/>
          <a:stretch/>
        </p:blipFill>
        <p:spPr>
          <a:xfrm>
            <a:off x="1420920" y="1523880"/>
            <a:ext cx="630216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4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Текст 7" descr=""/>
          <p:cNvPicPr/>
          <p:nvPr/>
        </p:nvPicPr>
        <p:blipFill>
          <a:blip r:embed="rId1"/>
          <a:stretch/>
        </p:blipFill>
        <p:spPr>
          <a:xfrm>
            <a:off x="347760" y="1054080"/>
            <a:ext cx="4151160" cy="181764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11" descr="4-27.01.2017.jpg"/>
          <p:cNvPicPr/>
          <p:nvPr/>
        </p:nvPicPr>
        <p:blipFill>
          <a:blip r:embed="rId2"/>
          <a:stretch/>
        </p:blipFill>
        <p:spPr>
          <a:xfrm>
            <a:off x="468360" y="2708280"/>
            <a:ext cx="3816360" cy="340668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12" descr="21880.jpg"/>
          <p:cNvPicPr/>
          <p:nvPr/>
        </p:nvPicPr>
        <p:blipFill>
          <a:blip r:embed="rId3"/>
          <a:stretch/>
        </p:blipFill>
        <p:spPr>
          <a:xfrm>
            <a:off x="4649760" y="2643120"/>
            <a:ext cx="4038480" cy="337824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6" descr=""/>
          <p:cNvPicPr/>
          <p:nvPr/>
        </p:nvPicPr>
        <p:blipFill>
          <a:blip r:embed="rId4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86" name="Текст 9"/>
          <p:cNvGrpSpPr/>
          <p:nvPr/>
        </p:nvGrpSpPr>
        <p:grpSpPr>
          <a:xfrm>
            <a:off x="4651200" y="1401840"/>
            <a:ext cx="4035600" cy="1237680"/>
            <a:chOff x="4651200" y="1401840"/>
            <a:chExt cx="4035600" cy="1237680"/>
          </a:xfrm>
        </p:grpSpPr>
        <p:pic>
          <p:nvPicPr>
            <p:cNvPr id="187" name="Текст 9" descr=""/>
            <p:cNvPicPr/>
            <p:nvPr/>
          </p:nvPicPr>
          <p:blipFill>
            <a:blip r:embed="rId5"/>
            <a:stretch/>
          </p:blipFill>
          <p:spPr>
            <a:xfrm>
              <a:off x="4653720" y="1403280"/>
              <a:ext cx="4031280" cy="12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651200" y="1401840"/>
              <a:ext cx="40356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Constantia"/>
                </a:rPr>
                <a:t>Памятник Льговским молодогвардейцам г.Льгов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03:02:15Z</dcterms:created>
  <dc:creator>Светлана Колесникова</dc:creator>
  <dc:description/>
  <dc:language>en-US</dc:language>
  <cp:lastModifiedBy>Пользователь</cp:lastModifiedBy>
  <dcterms:modified xsi:type="dcterms:W3CDTF">2022-04-24T22:13:53Z</dcterms:modified>
  <cp:revision>12</cp:revision>
  <dc:subject/>
  <dc:title>ЛЬГОВ В ОККУПАЦИИ</dc:title>
</cp:coreProperties>
</file>