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45F-BBD2-40E2-9621-AF563B2C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833-072F-41AE-B623-609E8882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BCB-01EB-482B-9DCD-EFFB6398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2FC-FC25-4FBB-8C0E-C9E8E1BD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49B-7C24-44AE-B315-7B607A82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07A-17BE-41AC-BFE0-EB528B3C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401-C4B9-4101-9FB1-F51093BD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1CD-C0D2-49C7-AE7F-6E12DFCC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1AA-11F5-4E12-8D89-0EFF5462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910-54B5-459B-80F9-CCC34B06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05D-F5BE-40CA-8C70-90746FC7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31D-2BA5-4FDC-ADC8-83793BE1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80E3-E2C9-4DFF-91B5-99432ECE2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1073160" y="214200"/>
            <a:ext cx="954252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835200" y="317520"/>
            <a:ext cx="981216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1781280" y="469800"/>
            <a:ext cx="8562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906480" y="571680"/>
            <a:ext cx="9915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1733400" y="0"/>
            <a:ext cx="922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5T09:47:43Z</dcterms:created>
  <dc:creator>Группа №4</dc:creator>
  <dc:description/>
  <dc:language>en-US</dc:language>
  <cp:lastModifiedBy>Группа №4</cp:lastModifiedBy>
  <dcterms:modified xsi:type="dcterms:W3CDTF">2022-04-25T09:58:01Z</dcterms:modified>
  <cp:revision>2</cp:revision>
  <dc:subject/>
  <dc:title>Презентация PowerPoint</dc:title>
</cp:coreProperties>
</file>