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F7D-7EC6-4454-9F88-99DFDA11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CD0-8A42-40B0-9FD9-F3B9A79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A5F-3F90-4418-8725-F91C7FD3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658-C1F2-4BBF-BEA3-6DA43FF0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A94-0AA3-435C-ACA7-ACBEA152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686-7FF9-4094-B547-0324166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1C3A-FFF3-4B37-8E94-B311244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DF6-44BC-4BE0-9EAF-D44BDB8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64A5-2D55-4B57-9726-76F855D7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F5C-E2B4-4A1E-9827-DBEDEEC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085-91D1-4F11-B35A-FBEB002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B60-4699-4919-A228-E6EA649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736-0691-47C4-A3CE-24893171C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073160" y="214200"/>
            <a:ext cx="954252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835200" y="317520"/>
            <a:ext cx="981216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1781280" y="469800"/>
            <a:ext cx="8562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906480" y="571680"/>
            <a:ext cx="9915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733400" y="0"/>
            <a:ext cx="922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5T09:47:43Z</dcterms:created>
  <dc:creator>Группа №4</dc:creator>
  <dc:description/>
  <dc:language>en-US</dc:language>
  <cp:lastModifiedBy>Группа №4</cp:lastModifiedBy>
  <dcterms:modified xsi:type="dcterms:W3CDTF">2022-04-25T09:58:01Z</dcterms:modified>
  <cp:revision>2</cp:revision>
  <dc:subject/>
  <dc:title>Презентация PowerPoint</dc:title>
</cp:coreProperties>
</file>