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3FB-8756-40C0-BE2F-7D3323E7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AB9A-7535-4A17-BA92-BC478111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148-7362-42E1-8497-6DB798ED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B92-EE8D-4917-929E-9A595207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2391-CD43-4D45-ADDB-2C7F3100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CBD-524F-4A42-B60E-9DCFB8F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24E-6255-479E-B378-AEF40875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BCA3-0657-43D5-92B2-712F8B7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0B40-FDDE-4E97-9E91-D8F215B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7702-DFDC-411E-91F9-73F1A29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2B5-54E7-431B-960B-E96E9D01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D695-03EF-466E-A9EB-F49FBA19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9A37-038B-4D76-9765-000353B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31CE-1A30-4037-A2DF-5F0FBB8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BB8-925C-4721-A23C-4C114288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01A2-8CEA-4633-908F-CC16527F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651-F0D4-4D87-A936-BC39E332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F35-5E6E-481A-88FA-F092788A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800-E2A5-4ED4-BFCA-A8E7FF0A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869-E444-4E1F-88A2-67BA516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32E-6B38-4FEE-B6C1-97DBAEC4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666-6A90-4EF7-94A7-E6FDB74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8DE-E1ED-4FEE-9EC6-656B40B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1EC-6E36-4C12-A120-9FE751FF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2433-0141-471D-B829-327B9FBF7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14D-7EBF-4F9D-97C0-FD70991A73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ГОС – федеральный государственный стандар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ДОО –СОВОКУПНОСТЬ ОБЯЗАТЕЛЬНЯХ ТРЕБОВАНИЙ К ДОШКОЛЬНОМУ ОБРАЗОВАНИЮ.(2014 г. – 2016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НОО – совокупность требований к начальному общему образованию.( 2009г. – 201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ГОС ООО – требования к общему основному образованию. ( 2012г. – 2015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4479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Целевые ориентиры Программы выступают основаниями преемствен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2895480"/>
            <a:ext cx="7473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школьного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го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 соблюдении требований к условиям реализации Программы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оящие целевые ориентиры предполагают  формирование у детей дошкольного возраста предпосылок к учебной деятельности на этапе завершения ими дошкольно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андарты разработаны на основе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итуции Российской Федер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и ООН о правах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е « Об образовании» РФ.( с 01.09.2013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ой програм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Развитие образования на 2013 – 2020 гг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и введения ФГОС ДОО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социального статуса дошкольного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государственных гарантий уровня и качества ДО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равенства возможностей для каждого ребёнка в получении качественного дошкольного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ебования ФГОС обязательны для государственных, частных организаций осуществляющих реализацию образовательных програм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единства образовательного пространства РФ относительно уровня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372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еемственность образования в РФ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666520"/>
            <a:ext cx="7854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10 –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школьное образование определено как первый уровень общего 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ФГОС не сделал дошкольное образование обяз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бования ФГОС ДО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структуре основной образовательной Программы ДО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условиям реализации основной образовательной Программ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результатам освоения Программы, представленными в виде целевых ориенти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ебования к результатам освоения ООП ДО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ДО представлены в виде возрастных интегральных характеристик возможных достижений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не подлежат оценки, в т. ч. в виде педагогической диагнос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стоящие требования являются ориентирами для 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редителей организации для построения образовательной политики в сфере 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ов и администраций организаций для формирования Программы, анализа профессиональной деятельности, взаимодействия с семьями воспита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ов образовательных програм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следований в сфере 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ей и общественности ( для их информирован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евые ориентиры Д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образования в младенческом и раннем возрас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ые ориентиры на этапе завершения 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Целевые ориентиры при завершении ДОО 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ициативность и самосто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овка положительного отношения к ми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ое воображ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ие хорошо владеть устной реч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а крупная и мелкая мото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ен к волевым усил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ает правила безопасного по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зна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ет начальными знаниями о себе, о природе, социальном мире, знаком с произведениями детской лит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ет элементарными представлениями из области математики, истории, естествозн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ен к принятию собственных решений, опираясь на свои знания и умения в различных видах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06:48:10Z</dcterms:created>
  <dc:creator>Рита</dc:creator>
  <dc:description/>
  <dc:language>en-US</dc:language>
  <cp:lastModifiedBy>Pchelki</cp:lastModifiedBy>
  <dcterms:modified xsi:type="dcterms:W3CDTF">2022-04-25T06:55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