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E90-31E7-4A0D-93E5-5ACB5046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5C8-2346-4998-8637-0B2B62A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206-D1AD-4CD7-A49C-04E95362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FDF-A542-45AE-97DD-6D14360A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1C41-F91D-40D9-A026-33C6FB81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568D-37B2-4CCC-82B1-2EDC193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97B4-F1C9-4AD9-9148-1A72DFB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0303-B612-4F3F-AA16-0F7D2C9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081D-16E7-41DE-8E67-C045EFE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2539-B891-4B81-A655-21946CB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18BC-BBA5-4DE1-AD93-49F7BCF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AF9-2A51-4E9B-BD87-D5C2173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943-FF33-4D0E-9D51-C687C30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7CCA-1BE8-4BA3-9103-ADC1D6F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8CF-5D60-4954-B4FF-F5441B0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AF1-5538-42E6-8874-BF093A68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4944-F6BC-4915-99C9-957B6517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48B-EA5D-4CE5-AA1B-9A0EF8B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CF1-F2F4-4475-921C-055C23DF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D56-1E70-4D31-B896-DD56D983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F8E-8877-4B70-B1A0-08ABA91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91E-7E31-47CE-A227-BAD5079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F65-E5BD-43BD-8496-D2A7C85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EB1-A7A6-4A14-8F7E-5C84304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EB0-3519-493B-9250-8F046B93A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F045-0349-47CA-BD39-A194716F49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ГОС – федеральный государственный стандар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ДОО –СОВОКУПНОСТЬ ОБЯЗАТЕЛЬНЯХ ТРЕБОВАНИЙ К ДОШКОЛЬНОМУ ОБРАЗОВАНИЮ.(2014 г. – 2016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НОО – совокупность требований к начальному общему образованию.( 2009г. – 201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ООО – требования к общему основному образованию. ( 2012г. – 2015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47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евые ориентиры Программы выступают основаниями преемствен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7473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школьного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 соблюдении требований к условиям реализации Программы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оящие целевые ориентиры предполагают  формирование у детей дошкольного возраста предпосылок к учебной деятельности на этапе завершения ими дошколь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андарты разработаны на основ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итуции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и ООН о правах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е « Об образовании» РФ.( с 01.09.2013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ой програм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Развитие образования на 2013 – 2020 гг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введения ФГОС ДО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социального статуса дошкольного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государственных гарантий уровня и качества ДО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равенства возможностей для каждого ребёнка в получении качественного дошкольного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 ФГОС обязательны для государственных, частных организаций осуществляющих реализацию образовательных 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единства образовательного пространства РФ относительно уровня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37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емственность образования в РФ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7854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10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школьное образование определено как первый уровень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ФГОС не сделал дошкольное образование обяз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бования ФГОС ДО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труктуре основной образовательной Программы ДО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условиям реализации основной образовательной Програм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результатам освоения Программы, представленными в виде целевых ориенти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бования к результатам освоения ООП Д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ДО представлены в виде возрастных интегральных характеристик возможных достижений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не подлежат оценки, в т. ч. в виде педагогической диагно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стоящие требования являются ориентирами для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редителей организации для построения образовательной политики в сфере 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ов и администраций организаций для формирования Программы, анализа профессиональной деятельности, взаимодействия с семьями воспита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ов образовательных програ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й в сфере 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ей и общественности ( для их информирован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евые ориентиры Д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образования в младенческом и раннем возра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на этапе завершения 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евые ориентиры при завершении ДО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тивность и самосто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овка положительного отношения к ми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ое вообра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хорошо владеть устной реч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а крупная и мелкая мото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ен к волевым усил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ет правила безопасного по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зна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ет начальными знаниями о себе, о природе, социальном мире, знаком с произведениями детск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ет элементарными представлениями из области математики, истории, естествоз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ен к принятию собственных решений, опираясь на свои знания и умения в различных видах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48:10Z</dcterms:created>
  <dc:creator>Рита</dc:creator>
  <dc:description/>
  <dc:language>en-US</dc:language>
  <cp:lastModifiedBy>Pchelki</cp:lastModifiedBy>
  <dcterms:modified xsi:type="dcterms:W3CDTF">2022-04-25T06:55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