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D1E-57A5-40BF-9723-2BA45FF5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BA-DFC4-42E4-9BF9-53D85AA5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5FE-17CF-41B7-82D4-71041241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148-FFF3-4618-B59C-17FBE221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5BAD-101C-48F5-9ECD-412EDCA8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E82-61F3-4005-A450-A4A4E88F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8DA-80E7-4864-8334-0194FBA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4BD-2FCE-4D3D-BBA0-FC68D04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4350-0DD6-487E-982B-69286D4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2B21-C7CD-4B87-882C-B480CCD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675E-45C2-4746-85FC-77EA3040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5FE-3DD9-4CC1-B27E-6FE67D2D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1DB0-A068-46F4-A848-181EB0E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C2D-B4CC-476B-B198-2697044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07E-CD02-4B9E-90D4-62EED8B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527-77E7-42B1-BDBF-57A7DBB5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FC9-2456-43D7-83BC-B3702248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6FE-D6BD-4040-BAA1-22018A0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B91-6F68-4334-AC7F-6DA39848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589-F2F2-456F-B94E-F0C6F0F1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797-BEFA-4342-8FE2-DCD08D25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49C-8292-4697-B4BD-AEC67D53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298-123C-46EE-9A0A-CC2EA04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F20-9BD6-4FDE-8671-14FF7FE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3B4-CDC0-45A9-BE9F-D9198A2A55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0A3-FF2A-447C-90BA-820B0533CB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371600" y="6095880"/>
            <a:ext cx="603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429000" y="4800600"/>
            <a:ext cx="603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219320" y="236232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стема   работы   над предложением  с  детьми  старшего дошкольного 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37160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57200" y="1981080"/>
            <a:ext cx="72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" y="258840"/>
            <a:ext cx="725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8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564"/>
                </a:solidFill>
                <a:latin typeface="Times New Roman"/>
              </a:rPr>
              <a:t>1 этап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ленение предложений из тек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28600" y="11430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играют в мяч. Мальчи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сает мяч девочке. Девоч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вит мя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8600" y="297180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дежурят по столов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я раскладывает тарел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ставит чаш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я несёт лож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10" descr="C:\Users\Ученик\Pictures\c49b96c36047_png.jpg"/>
          <p:cNvPicPr/>
          <p:nvPr/>
        </p:nvPicPr>
        <p:blipFill>
          <a:blip r:embed="rId1"/>
          <a:stretch/>
        </p:blipFill>
        <p:spPr>
          <a:xfrm>
            <a:off x="4876920" y="914400"/>
            <a:ext cx="416556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Picture 11" descr="C:\Users\Ученик\Pictures\iCA50RCEA.jpg"/>
          <p:cNvPicPr/>
          <p:nvPr/>
        </p:nvPicPr>
        <p:blipFill>
          <a:blip r:embed="rId2"/>
          <a:stretch/>
        </p:blipFill>
        <p:spPr>
          <a:xfrm>
            <a:off x="4114800" y="3809880"/>
            <a:ext cx="3657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76960" y="-1033092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09480" y="2743200"/>
            <a:ext cx="7251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4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ём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ть предложение по игрушкам, предметным картинк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й с заданным слов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я, которое начиналось бы с определённого сло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я по двум предметным картинк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«весёлого» предлож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ставление предложений по сюжетным картинкам, по «живым сценкам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81280" y="4191120"/>
            <a:ext cx="16146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07"/>
          <p:cNvPicPr/>
          <p:nvPr/>
        </p:nvPicPr>
        <p:blipFill>
          <a:blip r:embed="rId2"/>
          <a:stretch/>
        </p:blipFill>
        <p:spPr>
          <a:xfrm>
            <a:off x="5943600" y="4191120"/>
            <a:ext cx="2438280" cy="231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990720" y="609480"/>
            <a:ext cx="603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286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564"/>
                </a:solidFill>
                <a:latin typeface="Times New Roman"/>
              </a:rPr>
              <a:t>2 этап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знакомление со словесным составом предложе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0" y="99072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из 2-3 слов по предмет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ин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7086600" y="27432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6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7"/>
          <p:cNvSpPr/>
          <p:nvPr/>
        </p:nvSpPr>
        <p:spPr>
          <a:xfrm flipH="1">
            <a:off x="4876920" y="2971800"/>
            <a:ext cx="167616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28" descr="j0233053"/>
          <p:cNvPicPr/>
          <p:nvPr/>
        </p:nvPicPr>
        <p:blipFill>
          <a:blip r:embed="rId1"/>
          <a:stretch/>
        </p:blipFill>
        <p:spPr>
          <a:xfrm>
            <a:off x="4800600" y="3276720"/>
            <a:ext cx="2514600" cy="22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"/>
          <p:cNvPicPr/>
          <p:nvPr/>
        </p:nvPicPr>
        <p:blipFill>
          <a:blip r:embed="rId2"/>
          <a:srcRect l="9094" t="67366" r="49916" b="3738"/>
          <a:stretch/>
        </p:blipFill>
        <p:spPr>
          <a:xfrm>
            <a:off x="541440" y="1600200"/>
            <a:ext cx="1838160" cy="1905120"/>
          </a:xfrm>
          <a:prstGeom prst="rect">
            <a:avLst/>
          </a:prstGeom>
          <a:ln w="0">
            <a:noFill/>
          </a:ln>
        </p:spPr>
      </p:pic>
      <p:sp>
        <p:nvSpPr>
          <p:cNvPr id="177" name="Line 30"/>
          <p:cNvSpPr/>
          <p:nvPr/>
        </p:nvSpPr>
        <p:spPr>
          <a:xfrm>
            <a:off x="2133720" y="502920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31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33"/>
          <p:cNvSpPr/>
          <p:nvPr/>
        </p:nvSpPr>
        <p:spPr>
          <a:xfrm flipH="1">
            <a:off x="1981080" y="586728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34"/>
          <p:cNvSpPr/>
          <p:nvPr/>
        </p:nvSpPr>
        <p:spPr>
          <a:xfrm flipH="1">
            <a:off x="4876920" y="2971800"/>
            <a:ext cx="167616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35"/>
          <p:cNvSpPr/>
          <p:nvPr/>
        </p:nvSpPr>
        <p:spPr>
          <a:xfrm flipH="1">
            <a:off x="3962160" y="58672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36"/>
          <p:cNvSpPr/>
          <p:nvPr/>
        </p:nvSpPr>
        <p:spPr>
          <a:xfrm flipH="1">
            <a:off x="5943240" y="57913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37"/>
          <p:cNvSpPr/>
          <p:nvPr/>
        </p:nvSpPr>
        <p:spPr>
          <a:xfrm>
            <a:off x="7772400" y="5638680"/>
            <a:ext cx="533520" cy="3812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7086600" y="27432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9" descr=""/>
          <p:cNvPicPr/>
          <p:nvPr/>
        </p:nvPicPr>
        <p:blipFill>
          <a:blip r:embed="rId3"/>
          <a:srcRect l="9094" t="67366" r="49916" b="3738"/>
          <a:stretch/>
        </p:blipFill>
        <p:spPr>
          <a:xfrm>
            <a:off x="533520" y="1600200"/>
            <a:ext cx="183816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Line 31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52280" y="609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8" descr="board19_8363"/>
          <p:cNvPicPr/>
          <p:nvPr/>
        </p:nvPicPr>
        <p:blipFill>
          <a:blip r:embed="rId1"/>
          <a:srcRect l="1467" t="0" r="0" b="0"/>
          <a:stretch/>
        </p:blipFill>
        <p:spPr>
          <a:xfrm>
            <a:off x="3200400" y="609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>
            <a:off x="533520" y="1676520"/>
            <a:ext cx="0" cy="99036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3045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4267080" y="25146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62481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23619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77320" y="2286000"/>
            <a:ext cx="53316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1" descr="20028_1363815137_3"/>
          <p:cNvPicPr/>
          <p:nvPr/>
        </p:nvPicPr>
        <p:blipFill>
          <a:blip r:embed="rId2"/>
          <a:srcRect l="6684" t="5882" r="4177" b="5882"/>
          <a:stretch/>
        </p:blipFill>
        <p:spPr>
          <a:xfrm>
            <a:off x="1447920" y="32767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98" name="Line 24"/>
          <p:cNvSpPr/>
          <p:nvPr/>
        </p:nvSpPr>
        <p:spPr>
          <a:xfrm flipH="1">
            <a:off x="761760" y="54864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838080" y="47242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6"/>
          <p:cNvSpPr/>
          <p:nvPr/>
        </p:nvSpPr>
        <p:spPr>
          <a:xfrm flipH="1">
            <a:off x="228564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2666880" y="54864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2666880" y="54864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6171840" y="54864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2"/>
          <p:cNvSpPr/>
          <p:nvPr/>
        </p:nvSpPr>
        <p:spPr>
          <a:xfrm>
            <a:off x="8001000" y="5334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304920" y="3049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с добавлением с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152280" y="29718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редлогами «маленькие слов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21" descr="20028_1363815137_3"/>
          <p:cNvPicPr/>
          <p:nvPr/>
        </p:nvPicPr>
        <p:blipFill>
          <a:blip r:embed="rId3"/>
          <a:srcRect l="6684" t="5882" r="4177" b="5882"/>
          <a:stretch/>
        </p:blipFill>
        <p:spPr>
          <a:xfrm>
            <a:off x="1447920" y="32767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5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876880" y="6019560"/>
            <a:ext cx="74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30492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о сюжетным картинк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36" descr=""/>
          <p:cNvPicPr/>
          <p:nvPr/>
        </p:nvPicPr>
        <p:blipFill>
          <a:blip r:embed="rId1">
            <a:lum contrast="18000"/>
          </a:blip>
          <a:srcRect l="4446" t="0" r="8889" b="16243"/>
          <a:stretch/>
        </p:blipFill>
        <p:spPr>
          <a:xfrm>
            <a:off x="457200" y="1143000"/>
            <a:ext cx="3200400" cy="22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Picture 3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105520" y="1523880"/>
            <a:ext cx="23619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38"/>
          <p:cNvSpPr/>
          <p:nvPr/>
        </p:nvSpPr>
        <p:spPr>
          <a:xfrm>
            <a:off x="457200" y="4038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2, 3, 4 сл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спользованием «маленьких слов» (предлог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деформированными предложениям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0492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о графической схе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62120" y="1219320"/>
            <a:ext cx="0" cy="99036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8"/>
          <p:cNvSpPr/>
          <p:nvPr/>
        </p:nvSpPr>
        <p:spPr>
          <a:xfrm flipH="1">
            <a:off x="609480" y="198108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2590560" y="19810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571640" y="19810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6477120" y="1752480"/>
            <a:ext cx="533160" cy="3812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762120" y="251460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609480" y="327672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590560" y="32767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5"/>
          <p:cNvSpPr/>
          <p:nvPr/>
        </p:nvSpPr>
        <p:spPr>
          <a:xfrm flipH="1">
            <a:off x="6095880" y="327672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7924680" y="3048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762120" y="38098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9"/>
          <p:cNvSpPr/>
          <p:nvPr/>
        </p:nvSpPr>
        <p:spPr>
          <a:xfrm flipH="1">
            <a:off x="609480" y="45720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20"/>
          <p:cNvSpPr/>
          <p:nvPr/>
        </p:nvSpPr>
        <p:spPr>
          <a:xfrm flipH="1">
            <a:off x="2590560" y="32767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21"/>
          <p:cNvSpPr/>
          <p:nvPr/>
        </p:nvSpPr>
        <p:spPr>
          <a:xfrm flipH="1">
            <a:off x="2438280" y="4572000"/>
            <a:ext cx="137160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27"/>
          <p:cNvSpPr/>
          <p:nvPr/>
        </p:nvSpPr>
        <p:spPr>
          <a:xfrm flipH="1">
            <a:off x="5334120" y="4572000"/>
            <a:ext cx="137160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28"/>
          <p:cNvSpPr/>
          <p:nvPr/>
        </p:nvSpPr>
        <p:spPr>
          <a:xfrm flipH="1">
            <a:off x="7009920" y="4572000"/>
            <a:ext cx="12956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114800" y="4114800"/>
            <a:ext cx="91440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30"/>
          <p:cNvSpPr/>
          <p:nvPr/>
        </p:nvSpPr>
        <p:spPr>
          <a:xfrm>
            <a:off x="7924680" y="3048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32"/>
          <p:cNvSpPr/>
          <p:nvPr/>
        </p:nvSpPr>
        <p:spPr>
          <a:xfrm>
            <a:off x="8458200" y="43434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3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76720" y="4890960"/>
            <a:ext cx="2286000" cy="1967040"/>
          </a:xfrm>
          <a:prstGeom prst="rect">
            <a:avLst/>
          </a:prstGeom>
          <a:ln w="9360">
            <a:solidFill>
              <a:srgbClr val="ffb800"/>
            </a:solidFill>
            <a:miter/>
          </a:ln>
        </p:spPr>
      </p:pic>
      <p:pic>
        <p:nvPicPr>
          <p:cNvPr id="241" name="Picture 36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82232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" name="Группа 9219"/>
          <p:cNvGrpSpPr/>
          <p:nvPr/>
        </p:nvGrpSpPr>
        <p:grpSpPr>
          <a:xfrm>
            <a:off x="1905120" y="4876920"/>
            <a:ext cx="6553080" cy="1066680"/>
            <a:chOff x="1905120" y="4876920"/>
            <a:chExt cx="6553080" cy="1066680"/>
          </a:xfrm>
        </p:grpSpPr>
        <p:pic>
          <p:nvPicPr>
            <p:cNvPr id="244" name="Изображение 3" descr=""/>
            <p:cNvPicPr/>
            <p:nvPr/>
          </p:nvPicPr>
          <p:blipFill>
            <a:blip r:embed="rId1"/>
            <a:stretch/>
          </p:blipFill>
          <p:spPr>
            <a:xfrm>
              <a:off x="1905120" y="4896720"/>
              <a:ext cx="32767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Изображение 3" descr=""/>
            <p:cNvPicPr/>
            <p:nvPr/>
          </p:nvPicPr>
          <p:blipFill>
            <a:blip r:embed="rId2"/>
            <a:stretch/>
          </p:blipFill>
          <p:spPr>
            <a:xfrm>
              <a:off x="5119560" y="4876920"/>
              <a:ext cx="33386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Фаустова</dc:creator>
  <dc:description/>
  <dc:language>en-US</dc:language>
  <cp:lastModifiedBy>Оксана Фаустова</cp:lastModifiedBy>
  <dcterms:modified xsi:type="dcterms:W3CDTF">2022-01-17T08:01:1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