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E44B-8BE4-4425-85B4-AB4FBD7A0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1CE5-375A-4B30-AC55-716402416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CDC4-E6DD-4D31-99C7-DBECF676C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A384-DB37-47C2-B175-E4C03B492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C39A-7F99-49D9-BC0B-410EE6479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A3AA-2B3C-485C-AFBE-A6B46DC05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3CFD-F36D-4A6D-81FD-FCDB25101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F964-70B6-4CC9-A593-B86CFF1ED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BB1B-0DE7-45E5-8CEF-402845ABE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8EBB-3F3D-4139-91D0-7B5F19DC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1F87-F2D4-4005-9794-D8349A11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81F6-0EEA-46FF-A2F2-E7A4BAC1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12A00-0DF0-4982-AB49-FE83FABBBE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s://accessories.mypartnershop.ru/img/1012150489.jpg"/>
          <p:cNvPicPr/>
          <p:nvPr/>
        </p:nvPicPr>
        <p:blipFill>
          <a:blip r:embed="rId1"/>
          <a:srcRect l="13387" t="7891" r="6821" b="3996"/>
          <a:stretch/>
        </p:blipFill>
        <p:spPr>
          <a:xfrm>
            <a:off x="0" y="617400"/>
            <a:ext cx="7616880" cy="5592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365040"/>
            <a:ext cx="11781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                                 </a:t>
            </a: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Утилизация пластик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7303680" y="1365120"/>
            <a:ext cx="471348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полнена ученицей 8 класса муниципального бюджетного образовательного учреждения «Луковецкая средняя общеобразовательная школа» Холмогорский р-н   Баландиной Александрой Михайловной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320760" y="190440"/>
            <a:ext cx="11661840" cy="51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ы с нами!  Мы рады теб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лавная опасность накопления отходов из пластика заключается в том, что они практически не разлагаются естественным путем, поскольку срок перегнивания пластика составляет сотни л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учи внимательно информац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ластик с маркировкой 1,2,4,5   - подлежит переработ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3, 6,7 переработке не подлежи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следующем слайде выполни задание рассортируй правильно пласт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Группа 8"/>
          <p:cNvGrpSpPr/>
          <p:nvPr/>
        </p:nvGrpSpPr>
        <p:grpSpPr>
          <a:xfrm>
            <a:off x="1309680" y="262080"/>
            <a:ext cx="1598760" cy="1217520"/>
            <a:chOff x="1309680" y="262080"/>
            <a:chExt cx="1598760" cy="1217520"/>
          </a:xfrm>
        </p:grpSpPr>
        <p:pic>
          <p:nvPicPr>
            <p:cNvPr id="46" name="Рисунок 6" descr=""/>
            <p:cNvPicPr/>
            <p:nvPr/>
          </p:nvPicPr>
          <p:blipFill>
            <a:blip r:embed="rId1"/>
            <a:stretch/>
          </p:blipFill>
          <p:spPr>
            <a:xfrm>
              <a:off x="1309680" y="262080"/>
              <a:ext cx="1598760" cy="12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Box 7"/>
            <p:cNvSpPr/>
            <p:nvPr/>
          </p:nvSpPr>
          <p:spPr>
            <a:xfrm>
              <a:off x="1940040" y="998280"/>
              <a:ext cx="33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Прямоугольная выноска 11"/>
          <p:cNvSpPr/>
          <p:nvPr/>
        </p:nvSpPr>
        <p:spPr>
          <a:xfrm>
            <a:off x="1560600" y="77760"/>
            <a:ext cx="2089080" cy="130968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Данный вид можно переработ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1"/>
          <p:cNvSpPr/>
          <p:nvPr/>
        </p:nvSpPr>
        <p:spPr>
          <a:xfrm>
            <a:off x="304920" y="1546200"/>
            <a:ext cx="1670040" cy="53172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ластик в переработк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Овал 14"/>
          <p:cNvSpPr/>
          <p:nvPr/>
        </p:nvSpPr>
        <p:spPr>
          <a:xfrm>
            <a:off x="2224080" y="1546200"/>
            <a:ext cx="1668600" cy="53172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ластик в мус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Овал 16"/>
          <p:cNvSpPr/>
          <p:nvPr/>
        </p:nvSpPr>
        <p:spPr>
          <a:xfrm>
            <a:off x="4276800" y="1546200"/>
            <a:ext cx="1668240" cy="53172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ластик в переработк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вал 17"/>
          <p:cNvSpPr/>
          <p:nvPr/>
        </p:nvSpPr>
        <p:spPr>
          <a:xfrm>
            <a:off x="6194520" y="1546200"/>
            <a:ext cx="1668240" cy="53172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ластик в мус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Группа 3"/>
          <p:cNvGrpSpPr/>
          <p:nvPr/>
        </p:nvGrpSpPr>
        <p:grpSpPr>
          <a:xfrm>
            <a:off x="5302080" y="336600"/>
            <a:ext cx="1447920" cy="1066680"/>
            <a:chOff x="5302080" y="336600"/>
            <a:chExt cx="1447920" cy="1066680"/>
          </a:xfrm>
        </p:grpSpPr>
        <p:pic>
          <p:nvPicPr>
            <p:cNvPr id="54" name="Рисунок 2" descr=""/>
            <p:cNvPicPr/>
            <p:nvPr/>
          </p:nvPicPr>
          <p:blipFill>
            <a:blip r:embed="rId2"/>
            <a:stretch/>
          </p:blipFill>
          <p:spPr>
            <a:xfrm>
              <a:off x="5302080" y="336600"/>
              <a:ext cx="144792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Box 18"/>
            <p:cNvSpPr/>
            <p:nvPr/>
          </p:nvSpPr>
          <p:spPr>
            <a:xfrm>
              <a:off x="5856840" y="960480"/>
              <a:ext cx="33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Прямоугольная выноска 15"/>
          <p:cNvSpPr/>
          <p:nvPr/>
        </p:nvSpPr>
        <p:spPr>
          <a:xfrm>
            <a:off x="5432400" y="71280"/>
            <a:ext cx="2090880" cy="130968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Данный вид можно переработ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19"/>
          <p:cNvSpPr/>
          <p:nvPr/>
        </p:nvSpPr>
        <p:spPr>
          <a:xfrm>
            <a:off x="8265960" y="1546200"/>
            <a:ext cx="1668600" cy="53172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ластик в переработк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0"/>
          <p:cNvSpPr/>
          <p:nvPr/>
        </p:nvSpPr>
        <p:spPr>
          <a:xfrm>
            <a:off x="10183680" y="1546200"/>
            <a:ext cx="1670040" cy="53172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ластик в мус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Группа 5"/>
          <p:cNvGrpSpPr/>
          <p:nvPr/>
        </p:nvGrpSpPr>
        <p:grpSpPr>
          <a:xfrm>
            <a:off x="1560600" y="2490840"/>
            <a:ext cx="1358640" cy="1359000"/>
            <a:chOff x="1560600" y="2490840"/>
            <a:chExt cx="1358640" cy="1359000"/>
          </a:xfrm>
        </p:grpSpPr>
        <p:pic>
          <p:nvPicPr>
            <p:cNvPr id="60" name="Рисунок 4" descr=""/>
            <p:cNvPicPr/>
            <p:nvPr/>
          </p:nvPicPr>
          <p:blipFill>
            <a:blip r:embed="rId3"/>
            <a:stretch/>
          </p:blipFill>
          <p:spPr>
            <a:xfrm>
              <a:off x="1560600" y="2490840"/>
              <a:ext cx="1358640" cy="135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Box 25"/>
            <p:cNvSpPr/>
            <p:nvPr/>
          </p:nvSpPr>
          <p:spPr>
            <a:xfrm>
              <a:off x="2071080" y="3323880"/>
              <a:ext cx="33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Группа 26"/>
          <p:cNvGrpSpPr/>
          <p:nvPr/>
        </p:nvGrpSpPr>
        <p:grpSpPr>
          <a:xfrm>
            <a:off x="9429840" y="2692440"/>
            <a:ext cx="1050840" cy="1049400"/>
            <a:chOff x="9429840" y="2692440"/>
            <a:chExt cx="1050840" cy="1049400"/>
          </a:xfrm>
        </p:grpSpPr>
        <p:pic>
          <p:nvPicPr>
            <p:cNvPr id="63" name="Picture 4" descr="Картинки по запросу &quot;сметана в пластиковом стакане&quot;"/>
            <p:cNvPicPr/>
            <p:nvPr/>
          </p:nvPicPr>
          <p:blipFill>
            <a:blip r:embed="rId4"/>
            <a:stretch/>
          </p:blipFill>
          <p:spPr>
            <a:xfrm>
              <a:off x="9429840" y="2692440"/>
              <a:ext cx="10508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Box 27"/>
            <p:cNvSpPr/>
            <p:nvPr/>
          </p:nvSpPr>
          <p:spPr>
            <a:xfrm>
              <a:off x="9900720" y="3134520"/>
              <a:ext cx="33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Группа 32"/>
          <p:cNvGrpSpPr/>
          <p:nvPr/>
        </p:nvGrpSpPr>
        <p:grpSpPr>
          <a:xfrm>
            <a:off x="9650520" y="241200"/>
            <a:ext cx="1422360" cy="1125720"/>
            <a:chOff x="9650520" y="241200"/>
            <a:chExt cx="1422360" cy="1125720"/>
          </a:xfrm>
        </p:grpSpPr>
        <p:pic>
          <p:nvPicPr>
            <p:cNvPr id="66" name="Picture 6" descr="Картинки по запросу &quot;клеёнки&quot;"/>
            <p:cNvPicPr/>
            <p:nvPr/>
          </p:nvPicPr>
          <p:blipFill>
            <a:blip r:embed="rId5"/>
            <a:stretch/>
          </p:blipFill>
          <p:spPr>
            <a:xfrm>
              <a:off x="9650520" y="241200"/>
              <a:ext cx="1422360" cy="11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Box 31"/>
            <p:cNvSpPr/>
            <p:nvPr/>
          </p:nvSpPr>
          <p:spPr>
            <a:xfrm>
              <a:off x="10192680" y="486000"/>
              <a:ext cx="33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Группа 28"/>
          <p:cNvGrpSpPr/>
          <p:nvPr/>
        </p:nvGrpSpPr>
        <p:grpSpPr>
          <a:xfrm>
            <a:off x="1854360" y="4854600"/>
            <a:ext cx="1285560" cy="1173240"/>
            <a:chOff x="1854360" y="4854600"/>
            <a:chExt cx="1285560" cy="1173240"/>
          </a:xfrm>
        </p:grpSpPr>
        <p:pic>
          <p:nvPicPr>
            <p:cNvPr id="69" name="Picture 8" descr="Картинки по запросу &quot;подложка для курицы&quot;"/>
            <p:cNvPicPr/>
            <p:nvPr/>
          </p:nvPicPr>
          <p:blipFill>
            <a:blip r:embed="rId6"/>
            <a:stretch/>
          </p:blipFill>
          <p:spPr>
            <a:xfrm>
              <a:off x="1854360" y="4854600"/>
              <a:ext cx="1285560" cy="11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Box 33"/>
            <p:cNvSpPr/>
            <p:nvPr/>
          </p:nvSpPr>
          <p:spPr>
            <a:xfrm>
              <a:off x="2308320" y="5256720"/>
              <a:ext cx="33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Группа 30"/>
          <p:cNvGrpSpPr/>
          <p:nvPr/>
        </p:nvGrpSpPr>
        <p:grpSpPr>
          <a:xfrm>
            <a:off x="9836280" y="4851360"/>
            <a:ext cx="1050840" cy="1052640"/>
            <a:chOff x="9836280" y="4851360"/>
            <a:chExt cx="1050840" cy="1052640"/>
          </a:xfrm>
        </p:grpSpPr>
        <p:pic>
          <p:nvPicPr>
            <p:cNvPr id="72" name="Picture 12" descr="Картинки по запросу &quot;детские игрушки&quot;"/>
            <p:cNvPicPr/>
            <p:nvPr/>
          </p:nvPicPr>
          <p:blipFill>
            <a:blip r:embed="rId7"/>
            <a:stretch/>
          </p:blipFill>
          <p:spPr>
            <a:xfrm>
              <a:off x="9836280" y="4851360"/>
              <a:ext cx="1050840" cy="10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Box 37"/>
            <p:cNvSpPr/>
            <p:nvPr/>
          </p:nvSpPr>
          <p:spPr>
            <a:xfrm>
              <a:off x="9907200" y="5178240"/>
              <a:ext cx="33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Прямоугольная выноска 24"/>
          <p:cNvSpPr/>
          <p:nvPr/>
        </p:nvSpPr>
        <p:spPr>
          <a:xfrm>
            <a:off x="9429840" y="73080"/>
            <a:ext cx="2090520" cy="130968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Данный вид нельзя переработ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ая выноска 40"/>
          <p:cNvSpPr/>
          <p:nvPr/>
        </p:nvSpPr>
        <p:spPr>
          <a:xfrm>
            <a:off x="1441440" y="2479680"/>
            <a:ext cx="2089080" cy="130824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Данный вид можно переработ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Овал 41"/>
          <p:cNvSpPr/>
          <p:nvPr/>
        </p:nvSpPr>
        <p:spPr>
          <a:xfrm>
            <a:off x="307800" y="3987720"/>
            <a:ext cx="1668600" cy="53172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ластик в переработк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Овал 42"/>
          <p:cNvSpPr/>
          <p:nvPr/>
        </p:nvSpPr>
        <p:spPr>
          <a:xfrm>
            <a:off x="2225520" y="3987720"/>
            <a:ext cx="1670040" cy="53172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ластик в мус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ая выноска 43"/>
          <p:cNvSpPr/>
          <p:nvPr/>
        </p:nvSpPr>
        <p:spPr>
          <a:xfrm>
            <a:off x="9429840" y="2516040"/>
            <a:ext cx="2090520" cy="130824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Данный вид можно переработ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Овал 44"/>
          <p:cNvSpPr/>
          <p:nvPr/>
        </p:nvSpPr>
        <p:spPr>
          <a:xfrm>
            <a:off x="8298000" y="3998880"/>
            <a:ext cx="1668240" cy="53172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ластик в переработк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Овал 45"/>
          <p:cNvSpPr/>
          <p:nvPr/>
        </p:nvSpPr>
        <p:spPr>
          <a:xfrm>
            <a:off x="10215720" y="3998880"/>
            <a:ext cx="1670040" cy="53172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ластик в мус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Овал 46"/>
          <p:cNvSpPr/>
          <p:nvPr/>
        </p:nvSpPr>
        <p:spPr>
          <a:xfrm>
            <a:off x="324000" y="6238800"/>
            <a:ext cx="1668240" cy="53172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ластик в переработк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Овал 47"/>
          <p:cNvSpPr/>
          <p:nvPr/>
        </p:nvSpPr>
        <p:spPr>
          <a:xfrm>
            <a:off x="2241720" y="6238800"/>
            <a:ext cx="1668240" cy="53172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ластик в мус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ая выноска 48"/>
          <p:cNvSpPr/>
          <p:nvPr/>
        </p:nvSpPr>
        <p:spPr>
          <a:xfrm>
            <a:off x="1459080" y="4718160"/>
            <a:ext cx="2089080" cy="130968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Данный вид нельзя переработ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Овал 49"/>
          <p:cNvSpPr/>
          <p:nvPr/>
        </p:nvSpPr>
        <p:spPr>
          <a:xfrm>
            <a:off x="8265960" y="6224760"/>
            <a:ext cx="1668600" cy="53172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ластик в переработк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Овал 50"/>
          <p:cNvSpPr/>
          <p:nvPr/>
        </p:nvSpPr>
        <p:spPr>
          <a:xfrm>
            <a:off x="10183680" y="6224760"/>
            <a:ext cx="1670040" cy="53172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ластик в мус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ая выноска 51"/>
          <p:cNvSpPr/>
          <p:nvPr/>
        </p:nvSpPr>
        <p:spPr>
          <a:xfrm>
            <a:off x="9429840" y="4821120"/>
            <a:ext cx="2090520" cy="130968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Данный вид нельзя переработ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13" descr=""/>
          <p:cNvPicPr/>
          <p:nvPr/>
        </p:nvPicPr>
        <p:blipFill>
          <a:blip r:embed="rId8"/>
          <a:stretch/>
        </p:blipFill>
        <p:spPr>
          <a:xfrm>
            <a:off x="5057640" y="3551400"/>
            <a:ext cx="2305080" cy="323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85185E-006 L 0.33007 0.65347 E">
                                      <p:cBhvr>
                                        <p:cTn id="6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85185E-006 L 0.0138 0.66366 E">
                                      <p:cBhvr>
                                        <p:cTn id="31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95833E-006 1.48148E-006 L 0.31967 0.31366 E">
                                      <p:cBhvr>
                                        <p:cTn id="66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54167E-006 -1.48148E-006 L -0.31237 0.31667 E">
                                      <p:cBhvr>
                                        <p:cTn id="91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700200" y="368280"/>
            <a:ext cx="112219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Пластик подлежащий переработке не выбрасывай в мусор!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Мы не будем ждать  пока другие люди изменят ситуаци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Мы рады, что ты с нами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11T06:37:39Z</dcterms:created>
  <dc:creator>Админ</dc:creator>
  <dc:description/>
  <dc:language>en-US</dc:language>
  <cp:lastModifiedBy>Химия</cp:lastModifiedBy>
  <dcterms:modified xsi:type="dcterms:W3CDTF">2020-09-25T08:15:43Z</dcterms:modified>
  <cp:revision>28</cp:revision>
  <dc:subject/>
  <dc:title>Презентация PowerPoint</dc:title>
</cp:coreProperties>
</file>