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1FD-DC84-4F09-87EC-A08B2B77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E02-3CCF-4A1B-80D3-2EEA974E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95C0-0939-4894-8099-88F760C7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82B-3CF5-4E89-846E-9C62334C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8DE-AFC1-4C38-A74A-F2175680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528-3C67-4684-AECC-788D62E1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3C8-F3D7-46BD-AFC2-C5E73C60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82C-28FE-437B-9385-4A91343A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285-7F6B-4A15-AC6B-8124215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8BC-5F94-47D1-B480-58324EB5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89B8-7400-4E05-B0F1-64C73550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355-12A9-4D42-AB37-2B7D2A51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F91-E555-414B-9D58-7C8293FA31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accessories.mypartnershop.ru/img/1012150489.jpg"/>
          <p:cNvPicPr/>
          <p:nvPr/>
        </p:nvPicPr>
        <p:blipFill>
          <a:blip r:embed="rId1"/>
          <a:srcRect l="13387" t="7891" r="6821" b="3996"/>
          <a:stretch/>
        </p:blipFill>
        <p:spPr>
          <a:xfrm>
            <a:off x="0" y="617400"/>
            <a:ext cx="7616880" cy="559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365040"/>
            <a:ext cx="11781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Утилизация пласти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303680" y="1365120"/>
            <a:ext cx="471348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олнена ученицей 8 класса муниципального бюджетного образовательного учреждения «Луковецкая средняя общеобразовательная школа» Холмогорский р-н   Баландиной Александрой Михайловной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0760" y="190440"/>
            <a:ext cx="1166184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ы с нами!  Мы рады теб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ая опасность накопления отходов из пластика заключается в том, что они практически не разлагаются естественным путем, поскольку срок перегнивания пластика составляет сотни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 внимательно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стик с маркировкой 1,2,4,5   - подлежит перерабо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, 6,7 переработке не подл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следующем слайде выполни задание рассортируй правильно пла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8"/>
          <p:cNvGrpSpPr/>
          <p:nvPr/>
        </p:nvGrpSpPr>
        <p:grpSpPr>
          <a:xfrm>
            <a:off x="1309680" y="262080"/>
            <a:ext cx="1598760" cy="1217520"/>
            <a:chOff x="1309680" y="262080"/>
            <a:chExt cx="1598760" cy="1217520"/>
          </a:xfrm>
        </p:grpSpPr>
        <p:pic>
          <p:nvPicPr>
            <p:cNvPr id="46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1309680" y="262080"/>
              <a:ext cx="159876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7"/>
            <p:cNvSpPr/>
            <p:nvPr/>
          </p:nvSpPr>
          <p:spPr>
            <a:xfrm>
              <a:off x="1940040" y="99828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ая выноска 11"/>
          <p:cNvSpPr/>
          <p:nvPr/>
        </p:nvSpPr>
        <p:spPr>
          <a:xfrm>
            <a:off x="1560600" y="77760"/>
            <a:ext cx="20890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"/>
          <p:cNvSpPr/>
          <p:nvPr/>
        </p:nvSpPr>
        <p:spPr>
          <a:xfrm>
            <a:off x="304920" y="154620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4"/>
          <p:cNvSpPr/>
          <p:nvPr/>
        </p:nvSpPr>
        <p:spPr>
          <a:xfrm>
            <a:off x="2224080" y="154620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6"/>
          <p:cNvSpPr/>
          <p:nvPr/>
        </p:nvSpPr>
        <p:spPr>
          <a:xfrm>
            <a:off x="4276800" y="15462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194520" y="15462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3"/>
          <p:cNvGrpSpPr/>
          <p:nvPr/>
        </p:nvGrpSpPr>
        <p:grpSpPr>
          <a:xfrm>
            <a:off x="5302080" y="336600"/>
            <a:ext cx="1447920" cy="1066680"/>
            <a:chOff x="5302080" y="336600"/>
            <a:chExt cx="1447920" cy="1066680"/>
          </a:xfrm>
        </p:grpSpPr>
        <p:pic>
          <p:nvPicPr>
            <p:cNvPr id="5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5302080" y="336600"/>
              <a:ext cx="14479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18"/>
            <p:cNvSpPr/>
            <p:nvPr/>
          </p:nvSpPr>
          <p:spPr>
            <a:xfrm>
              <a:off x="5856840" y="96048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ая выноска 15"/>
          <p:cNvSpPr/>
          <p:nvPr/>
        </p:nvSpPr>
        <p:spPr>
          <a:xfrm>
            <a:off x="5432400" y="71280"/>
            <a:ext cx="20908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9"/>
          <p:cNvSpPr/>
          <p:nvPr/>
        </p:nvSpPr>
        <p:spPr>
          <a:xfrm>
            <a:off x="8265960" y="154620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10183680" y="154620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5"/>
          <p:cNvGrpSpPr/>
          <p:nvPr/>
        </p:nvGrpSpPr>
        <p:grpSpPr>
          <a:xfrm>
            <a:off x="1560600" y="2490840"/>
            <a:ext cx="1358640" cy="1359000"/>
            <a:chOff x="1560600" y="2490840"/>
            <a:chExt cx="1358640" cy="1359000"/>
          </a:xfrm>
        </p:grpSpPr>
        <p:pic>
          <p:nvPicPr>
            <p:cNvPr id="60" name="Рисунок 4" descr=""/>
            <p:cNvPicPr/>
            <p:nvPr/>
          </p:nvPicPr>
          <p:blipFill>
            <a:blip r:embed="rId3"/>
            <a:stretch/>
          </p:blipFill>
          <p:spPr>
            <a:xfrm>
              <a:off x="1560600" y="2490840"/>
              <a:ext cx="13586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25"/>
            <p:cNvSpPr/>
            <p:nvPr/>
          </p:nvSpPr>
          <p:spPr>
            <a:xfrm>
              <a:off x="2071080" y="332388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26"/>
          <p:cNvGrpSpPr/>
          <p:nvPr/>
        </p:nvGrpSpPr>
        <p:grpSpPr>
          <a:xfrm>
            <a:off x="9429840" y="2692440"/>
            <a:ext cx="1050840" cy="1049400"/>
            <a:chOff x="9429840" y="2692440"/>
            <a:chExt cx="1050840" cy="1049400"/>
          </a:xfrm>
        </p:grpSpPr>
        <p:pic>
          <p:nvPicPr>
            <p:cNvPr id="63" name="Picture 4" descr="Картинки по запросу &quot;сметана в пластиковом стакане&quot;"/>
            <p:cNvPicPr/>
            <p:nvPr/>
          </p:nvPicPr>
          <p:blipFill>
            <a:blip r:embed="rId4"/>
            <a:stretch/>
          </p:blipFill>
          <p:spPr>
            <a:xfrm>
              <a:off x="9429840" y="2692440"/>
              <a:ext cx="10508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27"/>
            <p:cNvSpPr/>
            <p:nvPr/>
          </p:nvSpPr>
          <p:spPr>
            <a:xfrm>
              <a:off x="9900720" y="3134520"/>
              <a:ext cx="3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32"/>
          <p:cNvGrpSpPr/>
          <p:nvPr/>
        </p:nvGrpSpPr>
        <p:grpSpPr>
          <a:xfrm>
            <a:off x="9650520" y="241200"/>
            <a:ext cx="1422360" cy="1125720"/>
            <a:chOff x="9650520" y="241200"/>
            <a:chExt cx="1422360" cy="1125720"/>
          </a:xfrm>
        </p:grpSpPr>
        <p:pic>
          <p:nvPicPr>
            <p:cNvPr id="66" name="Picture 6" descr="Картинки по запросу &quot;клеёнки&quot;"/>
            <p:cNvPicPr/>
            <p:nvPr/>
          </p:nvPicPr>
          <p:blipFill>
            <a:blip r:embed="rId5"/>
            <a:stretch/>
          </p:blipFill>
          <p:spPr>
            <a:xfrm>
              <a:off x="9650520" y="241200"/>
              <a:ext cx="1422360" cy="11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Box 31"/>
            <p:cNvSpPr/>
            <p:nvPr/>
          </p:nvSpPr>
          <p:spPr>
            <a:xfrm>
              <a:off x="10192680" y="486000"/>
              <a:ext cx="33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8"/>
          <p:cNvGrpSpPr/>
          <p:nvPr/>
        </p:nvGrpSpPr>
        <p:grpSpPr>
          <a:xfrm>
            <a:off x="1854360" y="4854600"/>
            <a:ext cx="1285560" cy="1173240"/>
            <a:chOff x="1854360" y="4854600"/>
            <a:chExt cx="1285560" cy="1173240"/>
          </a:xfrm>
        </p:grpSpPr>
        <p:pic>
          <p:nvPicPr>
            <p:cNvPr id="69" name="Picture 8" descr="Картинки по запросу &quot;подложка для курицы&quot;"/>
            <p:cNvPicPr/>
            <p:nvPr/>
          </p:nvPicPr>
          <p:blipFill>
            <a:blip r:embed="rId6"/>
            <a:stretch/>
          </p:blipFill>
          <p:spPr>
            <a:xfrm>
              <a:off x="1854360" y="4854600"/>
              <a:ext cx="128556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33"/>
            <p:cNvSpPr/>
            <p:nvPr/>
          </p:nvSpPr>
          <p:spPr>
            <a:xfrm>
              <a:off x="2308320" y="5256720"/>
              <a:ext cx="3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30"/>
          <p:cNvGrpSpPr/>
          <p:nvPr/>
        </p:nvGrpSpPr>
        <p:grpSpPr>
          <a:xfrm>
            <a:off x="9836280" y="4851360"/>
            <a:ext cx="1050840" cy="1052640"/>
            <a:chOff x="9836280" y="4851360"/>
            <a:chExt cx="1050840" cy="1052640"/>
          </a:xfrm>
        </p:grpSpPr>
        <p:pic>
          <p:nvPicPr>
            <p:cNvPr id="72" name="Picture 12" descr="Картинки по запросу &quot;детские игрушки&quot;"/>
            <p:cNvPicPr/>
            <p:nvPr/>
          </p:nvPicPr>
          <p:blipFill>
            <a:blip r:embed="rId7"/>
            <a:stretch/>
          </p:blipFill>
          <p:spPr>
            <a:xfrm>
              <a:off x="9836280" y="4851360"/>
              <a:ext cx="105084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37"/>
            <p:cNvSpPr/>
            <p:nvPr/>
          </p:nvSpPr>
          <p:spPr>
            <a:xfrm>
              <a:off x="9907200" y="5178240"/>
              <a:ext cx="3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Прямоугольная выноска 24"/>
          <p:cNvSpPr/>
          <p:nvPr/>
        </p:nvSpPr>
        <p:spPr>
          <a:xfrm>
            <a:off x="9429840" y="73080"/>
            <a:ext cx="209052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ая выноска 40"/>
          <p:cNvSpPr/>
          <p:nvPr/>
        </p:nvSpPr>
        <p:spPr>
          <a:xfrm>
            <a:off x="1441440" y="2479680"/>
            <a:ext cx="2089080" cy="13082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41"/>
          <p:cNvSpPr/>
          <p:nvPr/>
        </p:nvSpPr>
        <p:spPr>
          <a:xfrm>
            <a:off x="307800" y="398772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42"/>
          <p:cNvSpPr/>
          <p:nvPr/>
        </p:nvSpPr>
        <p:spPr>
          <a:xfrm>
            <a:off x="2225520" y="398772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ая выноска 43"/>
          <p:cNvSpPr/>
          <p:nvPr/>
        </p:nvSpPr>
        <p:spPr>
          <a:xfrm>
            <a:off x="9429840" y="2516040"/>
            <a:ext cx="2090520" cy="13082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можно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4"/>
          <p:cNvSpPr/>
          <p:nvPr/>
        </p:nvSpPr>
        <p:spPr>
          <a:xfrm>
            <a:off x="8298000" y="399888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45"/>
          <p:cNvSpPr/>
          <p:nvPr/>
        </p:nvSpPr>
        <p:spPr>
          <a:xfrm>
            <a:off x="10215720" y="399888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46"/>
          <p:cNvSpPr/>
          <p:nvPr/>
        </p:nvSpPr>
        <p:spPr>
          <a:xfrm>
            <a:off x="324000" y="62388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47"/>
          <p:cNvSpPr/>
          <p:nvPr/>
        </p:nvSpPr>
        <p:spPr>
          <a:xfrm>
            <a:off x="2241720" y="6238800"/>
            <a:ext cx="16682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ая выноска 48"/>
          <p:cNvSpPr/>
          <p:nvPr/>
        </p:nvSpPr>
        <p:spPr>
          <a:xfrm>
            <a:off x="1459080" y="4718160"/>
            <a:ext cx="208908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49"/>
          <p:cNvSpPr/>
          <p:nvPr/>
        </p:nvSpPr>
        <p:spPr>
          <a:xfrm>
            <a:off x="8265960" y="6224760"/>
            <a:ext cx="166860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переработ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50"/>
          <p:cNvSpPr/>
          <p:nvPr/>
        </p:nvSpPr>
        <p:spPr>
          <a:xfrm>
            <a:off x="10183680" y="6224760"/>
            <a:ext cx="1670040" cy="531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стик в му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ая выноска 51"/>
          <p:cNvSpPr/>
          <p:nvPr/>
        </p:nvSpPr>
        <p:spPr>
          <a:xfrm>
            <a:off x="9429840" y="4821120"/>
            <a:ext cx="2090520" cy="13096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анный вид нельзя пере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3" descr=""/>
          <p:cNvPicPr/>
          <p:nvPr/>
        </p:nvPicPr>
        <p:blipFill>
          <a:blip r:embed="rId8"/>
          <a:stretch/>
        </p:blipFill>
        <p:spPr>
          <a:xfrm>
            <a:off x="5057640" y="3551400"/>
            <a:ext cx="2305080" cy="32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33007 0.6534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0138 0.66366 E">
                                      <p:cBhvr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1.48148E-006 L 0.31967 0.31366 E">
                                      <p:cBhvr>
                                        <p:cTn id="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48148E-006 L -0.31237 0.31667 E">
                                      <p:cBhvr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00200" y="368280"/>
            <a:ext cx="11221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ластик подлежащий переработке не выбрасывай в мусор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ы не будем ждать  пока другие люди изменят ситуа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ы рады, что ты с нам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1T06:37:39Z</dcterms:created>
  <dc:creator>Админ</dc:creator>
  <dc:description/>
  <dc:language>en-US</dc:language>
  <cp:lastModifiedBy>Химия</cp:lastModifiedBy>
  <dcterms:modified xsi:type="dcterms:W3CDTF">2020-09-25T08:15:43Z</dcterms:modified>
  <cp:revision>28</cp:revision>
  <dc:subject/>
  <dc:title>Презентация PowerPoint</dc:title>
</cp:coreProperties>
</file>