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9.jpeg" ContentType="image/jpe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3D71-1895-4DF7-ABCB-C36320A6E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0158-FD1E-4CC6-9FA8-DBF6D1F3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A807A-C7F0-4B35-9636-435D1505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E3CC1D-5ADD-4761-9FD8-B76E1927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E3ED0-0D93-40B2-B93F-D0410FA9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9709CA-F7E2-41B7-9093-69E6B26D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B836D-8C54-4261-AA47-2BBCE462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F2D7C-8428-4791-8B81-04BC8826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ECB7B-8843-46F3-B95E-C3EF69C5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DDA115-672E-4A3F-BDC2-7F5DB1B12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265227-E36D-4314-B683-6163B7451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A76A-65B7-4E01-9FF2-637C4FF53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AD03-A48E-4DD2-ABAD-592C98C62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7C80-D57C-426E-9FCB-FCC956A13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916F-01AB-4FFE-BFB6-2F5D7011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19C0-8FAD-497E-8351-C7706112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BA91-07F5-4761-849E-51E9A65F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D80D-B6EB-4A55-9210-C3A9407C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21A3-C9D7-4113-B1DF-784A5214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7B1F-09D6-4D43-9C4D-58F4C7F5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1CC2-28B1-4264-B166-9A8663AC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484A3-1C85-47B8-B13D-61B171FC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82AD-FAB0-4F60-B74A-44F08D9B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F1A5-21EA-4F7A-AC94-F53C6C10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934A-B046-4E10-9A7B-5B1E99C66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F9CC-2733-48B3-8F6B-2074A0A3E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F5C39-7879-4D0B-B71E-2715690D2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386B6-F19E-429D-8633-5951BBC1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087E1-EE33-463E-8CE8-D3FBB1F0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6C206-A49C-4F4F-A810-76FF5DCC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35417-3B08-4D77-9D04-D27BD7A2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7634-15F1-4AA0-B1DE-DC89A3CB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52BDC-25A1-49F3-99CA-9BAAE4CD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E8FBA-2F92-4F0B-8E82-27243317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69787-F77F-46A4-8AC2-F526C50B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2EB35-850E-4BE1-829D-A990B5C1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BF728-541E-4C6A-AC2D-0B953F8A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A0563-A82A-4444-AFF6-0D71FB9F4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AA745-5F4F-4A8F-BE88-E791D4330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487B3-B824-4D45-89CC-E1DF1CF85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8E1EC-0ED5-42A4-B8E7-0F724065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A89A3-77DC-4BC6-83C8-FF4419E5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1936-3462-49A5-AAD0-1017ACC2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3C887-917B-45E3-BC1A-9EA76323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59997-DE7D-4414-9046-385D1D95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70537-7BA1-425E-B22D-7B41BAC8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1459A-95E7-43D3-9CAF-82D7CC26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37A9E-6F44-41B8-BA3E-5A718F46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35228-1DA1-4E59-A075-07E17863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228CE-D4FB-48B4-9AC1-97BD0299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693ED-DA1A-4DED-9F8C-5C9286A9A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E0F89-CC86-4A04-9374-5A90718F3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A67A6-29E0-42ED-9393-84A937293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0364-5FF5-47EB-A263-F3DDBE5E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612AE-250C-49AA-B5CA-56843835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D7BDB-A899-43FD-A2DB-62E85F65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24999-31F6-4BD6-A048-5909697B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10861-A6DB-4F10-A716-1BFAA665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59640-FD21-4419-9DFB-95BF5818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DD2DF-D6C0-43B3-9B45-1B15D850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A797D-F047-4AA9-A0F1-FE456DBF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80A24-168D-4EE3-A52F-C63FF1A6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B89FD-0833-4963-8867-3BEC9DB0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98C0D-7475-491C-A359-AEFFDD315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1800-E94E-47A9-8E7D-422C7694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78506-4BDC-4347-9BC0-92AD146C3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9686B-D91E-401B-B8C0-05DFFA3A6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E8FED-6542-4501-B043-1E1AD2EB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0D1CB-B3F5-48A8-801B-652053C8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A84C3-BE12-4E7E-8808-29166B5E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7CB43-6F2F-47EE-B9F1-5850091C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4FC65-3134-4FEE-854C-4B7D5D7B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A9D58-795D-41FA-8343-26C18071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84CC8-142F-48CD-AFDC-C1764C61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96456-C7C3-4BC8-A23C-88456DA2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D955-7014-46AE-A452-E0661BA5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AE53E-1E31-471F-8AA1-9B33B1A8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BA2D5-F674-46B6-A164-78BD6ED43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72669-F451-4322-A49F-DD27B7225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99F29-3DDF-4B2A-87E1-53F08FFE2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601F5-1E4C-4F25-ACD2-31E56E64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7957D-27A3-428A-9631-8E3D630A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B5FF0-A693-41CF-A1F7-19CFF0A4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E629F-153D-45D6-9D9E-06BDA5B7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0B107-90A2-48D0-B459-6F9E8ED9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62DB8-C763-44E4-9C4A-C40360B0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2831-FD4D-4E17-9914-DD2F2ABC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D6C80-31A7-4E81-BC79-C880B0A7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58D24-EE1D-4D30-A552-6BF19680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16979-3E36-49FB-8063-D3971F37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A7C41-3927-469A-BF86-F4CC34756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9291D-8B82-4D99-8109-C53F64CE0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25D77-5FF3-45C2-A232-6429E753F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29DAA-A851-435B-B69C-AD9492D7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EF354-FDCD-4022-95DB-F435A8F8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E0E97-8074-46FA-A775-49DE25B6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DF55F-376E-4D29-88D6-44642F65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E3E8-D312-439C-8E92-B767FE79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3736E-4EBE-4614-A56B-E723C0D3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F26F2-8156-4A16-82B8-0684A105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178D2-3426-4556-A9DF-3E96063A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9A47F-7445-4260-846D-FB04FCCE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688FE-C2D3-4968-AD1F-AC41295F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693FD-846D-4DAF-BA37-E5DD188F5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4F20B-9E33-4D32-B8BE-E2979BB32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995C7-9E23-4C0C-A236-F19123A66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D975C-CBEC-4563-A253-DC7A3E66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27EA59-C5C3-4315-A53C-A43B218D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6926-9B9A-4E21-B325-C147573FC9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BEBF-25B0-4389-800B-BC7CABCEC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54A7-B956-44E1-BA8D-185CA416D5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00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FB89-264D-4033-87B5-3830E78FF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72D9-3E9D-4E02-9718-09CC214C439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A113-44A7-41A0-93A4-F8E29CD9E7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C40E-2196-405D-BB41-774488FBE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2392-A915-497D-A4B3-4325BE796F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00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F29C-8D1D-4A76-8BBD-0D11A636B4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6756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2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i="1" lang="ru-RU" sz="1400" spc="-1" strike="noStrike">
                <a:solidFill>
                  <a:srgbClr val="3333cc"/>
                </a:solidFill>
                <a:latin typeface="Times New Roman"/>
              </a:rPr>
              <a:t>МУНИЦИПАЛЬНОЕ БЮДЖЕТНОЕ  ДОШКОЛЬНОЕ ОБРАЗОВАТЕЛЬНОЕ УЧРЕЖДЕНИЕ ЦЕНТР РАЗВИТИЯ РЕБЁНКА– ДЕТСКИЙ САД  №21</a:t>
            </a:r>
            <a:br>
              <a:rPr sz="1400"/>
            </a:br>
            <a:r>
              <a:rPr b="0" i="1" lang="ru-RU" sz="1400" spc="-1" strike="noStrike">
                <a:solidFill>
                  <a:srgbClr val="3333cc"/>
                </a:solidFill>
                <a:latin typeface="Times New Roman"/>
              </a:rPr>
              <a:t> «МАЛЫШОК» </a:t>
            </a:r>
            <a:br>
              <a:rPr sz="1400"/>
            </a:br>
            <a:r>
              <a:rPr b="0" i="1" lang="ru-RU" sz="1400" spc="-1" strike="noStrike">
                <a:solidFill>
                  <a:srgbClr val="3333cc"/>
                </a:solidFill>
                <a:latin typeface="Times New Roman"/>
              </a:rPr>
              <a:t>город Новоалтайск  Алтайского края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Прямоугольник 6"/>
          <p:cNvSpPr/>
          <p:nvPr/>
        </p:nvSpPr>
        <p:spPr>
          <a:xfrm>
            <a:off x="2862360" y="5157720"/>
            <a:ext cx="619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статье 18 Закона РФ «Об образовании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дители являются первыми педагогами. Они обязаны заложить первые основы физического, нравственного и интеллектуального развития личности ребёнка в раннем возраст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3"/>
          <p:cNvSpPr/>
          <p:nvPr/>
        </p:nvSpPr>
        <p:spPr>
          <a:xfrm>
            <a:off x="765360" y="1986120"/>
            <a:ext cx="7764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овременные инновационные формы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родител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спитанни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условии реализации ФГОС Д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1"/>
          <p:cNvSpPr/>
          <p:nvPr/>
        </p:nvSpPr>
        <p:spPr>
          <a:xfrm>
            <a:off x="4211640" y="4076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оспитатель: Тимонина Алевти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Прямоугольник 1"/>
          <p:cNvSpPr/>
          <p:nvPr/>
        </p:nvSpPr>
        <p:spPr>
          <a:xfrm>
            <a:off x="357120" y="28584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АГЛЯД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ИНФОРМАЦИОН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 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дни открытых двере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 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родительские цент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 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выпуск стенгаз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 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фотовыставки</a:t>
            </a:r>
            <a:r>
              <a:rPr b="1" i="1" lang="ru-RU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 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семейный и групповые альбо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 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эмоциональный островок «Здравствуйте, я пришел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2"/>
          <p:cNvSpPr/>
          <p:nvPr/>
        </p:nvSpPr>
        <p:spPr>
          <a:xfrm>
            <a:off x="3214800" y="351000"/>
            <a:ext cx="5572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  <a:ea typeface="Arial"/>
              </a:rPr>
              <a:t>Наглядно – информационное направление дает возможность донести до родителей любую информацию в доступной форме, напомнить тактично о родительских обязанностях и ответствен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Рисунок 2" descr=""/>
          <p:cNvPicPr/>
          <p:nvPr/>
        </p:nvPicPr>
        <p:blipFill>
          <a:blip r:embed="rId1"/>
          <a:stretch/>
        </p:blipFill>
        <p:spPr>
          <a:xfrm rot="20841000">
            <a:off x="610920" y="3073320"/>
            <a:ext cx="3628800" cy="2722680"/>
          </a:xfrm>
          <a:prstGeom prst="rect">
            <a:avLst/>
          </a:prstGeom>
          <a:ln w="0">
            <a:noFill/>
          </a:ln>
        </p:spPr>
      </p:pic>
      <p:grpSp>
        <p:nvGrpSpPr>
          <p:cNvPr id="505" name="Group 14"/>
          <p:cNvGrpSpPr/>
          <p:nvPr/>
        </p:nvGrpSpPr>
        <p:grpSpPr>
          <a:xfrm>
            <a:off x="428760" y="857160"/>
            <a:ext cx="245880" cy="225360"/>
            <a:chOff x="428760" y="857160"/>
            <a:chExt cx="245880" cy="225360"/>
          </a:xfrm>
        </p:grpSpPr>
        <p:sp>
          <p:nvSpPr>
            <p:cNvPr id="506" name="AutoShape 15"/>
            <p:cNvSpPr/>
            <p:nvPr/>
          </p:nvSpPr>
          <p:spPr>
            <a:xfrm>
              <a:off x="430560" y="860760"/>
              <a:ext cx="244080" cy="221760"/>
            </a:xfrm>
            <a:prstGeom prst="hexagon">
              <a:avLst>
                <a:gd name="adj" fmla="val 2751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AutoShape 16"/>
            <p:cNvSpPr/>
            <p:nvPr/>
          </p:nvSpPr>
          <p:spPr>
            <a:xfrm>
              <a:off x="428760" y="857160"/>
              <a:ext cx="244080" cy="221760"/>
            </a:xfrm>
            <a:prstGeom prst="hexagon">
              <a:avLst>
                <a:gd name="adj" fmla="val 2751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AutoShape 17"/>
            <p:cNvSpPr/>
            <p:nvPr/>
          </p:nvSpPr>
          <p:spPr>
            <a:xfrm>
              <a:off x="442800" y="871200"/>
              <a:ext cx="214200" cy="193680"/>
            </a:xfrm>
            <a:prstGeom prst="hexagon">
              <a:avLst>
                <a:gd name="adj" fmla="val 27505"/>
                <a:gd name="vf" fmla="val 115470"/>
              </a:avLst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Group 14"/>
          <p:cNvGrpSpPr/>
          <p:nvPr/>
        </p:nvGrpSpPr>
        <p:grpSpPr>
          <a:xfrm>
            <a:off x="428760" y="1143000"/>
            <a:ext cx="245880" cy="225360"/>
            <a:chOff x="428760" y="1143000"/>
            <a:chExt cx="245880" cy="225360"/>
          </a:xfrm>
        </p:grpSpPr>
        <p:sp>
          <p:nvSpPr>
            <p:cNvPr id="510" name="AutoShape 15"/>
            <p:cNvSpPr/>
            <p:nvPr/>
          </p:nvSpPr>
          <p:spPr>
            <a:xfrm>
              <a:off x="430560" y="1146600"/>
              <a:ext cx="244080" cy="221760"/>
            </a:xfrm>
            <a:prstGeom prst="hexagon">
              <a:avLst>
                <a:gd name="adj" fmla="val 2751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AutoShape 16"/>
            <p:cNvSpPr/>
            <p:nvPr/>
          </p:nvSpPr>
          <p:spPr>
            <a:xfrm>
              <a:off x="428760" y="1143000"/>
              <a:ext cx="244080" cy="221760"/>
            </a:xfrm>
            <a:prstGeom prst="hexagon">
              <a:avLst>
                <a:gd name="adj" fmla="val 2751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17"/>
            <p:cNvSpPr/>
            <p:nvPr/>
          </p:nvSpPr>
          <p:spPr>
            <a:xfrm>
              <a:off x="442800" y="1157040"/>
              <a:ext cx="214200" cy="193680"/>
            </a:xfrm>
            <a:prstGeom prst="hexagon">
              <a:avLst>
                <a:gd name="adj" fmla="val 27505"/>
                <a:gd name="vf" fmla="val 115470"/>
              </a:avLst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14"/>
          <p:cNvGrpSpPr/>
          <p:nvPr/>
        </p:nvGrpSpPr>
        <p:grpSpPr>
          <a:xfrm>
            <a:off x="438120" y="2322360"/>
            <a:ext cx="246240" cy="225720"/>
            <a:chOff x="438120" y="2322360"/>
            <a:chExt cx="246240" cy="225720"/>
          </a:xfrm>
        </p:grpSpPr>
        <p:sp>
          <p:nvSpPr>
            <p:cNvPr id="514" name="AutoShape 15"/>
            <p:cNvSpPr/>
            <p:nvPr/>
          </p:nvSpPr>
          <p:spPr>
            <a:xfrm>
              <a:off x="439920" y="2325960"/>
              <a:ext cx="244440" cy="222120"/>
            </a:xfrm>
            <a:prstGeom prst="hexagon">
              <a:avLst>
                <a:gd name="adj" fmla="val 27512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16"/>
            <p:cNvSpPr/>
            <p:nvPr/>
          </p:nvSpPr>
          <p:spPr>
            <a:xfrm>
              <a:off x="438120" y="2322360"/>
              <a:ext cx="244440" cy="222120"/>
            </a:xfrm>
            <a:prstGeom prst="hexagon">
              <a:avLst>
                <a:gd name="adj" fmla="val 27512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AutoShape 17"/>
            <p:cNvSpPr/>
            <p:nvPr/>
          </p:nvSpPr>
          <p:spPr>
            <a:xfrm>
              <a:off x="452160" y="2336400"/>
              <a:ext cx="214560" cy="194040"/>
            </a:xfrm>
            <a:prstGeom prst="hexagon">
              <a:avLst>
                <a:gd name="adj" fmla="val 27500"/>
                <a:gd name="vf" fmla="val 115470"/>
              </a:avLst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Group 14"/>
          <p:cNvGrpSpPr/>
          <p:nvPr/>
        </p:nvGrpSpPr>
        <p:grpSpPr>
          <a:xfrm>
            <a:off x="428760" y="1714680"/>
            <a:ext cx="245880" cy="225360"/>
            <a:chOff x="428760" y="1714680"/>
            <a:chExt cx="245880" cy="225360"/>
          </a:xfrm>
        </p:grpSpPr>
        <p:sp>
          <p:nvSpPr>
            <p:cNvPr id="518" name="AutoShape 15"/>
            <p:cNvSpPr/>
            <p:nvPr/>
          </p:nvSpPr>
          <p:spPr>
            <a:xfrm>
              <a:off x="430560" y="1718280"/>
              <a:ext cx="244080" cy="221760"/>
            </a:xfrm>
            <a:prstGeom prst="hexagon">
              <a:avLst>
                <a:gd name="adj" fmla="val 2751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AutoShape 16"/>
            <p:cNvSpPr/>
            <p:nvPr/>
          </p:nvSpPr>
          <p:spPr>
            <a:xfrm>
              <a:off x="428760" y="1714680"/>
              <a:ext cx="244080" cy="221760"/>
            </a:xfrm>
            <a:prstGeom prst="hexagon">
              <a:avLst>
                <a:gd name="adj" fmla="val 2751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utoShape 17"/>
            <p:cNvSpPr/>
            <p:nvPr/>
          </p:nvSpPr>
          <p:spPr>
            <a:xfrm>
              <a:off x="442800" y="1728720"/>
              <a:ext cx="214200" cy="193680"/>
            </a:xfrm>
            <a:prstGeom prst="hexagon">
              <a:avLst>
                <a:gd name="adj" fmla="val 27505"/>
                <a:gd name="vf" fmla="val 115470"/>
              </a:avLst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Group 14"/>
          <p:cNvGrpSpPr/>
          <p:nvPr/>
        </p:nvGrpSpPr>
        <p:grpSpPr>
          <a:xfrm>
            <a:off x="428760" y="2000160"/>
            <a:ext cx="245880" cy="225360"/>
            <a:chOff x="428760" y="2000160"/>
            <a:chExt cx="245880" cy="225360"/>
          </a:xfrm>
        </p:grpSpPr>
        <p:sp>
          <p:nvSpPr>
            <p:cNvPr id="522" name="AutoShape 15"/>
            <p:cNvSpPr/>
            <p:nvPr/>
          </p:nvSpPr>
          <p:spPr>
            <a:xfrm>
              <a:off x="430560" y="2003760"/>
              <a:ext cx="244080" cy="221760"/>
            </a:xfrm>
            <a:prstGeom prst="hexagon">
              <a:avLst>
                <a:gd name="adj" fmla="val 2751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AutoShape 16"/>
            <p:cNvSpPr/>
            <p:nvPr/>
          </p:nvSpPr>
          <p:spPr>
            <a:xfrm>
              <a:off x="428760" y="2000160"/>
              <a:ext cx="244080" cy="221760"/>
            </a:xfrm>
            <a:prstGeom prst="hexagon">
              <a:avLst>
                <a:gd name="adj" fmla="val 2751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AutoShape 17"/>
            <p:cNvSpPr/>
            <p:nvPr/>
          </p:nvSpPr>
          <p:spPr>
            <a:xfrm>
              <a:off x="442800" y="2014200"/>
              <a:ext cx="214200" cy="193680"/>
            </a:xfrm>
            <a:prstGeom prst="hexagon">
              <a:avLst>
                <a:gd name="adj" fmla="val 27505"/>
                <a:gd name="vf" fmla="val 115470"/>
              </a:avLst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5" name="Picture 29" descr=""/>
          <p:cNvPicPr/>
          <p:nvPr/>
        </p:nvPicPr>
        <p:blipFill>
          <a:blip r:embed="rId2"/>
          <a:stretch/>
        </p:blipFill>
        <p:spPr>
          <a:xfrm>
            <a:off x="404640" y="1465200"/>
            <a:ext cx="268560" cy="2383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2" descr="C:\Users\Алексей\Desktop\наши детки 2013 группа 7\SAM_2990.JPG"/>
          <p:cNvPicPr/>
          <p:nvPr/>
        </p:nvPicPr>
        <p:blipFill>
          <a:blip r:embed="rId3"/>
          <a:stretch/>
        </p:blipFill>
        <p:spPr>
          <a:xfrm rot="625800">
            <a:off x="5688000" y="2079720"/>
            <a:ext cx="3006720" cy="2254320"/>
          </a:xfrm>
          <a:prstGeom prst="rect">
            <a:avLst/>
          </a:prstGeom>
          <a:ln w="0">
            <a:noFill/>
          </a:ln>
        </p:spPr>
      </p:pic>
      <p:pic>
        <p:nvPicPr>
          <p:cNvPr id="527" name="Рисунок 4" descr=""/>
          <p:cNvPicPr/>
          <p:nvPr/>
        </p:nvPicPr>
        <p:blipFill>
          <a:blip r:embed="rId4"/>
          <a:stretch/>
        </p:blipFill>
        <p:spPr>
          <a:xfrm>
            <a:off x="3668760" y="3151080"/>
            <a:ext cx="2332080" cy="31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Прямоугольник 1"/>
          <p:cNvSpPr/>
          <p:nvPr/>
        </p:nvSpPr>
        <p:spPr>
          <a:xfrm>
            <a:off x="285840" y="285840"/>
            <a:ext cx="55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"/>
          <p:cNvSpPr/>
          <p:nvPr/>
        </p:nvSpPr>
        <p:spPr>
          <a:xfrm>
            <a:off x="264960" y="297360"/>
            <a:ext cx="6807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ДОСУГОВ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совместные досу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праздни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участие в выставка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конкурса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экскурс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участие роди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в театраль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Прямоугольник 5"/>
          <p:cNvSpPr/>
          <p:nvPr/>
        </p:nvSpPr>
        <p:spPr>
          <a:xfrm>
            <a:off x="4211640" y="168120"/>
            <a:ext cx="48895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  <a:ea typeface="Arial"/>
              </a:rPr>
              <a:t>Досуговое направление в работе с родителями оказалось самым интересным, полезным, востребованным и самым трудным в организации. Это объясняется тем, что любое совместное мероприятие позволяет родителям: увидеть изнутри проблемы своего ребенка, трудности во взаимоотношениях; апробировать разные подходы; посмотреть, как это делают другие, то есть приобрести опыт взаимодействия не только со своим ребенком, но и с родительской общественностью в цел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Group 14"/>
          <p:cNvGrpSpPr/>
          <p:nvPr/>
        </p:nvGrpSpPr>
        <p:grpSpPr>
          <a:xfrm>
            <a:off x="254160" y="1465200"/>
            <a:ext cx="245880" cy="225360"/>
            <a:chOff x="254160" y="1465200"/>
            <a:chExt cx="245880" cy="225360"/>
          </a:xfrm>
        </p:grpSpPr>
        <p:sp>
          <p:nvSpPr>
            <p:cNvPr id="532" name="AutoShape 15"/>
            <p:cNvSpPr/>
            <p:nvPr/>
          </p:nvSpPr>
          <p:spPr>
            <a:xfrm>
              <a:off x="255960" y="1468800"/>
              <a:ext cx="244080" cy="221760"/>
            </a:xfrm>
            <a:prstGeom prst="hexagon">
              <a:avLst>
                <a:gd name="adj" fmla="val 2751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6"/>
            <p:cNvSpPr/>
            <p:nvPr/>
          </p:nvSpPr>
          <p:spPr>
            <a:xfrm>
              <a:off x="254160" y="1465200"/>
              <a:ext cx="244080" cy="221760"/>
            </a:xfrm>
            <a:prstGeom prst="hexagon">
              <a:avLst>
                <a:gd name="adj" fmla="val 2751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7"/>
            <p:cNvSpPr/>
            <p:nvPr/>
          </p:nvSpPr>
          <p:spPr>
            <a:xfrm>
              <a:off x="268200" y="1479240"/>
              <a:ext cx="214200" cy="193680"/>
            </a:xfrm>
            <a:prstGeom prst="hexagon">
              <a:avLst>
                <a:gd name="adj" fmla="val 27505"/>
                <a:gd name="vf" fmla="val 115470"/>
              </a:avLst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Group 14"/>
          <p:cNvGrpSpPr/>
          <p:nvPr/>
        </p:nvGrpSpPr>
        <p:grpSpPr>
          <a:xfrm>
            <a:off x="271440" y="932040"/>
            <a:ext cx="246240" cy="225360"/>
            <a:chOff x="271440" y="932040"/>
            <a:chExt cx="246240" cy="225360"/>
          </a:xfrm>
        </p:grpSpPr>
        <p:sp>
          <p:nvSpPr>
            <p:cNvPr id="536" name="AutoShape 15"/>
            <p:cNvSpPr/>
            <p:nvPr/>
          </p:nvSpPr>
          <p:spPr>
            <a:xfrm>
              <a:off x="273240" y="935640"/>
              <a:ext cx="244440" cy="221760"/>
            </a:xfrm>
            <a:prstGeom prst="hexagon">
              <a:avLst>
                <a:gd name="adj" fmla="val 27557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16"/>
            <p:cNvSpPr/>
            <p:nvPr/>
          </p:nvSpPr>
          <p:spPr>
            <a:xfrm>
              <a:off x="271440" y="932040"/>
              <a:ext cx="244440" cy="221760"/>
            </a:xfrm>
            <a:prstGeom prst="hexagon">
              <a:avLst>
                <a:gd name="adj" fmla="val 27557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utoShape 17"/>
            <p:cNvSpPr/>
            <p:nvPr/>
          </p:nvSpPr>
          <p:spPr>
            <a:xfrm>
              <a:off x="285480" y="946080"/>
              <a:ext cx="214560" cy="193680"/>
            </a:xfrm>
            <a:prstGeom prst="hexagon">
              <a:avLst>
                <a:gd name="adj" fmla="val 27551"/>
                <a:gd name="vf" fmla="val 115470"/>
              </a:avLst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14"/>
          <p:cNvGrpSpPr/>
          <p:nvPr/>
        </p:nvGrpSpPr>
        <p:grpSpPr>
          <a:xfrm>
            <a:off x="246240" y="2276640"/>
            <a:ext cx="245880" cy="225360"/>
            <a:chOff x="246240" y="2276640"/>
            <a:chExt cx="245880" cy="225360"/>
          </a:xfrm>
        </p:grpSpPr>
        <p:sp>
          <p:nvSpPr>
            <p:cNvPr id="540" name="AutoShape 15"/>
            <p:cNvSpPr/>
            <p:nvPr/>
          </p:nvSpPr>
          <p:spPr>
            <a:xfrm>
              <a:off x="248040" y="2280240"/>
              <a:ext cx="244080" cy="221760"/>
            </a:xfrm>
            <a:prstGeom prst="hexagon">
              <a:avLst>
                <a:gd name="adj" fmla="val 2751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AutoShape 16"/>
            <p:cNvSpPr/>
            <p:nvPr/>
          </p:nvSpPr>
          <p:spPr>
            <a:xfrm>
              <a:off x="246240" y="2276640"/>
              <a:ext cx="244080" cy="221760"/>
            </a:xfrm>
            <a:prstGeom prst="hexagon">
              <a:avLst>
                <a:gd name="adj" fmla="val 2751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utoShape 17"/>
            <p:cNvSpPr/>
            <p:nvPr/>
          </p:nvSpPr>
          <p:spPr>
            <a:xfrm>
              <a:off x="260280" y="2290680"/>
              <a:ext cx="214200" cy="193680"/>
            </a:xfrm>
            <a:prstGeom prst="hexagon">
              <a:avLst>
                <a:gd name="adj" fmla="val 27505"/>
                <a:gd name="vf" fmla="val 115470"/>
              </a:avLst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Прямоугольник 1"/>
          <p:cNvSpPr/>
          <p:nvPr/>
        </p:nvSpPr>
        <p:spPr>
          <a:xfrm>
            <a:off x="277920" y="3598920"/>
            <a:ext cx="8596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На сегодняшний день можно сказа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что у нас сложилась определенная система в работе с родител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Использование разнообразных форм работы дало определенные результа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родители из «зрителей» и «наблюдателей» стали активными участниками встре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и помощниками воспитателей, создана атмосфера взаимоува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рямоугольник 2"/>
          <p:cNvSpPr/>
          <p:nvPr/>
        </p:nvSpPr>
        <p:spPr>
          <a:xfrm>
            <a:off x="2929680" y="5877000"/>
            <a:ext cx="31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ПАСИБО ЗА ВНИМАНИ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Прямоугольник 1"/>
          <p:cNvSpPr/>
          <p:nvPr/>
        </p:nvSpPr>
        <p:spPr>
          <a:xfrm>
            <a:off x="0" y="12859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Одним  из условий  воспитания  ребёнка в ДОУ является взаимодействие с семьями  воспитан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3"/>
          <p:cNvSpPr/>
          <p:nvPr/>
        </p:nvSpPr>
        <p:spPr>
          <a:xfrm>
            <a:off x="500040" y="357120"/>
            <a:ext cx="392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тобы узнать ребёнк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до хорошо узнать его семью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В.А. Сухомли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Рисунок 2" descr="E:\фото Детский сад\В группе 2008\DSC02090.JPG"/>
          <p:cNvPicPr/>
          <p:nvPr/>
        </p:nvPicPr>
        <p:blipFill>
          <a:blip r:embed="rId1"/>
          <a:stretch/>
        </p:blipFill>
        <p:spPr>
          <a:xfrm>
            <a:off x="396720" y="4572000"/>
            <a:ext cx="2498760" cy="1878120"/>
          </a:xfrm>
          <a:prstGeom prst="rect">
            <a:avLst/>
          </a:prstGeom>
          <a:ln w="0">
            <a:noFill/>
          </a:ln>
        </p:spPr>
      </p:pic>
      <p:cxnSp>
        <p:nvCxnSpPr>
          <p:cNvPr id="380" name="Прямая со стрелкой 9"/>
          <p:cNvCxnSpPr/>
          <p:nvPr/>
        </p:nvCxnSpPr>
        <p:spPr>
          <a:xfrm>
            <a:off x="3076200" y="6237000"/>
            <a:ext cx="3143880" cy="1080"/>
          </a:xfrm>
          <a:prstGeom prst="straightConnector1">
            <a:avLst/>
          </a:prstGeom>
          <a:ln w="25560">
            <a:solidFill>
              <a:srgbClr val="9999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81" name="Прямая со стрелкой 10"/>
          <p:cNvCxnSpPr/>
          <p:nvPr/>
        </p:nvCxnSpPr>
        <p:spPr>
          <a:xfrm>
            <a:off x="5857920" y="3214440"/>
            <a:ext cx="1643760" cy="1215000"/>
          </a:xfrm>
          <a:prstGeom prst="straightConnector1">
            <a:avLst/>
          </a:prstGeom>
          <a:ln w="25560">
            <a:solidFill>
              <a:srgbClr val="9999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82" name="Прямая со стрелкой 11"/>
          <p:cNvCxnSpPr/>
          <p:nvPr/>
        </p:nvCxnSpPr>
        <p:spPr>
          <a:xfrm flipH="1">
            <a:off x="2214000" y="3499200"/>
            <a:ext cx="1215000" cy="1001160"/>
          </a:xfrm>
          <a:prstGeom prst="straightConnector1">
            <a:avLst/>
          </a:prstGeom>
          <a:ln w="25560">
            <a:solidFill>
              <a:srgbClr val="999999"/>
            </a:solidFill>
            <a:miter/>
            <a:headEnd len="med" type="arrow" w="med"/>
            <a:tailEnd len="med" type="arrow" w="med"/>
          </a:ln>
        </p:spPr>
      </p:cxnSp>
      <p:sp>
        <p:nvSpPr>
          <p:cNvPr id="383" name="TextBox 17"/>
          <p:cNvSpPr/>
          <p:nvPr/>
        </p:nvSpPr>
        <p:spPr>
          <a:xfrm>
            <a:off x="1074960" y="392904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й с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28"/>
          <p:cNvSpPr/>
          <p:nvPr/>
        </p:nvSpPr>
        <p:spPr>
          <a:xfrm>
            <a:off x="7000920" y="37861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ё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29"/>
          <p:cNvSpPr/>
          <p:nvPr/>
        </p:nvSpPr>
        <p:spPr>
          <a:xfrm>
            <a:off x="3929040" y="257184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Рисунок 2" descr=""/>
          <p:cNvPicPr/>
          <p:nvPr/>
        </p:nvPicPr>
        <p:blipFill>
          <a:blip r:embed="rId2"/>
          <a:stretch/>
        </p:blipFill>
        <p:spPr>
          <a:xfrm>
            <a:off x="3535200" y="3090960"/>
            <a:ext cx="2109960" cy="281628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3" descr=""/>
          <p:cNvPicPr/>
          <p:nvPr/>
        </p:nvPicPr>
        <p:blipFill>
          <a:blip r:embed="rId3"/>
          <a:stretch/>
        </p:blipFill>
        <p:spPr>
          <a:xfrm>
            <a:off x="6334200" y="4602240"/>
            <a:ext cx="2608200" cy="19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Стрелка вниз 2"/>
          <p:cNvSpPr/>
          <p:nvPr/>
        </p:nvSpPr>
        <p:spPr>
          <a:xfrm>
            <a:off x="2143080" y="214200"/>
            <a:ext cx="4714920" cy="1071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Ц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1"/>
          <p:cNvSpPr/>
          <p:nvPr/>
        </p:nvSpPr>
        <p:spPr>
          <a:xfrm>
            <a:off x="928800" y="1285920"/>
            <a:ext cx="691344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alibri"/>
                <a:ea typeface="Times New Roman"/>
              </a:rPr>
              <a:t>привлечь родителей к активному осмыслению проблем воспитания детей в семье на основе учета их индивидуальных потреб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5"/>
          <p:cNvSpPr/>
          <p:nvPr/>
        </p:nvSpPr>
        <p:spPr>
          <a:xfrm>
            <a:off x="2230560" y="3187800"/>
            <a:ext cx="688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alibri"/>
                <a:ea typeface="Times New Roman"/>
              </a:rPr>
              <a:t>обеспечить единство коррекционно -воспитательного  взаимодействия со стороны дошкольного учреждения и роди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7"/>
          <p:cNvSpPr/>
          <p:nvPr/>
        </p:nvSpPr>
        <p:spPr>
          <a:xfrm>
            <a:off x="446760" y="4911840"/>
            <a:ext cx="666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alibri"/>
                <a:ea typeface="Times New Roman"/>
              </a:rPr>
              <a:t>повысить педагогическую культуру родител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414360" y="5375880"/>
            <a:ext cx="81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Calibri"/>
                <a:ea typeface="Calibri"/>
              </a:rPr>
              <a:t>вовлечь родителей в совместную деяте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alibri"/>
                <a:ea typeface="Calibri"/>
              </a:rPr>
              <a:t>с ДОУ посредством использования И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Рисунок 7" descr="s1.jpg"/>
          <p:cNvPicPr/>
          <p:nvPr/>
        </p:nvPicPr>
        <p:blipFill>
          <a:blip r:embed="rId1"/>
          <a:stretch/>
        </p:blipFill>
        <p:spPr>
          <a:xfrm>
            <a:off x="219240" y="3187800"/>
            <a:ext cx="2011320" cy="15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Стрелка вниз 1"/>
          <p:cNvSpPr/>
          <p:nvPr/>
        </p:nvSpPr>
        <p:spPr>
          <a:xfrm>
            <a:off x="2286000" y="260280"/>
            <a:ext cx="4714920" cy="1071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179280" y="1414440"/>
            <a:ext cx="822960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1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Calibri"/>
              </a:rPr>
              <a:t>осуществлять единый подход педагогов и родителей к процессу воспитания ребён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1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Calibri"/>
              </a:rPr>
              <a:t>выстроить  доверие во взаимоотношениях педагогов и родите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1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Calibri"/>
              </a:rPr>
              <a:t>дифференцировать подход педагогов к каждой семь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1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Calibri"/>
              </a:rPr>
              <a:t>приобщить родителей к участию в жизни детского сада через поиск и внедрение наиболее эффективных форм рабо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1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Рисунок 4" descr="9e87579ace4ac12ada70a04cd503cdf8_XL.jpg"/>
          <p:cNvPicPr/>
          <p:nvPr/>
        </p:nvPicPr>
        <p:blipFill>
          <a:blip r:embed="rId1"/>
          <a:stretch/>
        </p:blipFill>
        <p:spPr>
          <a:xfrm>
            <a:off x="6156360" y="5205240"/>
            <a:ext cx="2585880" cy="153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1"/>
          <p:cNvSpPr/>
          <p:nvPr/>
        </p:nvSpPr>
        <p:spPr>
          <a:xfrm flipV="1" rot="10800000">
            <a:off x="499680" y="622080"/>
            <a:ext cx="8358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мья и дошкольное учреждение – два общественных института, которые стоят у истоков нашего будущего, но зачастую не всегда им хватает взаимопонимания, такта, терпения, чтобы услышать и понять друг друга. Непонимание между семьёй и ДУ всей тяжестью ложится на ребенка. Не секрет, что многие родители интересуются только питанием ребенка, считают, что детский сад – место, где только присматривают за детьми, пока родители на работе. И мы, педагоги, очень часто испытываем большие трудности в общении с родителями по этой прич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Как сложно бывает достучаться до пап и мам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Как нелегко порой объяснить родителям, что ребенка надо не только накормить и красиво одеть, но и общаться с ним, научить его думать, размышля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Как изменить такое положени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Как заинтересовать родителей в совместной работ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Как создать единое пространство развития ребенка в семье и ДОУ, сделать родителей участниками воспитательного процесс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606600" y="4441320"/>
            <a:ext cx="81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личные формы работы детского сада с семьёй позволяют перестроить взаимоотношения субъектов, организовать взаимную активность, ответственность и способность осознания результатов в процессе воспитания ребёнка в ДОУ и сем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Прямоугольник 1"/>
          <p:cNvSpPr/>
          <p:nvPr/>
        </p:nvSpPr>
        <p:spPr>
          <a:xfrm>
            <a:off x="468360" y="336600"/>
            <a:ext cx="799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обенности организации взаимодействия ДОУ с семьями воспитан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организации совместной работы дошкольного образовательного учреждения с семьями в рамках новой философии необходимо соблюдать основные 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инцип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крытость детского сада для семьи (каждому родителю обеспечивается возможность знать и видеть, как живет и развивается его ребенок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трудничество педагогов и родителей в воспитании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дание активной развивающей среды, обеспечивающей единые подходы к развитию личности в семье и детском коллектив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иагностика общих и частных проблем в развитии и воспитании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2" descr="https://catherineasquithgallery.com/uploads/posts/2021-02/1613682945_47-p-fon-dlya-prezentatsii-nravstvennoe-vospita-55.png"/>
          <p:cNvPicPr/>
          <p:nvPr/>
        </p:nvPicPr>
        <p:blipFill>
          <a:blip r:embed="rId1"/>
          <a:stretch/>
        </p:blipFill>
        <p:spPr>
          <a:xfrm>
            <a:off x="2279520" y="3789360"/>
            <a:ext cx="4368960" cy="2787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Облако 12"/>
          <p:cNvGrpSpPr/>
          <p:nvPr/>
        </p:nvGrpSpPr>
        <p:grpSpPr>
          <a:xfrm>
            <a:off x="2657520" y="1895400"/>
            <a:ext cx="3610080" cy="2895840"/>
            <a:chOff x="2657520" y="1895400"/>
            <a:chExt cx="3610080" cy="2895840"/>
          </a:xfrm>
        </p:grpSpPr>
        <p:pic>
          <p:nvPicPr>
            <p:cNvPr id="402" name="Облако 12" descr=""/>
            <p:cNvPicPr/>
            <p:nvPr/>
          </p:nvPicPr>
          <p:blipFill>
            <a:blip r:embed="rId1"/>
            <a:stretch/>
          </p:blipFill>
          <p:spPr>
            <a:xfrm>
              <a:off x="2657520" y="1895400"/>
              <a:ext cx="3610080" cy="28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3247920" y="2398680"/>
              <a:ext cx="2194200" cy="17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alibri"/>
                </a:rPr>
                <a:t>Форм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Calibri"/>
                </a:rPr>
                <a:t>работы 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alibri"/>
                </a:rPr>
                <a:t>родителя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Rectangle 14"/>
          <p:cNvSpPr/>
          <p:nvPr/>
        </p:nvSpPr>
        <p:spPr>
          <a:xfrm>
            <a:off x="971640" y="40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5"/>
          <p:cNvGrpSpPr/>
          <p:nvPr/>
        </p:nvGrpSpPr>
        <p:grpSpPr>
          <a:xfrm>
            <a:off x="5904000" y="142920"/>
            <a:ext cx="3213720" cy="1856520"/>
            <a:chOff x="5904000" y="142920"/>
            <a:chExt cx="3213720" cy="1856520"/>
          </a:xfrm>
        </p:grpSpPr>
        <p:grpSp>
          <p:nvGrpSpPr>
            <p:cNvPr id="406" name="Group 6"/>
            <p:cNvGrpSpPr/>
            <p:nvPr/>
          </p:nvGrpSpPr>
          <p:grpSpPr>
            <a:xfrm>
              <a:off x="5904000" y="308520"/>
              <a:ext cx="3213720" cy="1690920"/>
              <a:chOff x="5904000" y="308520"/>
              <a:chExt cx="3213720" cy="1690920"/>
            </a:xfrm>
          </p:grpSpPr>
          <p:sp>
            <p:nvSpPr>
              <p:cNvPr id="407" name="Oval 7"/>
              <p:cNvSpPr/>
              <p:nvPr/>
            </p:nvSpPr>
            <p:spPr>
              <a:xfrm>
                <a:off x="5938920" y="362520"/>
                <a:ext cx="3178800" cy="163692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Oval 8"/>
              <p:cNvSpPr/>
              <p:nvPr/>
            </p:nvSpPr>
            <p:spPr>
              <a:xfrm>
                <a:off x="5904000" y="308520"/>
                <a:ext cx="3178800" cy="1636560"/>
              </a:xfrm>
              <a:prstGeom prst="ellipse">
                <a:avLst/>
              </a:prstGeom>
              <a:gradFill rotWithShape="0">
                <a:gsLst>
                  <a:gs pos="0">
                    <a:srgbClr val="8e8eff"/>
                  </a:gs>
                  <a:gs pos="100000">
                    <a:srgbClr val="0000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9" name="Oval 9"/>
            <p:cNvSpPr/>
            <p:nvPr/>
          </p:nvSpPr>
          <p:spPr>
            <a:xfrm>
              <a:off x="6055560" y="142920"/>
              <a:ext cx="2878920" cy="1555200"/>
            </a:xfrm>
            <a:prstGeom prst="ellipse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0"/>
            <p:cNvSpPr/>
            <p:nvPr/>
          </p:nvSpPr>
          <p:spPr>
            <a:xfrm>
              <a:off x="6093000" y="151920"/>
              <a:ext cx="2807640" cy="1514880"/>
            </a:xfrm>
            <a:prstGeom prst="ellipse">
              <a:avLst/>
            </a:prstGeom>
            <a:gradFill rotWithShape="0">
              <a:gsLst>
                <a:gs pos="0">
                  <a:srgbClr val="4f81bd">
                    <a:alpha val="0"/>
                  </a:srgbClr>
                </a:gs>
                <a:gs pos="100000">
                  <a:srgbClr val="c2d3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1"/>
            <p:cNvSpPr/>
            <p:nvPr/>
          </p:nvSpPr>
          <p:spPr>
            <a:xfrm>
              <a:off x="6121800" y="167040"/>
              <a:ext cx="2671200" cy="1416600"/>
            </a:xfrm>
            <a:prstGeom prst="ellipse">
              <a:avLst/>
            </a:prstGeom>
            <a:gradFill rotWithShape="0">
              <a:gsLst>
                <a:gs pos="0">
                  <a:srgbClr val="3f6696"/>
                </a:gs>
                <a:gs pos="100000">
                  <a:srgbClr val="4f81bd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2"/>
            <p:cNvSpPr/>
            <p:nvPr/>
          </p:nvSpPr>
          <p:spPr>
            <a:xfrm>
              <a:off x="6262920" y="198360"/>
              <a:ext cx="2351520" cy="11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f81bd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Прямоугольник 32"/>
          <p:cNvSpPr/>
          <p:nvPr/>
        </p:nvSpPr>
        <p:spPr>
          <a:xfrm>
            <a:off x="5072040" y="5716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НАГЛЯД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ИНФОРМАЦИО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13"/>
          <p:cNvSpPr/>
          <p:nvPr/>
        </p:nvSpPr>
        <p:spPr>
          <a:xfrm rot="10157400">
            <a:off x="4986000" y="939600"/>
            <a:ext cx="1044720" cy="121104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1211040"/>
              <a:gd name="textAreaBottom" fmla="*/ 1211400 h 121104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5"/>
          <p:cNvGrpSpPr/>
          <p:nvPr/>
        </p:nvGrpSpPr>
        <p:grpSpPr>
          <a:xfrm>
            <a:off x="5500800" y="4429080"/>
            <a:ext cx="3356640" cy="2071080"/>
            <a:chOff x="5500800" y="4429080"/>
            <a:chExt cx="3356640" cy="2071080"/>
          </a:xfrm>
        </p:grpSpPr>
        <p:grpSp>
          <p:nvGrpSpPr>
            <p:cNvPr id="416" name="Group 6"/>
            <p:cNvGrpSpPr/>
            <p:nvPr/>
          </p:nvGrpSpPr>
          <p:grpSpPr>
            <a:xfrm>
              <a:off x="5500800" y="4613760"/>
              <a:ext cx="3356640" cy="1886400"/>
              <a:chOff x="5500800" y="4613760"/>
              <a:chExt cx="3356640" cy="1886400"/>
            </a:xfrm>
          </p:grpSpPr>
          <p:sp>
            <p:nvSpPr>
              <p:cNvPr id="417" name="Oval 7"/>
              <p:cNvSpPr/>
              <p:nvPr/>
            </p:nvSpPr>
            <p:spPr>
              <a:xfrm>
                <a:off x="5537520" y="4673880"/>
                <a:ext cx="3319920" cy="182628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Oval 8"/>
              <p:cNvSpPr/>
              <p:nvPr/>
            </p:nvSpPr>
            <p:spPr>
              <a:xfrm>
                <a:off x="5500800" y="4613760"/>
                <a:ext cx="3319920" cy="1825920"/>
              </a:xfrm>
              <a:prstGeom prst="ellipse">
                <a:avLst/>
              </a:prstGeom>
              <a:gradFill rotWithShape="0">
                <a:gsLst>
                  <a:gs pos="0">
                    <a:srgbClr val="8e8eff"/>
                  </a:gs>
                  <a:gs pos="100000">
                    <a:srgbClr val="0000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Oval 9"/>
            <p:cNvSpPr/>
            <p:nvPr/>
          </p:nvSpPr>
          <p:spPr>
            <a:xfrm>
              <a:off x="5658840" y="4429080"/>
              <a:ext cx="3003120" cy="1734840"/>
            </a:xfrm>
            <a:prstGeom prst="ellipse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0"/>
            <p:cNvSpPr/>
            <p:nvPr/>
          </p:nvSpPr>
          <p:spPr>
            <a:xfrm>
              <a:off x="5698080" y="4439160"/>
              <a:ext cx="2934000" cy="1691640"/>
            </a:xfrm>
            <a:prstGeom prst="ellipse">
              <a:avLst/>
            </a:prstGeom>
            <a:gradFill rotWithShape="0">
              <a:gsLst>
                <a:gs pos="0">
                  <a:srgbClr val="4f81bd">
                    <a:alpha val="0"/>
                  </a:srgbClr>
                </a:gs>
                <a:gs pos="100000">
                  <a:srgbClr val="c2d3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1"/>
            <p:cNvSpPr/>
            <p:nvPr/>
          </p:nvSpPr>
          <p:spPr>
            <a:xfrm>
              <a:off x="5728320" y="4456080"/>
              <a:ext cx="2791800" cy="1580400"/>
            </a:xfrm>
            <a:prstGeom prst="ellipse">
              <a:avLst/>
            </a:prstGeom>
            <a:gradFill rotWithShape="0">
              <a:gsLst>
                <a:gs pos="0">
                  <a:srgbClr val="3f6696"/>
                </a:gs>
                <a:gs pos="100000">
                  <a:srgbClr val="4f81bd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2"/>
            <p:cNvSpPr/>
            <p:nvPr/>
          </p:nvSpPr>
          <p:spPr>
            <a:xfrm>
              <a:off x="5875920" y="4490640"/>
              <a:ext cx="2457720" cy="1280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f81bd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Прямоугольник 42"/>
          <p:cNvSpPr/>
          <p:nvPr/>
        </p:nvSpPr>
        <p:spPr>
          <a:xfrm>
            <a:off x="6436800" y="464328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ДОСУГ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13"/>
          <p:cNvSpPr/>
          <p:nvPr/>
        </p:nvSpPr>
        <p:spPr>
          <a:xfrm rot="14922600">
            <a:off x="5956560" y="3516840"/>
            <a:ext cx="903600" cy="1241280"/>
          </a:xfrm>
          <a:custGeom>
            <a:avLst/>
            <a:gdLst>
              <a:gd name="textAreaLeft" fmla="*/ 0 w 903600"/>
              <a:gd name="textAreaRight" fmla="*/ 903960 w 903600"/>
              <a:gd name="textAreaTop" fmla="*/ 0 h 1241280"/>
              <a:gd name="textAreaBottom" fmla="*/ 1241640 h 124128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5"/>
          <p:cNvGrpSpPr/>
          <p:nvPr/>
        </p:nvGrpSpPr>
        <p:grpSpPr>
          <a:xfrm>
            <a:off x="206280" y="142920"/>
            <a:ext cx="3283920" cy="2071080"/>
            <a:chOff x="206280" y="142920"/>
            <a:chExt cx="3283920" cy="2071080"/>
          </a:xfrm>
        </p:grpSpPr>
        <p:grpSp>
          <p:nvGrpSpPr>
            <p:cNvPr id="426" name="Group 6"/>
            <p:cNvGrpSpPr/>
            <p:nvPr/>
          </p:nvGrpSpPr>
          <p:grpSpPr>
            <a:xfrm>
              <a:off x="206280" y="327600"/>
              <a:ext cx="3283920" cy="1886400"/>
              <a:chOff x="206280" y="327600"/>
              <a:chExt cx="3283920" cy="1886400"/>
            </a:xfrm>
          </p:grpSpPr>
          <p:sp>
            <p:nvSpPr>
              <p:cNvPr id="427" name="Oval 7"/>
              <p:cNvSpPr/>
              <p:nvPr/>
            </p:nvSpPr>
            <p:spPr>
              <a:xfrm>
                <a:off x="241920" y="387720"/>
                <a:ext cx="3248280" cy="182628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Oval 8"/>
              <p:cNvSpPr/>
              <p:nvPr/>
            </p:nvSpPr>
            <p:spPr>
              <a:xfrm>
                <a:off x="206280" y="327600"/>
                <a:ext cx="3248280" cy="1825920"/>
              </a:xfrm>
              <a:prstGeom prst="ellipse">
                <a:avLst/>
              </a:prstGeom>
              <a:gradFill rotWithShape="0">
                <a:gsLst>
                  <a:gs pos="0">
                    <a:srgbClr val="8e8eff"/>
                  </a:gs>
                  <a:gs pos="100000">
                    <a:srgbClr val="0000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Oval 9"/>
            <p:cNvSpPr/>
            <p:nvPr/>
          </p:nvSpPr>
          <p:spPr>
            <a:xfrm>
              <a:off x="361080" y="142920"/>
              <a:ext cx="2946960" cy="1734840"/>
            </a:xfrm>
            <a:prstGeom prst="ellipse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0"/>
            <p:cNvSpPr/>
            <p:nvPr/>
          </p:nvSpPr>
          <p:spPr>
            <a:xfrm>
              <a:off x="399240" y="153000"/>
              <a:ext cx="2868840" cy="1691640"/>
            </a:xfrm>
            <a:prstGeom prst="ellipse">
              <a:avLst/>
            </a:prstGeom>
            <a:gradFill rotWithShape="0">
              <a:gsLst>
                <a:gs pos="0">
                  <a:srgbClr val="4f81bd">
                    <a:alpha val="0"/>
                  </a:srgbClr>
                </a:gs>
                <a:gs pos="100000">
                  <a:srgbClr val="c2d3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1"/>
            <p:cNvSpPr/>
            <p:nvPr/>
          </p:nvSpPr>
          <p:spPr>
            <a:xfrm>
              <a:off x="428760" y="169920"/>
              <a:ext cx="2731320" cy="1580400"/>
            </a:xfrm>
            <a:prstGeom prst="ellipse">
              <a:avLst/>
            </a:prstGeom>
            <a:gradFill rotWithShape="0">
              <a:gsLst>
                <a:gs pos="0">
                  <a:srgbClr val="3f6696"/>
                </a:gs>
                <a:gs pos="100000">
                  <a:srgbClr val="4f81bd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2"/>
            <p:cNvSpPr/>
            <p:nvPr/>
          </p:nvSpPr>
          <p:spPr>
            <a:xfrm>
              <a:off x="573120" y="204480"/>
              <a:ext cx="2402640" cy="1280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f81bd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5"/>
          <p:cNvGrpSpPr/>
          <p:nvPr/>
        </p:nvGrpSpPr>
        <p:grpSpPr>
          <a:xfrm>
            <a:off x="428760" y="4429080"/>
            <a:ext cx="3283560" cy="2142000"/>
            <a:chOff x="428760" y="4429080"/>
            <a:chExt cx="3283560" cy="2142000"/>
          </a:xfrm>
        </p:grpSpPr>
        <p:grpSp>
          <p:nvGrpSpPr>
            <p:cNvPr id="434" name="Group 6"/>
            <p:cNvGrpSpPr/>
            <p:nvPr/>
          </p:nvGrpSpPr>
          <p:grpSpPr>
            <a:xfrm>
              <a:off x="428760" y="4620240"/>
              <a:ext cx="3283560" cy="1950840"/>
              <a:chOff x="428760" y="4620240"/>
              <a:chExt cx="3283560" cy="1950840"/>
            </a:xfrm>
          </p:grpSpPr>
          <p:sp>
            <p:nvSpPr>
              <p:cNvPr id="435" name="Oval 7"/>
              <p:cNvSpPr/>
              <p:nvPr/>
            </p:nvSpPr>
            <p:spPr>
              <a:xfrm>
                <a:off x="464400" y="4680360"/>
                <a:ext cx="3247920" cy="189072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Oval 8"/>
              <p:cNvSpPr/>
              <p:nvPr/>
            </p:nvSpPr>
            <p:spPr>
              <a:xfrm>
                <a:off x="428760" y="4620240"/>
                <a:ext cx="3247920" cy="1890720"/>
              </a:xfrm>
              <a:prstGeom prst="ellipse">
                <a:avLst/>
              </a:prstGeom>
              <a:gradFill rotWithShape="0">
                <a:gsLst>
                  <a:gs pos="0">
                    <a:srgbClr val="8e8eff"/>
                  </a:gs>
                  <a:gs pos="100000">
                    <a:srgbClr val="0000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7" name="Oval 9"/>
            <p:cNvSpPr/>
            <p:nvPr/>
          </p:nvSpPr>
          <p:spPr>
            <a:xfrm>
              <a:off x="583560" y="4429080"/>
              <a:ext cx="2946600" cy="1794600"/>
            </a:xfrm>
            <a:prstGeom prst="ellipse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0"/>
            <p:cNvSpPr/>
            <p:nvPr/>
          </p:nvSpPr>
          <p:spPr>
            <a:xfrm>
              <a:off x="621720" y="4439520"/>
              <a:ext cx="2868480" cy="1749960"/>
            </a:xfrm>
            <a:prstGeom prst="ellipse">
              <a:avLst/>
            </a:prstGeom>
            <a:gradFill rotWithShape="0">
              <a:gsLst>
                <a:gs pos="0">
                  <a:srgbClr val="4f81bd">
                    <a:alpha val="0"/>
                  </a:srgbClr>
                </a:gs>
                <a:gs pos="100000">
                  <a:srgbClr val="c2d3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1"/>
            <p:cNvSpPr/>
            <p:nvPr/>
          </p:nvSpPr>
          <p:spPr>
            <a:xfrm>
              <a:off x="651240" y="4456800"/>
              <a:ext cx="2730960" cy="1637280"/>
            </a:xfrm>
            <a:prstGeom prst="ellipse">
              <a:avLst/>
            </a:prstGeom>
            <a:gradFill rotWithShape="0">
              <a:gsLst>
                <a:gs pos="0">
                  <a:srgbClr val="3f6696"/>
                </a:gs>
                <a:gs pos="100000">
                  <a:srgbClr val="4f81bd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2"/>
            <p:cNvSpPr/>
            <p:nvPr/>
          </p:nvSpPr>
          <p:spPr>
            <a:xfrm>
              <a:off x="795600" y="4492800"/>
              <a:ext cx="2402640" cy="132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f81bd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Freeform 13"/>
          <p:cNvSpPr/>
          <p:nvPr/>
        </p:nvSpPr>
        <p:spPr>
          <a:xfrm rot="20928600">
            <a:off x="3500280" y="4336560"/>
            <a:ext cx="687600" cy="1241640"/>
          </a:xfrm>
          <a:custGeom>
            <a:avLst/>
            <a:gdLst>
              <a:gd name="textAreaLeft" fmla="*/ 0 w 687600"/>
              <a:gd name="textAreaRight" fmla="*/ 687960 w 687600"/>
              <a:gd name="textAreaTop" fmla="*/ 0 h 1241640"/>
              <a:gd name="textAreaBottom" fmla="*/ 1242000 h 124164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оугольник 28"/>
          <p:cNvSpPr/>
          <p:nvPr/>
        </p:nvSpPr>
        <p:spPr>
          <a:xfrm>
            <a:off x="-214200" y="4857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ИНФОРМАЦИОННО</a:t>
            </a:r>
            <a:r>
              <a:rPr b="1" lang="ru-RU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АНАЛИ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оугольник 60"/>
          <p:cNvSpPr/>
          <p:nvPr/>
        </p:nvSpPr>
        <p:spPr>
          <a:xfrm>
            <a:off x="789480" y="85716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ЗНАВА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13"/>
          <p:cNvSpPr/>
          <p:nvPr/>
        </p:nvSpPr>
        <p:spPr>
          <a:xfrm rot="4081200">
            <a:off x="1921320" y="2061000"/>
            <a:ext cx="1043280" cy="1123920"/>
          </a:xfrm>
          <a:custGeom>
            <a:avLst/>
            <a:gdLst>
              <a:gd name="textAreaLeft" fmla="*/ 0 w 1043280"/>
              <a:gd name="textAreaRight" fmla="*/ 1043640 w 104328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3"/>
          <p:cNvSpPr/>
          <p:nvPr/>
        </p:nvSpPr>
        <p:spPr>
          <a:xfrm>
            <a:off x="971640" y="40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оугольник 3"/>
          <p:cNvSpPr/>
          <p:nvPr/>
        </p:nvSpPr>
        <p:spPr>
          <a:xfrm>
            <a:off x="330120" y="428760"/>
            <a:ext cx="52056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ОЗНАВАТЕЛЬ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  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семинары – практику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  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родительские собр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 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(нетрадиционной формы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  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открытые заня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  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мастер-класс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  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бесе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  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индивидуальные консульт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  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игровые тренингиСеминары-практику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     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Тренин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  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Педагогический брифи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  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Педагогическая гости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  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Игры с педагогическим содержа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  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Педагогическая библиотека для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4"/>
          <p:cNvSpPr/>
          <p:nvPr/>
        </p:nvSpPr>
        <p:spPr>
          <a:xfrm>
            <a:off x="290520" y="4365720"/>
            <a:ext cx="860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знавательное направление - это обогащение родителей знаниями в вопросах воспитания детей дошкольного возраста. Повышается уровень воспитательно-образовательной деятельности родителей, что способствует развитию творческих инициати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14"/>
          <p:cNvGrpSpPr/>
          <p:nvPr/>
        </p:nvGrpSpPr>
        <p:grpSpPr>
          <a:xfrm>
            <a:off x="500040" y="785880"/>
            <a:ext cx="246240" cy="225360"/>
            <a:chOff x="500040" y="785880"/>
            <a:chExt cx="246240" cy="225360"/>
          </a:xfrm>
        </p:grpSpPr>
        <p:sp>
          <p:nvSpPr>
            <p:cNvPr id="449" name="AutoShape 15"/>
            <p:cNvSpPr/>
            <p:nvPr/>
          </p:nvSpPr>
          <p:spPr>
            <a:xfrm>
              <a:off x="501840" y="789480"/>
              <a:ext cx="244440" cy="221760"/>
            </a:xfrm>
            <a:prstGeom prst="hexagon">
              <a:avLst>
                <a:gd name="adj" fmla="val 27557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AutoShape 16"/>
            <p:cNvSpPr/>
            <p:nvPr/>
          </p:nvSpPr>
          <p:spPr>
            <a:xfrm>
              <a:off x="500040" y="785880"/>
              <a:ext cx="244440" cy="221760"/>
            </a:xfrm>
            <a:prstGeom prst="hexagon">
              <a:avLst>
                <a:gd name="adj" fmla="val 27557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AutoShape 17"/>
            <p:cNvSpPr/>
            <p:nvPr/>
          </p:nvSpPr>
          <p:spPr>
            <a:xfrm>
              <a:off x="514080" y="799920"/>
              <a:ext cx="214560" cy="193680"/>
            </a:xfrm>
            <a:prstGeom prst="hexagon">
              <a:avLst>
                <a:gd name="adj" fmla="val 27551"/>
                <a:gd name="vf" fmla="val 115470"/>
              </a:avLst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14"/>
          <p:cNvGrpSpPr/>
          <p:nvPr/>
        </p:nvGrpSpPr>
        <p:grpSpPr>
          <a:xfrm>
            <a:off x="500040" y="1643040"/>
            <a:ext cx="246240" cy="225360"/>
            <a:chOff x="500040" y="1643040"/>
            <a:chExt cx="246240" cy="225360"/>
          </a:xfrm>
        </p:grpSpPr>
        <p:sp>
          <p:nvSpPr>
            <p:cNvPr id="453" name="AutoShape 15"/>
            <p:cNvSpPr/>
            <p:nvPr/>
          </p:nvSpPr>
          <p:spPr>
            <a:xfrm>
              <a:off x="501840" y="1646640"/>
              <a:ext cx="244440" cy="221760"/>
            </a:xfrm>
            <a:prstGeom prst="hexagon">
              <a:avLst>
                <a:gd name="adj" fmla="val 27557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utoShape 16"/>
            <p:cNvSpPr/>
            <p:nvPr/>
          </p:nvSpPr>
          <p:spPr>
            <a:xfrm>
              <a:off x="500040" y="1643040"/>
              <a:ext cx="244440" cy="221760"/>
            </a:xfrm>
            <a:prstGeom prst="hexagon">
              <a:avLst>
                <a:gd name="adj" fmla="val 27557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utoShape 17"/>
            <p:cNvSpPr/>
            <p:nvPr/>
          </p:nvSpPr>
          <p:spPr>
            <a:xfrm>
              <a:off x="514080" y="1657080"/>
              <a:ext cx="214560" cy="193680"/>
            </a:xfrm>
            <a:prstGeom prst="hexagon">
              <a:avLst>
                <a:gd name="adj" fmla="val 27551"/>
                <a:gd name="vf" fmla="val 115470"/>
              </a:avLst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Group 14"/>
          <p:cNvGrpSpPr/>
          <p:nvPr/>
        </p:nvGrpSpPr>
        <p:grpSpPr>
          <a:xfrm>
            <a:off x="500040" y="1071720"/>
            <a:ext cx="246240" cy="225360"/>
            <a:chOff x="500040" y="1071720"/>
            <a:chExt cx="246240" cy="225360"/>
          </a:xfrm>
        </p:grpSpPr>
        <p:sp>
          <p:nvSpPr>
            <p:cNvPr id="457" name="AutoShape 15"/>
            <p:cNvSpPr/>
            <p:nvPr/>
          </p:nvSpPr>
          <p:spPr>
            <a:xfrm>
              <a:off x="501840" y="1075320"/>
              <a:ext cx="244440" cy="221760"/>
            </a:xfrm>
            <a:prstGeom prst="hexagon">
              <a:avLst>
                <a:gd name="adj" fmla="val 27557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AutoShape 16"/>
            <p:cNvSpPr/>
            <p:nvPr/>
          </p:nvSpPr>
          <p:spPr>
            <a:xfrm>
              <a:off x="500040" y="1071720"/>
              <a:ext cx="244440" cy="221760"/>
            </a:xfrm>
            <a:prstGeom prst="hexagon">
              <a:avLst>
                <a:gd name="adj" fmla="val 27557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17"/>
            <p:cNvSpPr/>
            <p:nvPr/>
          </p:nvSpPr>
          <p:spPr>
            <a:xfrm>
              <a:off x="514080" y="1085760"/>
              <a:ext cx="214560" cy="193680"/>
            </a:xfrm>
            <a:prstGeom prst="hexagon">
              <a:avLst>
                <a:gd name="adj" fmla="val 27551"/>
                <a:gd name="vf" fmla="val 115470"/>
              </a:avLst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Group 14"/>
          <p:cNvGrpSpPr/>
          <p:nvPr/>
        </p:nvGrpSpPr>
        <p:grpSpPr>
          <a:xfrm>
            <a:off x="500040" y="1928880"/>
            <a:ext cx="246240" cy="225360"/>
            <a:chOff x="500040" y="1928880"/>
            <a:chExt cx="246240" cy="225360"/>
          </a:xfrm>
        </p:grpSpPr>
        <p:sp>
          <p:nvSpPr>
            <p:cNvPr id="461" name="AutoShape 15"/>
            <p:cNvSpPr/>
            <p:nvPr/>
          </p:nvSpPr>
          <p:spPr>
            <a:xfrm>
              <a:off x="501840" y="1932480"/>
              <a:ext cx="244440" cy="221760"/>
            </a:xfrm>
            <a:prstGeom prst="hexagon">
              <a:avLst>
                <a:gd name="adj" fmla="val 27557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16"/>
            <p:cNvSpPr/>
            <p:nvPr/>
          </p:nvSpPr>
          <p:spPr>
            <a:xfrm>
              <a:off x="500040" y="1928880"/>
              <a:ext cx="244440" cy="221760"/>
            </a:xfrm>
            <a:prstGeom prst="hexagon">
              <a:avLst>
                <a:gd name="adj" fmla="val 27557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17"/>
            <p:cNvSpPr/>
            <p:nvPr/>
          </p:nvSpPr>
          <p:spPr>
            <a:xfrm>
              <a:off x="514080" y="1942920"/>
              <a:ext cx="214560" cy="193680"/>
            </a:xfrm>
            <a:prstGeom prst="hexagon">
              <a:avLst>
                <a:gd name="adj" fmla="val 27551"/>
                <a:gd name="vf" fmla="val 115470"/>
              </a:avLst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Group 14"/>
          <p:cNvGrpSpPr/>
          <p:nvPr/>
        </p:nvGrpSpPr>
        <p:grpSpPr>
          <a:xfrm>
            <a:off x="500040" y="2214720"/>
            <a:ext cx="246240" cy="225360"/>
            <a:chOff x="500040" y="2214720"/>
            <a:chExt cx="246240" cy="225360"/>
          </a:xfrm>
        </p:grpSpPr>
        <p:sp>
          <p:nvSpPr>
            <p:cNvPr id="465" name="AutoShape 15"/>
            <p:cNvSpPr/>
            <p:nvPr/>
          </p:nvSpPr>
          <p:spPr>
            <a:xfrm>
              <a:off x="501840" y="2218320"/>
              <a:ext cx="244440" cy="221760"/>
            </a:xfrm>
            <a:prstGeom prst="hexagon">
              <a:avLst>
                <a:gd name="adj" fmla="val 27557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utoShape 16"/>
            <p:cNvSpPr/>
            <p:nvPr/>
          </p:nvSpPr>
          <p:spPr>
            <a:xfrm>
              <a:off x="500040" y="2214720"/>
              <a:ext cx="244440" cy="221760"/>
            </a:xfrm>
            <a:prstGeom prst="hexagon">
              <a:avLst>
                <a:gd name="adj" fmla="val 27557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17"/>
            <p:cNvSpPr/>
            <p:nvPr/>
          </p:nvSpPr>
          <p:spPr>
            <a:xfrm>
              <a:off x="514080" y="2228760"/>
              <a:ext cx="214560" cy="193680"/>
            </a:xfrm>
            <a:prstGeom prst="hexagon">
              <a:avLst>
                <a:gd name="adj" fmla="val 27551"/>
                <a:gd name="vf" fmla="val 115470"/>
              </a:avLst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Group 14"/>
          <p:cNvGrpSpPr/>
          <p:nvPr/>
        </p:nvGrpSpPr>
        <p:grpSpPr>
          <a:xfrm>
            <a:off x="500040" y="2500200"/>
            <a:ext cx="246240" cy="225360"/>
            <a:chOff x="500040" y="2500200"/>
            <a:chExt cx="246240" cy="225360"/>
          </a:xfrm>
        </p:grpSpPr>
        <p:sp>
          <p:nvSpPr>
            <p:cNvPr id="469" name="AutoShape 15"/>
            <p:cNvSpPr/>
            <p:nvPr/>
          </p:nvSpPr>
          <p:spPr>
            <a:xfrm>
              <a:off x="501840" y="2503800"/>
              <a:ext cx="244440" cy="221760"/>
            </a:xfrm>
            <a:prstGeom prst="hexagon">
              <a:avLst>
                <a:gd name="adj" fmla="val 27557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AutoShape 16"/>
            <p:cNvSpPr/>
            <p:nvPr/>
          </p:nvSpPr>
          <p:spPr>
            <a:xfrm>
              <a:off x="500040" y="2500200"/>
              <a:ext cx="244440" cy="221760"/>
            </a:xfrm>
            <a:prstGeom prst="hexagon">
              <a:avLst>
                <a:gd name="adj" fmla="val 27557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AutoShape 17"/>
            <p:cNvSpPr/>
            <p:nvPr/>
          </p:nvSpPr>
          <p:spPr>
            <a:xfrm>
              <a:off x="514080" y="2514240"/>
              <a:ext cx="214560" cy="193680"/>
            </a:xfrm>
            <a:prstGeom prst="hexagon">
              <a:avLst>
                <a:gd name="adj" fmla="val 27551"/>
                <a:gd name="vf" fmla="val 115470"/>
              </a:avLst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Group 14"/>
          <p:cNvGrpSpPr/>
          <p:nvPr/>
        </p:nvGrpSpPr>
        <p:grpSpPr>
          <a:xfrm>
            <a:off x="453960" y="2973240"/>
            <a:ext cx="246240" cy="225720"/>
            <a:chOff x="453960" y="2973240"/>
            <a:chExt cx="246240" cy="225720"/>
          </a:xfrm>
        </p:grpSpPr>
        <p:sp>
          <p:nvSpPr>
            <p:cNvPr id="473" name="AutoShape 15"/>
            <p:cNvSpPr/>
            <p:nvPr/>
          </p:nvSpPr>
          <p:spPr>
            <a:xfrm>
              <a:off x="455760" y="2976840"/>
              <a:ext cx="244440" cy="222120"/>
            </a:xfrm>
            <a:prstGeom prst="hexagon">
              <a:avLst>
                <a:gd name="adj" fmla="val 27512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AutoShape 16"/>
            <p:cNvSpPr/>
            <p:nvPr/>
          </p:nvSpPr>
          <p:spPr>
            <a:xfrm>
              <a:off x="453960" y="2973240"/>
              <a:ext cx="244440" cy="222120"/>
            </a:xfrm>
            <a:prstGeom prst="hexagon">
              <a:avLst>
                <a:gd name="adj" fmla="val 27512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17"/>
            <p:cNvSpPr/>
            <p:nvPr/>
          </p:nvSpPr>
          <p:spPr>
            <a:xfrm>
              <a:off x="468000" y="2987280"/>
              <a:ext cx="214560" cy="194040"/>
            </a:xfrm>
            <a:prstGeom prst="hexagon">
              <a:avLst>
                <a:gd name="adj" fmla="val 27500"/>
                <a:gd name="vf" fmla="val 115470"/>
              </a:avLst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6" name="Picture 32" descr=""/>
          <p:cNvPicPr/>
          <p:nvPr/>
        </p:nvPicPr>
        <p:blipFill>
          <a:blip r:embed="rId1"/>
          <a:stretch/>
        </p:blipFill>
        <p:spPr>
          <a:xfrm>
            <a:off x="460440" y="3287880"/>
            <a:ext cx="268200" cy="2314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33" descr=""/>
          <p:cNvPicPr/>
          <p:nvPr/>
        </p:nvPicPr>
        <p:blipFill>
          <a:blip r:embed="rId2"/>
          <a:stretch/>
        </p:blipFill>
        <p:spPr>
          <a:xfrm>
            <a:off x="453960" y="3567240"/>
            <a:ext cx="268200" cy="2314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34" descr=""/>
          <p:cNvPicPr/>
          <p:nvPr/>
        </p:nvPicPr>
        <p:blipFill>
          <a:blip r:embed="rId3"/>
          <a:stretch/>
        </p:blipFill>
        <p:spPr>
          <a:xfrm>
            <a:off x="444600" y="3803760"/>
            <a:ext cx="268200" cy="23184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35" descr=""/>
          <p:cNvPicPr/>
          <p:nvPr/>
        </p:nvPicPr>
        <p:blipFill>
          <a:blip r:embed="rId4"/>
          <a:stretch/>
        </p:blipFill>
        <p:spPr>
          <a:xfrm>
            <a:off x="431640" y="4079880"/>
            <a:ext cx="268560" cy="2318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38" descr=""/>
          <p:cNvPicPr/>
          <p:nvPr/>
        </p:nvPicPr>
        <p:blipFill>
          <a:blip r:embed="rId5"/>
          <a:stretch/>
        </p:blipFill>
        <p:spPr>
          <a:xfrm>
            <a:off x="5121360" y="262080"/>
            <a:ext cx="3614760" cy="238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"/>
          <p:cNvSpPr/>
          <p:nvPr/>
        </p:nvSpPr>
        <p:spPr>
          <a:xfrm>
            <a:off x="197640" y="363240"/>
            <a:ext cx="4659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ИНФОРМАЦИОННО</a:t>
            </a: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АНАЛИТИЧЕСК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анкетиров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социологические опрос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« Почтовый ящик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сайт ДОУ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ww.malishok21.r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работа с родителями чер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социальные сети WhatsAPP, Telegra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Instagram и т.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оугольник 2"/>
          <p:cNvSpPr/>
          <p:nvPr/>
        </p:nvSpPr>
        <p:spPr>
          <a:xfrm>
            <a:off x="3857760" y="428760"/>
            <a:ext cx="528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Это направление помогает нам лучше ориентироваться в педагогических потребностях каждой семьи, учитывая её индивидуальные особ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Рисунок 2" descr=""/>
          <p:cNvPicPr/>
          <p:nvPr/>
        </p:nvPicPr>
        <p:blipFill>
          <a:blip r:embed="rId1"/>
          <a:stretch/>
        </p:blipFill>
        <p:spPr>
          <a:xfrm>
            <a:off x="5219640" y="2637000"/>
            <a:ext cx="3500640" cy="2469960"/>
          </a:xfrm>
          <a:prstGeom prst="rect">
            <a:avLst/>
          </a:prstGeom>
          <a:ln w="0">
            <a:noFill/>
          </a:ln>
        </p:spPr>
      </p:pic>
      <p:grpSp>
        <p:nvGrpSpPr>
          <p:cNvPr id="484" name="Group 14"/>
          <p:cNvGrpSpPr/>
          <p:nvPr/>
        </p:nvGrpSpPr>
        <p:grpSpPr>
          <a:xfrm>
            <a:off x="88920" y="915840"/>
            <a:ext cx="245880" cy="225720"/>
            <a:chOff x="88920" y="915840"/>
            <a:chExt cx="245880" cy="225720"/>
          </a:xfrm>
        </p:grpSpPr>
        <p:sp>
          <p:nvSpPr>
            <p:cNvPr id="485" name="AutoShape 15"/>
            <p:cNvSpPr/>
            <p:nvPr/>
          </p:nvSpPr>
          <p:spPr>
            <a:xfrm>
              <a:off x="90720" y="919440"/>
              <a:ext cx="244080" cy="222120"/>
            </a:xfrm>
            <a:prstGeom prst="hexagon">
              <a:avLst>
                <a:gd name="adj" fmla="val 27472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AutoShape 16"/>
            <p:cNvSpPr/>
            <p:nvPr/>
          </p:nvSpPr>
          <p:spPr>
            <a:xfrm>
              <a:off x="88920" y="915840"/>
              <a:ext cx="244080" cy="222120"/>
            </a:xfrm>
            <a:prstGeom prst="hexagon">
              <a:avLst>
                <a:gd name="adj" fmla="val 27472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AutoShape 17"/>
            <p:cNvSpPr/>
            <p:nvPr/>
          </p:nvSpPr>
          <p:spPr>
            <a:xfrm>
              <a:off x="102960" y="929880"/>
              <a:ext cx="214200" cy="194040"/>
            </a:xfrm>
            <a:prstGeom prst="hexagon">
              <a:avLst>
                <a:gd name="adj" fmla="val 27454"/>
                <a:gd name="vf" fmla="val 115470"/>
              </a:avLst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Group 14"/>
          <p:cNvGrpSpPr/>
          <p:nvPr/>
        </p:nvGrpSpPr>
        <p:grpSpPr>
          <a:xfrm>
            <a:off x="103320" y="1403280"/>
            <a:ext cx="245880" cy="225360"/>
            <a:chOff x="103320" y="1403280"/>
            <a:chExt cx="245880" cy="225360"/>
          </a:xfrm>
        </p:grpSpPr>
        <p:sp>
          <p:nvSpPr>
            <p:cNvPr id="489" name="AutoShape 15"/>
            <p:cNvSpPr/>
            <p:nvPr/>
          </p:nvSpPr>
          <p:spPr>
            <a:xfrm>
              <a:off x="105120" y="1406880"/>
              <a:ext cx="244080" cy="221760"/>
            </a:xfrm>
            <a:prstGeom prst="hexagon">
              <a:avLst>
                <a:gd name="adj" fmla="val 2751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AutoShape 16"/>
            <p:cNvSpPr/>
            <p:nvPr/>
          </p:nvSpPr>
          <p:spPr>
            <a:xfrm>
              <a:off x="103320" y="1403280"/>
              <a:ext cx="244080" cy="221760"/>
            </a:xfrm>
            <a:prstGeom prst="hexagon">
              <a:avLst>
                <a:gd name="adj" fmla="val 2751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AutoShape 17"/>
            <p:cNvSpPr/>
            <p:nvPr/>
          </p:nvSpPr>
          <p:spPr>
            <a:xfrm>
              <a:off x="117360" y="1417320"/>
              <a:ext cx="214200" cy="193680"/>
            </a:xfrm>
            <a:prstGeom prst="hexagon">
              <a:avLst>
                <a:gd name="adj" fmla="val 27505"/>
                <a:gd name="vf" fmla="val 115470"/>
              </a:avLst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Group 14"/>
          <p:cNvGrpSpPr/>
          <p:nvPr/>
        </p:nvGrpSpPr>
        <p:grpSpPr>
          <a:xfrm>
            <a:off x="117360" y="1868400"/>
            <a:ext cx="246240" cy="225360"/>
            <a:chOff x="117360" y="1868400"/>
            <a:chExt cx="246240" cy="225360"/>
          </a:xfrm>
        </p:grpSpPr>
        <p:sp>
          <p:nvSpPr>
            <p:cNvPr id="493" name="AutoShape 15"/>
            <p:cNvSpPr/>
            <p:nvPr/>
          </p:nvSpPr>
          <p:spPr>
            <a:xfrm>
              <a:off x="119160" y="1872000"/>
              <a:ext cx="244440" cy="221760"/>
            </a:xfrm>
            <a:prstGeom prst="hexagon">
              <a:avLst>
                <a:gd name="adj" fmla="val 27557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AutoShape 16"/>
            <p:cNvSpPr/>
            <p:nvPr/>
          </p:nvSpPr>
          <p:spPr>
            <a:xfrm>
              <a:off x="117360" y="1868400"/>
              <a:ext cx="244440" cy="221760"/>
            </a:xfrm>
            <a:prstGeom prst="hexagon">
              <a:avLst>
                <a:gd name="adj" fmla="val 27557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AutoShape 17"/>
            <p:cNvSpPr/>
            <p:nvPr/>
          </p:nvSpPr>
          <p:spPr>
            <a:xfrm>
              <a:off x="131400" y="1882440"/>
              <a:ext cx="214560" cy="193680"/>
            </a:xfrm>
            <a:prstGeom prst="hexagon">
              <a:avLst>
                <a:gd name="adj" fmla="val 27551"/>
                <a:gd name="vf" fmla="val 115470"/>
              </a:avLst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14"/>
          <p:cNvGrpSpPr/>
          <p:nvPr/>
        </p:nvGrpSpPr>
        <p:grpSpPr>
          <a:xfrm>
            <a:off x="165240" y="2228760"/>
            <a:ext cx="245880" cy="225360"/>
            <a:chOff x="165240" y="2228760"/>
            <a:chExt cx="245880" cy="225360"/>
          </a:xfrm>
        </p:grpSpPr>
        <p:sp>
          <p:nvSpPr>
            <p:cNvPr id="497" name="AutoShape 15"/>
            <p:cNvSpPr/>
            <p:nvPr/>
          </p:nvSpPr>
          <p:spPr>
            <a:xfrm>
              <a:off x="167040" y="2232360"/>
              <a:ext cx="244080" cy="221760"/>
            </a:xfrm>
            <a:prstGeom prst="hexagon">
              <a:avLst>
                <a:gd name="adj" fmla="val 2751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16"/>
            <p:cNvSpPr/>
            <p:nvPr/>
          </p:nvSpPr>
          <p:spPr>
            <a:xfrm>
              <a:off x="165240" y="2228760"/>
              <a:ext cx="244080" cy="221760"/>
            </a:xfrm>
            <a:prstGeom prst="hexagon">
              <a:avLst>
                <a:gd name="adj" fmla="val 2751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17"/>
            <p:cNvSpPr/>
            <p:nvPr/>
          </p:nvSpPr>
          <p:spPr>
            <a:xfrm>
              <a:off x="179280" y="2242800"/>
              <a:ext cx="214200" cy="193680"/>
            </a:xfrm>
            <a:prstGeom prst="hexagon">
              <a:avLst>
                <a:gd name="adj" fmla="val 27505"/>
                <a:gd name="vf" fmla="val 115470"/>
              </a:avLst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0" name="Рисунок 3" descr=""/>
          <p:cNvPicPr/>
          <p:nvPr/>
        </p:nvPicPr>
        <p:blipFill>
          <a:blip r:embed="rId2"/>
          <a:stretch/>
        </p:blipFill>
        <p:spPr>
          <a:xfrm>
            <a:off x="3198960" y="2952720"/>
            <a:ext cx="1582560" cy="34290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23" descr="C:\Users\user\Downloads\Screenshot_20220419_144009_ru.yandex.searchplugin (3).jpg"/>
          <p:cNvPicPr/>
          <p:nvPr/>
        </p:nvPicPr>
        <p:blipFill>
          <a:blip r:embed="rId3"/>
          <a:srcRect l="-3915" t="0" r="0" b="0"/>
          <a:stretch/>
        </p:blipFill>
        <p:spPr>
          <a:xfrm>
            <a:off x="701640" y="3213000"/>
            <a:ext cx="1938240" cy="3191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7T13:27:43Z</dcterms:created>
  <dc:creator>Наталья</dc:creator>
  <dc:description/>
  <dc:language>en-US</dc:language>
  <cp:lastModifiedBy>user</cp:lastModifiedBy>
  <dcterms:modified xsi:type="dcterms:W3CDTF">2022-04-25T09:01:42Z</dcterms:modified>
  <cp:revision>138</cp:revision>
  <dc:subject/>
  <dc:title>Слайд застав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31049</vt:lpwstr>
  </property>
</Properties>
</file>