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F85-EDEB-4535-8FED-D924EB7D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F0A-7621-479E-9C7C-F2CA6E6C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D49E0-9ED4-491B-A5E2-E8C392D1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DDA15-F831-4559-AF08-8BE37647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0E889-30D2-4BE7-886B-66CEBCBD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2B6B3-D321-40A8-83A4-E1A5AED3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DD4D4-4036-43CE-B384-5969DD74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D3344-7410-4EFA-8C99-666AA26B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B5780-2FFD-4A53-A64A-1FA46D02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3CFE8-C913-42EC-B7C8-898475F0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61759-2FB0-48EC-BAA9-7B9C2532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5F9-208D-4FB9-8ADC-64F9022D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7ED1-4E7A-4802-AF72-4A5EAD67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4784-9F24-4874-97EA-9D3827E9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7D03-FB0C-4A8A-95AF-21106484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5DE3-02AC-49D3-B6E2-4DB87B8F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71C5-3175-4D9D-AE1D-85F8D14D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48EB-233D-4910-95FA-DBB5CFF6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0CA9-A1FD-4482-991A-1F4020C3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F56F-3BCD-405D-A4EC-2CCE3462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244-F155-4854-A8A5-EF682EE1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A25B-7F4F-44CA-946D-8018B8C9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1AAC-E401-4E81-8DC4-77D99813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BF8C-2381-4B58-946E-4AB5C6FE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11B2-635B-498D-9634-AE119F81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6FEB-70B7-4BE5-B53F-7E9D3F00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5A7E6-7AA4-4A45-9AB9-96A8A24F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E8512-1E2C-496C-982D-F0F09383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5C58E-DC46-42BB-B3CA-34D1C657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347DC-673B-4F24-870B-8CF9A46A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E1512-9080-475B-9C95-B8D2E512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141-68AC-44C5-9EA1-9B8C6E4A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854E3-BBE3-4EAF-8BAA-968746E5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DC19C-DC4F-4A85-B99F-C70668CF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FE6DF-D30F-4FDD-AB61-607198A6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F1641-A6FA-4BF4-A774-1CD15F20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7ADB9-1D8D-47FE-8B7E-7EC5B10B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6239F-D879-4B27-B5A8-0B9443C6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EBB5A-4104-4FBA-9950-B28CFA36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4C9F6-77A4-401A-9AAF-0394278A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584DC-27B6-4B3B-BB57-D55198F3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58C20-CA84-49FA-8B89-E5D983B8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D53-2C43-4CEB-8B80-A6359BC6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88872-BFAD-41C5-A4DA-0C08554F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CC951-8F82-4794-B8F2-94D1193A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E1E5A-CE98-4245-8E05-20CCF15E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88E9A-833F-4888-82E6-2490962D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1955D-F459-42E1-AFD9-87618431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A1201-B946-45C7-B296-8C09D4C4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03088-7889-4947-95A1-C3064626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182B3-F0A5-424C-B0F1-6E01BCE8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3E0DD-3BB7-435B-BB8D-F32319EC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D48E8-166D-4657-87B7-715D586F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B50-D400-4290-90BB-51B1DC99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56E1D-0F27-442D-9940-430CAF6C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BFC29-0945-47C6-88BC-AF13A236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42D5E-E014-4DA1-9163-A593E84B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7D22E-8A13-48B7-8101-979B76A5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FA003-AD86-43BA-AD25-3C15817D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45CA6-273E-4E09-B6F5-BFFE8641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94791-A5F4-43E4-AA6E-9BF4A68A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F8C94-E118-4617-96C3-7602A776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3A03D-03B7-4D24-A24E-D903804C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D087A-644A-461F-BFD3-A0029E9C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6EF-D74C-4AE7-B01A-21C3D550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8F6EF-8982-4B2E-80F7-803B3989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68072-4763-47A7-97F6-37491936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DF95E-5A40-4080-82DF-205FD6CF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427DB-258E-48F1-9414-D1D9B473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64A54-5072-41EC-B711-E908EBBE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01B0F-EAD9-4B62-8E79-134E91AA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76D42-17CE-41B4-BE0E-5FA548EC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B10BE-5AD4-4787-B106-3FE9589B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9F076-41C7-48B8-8F75-9EEF3728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3A4EA-50AE-4316-BFB0-EDD2DBAA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0A7-4ADA-4903-A2B2-E9BE73F8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749A9-40F9-45FB-BEA4-B5BE61B7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39F2F-C9CC-4A0D-B57B-4649D793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C87B4-A7B8-4B26-846A-98BA6337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88130-D7F9-4C1A-86CD-6406F96E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409BD-E0D8-4149-96E0-91370CCB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8994C-18A0-4C31-A97E-CBD44D7B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96F26-D6D1-4913-B790-FF764E51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A9F4B-8AEA-414B-8E36-A8E5E988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808CA-8D82-410A-991C-9052ADAF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17557-98A4-4BD7-955E-9EC39B4E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4D2E-97BC-43EB-AF74-6476AB8A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86E00-D7C6-4F11-B7FD-879D2290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3C74B-BA52-47FE-9E14-EAC62005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A9AC7-EF2D-4547-B1AF-E633C072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3C3E1-55E4-4315-B9F2-2A6F5578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697AF-9F4B-46EB-B0F6-11030445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5EEC2-92A6-4A03-A842-62666AC7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0236D-B503-4741-A30F-AE99E672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DA2ED-653F-4C70-950C-EF40CBE0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B3988-6088-4BEF-92DD-2420D7A7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904D6-D93F-48B0-A2FF-9A30D84F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1E8-B200-4B13-8F5B-71D947F9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EC075-7899-457B-8AD4-06DBA9F7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C117A-C701-4A01-8763-7146E5B2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DE62B-6ACC-4177-B7A3-1005F1AA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34CE5-B743-45A7-ADC9-5A9D46AC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2CCAF-C043-4309-AA36-5378CDB6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E3620-A828-4332-9D21-87B6F86B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CE52C-B296-405C-91B7-9DBDE2D9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BCB89-E2B5-4705-8A2B-F9426EB5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99129-EAFE-4FDC-B5D5-192D16AA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0944C-84F5-478A-B5FA-BC0BAF10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BDD0-AAB2-4C06-BEBF-6BCBF1FBD6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C902-D672-4415-9D83-543AC0798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CD7D-31E6-4888-8AF3-47D17E8DAD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00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6F19-8067-45E7-8AEB-1113DBD7F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732E-DD32-49C4-9460-43CCC23BD64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BC47-4D6A-48A5-8072-5B4D58353E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BAA6-E297-42E9-989D-2E91F593B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49FA-D988-4305-897E-A5E427748E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00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A16E-49C2-4D80-AC23-9EDF23696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6756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i="1" lang="ru-RU" sz="1400" spc="-1" strike="noStrike">
                <a:solidFill>
                  <a:srgbClr val="3333cc"/>
                </a:solidFill>
                <a:latin typeface="Times New Roman"/>
              </a:rPr>
              <a:t>МУНИЦИПАЛЬНОЕ БЮДЖЕТНОЕ  ДОШКОЛЬНОЕ ОБРАЗОВАТЕЛЬНОЕ УЧРЕЖДЕНИЕ ЦЕНТР РАЗВИТИЯ РЕБЁНКА– ДЕТСКИЙ САД  №21</a:t>
            </a:r>
            <a:br>
              <a:rPr sz="1400"/>
            </a:br>
            <a:r>
              <a:rPr b="0" i="1" lang="ru-RU" sz="1400" spc="-1" strike="noStrike">
                <a:solidFill>
                  <a:srgbClr val="3333cc"/>
                </a:solidFill>
                <a:latin typeface="Times New Roman"/>
              </a:rPr>
              <a:t> «МАЛЫШОК» </a:t>
            </a:r>
            <a:br>
              <a:rPr sz="1400"/>
            </a:br>
            <a:r>
              <a:rPr b="0" i="1" lang="ru-RU" sz="1400" spc="-1" strike="noStrike">
                <a:solidFill>
                  <a:srgbClr val="3333cc"/>
                </a:solidFill>
                <a:latin typeface="Times New Roman"/>
              </a:rPr>
              <a:t>город Новоалтайск  Алтайского кра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2862360" y="5157720"/>
            <a:ext cx="61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статье 18 Закона РФ «Об образовании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дители являются первыми педагогами. Они обязаны заложить первые основы физического, нравственного и интеллектуального развития личности ребёнка в раннем возраст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3"/>
          <p:cNvSpPr/>
          <p:nvPr/>
        </p:nvSpPr>
        <p:spPr>
          <a:xfrm>
            <a:off x="765360" y="1986120"/>
            <a:ext cx="776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временные инновационные формы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питан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и реализации ФГОС Д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1"/>
          <p:cNvSpPr/>
          <p:nvPr/>
        </p:nvSpPr>
        <p:spPr>
          <a:xfrm>
            <a:off x="4211640" y="407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спитатель: Тимонина Алевт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Прямоугольник 1"/>
          <p:cNvSpPr/>
          <p:nvPr/>
        </p:nvSpPr>
        <p:spPr>
          <a:xfrm>
            <a:off x="357120" y="28584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ГЛЯД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НФОРМАЦИОН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дни открытых двер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родительские цент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выпуск стенгаз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фотовыставки</a:t>
            </a:r>
            <a:r>
              <a:rPr b="1" i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семейный и групповые альб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эмоциональный островок «Здравствуйте, я пришел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3214800" y="351000"/>
            <a:ext cx="5572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Наглядно – информационное направление дает возможность донести до родителей любую информацию в доступной форме, напомнить тактично о родительских обязанностях и ответств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Рисунок 2" descr=""/>
          <p:cNvPicPr/>
          <p:nvPr/>
        </p:nvPicPr>
        <p:blipFill>
          <a:blip r:embed="rId1"/>
          <a:stretch/>
        </p:blipFill>
        <p:spPr>
          <a:xfrm rot="20841000">
            <a:off x="610920" y="3073320"/>
            <a:ext cx="3628800" cy="272268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14"/>
          <p:cNvGrpSpPr/>
          <p:nvPr/>
        </p:nvGrpSpPr>
        <p:grpSpPr>
          <a:xfrm>
            <a:off x="428760" y="857160"/>
            <a:ext cx="245880" cy="225360"/>
            <a:chOff x="428760" y="857160"/>
            <a:chExt cx="245880" cy="225360"/>
          </a:xfrm>
        </p:grpSpPr>
        <p:sp>
          <p:nvSpPr>
            <p:cNvPr id="506" name="AutoShape 15"/>
            <p:cNvSpPr/>
            <p:nvPr/>
          </p:nvSpPr>
          <p:spPr>
            <a:xfrm>
              <a:off x="430560" y="86076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16"/>
            <p:cNvSpPr/>
            <p:nvPr/>
          </p:nvSpPr>
          <p:spPr>
            <a:xfrm>
              <a:off x="428760" y="85716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17"/>
            <p:cNvSpPr/>
            <p:nvPr/>
          </p:nvSpPr>
          <p:spPr>
            <a:xfrm>
              <a:off x="442800" y="871200"/>
              <a:ext cx="214200" cy="193680"/>
            </a:xfrm>
            <a:prstGeom prst="hexagon">
              <a:avLst>
                <a:gd name="adj" fmla="val 27505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4"/>
          <p:cNvGrpSpPr/>
          <p:nvPr/>
        </p:nvGrpSpPr>
        <p:grpSpPr>
          <a:xfrm>
            <a:off x="428760" y="1143000"/>
            <a:ext cx="245880" cy="225360"/>
            <a:chOff x="428760" y="1143000"/>
            <a:chExt cx="245880" cy="225360"/>
          </a:xfrm>
        </p:grpSpPr>
        <p:sp>
          <p:nvSpPr>
            <p:cNvPr id="510" name="AutoShape 15"/>
            <p:cNvSpPr/>
            <p:nvPr/>
          </p:nvSpPr>
          <p:spPr>
            <a:xfrm>
              <a:off x="430560" y="114660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16"/>
            <p:cNvSpPr/>
            <p:nvPr/>
          </p:nvSpPr>
          <p:spPr>
            <a:xfrm>
              <a:off x="428760" y="114300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17"/>
            <p:cNvSpPr/>
            <p:nvPr/>
          </p:nvSpPr>
          <p:spPr>
            <a:xfrm>
              <a:off x="442800" y="1157040"/>
              <a:ext cx="214200" cy="193680"/>
            </a:xfrm>
            <a:prstGeom prst="hexagon">
              <a:avLst>
                <a:gd name="adj" fmla="val 27505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438120" y="2322360"/>
            <a:ext cx="246240" cy="225720"/>
            <a:chOff x="438120" y="2322360"/>
            <a:chExt cx="246240" cy="225720"/>
          </a:xfrm>
        </p:grpSpPr>
        <p:sp>
          <p:nvSpPr>
            <p:cNvPr id="514" name="AutoShape 15"/>
            <p:cNvSpPr/>
            <p:nvPr/>
          </p:nvSpPr>
          <p:spPr>
            <a:xfrm>
              <a:off x="439920" y="2325960"/>
              <a:ext cx="244440" cy="222120"/>
            </a:xfrm>
            <a:prstGeom prst="hexagon">
              <a:avLst>
                <a:gd name="adj" fmla="val 2751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16"/>
            <p:cNvSpPr/>
            <p:nvPr/>
          </p:nvSpPr>
          <p:spPr>
            <a:xfrm>
              <a:off x="438120" y="2322360"/>
              <a:ext cx="244440" cy="222120"/>
            </a:xfrm>
            <a:prstGeom prst="hexagon">
              <a:avLst>
                <a:gd name="adj" fmla="val 27512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17"/>
            <p:cNvSpPr/>
            <p:nvPr/>
          </p:nvSpPr>
          <p:spPr>
            <a:xfrm>
              <a:off x="452160" y="2336400"/>
              <a:ext cx="214560" cy="194040"/>
            </a:xfrm>
            <a:prstGeom prst="hexagon">
              <a:avLst>
                <a:gd name="adj" fmla="val 27500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14"/>
          <p:cNvGrpSpPr/>
          <p:nvPr/>
        </p:nvGrpSpPr>
        <p:grpSpPr>
          <a:xfrm>
            <a:off x="428760" y="1714680"/>
            <a:ext cx="245880" cy="225360"/>
            <a:chOff x="428760" y="1714680"/>
            <a:chExt cx="245880" cy="225360"/>
          </a:xfrm>
        </p:grpSpPr>
        <p:sp>
          <p:nvSpPr>
            <p:cNvPr id="518" name="AutoShape 15"/>
            <p:cNvSpPr/>
            <p:nvPr/>
          </p:nvSpPr>
          <p:spPr>
            <a:xfrm>
              <a:off x="430560" y="171828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16"/>
            <p:cNvSpPr/>
            <p:nvPr/>
          </p:nvSpPr>
          <p:spPr>
            <a:xfrm>
              <a:off x="428760" y="171468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42800" y="1728720"/>
              <a:ext cx="214200" cy="193680"/>
            </a:xfrm>
            <a:prstGeom prst="hexagon">
              <a:avLst>
                <a:gd name="adj" fmla="val 27505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14"/>
          <p:cNvGrpSpPr/>
          <p:nvPr/>
        </p:nvGrpSpPr>
        <p:grpSpPr>
          <a:xfrm>
            <a:off x="428760" y="2000160"/>
            <a:ext cx="245880" cy="225360"/>
            <a:chOff x="428760" y="2000160"/>
            <a:chExt cx="245880" cy="225360"/>
          </a:xfrm>
        </p:grpSpPr>
        <p:sp>
          <p:nvSpPr>
            <p:cNvPr id="522" name="AutoShape 15"/>
            <p:cNvSpPr/>
            <p:nvPr/>
          </p:nvSpPr>
          <p:spPr>
            <a:xfrm>
              <a:off x="430560" y="200376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16"/>
            <p:cNvSpPr/>
            <p:nvPr/>
          </p:nvSpPr>
          <p:spPr>
            <a:xfrm>
              <a:off x="428760" y="200016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17"/>
            <p:cNvSpPr/>
            <p:nvPr/>
          </p:nvSpPr>
          <p:spPr>
            <a:xfrm>
              <a:off x="442800" y="2014200"/>
              <a:ext cx="214200" cy="193680"/>
            </a:xfrm>
            <a:prstGeom prst="hexagon">
              <a:avLst>
                <a:gd name="adj" fmla="val 27505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5" name="Picture 29" descr=""/>
          <p:cNvPicPr/>
          <p:nvPr/>
        </p:nvPicPr>
        <p:blipFill>
          <a:blip r:embed="rId2"/>
          <a:stretch/>
        </p:blipFill>
        <p:spPr>
          <a:xfrm>
            <a:off x="404640" y="1465200"/>
            <a:ext cx="268560" cy="2383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2" descr="C:\Users\Алексей\Desktop\наши детки 2013 группа 7\SAM_2990.JPG"/>
          <p:cNvPicPr/>
          <p:nvPr/>
        </p:nvPicPr>
        <p:blipFill>
          <a:blip r:embed="rId3"/>
          <a:stretch/>
        </p:blipFill>
        <p:spPr>
          <a:xfrm rot="625800">
            <a:off x="5688000" y="2079720"/>
            <a:ext cx="3006720" cy="225432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4" descr=""/>
          <p:cNvPicPr/>
          <p:nvPr/>
        </p:nvPicPr>
        <p:blipFill>
          <a:blip r:embed="rId4"/>
          <a:stretch/>
        </p:blipFill>
        <p:spPr>
          <a:xfrm>
            <a:off x="3668760" y="3151080"/>
            <a:ext cx="2332080" cy="31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Прямоугольник 1"/>
          <p:cNvSpPr/>
          <p:nvPr/>
        </p:nvSpPr>
        <p:spPr>
          <a:xfrm>
            <a:off x="285840" y="28584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264960" y="297360"/>
            <a:ext cx="6807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ДОСУГОВ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совместные досу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праздни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участие в выставк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конкурс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экскурс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участие род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в театра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5"/>
          <p:cNvSpPr/>
          <p:nvPr/>
        </p:nvSpPr>
        <p:spPr>
          <a:xfrm>
            <a:off x="4211640" y="168120"/>
            <a:ext cx="4889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Досуговое направление в работе с родителями оказалось самым интересным, полезным, востребованным и самым трудным в организации. Это объясняется тем, что любое совместное мероприятие позволяет родителям: увидеть изнутри проблемы своего ребенка, трудности во взаимоотношениях; апробировать разные подходы; посмотреть, как это делают другие, то есть приобрести опыт взаимодействия не только со своим ребенком, но и с родительской общественностью в це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4"/>
          <p:cNvGrpSpPr/>
          <p:nvPr/>
        </p:nvGrpSpPr>
        <p:grpSpPr>
          <a:xfrm>
            <a:off x="254160" y="1465200"/>
            <a:ext cx="245880" cy="225360"/>
            <a:chOff x="254160" y="1465200"/>
            <a:chExt cx="245880" cy="225360"/>
          </a:xfrm>
        </p:grpSpPr>
        <p:sp>
          <p:nvSpPr>
            <p:cNvPr id="532" name="AutoShape 15"/>
            <p:cNvSpPr/>
            <p:nvPr/>
          </p:nvSpPr>
          <p:spPr>
            <a:xfrm>
              <a:off x="255960" y="146880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6"/>
            <p:cNvSpPr/>
            <p:nvPr/>
          </p:nvSpPr>
          <p:spPr>
            <a:xfrm>
              <a:off x="254160" y="146520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7"/>
            <p:cNvSpPr/>
            <p:nvPr/>
          </p:nvSpPr>
          <p:spPr>
            <a:xfrm>
              <a:off x="268200" y="1479240"/>
              <a:ext cx="214200" cy="193680"/>
            </a:xfrm>
            <a:prstGeom prst="hexagon">
              <a:avLst>
                <a:gd name="adj" fmla="val 27505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14"/>
          <p:cNvGrpSpPr/>
          <p:nvPr/>
        </p:nvGrpSpPr>
        <p:grpSpPr>
          <a:xfrm>
            <a:off x="271440" y="932040"/>
            <a:ext cx="246240" cy="225360"/>
            <a:chOff x="271440" y="932040"/>
            <a:chExt cx="246240" cy="225360"/>
          </a:xfrm>
        </p:grpSpPr>
        <p:sp>
          <p:nvSpPr>
            <p:cNvPr id="536" name="AutoShape 15"/>
            <p:cNvSpPr/>
            <p:nvPr/>
          </p:nvSpPr>
          <p:spPr>
            <a:xfrm>
              <a:off x="273240" y="93564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6"/>
            <p:cNvSpPr/>
            <p:nvPr/>
          </p:nvSpPr>
          <p:spPr>
            <a:xfrm>
              <a:off x="271440" y="93204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17"/>
            <p:cNvSpPr/>
            <p:nvPr/>
          </p:nvSpPr>
          <p:spPr>
            <a:xfrm>
              <a:off x="285480" y="946080"/>
              <a:ext cx="214560" cy="193680"/>
            </a:xfrm>
            <a:prstGeom prst="hexagon">
              <a:avLst>
                <a:gd name="adj" fmla="val 27551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14"/>
          <p:cNvGrpSpPr/>
          <p:nvPr/>
        </p:nvGrpSpPr>
        <p:grpSpPr>
          <a:xfrm>
            <a:off x="246240" y="2276640"/>
            <a:ext cx="245880" cy="225360"/>
            <a:chOff x="246240" y="2276640"/>
            <a:chExt cx="245880" cy="225360"/>
          </a:xfrm>
        </p:grpSpPr>
        <p:sp>
          <p:nvSpPr>
            <p:cNvPr id="540" name="AutoShape 15"/>
            <p:cNvSpPr/>
            <p:nvPr/>
          </p:nvSpPr>
          <p:spPr>
            <a:xfrm>
              <a:off x="248040" y="228024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16"/>
            <p:cNvSpPr/>
            <p:nvPr/>
          </p:nvSpPr>
          <p:spPr>
            <a:xfrm>
              <a:off x="246240" y="227664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17"/>
            <p:cNvSpPr/>
            <p:nvPr/>
          </p:nvSpPr>
          <p:spPr>
            <a:xfrm>
              <a:off x="260280" y="2290680"/>
              <a:ext cx="214200" cy="193680"/>
            </a:xfrm>
            <a:prstGeom prst="hexagon">
              <a:avLst>
                <a:gd name="adj" fmla="val 27505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Прямоугольник 1"/>
          <p:cNvSpPr/>
          <p:nvPr/>
        </p:nvSpPr>
        <p:spPr>
          <a:xfrm>
            <a:off x="277920" y="3598920"/>
            <a:ext cx="8596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На сегодняшний день можно сказ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что у нас сложилась определенная система в работе с родител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Использование разнообразных форм работы дало определенные результа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одители из «зрителей» и «наблюдателей» стали активными участниками встре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и помощниками воспитателей, создана атмосфера взаимоув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2"/>
          <p:cNvSpPr/>
          <p:nvPr/>
        </p:nvSpPr>
        <p:spPr>
          <a:xfrm>
            <a:off x="2929680" y="587700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0" y="1285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Одним  из условий  воспитания  ребёнка в ДОУ является взаимодействие с семьями  воспитан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3"/>
          <p:cNvSpPr/>
          <p:nvPr/>
        </p:nvSpPr>
        <p:spPr>
          <a:xfrm>
            <a:off x="500040" y="357120"/>
            <a:ext cx="392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бы узнать ребёнк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до хорошо узнать его семью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В.А. 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Рисунок 2" descr="E:\фото Детский сад\В группе 2008\DSC02090.JPG"/>
          <p:cNvPicPr/>
          <p:nvPr/>
        </p:nvPicPr>
        <p:blipFill>
          <a:blip r:embed="rId1"/>
          <a:stretch/>
        </p:blipFill>
        <p:spPr>
          <a:xfrm>
            <a:off x="396720" y="4572000"/>
            <a:ext cx="2498760" cy="1878120"/>
          </a:xfrm>
          <a:prstGeom prst="rect">
            <a:avLst/>
          </a:prstGeom>
          <a:ln w="0">
            <a:noFill/>
          </a:ln>
        </p:spPr>
      </p:pic>
      <p:cxnSp>
        <p:nvCxnSpPr>
          <p:cNvPr id="380" name="Прямая со стрелкой 9"/>
          <p:cNvCxnSpPr/>
          <p:nvPr/>
        </p:nvCxnSpPr>
        <p:spPr>
          <a:xfrm>
            <a:off x="3076200" y="6237000"/>
            <a:ext cx="3143880" cy="1080"/>
          </a:xfrm>
          <a:prstGeom prst="straightConnector1">
            <a:avLst/>
          </a:prstGeom>
          <a:ln w="25560">
            <a:solidFill>
              <a:srgbClr val="9999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1" name="Прямая со стрелкой 10"/>
          <p:cNvCxnSpPr/>
          <p:nvPr/>
        </p:nvCxnSpPr>
        <p:spPr>
          <a:xfrm>
            <a:off x="5857920" y="3214440"/>
            <a:ext cx="1643760" cy="1215000"/>
          </a:xfrm>
          <a:prstGeom prst="straightConnector1">
            <a:avLst/>
          </a:prstGeom>
          <a:ln w="25560">
            <a:solidFill>
              <a:srgbClr val="9999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2" name="Прямая со стрелкой 11"/>
          <p:cNvCxnSpPr/>
          <p:nvPr/>
        </p:nvCxnSpPr>
        <p:spPr>
          <a:xfrm flipH="1">
            <a:off x="2214000" y="3499200"/>
            <a:ext cx="1215000" cy="1001160"/>
          </a:xfrm>
          <a:prstGeom prst="straightConnector1">
            <a:avLst/>
          </a:prstGeom>
          <a:ln w="25560">
            <a:solidFill>
              <a:srgbClr val="999999"/>
            </a:solidFill>
            <a:miter/>
            <a:headEnd len="med" type="arrow" w="med"/>
            <a:tailEnd len="med" type="arrow" w="med"/>
          </a:ln>
        </p:spPr>
      </p:cxnSp>
      <p:sp>
        <p:nvSpPr>
          <p:cNvPr id="383" name="TextBox 17"/>
          <p:cNvSpPr/>
          <p:nvPr/>
        </p:nvSpPr>
        <p:spPr>
          <a:xfrm>
            <a:off x="1074960" y="3929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8"/>
          <p:cNvSpPr/>
          <p:nvPr/>
        </p:nvSpPr>
        <p:spPr>
          <a:xfrm>
            <a:off x="700092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9"/>
          <p:cNvSpPr/>
          <p:nvPr/>
        </p:nvSpPr>
        <p:spPr>
          <a:xfrm>
            <a:off x="3929040" y="25718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Рисунок 2" descr=""/>
          <p:cNvPicPr/>
          <p:nvPr/>
        </p:nvPicPr>
        <p:blipFill>
          <a:blip r:embed="rId2"/>
          <a:stretch/>
        </p:blipFill>
        <p:spPr>
          <a:xfrm>
            <a:off x="3535200" y="3090960"/>
            <a:ext cx="2109960" cy="281628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3" descr=""/>
          <p:cNvPicPr/>
          <p:nvPr/>
        </p:nvPicPr>
        <p:blipFill>
          <a:blip r:embed="rId3"/>
          <a:stretch/>
        </p:blipFill>
        <p:spPr>
          <a:xfrm>
            <a:off x="6334200" y="4602240"/>
            <a:ext cx="260820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Стрелка вниз 2"/>
          <p:cNvSpPr/>
          <p:nvPr/>
        </p:nvSpPr>
        <p:spPr>
          <a:xfrm>
            <a:off x="2143080" y="214200"/>
            <a:ext cx="4714920" cy="1071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"/>
          <p:cNvSpPr/>
          <p:nvPr/>
        </p:nvSpPr>
        <p:spPr>
          <a:xfrm>
            <a:off x="928800" y="1285920"/>
            <a:ext cx="691344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alibri"/>
                <a:ea typeface="Times New Roman"/>
              </a:rPr>
              <a:t>привлечь родителей к активному осмыслению проблем воспитания детей в семье на основе учета их индивидуальных потре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5"/>
          <p:cNvSpPr/>
          <p:nvPr/>
        </p:nvSpPr>
        <p:spPr>
          <a:xfrm>
            <a:off x="2230560" y="3187800"/>
            <a:ext cx="688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alibri"/>
                <a:ea typeface="Times New Roman"/>
              </a:rPr>
              <a:t>обеспечить единство коррекционно -воспитательного  взаимодействия со стороны дошкольного учреждения и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7"/>
          <p:cNvSpPr/>
          <p:nvPr/>
        </p:nvSpPr>
        <p:spPr>
          <a:xfrm>
            <a:off x="446760" y="4911840"/>
            <a:ext cx="66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alibri"/>
                <a:ea typeface="Times New Roman"/>
              </a:rPr>
              <a:t>повысить педагогическую культуру родител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414360" y="5375880"/>
            <a:ext cx="81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Calibri"/>
                <a:ea typeface="Calibri"/>
              </a:rPr>
              <a:t>вовлечь родителей в совместную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alibri"/>
                <a:ea typeface="Calibri"/>
              </a:rPr>
              <a:t>с ДОУ посредством использования И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Рисунок 7" descr="s1.jpg"/>
          <p:cNvPicPr/>
          <p:nvPr/>
        </p:nvPicPr>
        <p:blipFill>
          <a:blip r:embed="rId1"/>
          <a:stretch/>
        </p:blipFill>
        <p:spPr>
          <a:xfrm>
            <a:off x="219240" y="3187800"/>
            <a:ext cx="201132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Стрелка вниз 1"/>
          <p:cNvSpPr/>
          <p:nvPr/>
        </p:nvSpPr>
        <p:spPr>
          <a:xfrm>
            <a:off x="2286000" y="260280"/>
            <a:ext cx="4714920" cy="1071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179280" y="1414440"/>
            <a:ext cx="822960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1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Calibri"/>
              </a:rPr>
              <a:t>осуществлять единый подход педагогов и родителей к процессу воспитания ребё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1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Calibri"/>
              </a:rPr>
              <a:t>выстроить  доверие во взаимоотношениях педагогов и р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1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Calibri"/>
              </a:rPr>
              <a:t>дифференцировать подход педагогов к каждой семь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1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Calibri"/>
              </a:rPr>
              <a:t>приобщить родителей к участию в жизни детского сада через поиск и внедрение наиболее эффективных форм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1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Рисунок 4" descr="9e87579ace4ac12ada70a04cd503cdf8_XL.jpg"/>
          <p:cNvPicPr/>
          <p:nvPr/>
        </p:nvPicPr>
        <p:blipFill>
          <a:blip r:embed="rId1"/>
          <a:stretch/>
        </p:blipFill>
        <p:spPr>
          <a:xfrm>
            <a:off x="6156360" y="5205240"/>
            <a:ext cx="258588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"/>
          <p:cNvSpPr/>
          <p:nvPr/>
        </p:nvSpPr>
        <p:spPr>
          <a:xfrm flipV="1" rot="10800000">
            <a:off x="499680" y="622080"/>
            <a:ext cx="8358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мья и дошкольное учреждение – два общественных института, которые стоят у истоков нашего будущего, но зачастую не всегда им хватает взаимопонимания, такта, терпения, чтобы услышать и понять друг друга. Непонимание между семьёй и ДУ всей тяжестью ложится на ребенка. Не секрет, что многие родители интересуются только питанием ребенка, считают, что детский сад – место, где только присматривают за детьми, пока родители на работе. И мы, педагоги, очень часто испытываем большие трудности в общении с родителями по этой прич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ак сложно бывает достучаться до пап и ма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ак нелегко порой объяснить родителям, что ребенка надо не только накормить и красиво одеть, но и общаться с ним, научить его думать, размышля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ак изменить такое положени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ак заинтересовать родителей в совместной работ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Как создать единое пространство развития ребенка в семье и ДОУ, сделать родителей участниками воспитательного процесс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606600" y="444132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личные формы работы детского сада с семьёй позволяют перестроить взаимоотношения субъектов, организовать взаимную активность, ответственность и способность осознания результатов в процессе воспитания ребёнка в ДОУ и сем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1"/>
          <p:cNvSpPr/>
          <p:nvPr/>
        </p:nvSpPr>
        <p:spPr>
          <a:xfrm>
            <a:off x="468360" y="33660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бенности организации взаимодействия ДОУ с семьями воспитан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организации совместной работы дошкольного образовательного учреждения с семьями в рамках новой философии необходимо соблюдать основные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нци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ость детского сада для семьи (каждому родителю обеспечивается возможность знать и видеть, как живет и развивается его ребенок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трудничество педагогов и родителей в воспитании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активной развивающей среды, обеспечивающей единые подходы к развитию личности в семье и детском коллекти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агностика общих и частных проблем в развитии и воспитани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https://catherineasquithgallery.com/uploads/posts/2021-02/1613682945_47-p-fon-dlya-prezentatsii-nravstvennoe-vospita-55.png"/>
          <p:cNvPicPr/>
          <p:nvPr/>
        </p:nvPicPr>
        <p:blipFill>
          <a:blip r:embed="rId1"/>
          <a:stretch/>
        </p:blipFill>
        <p:spPr>
          <a:xfrm>
            <a:off x="2279520" y="3789360"/>
            <a:ext cx="4368960" cy="278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Облако 12"/>
          <p:cNvGrpSpPr/>
          <p:nvPr/>
        </p:nvGrpSpPr>
        <p:grpSpPr>
          <a:xfrm>
            <a:off x="2657520" y="1895400"/>
            <a:ext cx="3610080" cy="2895840"/>
            <a:chOff x="2657520" y="1895400"/>
            <a:chExt cx="3610080" cy="2895840"/>
          </a:xfrm>
        </p:grpSpPr>
        <p:pic>
          <p:nvPicPr>
            <p:cNvPr id="402" name="Облако 12" descr=""/>
            <p:cNvPicPr/>
            <p:nvPr/>
          </p:nvPicPr>
          <p:blipFill>
            <a:blip r:embed="rId1"/>
            <a:stretch/>
          </p:blipFill>
          <p:spPr>
            <a:xfrm>
              <a:off x="2657520" y="1895400"/>
              <a:ext cx="361008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3247920" y="2398680"/>
              <a:ext cx="2194200" cy="17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Фор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работы 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родителя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Rectangle 14"/>
          <p:cNvSpPr/>
          <p:nvPr/>
        </p:nvSpPr>
        <p:spPr>
          <a:xfrm>
            <a:off x="971640" y="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5"/>
          <p:cNvGrpSpPr/>
          <p:nvPr/>
        </p:nvGrpSpPr>
        <p:grpSpPr>
          <a:xfrm>
            <a:off x="5904000" y="142920"/>
            <a:ext cx="3213720" cy="1856520"/>
            <a:chOff x="5904000" y="142920"/>
            <a:chExt cx="3213720" cy="1856520"/>
          </a:xfrm>
        </p:grpSpPr>
        <p:grpSp>
          <p:nvGrpSpPr>
            <p:cNvPr id="406" name="Group 6"/>
            <p:cNvGrpSpPr/>
            <p:nvPr/>
          </p:nvGrpSpPr>
          <p:grpSpPr>
            <a:xfrm>
              <a:off x="5904000" y="308520"/>
              <a:ext cx="3213720" cy="1690920"/>
              <a:chOff x="5904000" y="308520"/>
              <a:chExt cx="3213720" cy="1690920"/>
            </a:xfrm>
          </p:grpSpPr>
          <p:sp>
            <p:nvSpPr>
              <p:cNvPr id="407" name="Oval 7"/>
              <p:cNvSpPr/>
              <p:nvPr/>
            </p:nvSpPr>
            <p:spPr>
              <a:xfrm>
                <a:off x="5938920" y="362520"/>
                <a:ext cx="3178800" cy="163692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Oval 8"/>
              <p:cNvSpPr/>
              <p:nvPr/>
            </p:nvSpPr>
            <p:spPr>
              <a:xfrm>
                <a:off x="5904000" y="308520"/>
                <a:ext cx="3178800" cy="1636560"/>
              </a:xfrm>
              <a:prstGeom prst="ellipse">
                <a:avLst/>
              </a:prstGeom>
              <a:gradFill rotWithShape="0">
                <a:gsLst>
                  <a:gs pos="0">
                    <a:srgbClr val="8e8eff"/>
                  </a:gs>
                  <a:gs pos="100000">
                    <a:srgbClr val="0000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Oval 9"/>
            <p:cNvSpPr/>
            <p:nvPr/>
          </p:nvSpPr>
          <p:spPr>
            <a:xfrm>
              <a:off x="6055560" y="142920"/>
              <a:ext cx="2878920" cy="1555200"/>
            </a:xfrm>
            <a:prstGeom prst="ellipse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0"/>
            <p:cNvSpPr/>
            <p:nvPr/>
          </p:nvSpPr>
          <p:spPr>
            <a:xfrm>
              <a:off x="6093000" y="151920"/>
              <a:ext cx="2807640" cy="1514880"/>
            </a:xfrm>
            <a:prstGeom prst="ellipse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c2d3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1"/>
            <p:cNvSpPr/>
            <p:nvPr/>
          </p:nvSpPr>
          <p:spPr>
            <a:xfrm>
              <a:off x="6121800" y="167040"/>
              <a:ext cx="2671200" cy="1416600"/>
            </a:xfrm>
            <a:prstGeom prst="ellipse">
              <a:avLst/>
            </a:prstGeom>
            <a:gradFill rotWithShape="0">
              <a:gsLst>
                <a:gs pos="0">
                  <a:srgbClr val="3f6696"/>
                </a:gs>
                <a:gs pos="100000">
                  <a:srgbClr val="4f81b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6262920" y="198360"/>
              <a:ext cx="2351520" cy="11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Прямоугольник 32"/>
          <p:cNvSpPr/>
          <p:nvPr/>
        </p:nvSpPr>
        <p:spPr>
          <a:xfrm>
            <a:off x="5072040" y="571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АГЛЯД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НФОРМ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13"/>
          <p:cNvSpPr/>
          <p:nvPr/>
        </p:nvSpPr>
        <p:spPr>
          <a:xfrm rot="10157400">
            <a:off x="4986000" y="939600"/>
            <a:ext cx="1044720" cy="121104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211040"/>
              <a:gd name="textAreaBottom" fmla="*/ 1211400 h 12110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5"/>
          <p:cNvGrpSpPr/>
          <p:nvPr/>
        </p:nvGrpSpPr>
        <p:grpSpPr>
          <a:xfrm>
            <a:off x="5500800" y="4429080"/>
            <a:ext cx="3356640" cy="2071080"/>
            <a:chOff x="5500800" y="4429080"/>
            <a:chExt cx="3356640" cy="2071080"/>
          </a:xfrm>
        </p:grpSpPr>
        <p:grpSp>
          <p:nvGrpSpPr>
            <p:cNvPr id="416" name="Group 6"/>
            <p:cNvGrpSpPr/>
            <p:nvPr/>
          </p:nvGrpSpPr>
          <p:grpSpPr>
            <a:xfrm>
              <a:off x="5500800" y="4613760"/>
              <a:ext cx="3356640" cy="1886400"/>
              <a:chOff x="5500800" y="4613760"/>
              <a:chExt cx="3356640" cy="1886400"/>
            </a:xfrm>
          </p:grpSpPr>
          <p:sp>
            <p:nvSpPr>
              <p:cNvPr id="417" name="Oval 7"/>
              <p:cNvSpPr/>
              <p:nvPr/>
            </p:nvSpPr>
            <p:spPr>
              <a:xfrm>
                <a:off x="5537520" y="4673880"/>
                <a:ext cx="3319920" cy="18262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Oval 8"/>
              <p:cNvSpPr/>
              <p:nvPr/>
            </p:nvSpPr>
            <p:spPr>
              <a:xfrm>
                <a:off x="5500800" y="4613760"/>
                <a:ext cx="3319920" cy="1825920"/>
              </a:xfrm>
              <a:prstGeom prst="ellipse">
                <a:avLst/>
              </a:prstGeom>
              <a:gradFill rotWithShape="0">
                <a:gsLst>
                  <a:gs pos="0">
                    <a:srgbClr val="8e8eff"/>
                  </a:gs>
                  <a:gs pos="100000">
                    <a:srgbClr val="0000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Oval 9"/>
            <p:cNvSpPr/>
            <p:nvPr/>
          </p:nvSpPr>
          <p:spPr>
            <a:xfrm>
              <a:off x="5658840" y="4429080"/>
              <a:ext cx="3003120" cy="1734840"/>
            </a:xfrm>
            <a:prstGeom prst="ellipse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0"/>
            <p:cNvSpPr/>
            <p:nvPr/>
          </p:nvSpPr>
          <p:spPr>
            <a:xfrm>
              <a:off x="5698080" y="4439160"/>
              <a:ext cx="2934000" cy="1691640"/>
            </a:xfrm>
            <a:prstGeom prst="ellipse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c2d3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1"/>
            <p:cNvSpPr/>
            <p:nvPr/>
          </p:nvSpPr>
          <p:spPr>
            <a:xfrm>
              <a:off x="5728320" y="4456080"/>
              <a:ext cx="2791800" cy="1580400"/>
            </a:xfrm>
            <a:prstGeom prst="ellipse">
              <a:avLst/>
            </a:prstGeom>
            <a:gradFill rotWithShape="0">
              <a:gsLst>
                <a:gs pos="0">
                  <a:srgbClr val="3f6696"/>
                </a:gs>
                <a:gs pos="100000">
                  <a:srgbClr val="4f81b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5875920" y="4490640"/>
              <a:ext cx="2457720" cy="128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Прямоугольник 42"/>
          <p:cNvSpPr/>
          <p:nvPr/>
        </p:nvSpPr>
        <p:spPr>
          <a:xfrm>
            <a:off x="6436800" y="46432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СУГ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3"/>
          <p:cNvSpPr/>
          <p:nvPr/>
        </p:nvSpPr>
        <p:spPr>
          <a:xfrm rot="14922600">
            <a:off x="5956560" y="3516840"/>
            <a:ext cx="903600" cy="1241280"/>
          </a:xfrm>
          <a:custGeom>
            <a:avLst/>
            <a:gdLst>
              <a:gd name="textAreaLeft" fmla="*/ 0 w 903600"/>
              <a:gd name="textAreaRight" fmla="*/ 903960 w 903600"/>
              <a:gd name="textAreaTop" fmla="*/ 0 h 1241280"/>
              <a:gd name="textAreaBottom" fmla="*/ 1241640 h 1241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206280" y="142920"/>
            <a:ext cx="3283920" cy="2071080"/>
            <a:chOff x="206280" y="142920"/>
            <a:chExt cx="3283920" cy="2071080"/>
          </a:xfrm>
        </p:grpSpPr>
        <p:grpSp>
          <p:nvGrpSpPr>
            <p:cNvPr id="426" name="Group 6"/>
            <p:cNvGrpSpPr/>
            <p:nvPr/>
          </p:nvGrpSpPr>
          <p:grpSpPr>
            <a:xfrm>
              <a:off x="206280" y="327600"/>
              <a:ext cx="3283920" cy="1886400"/>
              <a:chOff x="206280" y="327600"/>
              <a:chExt cx="3283920" cy="1886400"/>
            </a:xfrm>
          </p:grpSpPr>
          <p:sp>
            <p:nvSpPr>
              <p:cNvPr id="427" name="Oval 7"/>
              <p:cNvSpPr/>
              <p:nvPr/>
            </p:nvSpPr>
            <p:spPr>
              <a:xfrm>
                <a:off x="241920" y="387720"/>
                <a:ext cx="3248280" cy="18262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8"/>
              <p:cNvSpPr/>
              <p:nvPr/>
            </p:nvSpPr>
            <p:spPr>
              <a:xfrm>
                <a:off x="206280" y="327600"/>
                <a:ext cx="3248280" cy="1825920"/>
              </a:xfrm>
              <a:prstGeom prst="ellipse">
                <a:avLst/>
              </a:prstGeom>
              <a:gradFill rotWithShape="0">
                <a:gsLst>
                  <a:gs pos="0">
                    <a:srgbClr val="8e8eff"/>
                  </a:gs>
                  <a:gs pos="100000">
                    <a:srgbClr val="0000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Oval 9"/>
            <p:cNvSpPr/>
            <p:nvPr/>
          </p:nvSpPr>
          <p:spPr>
            <a:xfrm>
              <a:off x="361080" y="142920"/>
              <a:ext cx="2946960" cy="1734840"/>
            </a:xfrm>
            <a:prstGeom prst="ellipse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0"/>
            <p:cNvSpPr/>
            <p:nvPr/>
          </p:nvSpPr>
          <p:spPr>
            <a:xfrm>
              <a:off x="399240" y="153000"/>
              <a:ext cx="2868840" cy="1691640"/>
            </a:xfrm>
            <a:prstGeom prst="ellipse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c2d3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1"/>
            <p:cNvSpPr/>
            <p:nvPr/>
          </p:nvSpPr>
          <p:spPr>
            <a:xfrm>
              <a:off x="428760" y="169920"/>
              <a:ext cx="2731320" cy="1580400"/>
            </a:xfrm>
            <a:prstGeom prst="ellipse">
              <a:avLst/>
            </a:prstGeom>
            <a:gradFill rotWithShape="0">
              <a:gsLst>
                <a:gs pos="0">
                  <a:srgbClr val="3f6696"/>
                </a:gs>
                <a:gs pos="100000">
                  <a:srgbClr val="4f81b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2"/>
            <p:cNvSpPr/>
            <p:nvPr/>
          </p:nvSpPr>
          <p:spPr>
            <a:xfrm>
              <a:off x="573120" y="204480"/>
              <a:ext cx="2402640" cy="128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5"/>
          <p:cNvGrpSpPr/>
          <p:nvPr/>
        </p:nvGrpSpPr>
        <p:grpSpPr>
          <a:xfrm>
            <a:off x="428760" y="4429080"/>
            <a:ext cx="3283560" cy="2142000"/>
            <a:chOff x="428760" y="4429080"/>
            <a:chExt cx="3283560" cy="2142000"/>
          </a:xfrm>
        </p:grpSpPr>
        <p:grpSp>
          <p:nvGrpSpPr>
            <p:cNvPr id="434" name="Group 6"/>
            <p:cNvGrpSpPr/>
            <p:nvPr/>
          </p:nvGrpSpPr>
          <p:grpSpPr>
            <a:xfrm>
              <a:off x="428760" y="4620240"/>
              <a:ext cx="3283560" cy="1950840"/>
              <a:chOff x="428760" y="4620240"/>
              <a:chExt cx="3283560" cy="1950840"/>
            </a:xfrm>
          </p:grpSpPr>
          <p:sp>
            <p:nvSpPr>
              <p:cNvPr id="435" name="Oval 7"/>
              <p:cNvSpPr/>
              <p:nvPr/>
            </p:nvSpPr>
            <p:spPr>
              <a:xfrm>
                <a:off x="464400" y="4680360"/>
                <a:ext cx="3247920" cy="189072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8"/>
              <p:cNvSpPr/>
              <p:nvPr/>
            </p:nvSpPr>
            <p:spPr>
              <a:xfrm>
                <a:off x="428760" y="4620240"/>
                <a:ext cx="3247920" cy="1890720"/>
              </a:xfrm>
              <a:prstGeom prst="ellipse">
                <a:avLst/>
              </a:prstGeom>
              <a:gradFill rotWithShape="0">
                <a:gsLst>
                  <a:gs pos="0">
                    <a:srgbClr val="8e8eff"/>
                  </a:gs>
                  <a:gs pos="100000">
                    <a:srgbClr val="0000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Oval 9"/>
            <p:cNvSpPr/>
            <p:nvPr/>
          </p:nvSpPr>
          <p:spPr>
            <a:xfrm>
              <a:off x="583560" y="4429080"/>
              <a:ext cx="2946600" cy="1794600"/>
            </a:xfrm>
            <a:prstGeom prst="ellipse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0"/>
            <p:cNvSpPr/>
            <p:nvPr/>
          </p:nvSpPr>
          <p:spPr>
            <a:xfrm>
              <a:off x="621720" y="4439520"/>
              <a:ext cx="2868480" cy="1749960"/>
            </a:xfrm>
            <a:prstGeom prst="ellipse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c2d3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1"/>
            <p:cNvSpPr/>
            <p:nvPr/>
          </p:nvSpPr>
          <p:spPr>
            <a:xfrm>
              <a:off x="651240" y="4456800"/>
              <a:ext cx="2730960" cy="1637280"/>
            </a:xfrm>
            <a:prstGeom prst="ellipse">
              <a:avLst/>
            </a:prstGeom>
            <a:gradFill rotWithShape="0">
              <a:gsLst>
                <a:gs pos="0">
                  <a:srgbClr val="3f6696"/>
                </a:gs>
                <a:gs pos="100000">
                  <a:srgbClr val="4f81bd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2"/>
            <p:cNvSpPr/>
            <p:nvPr/>
          </p:nvSpPr>
          <p:spPr>
            <a:xfrm>
              <a:off x="795600" y="4492800"/>
              <a:ext cx="2402640" cy="132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f81bd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Freeform 13"/>
          <p:cNvSpPr/>
          <p:nvPr/>
        </p:nvSpPr>
        <p:spPr>
          <a:xfrm rot="20928600">
            <a:off x="3500280" y="4336560"/>
            <a:ext cx="687600" cy="1241640"/>
          </a:xfrm>
          <a:custGeom>
            <a:avLst/>
            <a:gdLst>
              <a:gd name="textAreaLeft" fmla="*/ 0 w 687600"/>
              <a:gd name="textAreaRight" fmla="*/ 687960 w 687600"/>
              <a:gd name="textAreaTop" fmla="*/ 0 h 1241640"/>
              <a:gd name="textAreaBottom" fmla="*/ 1242000 h 1241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28"/>
          <p:cNvSpPr/>
          <p:nvPr/>
        </p:nvSpPr>
        <p:spPr>
          <a:xfrm>
            <a:off x="-214200" y="4857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НФОРМАЦИОННО</a:t>
            </a:r>
            <a:r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АНАЛИ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60"/>
          <p:cNvSpPr/>
          <p:nvPr/>
        </p:nvSpPr>
        <p:spPr>
          <a:xfrm>
            <a:off x="789480" y="85716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ОЗНА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3"/>
          <p:cNvSpPr/>
          <p:nvPr/>
        </p:nvSpPr>
        <p:spPr>
          <a:xfrm rot="4081200">
            <a:off x="1921320" y="2061000"/>
            <a:ext cx="1043280" cy="112392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3"/>
          <p:cNvSpPr/>
          <p:nvPr/>
        </p:nvSpPr>
        <p:spPr>
          <a:xfrm>
            <a:off x="971640" y="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"/>
          <p:cNvSpPr/>
          <p:nvPr/>
        </p:nvSpPr>
        <p:spPr>
          <a:xfrm>
            <a:off x="330120" y="428760"/>
            <a:ext cx="5205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семинары – практику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родительские соб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(нетрадиционной форм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открытые зан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мастер-клас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бес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индивидуальные консуль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игровые тренингиСеминары-практику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Тренин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Педагогический бриф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Педагогическая гости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Игры с педагогическим содерж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Педагогическая библиотека 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"/>
          <p:cNvSpPr/>
          <p:nvPr/>
        </p:nvSpPr>
        <p:spPr>
          <a:xfrm>
            <a:off x="290520" y="4365720"/>
            <a:ext cx="860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ое направление - это обогащение родителей знаниями в вопросах воспитания детей дошкольного возраста. Повышается уровень воспитательно-образовательной деятельности родителей, что способствует развитию творческих инициат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4"/>
          <p:cNvGrpSpPr/>
          <p:nvPr/>
        </p:nvGrpSpPr>
        <p:grpSpPr>
          <a:xfrm>
            <a:off x="500040" y="785880"/>
            <a:ext cx="246240" cy="225360"/>
            <a:chOff x="500040" y="785880"/>
            <a:chExt cx="246240" cy="225360"/>
          </a:xfrm>
        </p:grpSpPr>
        <p:sp>
          <p:nvSpPr>
            <p:cNvPr id="449" name="AutoShape 15"/>
            <p:cNvSpPr/>
            <p:nvPr/>
          </p:nvSpPr>
          <p:spPr>
            <a:xfrm>
              <a:off x="501840" y="78948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6"/>
            <p:cNvSpPr/>
            <p:nvPr/>
          </p:nvSpPr>
          <p:spPr>
            <a:xfrm>
              <a:off x="500040" y="78588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17"/>
            <p:cNvSpPr/>
            <p:nvPr/>
          </p:nvSpPr>
          <p:spPr>
            <a:xfrm>
              <a:off x="514080" y="799920"/>
              <a:ext cx="214560" cy="193680"/>
            </a:xfrm>
            <a:prstGeom prst="hexagon">
              <a:avLst>
                <a:gd name="adj" fmla="val 27551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Group 14"/>
          <p:cNvGrpSpPr/>
          <p:nvPr/>
        </p:nvGrpSpPr>
        <p:grpSpPr>
          <a:xfrm>
            <a:off x="500040" y="1643040"/>
            <a:ext cx="246240" cy="225360"/>
            <a:chOff x="500040" y="1643040"/>
            <a:chExt cx="246240" cy="225360"/>
          </a:xfrm>
        </p:grpSpPr>
        <p:sp>
          <p:nvSpPr>
            <p:cNvPr id="453" name="AutoShape 15"/>
            <p:cNvSpPr/>
            <p:nvPr/>
          </p:nvSpPr>
          <p:spPr>
            <a:xfrm>
              <a:off x="501840" y="164664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16"/>
            <p:cNvSpPr/>
            <p:nvPr/>
          </p:nvSpPr>
          <p:spPr>
            <a:xfrm>
              <a:off x="500040" y="164304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17"/>
            <p:cNvSpPr/>
            <p:nvPr/>
          </p:nvSpPr>
          <p:spPr>
            <a:xfrm>
              <a:off x="514080" y="1657080"/>
              <a:ext cx="214560" cy="193680"/>
            </a:xfrm>
            <a:prstGeom prst="hexagon">
              <a:avLst>
                <a:gd name="adj" fmla="val 27551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14"/>
          <p:cNvGrpSpPr/>
          <p:nvPr/>
        </p:nvGrpSpPr>
        <p:grpSpPr>
          <a:xfrm>
            <a:off x="500040" y="1071720"/>
            <a:ext cx="246240" cy="225360"/>
            <a:chOff x="500040" y="1071720"/>
            <a:chExt cx="246240" cy="225360"/>
          </a:xfrm>
        </p:grpSpPr>
        <p:sp>
          <p:nvSpPr>
            <p:cNvPr id="457" name="AutoShape 15"/>
            <p:cNvSpPr/>
            <p:nvPr/>
          </p:nvSpPr>
          <p:spPr>
            <a:xfrm>
              <a:off x="501840" y="107532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6"/>
            <p:cNvSpPr/>
            <p:nvPr/>
          </p:nvSpPr>
          <p:spPr>
            <a:xfrm>
              <a:off x="500040" y="107172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7"/>
            <p:cNvSpPr/>
            <p:nvPr/>
          </p:nvSpPr>
          <p:spPr>
            <a:xfrm>
              <a:off x="514080" y="1085760"/>
              <a:ext cx="214560" cy="193680"/>
            </a:xfrm>
            <a:prstGeom prst="hexagon">
              <a:avLst>
                <a:gd name="adj" fmla="val 27551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4"/>
          <p:cNvGrpSpPr/>
          <p:nvPr/>
        </p:nvGrpSpPr>
        <p:grpSpPr>
          <a:xfrm>
            <a:off x="500040" y="1928880"/>
            <a:ext cx="246240" cy="225360"/>
            <a:chOff x="500040" y="1928880"/>
            <a:chExt cx="246240" cy="225360"/>
          </a:xfrm>
        </p:grpSpPr>
        <p:sp>
          <p:nvSpPr>
            <p:cNvPr id="461" name="AutoShape 15"/>
            <p:cNvSpPr/>
            <p:nvPr/>
          </p:nvSpPr>
          <p:spPr>
            <a:xfrm>
              <a:off x="501840" y="193248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16"/>
            <p:cNvSpPr/>
            <p:nvPr/>
          </p:nvSpPr>
          <p:spPr>
            <a:xfrm>
              <a:off x="500040" y="192888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7"/>
            <p:cNvSpPr/>
            <p:nvPr/>
          </p:nvSpPr>
          <p:spPr>
            <a:xfrm>
              <a:off x="514080" y="1942920"/>
              <a:ext cx="214560" cy="193680"/>
            </a:xfrm>
            <a:prstGeom prst="hexagon">
              <a:avLst>
                <a:gd name="adj" fmla="val 27551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4"/>
          <p:cNvGrpSpPr/>
          <p:nvPr/>
        </p:nvGrpSpPr>
        <p:grpSpPr>
          <a:xfrm>
            <a:off x="500040" y="2214720"/>
            <a:ext cx="246240" cy="225360"/>
            <a:chOff x="500040" y="2214720"/>
            <a:chExt cx="246240" cy="225360"/>
          </a:xfrm>
        </p:grpSpPr>
        <p:sp>
          <p:nvSpPr>
            <p:cNvPr id="465" name="AutoShape 15"/>
            <p:cNvSpPr/>
            <p:nvPr/>
          </p:nvSpPr>
          <p:spPr>
            <a:xfrm>
              <a:off x="501840" y="221832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16"/>
            <p:cNvSpPr/>
            <p:nvPr/>
          </p:nvSpPr>
          <p:spPr>
            <a:xfrm>
              <a:off x="500040" y="221472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17"/>
            <p:cNvSpPr/>
            <p:nvPr/>
          </p:nvSpPr>
          <p:spPr>
            <a:xfrm>
              <a:off x="514080" y="2228760"/>
              <a:ext cx="214560" cy="193680"/>
            </a:xfrm>
            <a:prstGeom prst="hexagon">
              <a:avLst>
                <a:gd name="adj" fmla="val 27551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4"/>
          <p:cNvGrpSpPr/>
          <p:nvPr/>
        </p:nvGrpSpPr>
        <p:grpSpPr>
          <a:xfrm>
            <a:off x="500040" y="2500200"/>
            <a:ext cx="246240" cy="225360"/>
            <a:chOff x="500040" y="2500200"/>
            <a:chExt cx="246240" cy="225360"/>
          </a:xfrm>
        </p:grpSpPr>
        <p:sp>
          <p:nvSpPr>
            <p:cNvPr id="469" name="AutoShape 15"/>
            <p:cNvSpPr/>
            <p:nvPr/>
          </p:nvSpPr>
          <p:spPr>
            <a:xfrm>
              <a:off x="501840" y="250380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16"/>
            <p:cNvSpPr/>
            <p:nvPr/>
          </p:nvSpPr>
          <p:spPr>
            <a:xfrm>
              <a:off x="500040" y="250020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7"/>
            <p:cNvSpPr/>
            <p:nvPr/>
          </p:nvSpPr>
          <p:spPr>
            <a:xfrm>
              <a:off x="514080" y="2514240"/>
              <a:ext cx="214560" cy="193680"/>
            </a:xfrm>
            <a:prstGeom prst="hexagon">
              <a:avLst>
                <a:gd name="adj" fmla="val 27551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14"/>
          <p:cNvGrpSpPr/>
          <p:nvPr/>
        </p:nvGrpSpPr>
        <p:grpSpPr>
          <a:xfrm>
            <a:off x="453960" y="2973240"/>
            <a:ext cx="246240" cy="225720"/>
            <a:chOff x="453960" y="2973240"/>
            <a:chExt cx="246240" cy="225720"/>
          </a:xfrm>
        </p:grpSpPr>
        <p:sp>
          <p:nvSpPr>
            <p:cNvPr id="473" name="AutoShape 15"/>
            <p:cNvSpPr/>
            <p:nvPr/>
          </p:nvSpPr>
          <p:spPr>
            <a:xfrm>
              <a:off x="455760" y="2976840"/>
              <a:ext cx="244440" cy="222120"/>
            </a:xfrm>
            <a:prstGeom prst="hexagon">
              <a:avLst>
                <a:gd name="adj" fmla="val 2751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16"/>
            <p:cNvSpPr/>
            <p:nvPr/>
          </p:nvSpPr>
          <p:spPr>
            <a:xfrm>
              <a:off x="453960" y="2973240"/>
              <a:ext cx="244440" cy="222120"/>
            </a:xfrm>
            <a:prstGeom prst="hexagon">
              <a:avLst>
                <a:gd name="adj" fmla="val 27512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17"/>
            <p:cNvSpPr/>
            <p:nvPr/>
          </p:nvSpPr>
          <p:spPr>
            <a:xfrm>
              <a:off x="468000" y="2987280"/>
              <a:ext cx="214560" cy="194040"/>
            </a:xfrm>
            <a:prstGeom prst="hexagon">
              <a:avLst>
                <a:gd name="adj" fmla="val 27500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6" name="Picture 32" descr=""/>
          <p:cNvPicPr/>
          <p:nvPr/>
        </p:nvPicPr>
        <p:blipFill>
          <a:blip r:embed="rId1"/>
          <a:stretch/>
        </p:blipFill>
        <p:spPr>
          <a:xfrm>
            <a:off x="460440" y="3287880"/>
            <a:ext cx="268200" cy="2314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3" descr=""/>
          <p:cNvPicPr/>
          <p:nvPr/>
        </p:nvPicPr>
        <p:blipFill>
          <a:blip r:embed="rId2"/>
          <a:stretch/>
        </p:blipFill>
        <p:spPr>
          <a:xfrm>
            <a:off x="453960" y="3567240"/>
            <a:ext cx="268200" cy="2314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4" descr=""/>
          <p:cNvPicPr/>
          <p:nvPr/>
        </p:nvPicPr>
        <p:blipFill>
          <a:blip r:embed="rId3"/>
          <a:stretch/>
        </p:blipFill>
        <p:spPr>
          <a:xfrm>
            <a:off x="444600" y="3803760"/>
            <a:ext cx="268200" cy="2318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5" descr=""/>
          <p:cNvPicPr/>
          <p:nvPr/>
        </p:nvPicPr>
        <p:blipFill>
          <a:blip r:embed="rId4"/>
          <a:stretch/>
        </p:blipFill>
        <p:spPr>
          <a:xfrm>
            <a:off x="431640" y="4079880"/>
            <a:ext cx="268560" cy="2318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8" descr=""/>
          <p:cNvPicPr/>
          <p:nvPr/>
        </p:nvPicPr>
        <p:blipFill>
          <a:blip r:embed="rId5"/>
          <a:stretch/>
        </p:blipFill>
        <p:spPr>
          <a:xfrm>
            <a:off x="5121360" y="262080"/>
            <a:ext cx="3614760" cy="23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"/>
          <p:cNvSpPr/>
          <p:nvPr/>
        </p:nvSpPr>
        <p:spPr>
          <a:xfrm>
            <a:off x="197640" y="363240"/>
            <a:ext cx="4659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НФОРМАЦИОННО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НАЛИТИЧЕСК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анкет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социологические опро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« Почтовый ящик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сайт ДОУ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ww.malishok21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работа с родителями че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социальные сети WhatsAPP, Telegra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nstagram и т.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2"/>
          <p:cNvSpPr/>
          <p:nvPr/>
        </p:nvSpPr>
        <p:spPr>
          <a:xfrm>
            <a:off x="3857760" y="4287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 направление помогает нам лучше ориентироваться в педагогических потребностях каждой семьи, учитывая её индивидуальные особ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Рисунок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500640" cy="2469960"/>
          </a:xfrm>
          <a:prstGeom prst="rect">
            <a:avLst/>
          </a:prstGeom>
          <a:ln w="0">
            <a:noFill/>
          </a:ln>
        </p:spPr>
      </p:pic>
      <p:grpSp>
        <p:nvGrpSpPr>
          <p:cNvPr id="484" name="Group 14"/>
          <p:cNvGrpSpPr/>
          <p:nvPr/>
        </p:nvGrpSpPr>
        <p:grpSpPr>
          <a:xfrm>
            <a:off x="88920" y="915840"/>
            <a:ext cx="245880" cy="225720"/>
            <a:chOff x="88920" y="915840"/>
            <a:chExt cx="245880" cy="225720"/>
          </a:xfrm>
        </p:grpSpPr>
        <p:sp>
          <p:nvSpPr>
            <p:cNvPr id="485" name="AutoShape 15"/>
            <p:cNvSpPr/>
            <p:nvPr/>
          </p:nvSpPr>
          <p:spPr>
            <a:xfrm>
              <a:off x="90720" y="919440"/>
              <a:ext cx="244080" cy="222120"/>
            </a:xfrm>
            <a:prstGeom prst="hexagon">
              <a:avLst>
                <a:gd name="adj" fmla="val 2747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16"/>
            <p:cNvSpPr/>
            <p:nvPr/>
          </p:nvSpPr>
          <p:spPr>
            <a:xfrm>
              <a:off x="88920" y="915840"/>
              <a:ext cx="244080" cy="222120"/>
            </a:xfrm>
            <a:prstGeom prst="hexagon">
              <a:avLst>
                <a:gd name="adj" fmla="val 27472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17"/>
            <p:cNvSpPr/>
            <p:nvPr/>
          </p:nvSpPr>
          <p:spPr>
            <a:xfrm>
              <a:off x="102960" y="929880"/>
              <a:ext cx="214200" cy="194040"/>
            </a:xfrm>
            <a:prstGeom prst="hexagon">
              <a:avLst>
                <a:gd name="adj" fmla="val 27454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14"/>
          <p:cNvGrpSpPr/>
          <p:nvPr/>
        </p:nvGrpSpPr>
        <p:grpSpPr>
          <a:xfrm>
            <a:off x="103320" y="1403280"/>
            <a:ext cx="245880" cy="225360"/>
            <a:chOff x="103320" y="1403280"/>
            <a:chExt cx="245880" cy="225360"/>
          </a:xfrm>
        </p:grpSpPr>
        <p:sp>
          <p:nvSpPr>
            <p:cNvPr id="489" name="AutoShape 15"/>
            <p:cNvSpPr/>
            <p:nvPr/>
          </p:nvSpPr>
          <p:spPr>
            <a:xfrm>
              <a:off x="105120" y="140688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16"/>
            <p:cNvSpPr/>
            <p:nvPr/>
          </p:nvSpPr>
          <p:spPr>
            <a:xfrm>
              <a:off x="103320" y="140328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17"/>
            <p:cNvSpPr/>
            <p:nvPr/>
          </p:nvSpPr>
          <p:spPr>
            <a:xfrm>
              <a:off x="117360" y="1417320"/>
              <a:ext cx="214200" cy="193680"/>
            </a:xfrm>
            <a:prstGeom prst="hexagon">
              <a:avLst>
                <a:gd name="adj" fmla="val 27505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14"/>
          <p:cNvGrpSpPr/>
          <p:nvPr/>
        </p:nvGrpSpPr>
        <p:grpSpPr>
          <a:xfrm>
            <a:off x="117360" y="1868400"/>
            <a:ext cx="246240" cy="225360"/>
            <a:chOff x="117360" y="1868400"/>
            <a:chExt cx="246240" cy="225360"/>
          </a:xfrm>
        </p:grpSpPr>
        <p:sp>
          <p:nvSpPr>
            <p:cNvPr id="493" name="AutoShape 15"/>
            <p:cNvSpPr/>
            <p:nvPr/>
          </p:nvSpPr>
          <p:spPr>
            <a:xfrm>
              <a:off x="119160" y="187200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16"/>
            <p:cNvSpPr/>
            <p:nvPr/>
          </p:nvSpPr>
          <p:spPr>
            <a:xfrm>
              <a:off x="117360" y="1868400"/>
              <a:ext cx="244440" cy="221760"/>
            </a:xfrm>
            <a:prstGeom prst="hexagon">
              <a:avLst>
                <a:gd name="adj" fmla="val 27557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17"/>
            <p:cNvSpPr/>
            <p:nvPr/>
          </p:nvSpPr>
          <p:spPr>
            <a:xfrm>
              <a:off x="131400" y="1882440"/>
              <a:ext cx="214560" cy="193680"/>
            </a:xfrm>
            <a:prstGeom prst="hexagon">
              <a:avLst>
                <a:gd name="adj" fmla="val 27551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14"/>
          <p:cNvGrpSpPr/>
          <p:nvPr/>
        </p:nvGrpSpPr>
        <p:grpSpPr>
          <a:xfrm>
            <a:off x="165240" y="2228760"/>
            <a:ext cx="245880" cy="225360"/>
            <a:chOff x="165240" y="2228760"/>
            <a:chExt cx="245880" cy="225360"/>
          </a:xfrm>
        </p:grpSpPr>
        <p:sp>
          <p:nvSpPr>
            <p:cNvPr id="497" name="AutoShape 15"/>
            <p:cNvSpPr/>
            <p:nvPr/>
          </p:nvSpPr>
          <p:spPr>
            <a:xfrm>
              <a:off x="167040" y="223236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16"/>
            <p:cNvSpPr/>
            <p:nvPr/>
          </p:nvSpPr>
          <p:spPr>
            <a:xfrm>
              <a:off x="165240" y="2228760"/>
              <a:ext cx="244080" cy="221760"/>
            </a:xfrm>
            <a:prstGeom prst="hexagon">
              <a:avLst>
                <a:gd name="adj" fmla="val 2751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17"/>
            <p:cNvSpPr/>
            <p:nvPr/>
          </p:nvSpPr>
          <p:spPr>
            <a:xfrm>
              <a:off x="179280" y="2242800"/>
              <a:ext cx="214200" cy="193680"/>
            </a:xfrm>
            <a:prstGeom prst="hexagon">
              <a:avLst>
                <a:gd name="adj" fmla="val 27505"/>
                <a:gd name="vf" fmla="val 115470"/>
              </a:avLst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Рисунок 3" descr=""/>
          <p:cNvPicPr/>
          <p:nvPr/>
        </p:nvPicPr>
        <p:blipFill>
          <a:blip r:embed="rId2"/>
          <a:stretch/>
        </p:blipFill>
        <p:spPr>
          <a:xfrm>
            <a:off x="3198960" y="2952720"/>
            <a:ext cx="1582560" cy="3429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3" descr="C:\Users\user\Downloads\Screenshot_20220419_144009_ru.yandex.searchplugin (3).jpg"/>
          <p:cNvPicPr/>
          <p:nvPr/>
        </p:nvPicPr>
        <p:blipFill>
          <a:blip r:embed="rId3"/>
          <a:srcRect l="-3915" t="0" r="0" b="0"/>
          <a:stretch/>
        </p:blipFill>
        <p:spPr>
          <a:xfrm>
            <a:off x="701640" y="3213000"/>
            <a:ext cx="1938240" cy="319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13:27:43Z</dcterms:created>
  <dc:creator>Наталья</dc:creator>
  <dc:description/>
  <dc:language>en-US</dc:language>
  <cp:lastModifiedBy>user</cp:lastModifiedBy>
  <dcterms:modified xsi:type="dcterms:W3CDTF">2022-04-25T09:01:42Z</dcterms:modified>
  <cp:revision>138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