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20.gif" ContentType="image/gif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24.jpeg" ContentType="image/jpeg"/>
  <Override PartName="/ppt/media/image21.gif" ContentType="image/gif"/>
  <Override PartName="/ppt/media/image1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38.jpeg" ContentType="image/jpeg"/>
  <Override PartName="/ppt/media/image49.gif" ContentType="image/gif"/>
  <Override PartName="/ppt/media/image36.jpeg" ContentType="image/jpeg"/>
  <Override PartName="/ppt/media/image40.jpeg" ContentType="image/jpeg"/>
  <Override PartName="/ppt/media/image51.gif" ContentType="image/gif"/>
  <Override PartName="/ppt/media/image44.png" ContentType="image/png"/>
  <Override PartName="/ppt/media/image41.jpeg" ContentType="image/jpeg"/>
  <Override PartName="/ppt/media/image52.gif" ContentType="image/gif"/>
  <Override PartName="/ppt/media/image45.png" ContentType="image/png"/>
  <Override PartName="/ppt/media/image46.png" ContentType="image/png"/>
  <Override PartName="/ppt/media/image53.gif" ContentType="image/gif"/>
  <Override PartName="/ppt/media/image37.jpeg" ContentType="image/jpeg"/>
  <Override PartName="/ppt/media/image12.jpeg" ContentType="image/jpeg"/>
  <Override PartName="/ppt/media/image50.gif" ContentType="image/gif"/>
  <Override PartName="/ppt/media/image35.png" ContentType="image/png"/>
  <Override PartName="/ppt/media/image31.jpeg" ContentType="image/jpeg"/>
  <Override PartName="/ppt/media/image30.jpeg" ContentType="image/jpeg"/>
  <Override PartName="/ppt/media/image10.png" ContentType="image/png"/>
  <Override PartName="/ppt/media/image47.png" ContentType="image/pn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3.gif" ContentType="image/gif"/>
  <Override PartName="/ppt/media/image6.png" ContentType="image/png"/>
  <Override PartName="/ppt/media/image48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6196-8F8B-4B13-B67C-18BC62091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E57-1665-4787-BBD4-181C276504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2DB-F597-44F6-94AC-80F103AD9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939B-016E-4CAC-8EC5-A560AECC19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A7F-11FD-4BFB-B723-89A9B5CBF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B33-D8A5-452D-86D1-7B86DFB6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B28-5B52-4FC1-A76B-5539423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4D2-670C-4FBB-9120-18662888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CE4-B704-4350-A83F-ED6C6B79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763-DDC9-4C77-8F57-D7CCD44B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F444-96AC-4FCC-8AC9-1B23731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37A1-2C0F-4FBE-B91E-A5F893C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D7D0-C1C7-46A2-9DD7-72F4ADD7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D83-3999-4209-991A-808F22E9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F076-7A77-4793-BDFB-A8DDEED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083A-0300-4297-9172-B0F69114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499-16E3-47F4-A2BF-87F169D8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D0D-F7D5-435D-95EC-D7F977FF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43B8-884F-4248-BF1B-7DE22B0A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47E4-4E1E-4AE3-B7E5-C54356CE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F4CB-1DA9-49D7-AC58-71A9277D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829-7855-4CCA-A159-740C0BC2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7BFF-94EE-4811-B234-7A16FEA7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76B0-A6A4-400D-8B32-6926894B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E201-1F9E-43A9-B92C-CF3EB6BC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8F09-0193-4D72-B064-21A1A795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52D41-9FC4-457A-999F-FA29FCC5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D1D-F399-4AB5-AAC5-4453F6D3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4F5C-7A0F-43E2-B8E8-650C8C56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6AD0-B1D6-42DF-A37A-6C3942C3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8E6E-DC81-406A-B2D2-92919273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D584-568A-4957-AB21-641E594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1F82-1785-42EA-A9AA-54B0E84D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1B8A-F604-4434-A5F4-B1063504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6768-8250-42EB-ADBC-4D4B4459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7252-A28E-4188-A00D-32AC283C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19EB-0BC1-4876-A990-B43401EE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5D29A-27E7-487A-8A59-E236F5C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14F-D3DE-4F20-BCF9-8F08B76C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B025-762C-4E31-B8D4-0C081B32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916C-57AA-4E27-B9C3-1B145A10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574D-3D7F-4C9F-AAC5-BFCBC3C8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77DA7-F8BC-41D0-8FAC-5638D57A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F8AB-58A4-42E6-8BAB-F5440A56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7768-915B-48D5-9E20-3D70BB7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1BF4-9E83-4AA9-A06F-ECE18BFB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75EE-BB42-403B-A7D6-D8E47D0F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3A59-9FD9-43A5-93FD-222B2EE9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F68-8E83-44A6-A23D-433641EC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8B2-74B1-4005-8C1D-E07677E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001-3BEB-4F39-9A4E-7D1E80F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35B-E7F8-46E0-AA58-0EFD0F04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6BB-97C2-485C-931C-E3B62E3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0277-27CD-4068-BE6D-E883D18DBF4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CDF6-7BCE-43A7-BBC6-095523B61E0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35D-8613-44B6-AE8D-58F38CDCBE2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3426-FEB2-42BE-A78E-8B2379DA8572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google.ru/imgres?imgurl=http://goshabagpiper.narod.ru/balalaika0002.jpg&amp;imgrefurl=http://goshabagpiper.narod.ru/beginning.htm&amp;h=529&amp;w=335&amp;sz=66&amp;hl=ru&amp;start=2&amp;tbnid=SWexAlEUtMQctM:&amp;tbnh=132&amp;tbnw=84&amp;prev=/images%3Fq%3D%25D0%25B1%25D0%25B0%25D0%25BB%25D0%25B0%25D0%25BB%25D0%25B0%25D0%25B9%25D0%25BA%25D0%25B0%2B%25D0%25BA%25D0%25B0%25D1%2580%25D1%2582%25D0%25B8%25D0%25BD%25D0%25BA%25D0%25B0%26hl%3Dru%26newwindow%3D1%26sa%3D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aktivsb.ru/prod-1683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1557360"/>
            <a:ext cx="53294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звука и его характеристики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26680" y="4941360"/>
            <a:ext cx="620388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я учителя ГБОУ СОШ № 658 Кировского района Санкт- Петербурга Булыгиной В.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71680" y="504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распространяющиеся в упругих средах, газах, жидкостях и твердых телах механические колебания, воспринимаемые 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500040" y="5076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(звуковые волны) </a:t>
            </a: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это упругие волны, способные вызвать у человека слуховые ощущения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3286080" y="214308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оцесс распространения звука также представляет собой волну. Впервые это предположение сделал знаменитый английский физик Исаак Ньютон (1643–17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http://www.clubmck.ru/pics/41_1171180515.jpg"/>
          <p:cNvPicPr/>
          <p:nvPr/>
        </p:nvPicPr>
        <p:blipFill>
          <a:blip r:embed="rId1"/>
          <a:stretch/>
        </p:blipFill>
        <p:spPr>
          <a:xfrm>
            <a:off x="928800" y="2357280"/>
            <a:ext cx="1643040" cy="2030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Рисунок 8" descr="http://class-fizika.narod.ru/9_class/28/lawyers_talking_md_wht.gif"/>
          <p:cNvPicPr/>
          <p:nvPr/>
        </p:nvPicPr>
        <p:blipFill>
          <a:blip r:embed="rId1"/>
          <a:stretch/>
        </p:blipFill>
        <p:spPr>
          <a:xfrm>
            <a:off x="7143840" y="35712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8"/>
          <p:cNvSpPr/>
          <p:nvPr/>
        </p:nvSpPr>
        <p:spPr>
          <a:xfrm>
            <a:off x="16423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00040" y="557496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бщим во всех случаях является их происхождение. Колебания тел порождают колебания воздуха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http://www.01j.ru/imgs/solovey.bmp"/>
          <p:cNvPicPr/>
          <p:nvPr/>
        </p:nvPicPr>
        <p:blipFill>
          <a:blip r:embed="rId2"/>
          <a:stretch/>
        </p:blipFill>
        <p:spPr>
          <a:xfrm>
            <a:off x="7072200" y="2928960"/>
            <a:ext cx="1649520" cy="1643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http://www.01j.ru/imgs/center.bmp"/>
          <p:cNvPicPr/>
          <p:nvPr/>
        </p:nvPicPr>
        <p:blipFill>
          <a:blip r:embed="rId3"/>
          <a:stretch/>
        </p:blipFill>
        <p:spPr>
          <a:xfrm>
            <a:off x="3643200" y="4071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http://www.sakhalin.ru/Region/korni/sea/Image/fakt/fakt-(52).jpg"/>
          <p:cNvPicPr/>
          <p:nvPr/>
        </p:nvPicPr>
        <p:blipFill>
          <a:blip r:embed="rId4"/>
          <a:stretch/>
        </p:blipFill>
        <p:spPr>
          <a:xfrm>
            <a:off x="2000160" y="3571920"/>
            <a:ext cx="1571760" cy="15476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5" name="Picture 2" descr="http://www.01j.ru/imgs/violin.bmp"/>
          <p:cNvPicPr/>
          <p:nvPr/>
        </p:nvPicPr>
        <p:blipFill>
          <a:blip r:embed="rId5"/>
          <a:stretch/>
        </p:blipFill>
        <p:spPr>
          <a:xfrm>
            <a:off x="357120" y="2786040"/>
            <a:ext cx="1714680" cy="17082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"/>
          <p:cNvSpPr/>
          <p:nvPr/>
        </p:nvSpPr>
        <p:spPr>
          <a:xfrm>
            <a:off x="285840" y="1006920"/>
            <a:ext cx="84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голос, шелест листь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шум прибо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енные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камертон, струна, колокол, мембра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10" descr="rojok_02.jpg"/>
          <p:cNvPicPr/>
          <p:nvPr/>
        </p:nvPicPr>
        <p:blipFill>
          <a:blip r:embed="rId6"/>
          <a:stretch/>
        </p:blipFill>
        <p:spPr>
          <a:xfrm>
            <a:off x="5429160" y="3500280"/>
            <a:ext cx="1587600" cy="15717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8" name="Рисунок 3" descr="http://cat.tmn.fio.ru/works/40x/311/bolki.jpg"/>
          <p:cNvPicPr/>
          <p:nvPr/>
        </p:nvPicPr>
        <p:blipFill>
          <a:blip r:embed="rId7"/>
          <a:stretch/>
        </p:blipFill>
        <p:spPr>
          <a:xfrm>
            <a:off x="3643200" y="2714760"/>
            <a:ext cx="157176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9" name="Рисунок 2" descr="Ins26.gif"/>
          <p:cNvPicPr/>
          <p:nvPr/>
        </p:nvPicPr>
        <p:blipFill>
          <a:blip r:embed="rId8"/>
          <a:stretch/>
        </p:blipFill>
        <p:spPr>
          <a:xfrm>
            <a:off x="5572080" y="257184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Ins26.gif"/>
          <p:cNvPicPr/>
          <p:nvPr/>
        </p:nvPicPr>
        <p:blipFill>
          <a:blip r:embed="rId9"/>
          <a:stretch/>
        </p:blipFill>
        <p:spPr>
          <a:xfrm flipH="1">
            <a:off x="2071800" y="2571840"/>
            <a:ext cx="1428480" cy="928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D:\WINDOWS\Users\Aida\Рабочий стол\зВУКИ\musician45.gif"/>
          <p:cNvPicPr/>
          <p:nvPr/>
        </p:nvPicPr>
        <p:blipFill>
          <a:blip r:embed="rId10"/>
          <a:stretch/>
        </p:blipFill>
        <p:spPr>
          <a:xfrm flipH="1">
            <a:off x="7714800" y="3714840"/>
            <a:ext cx="830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3"/>
          <p:cNvSpPr/>
          <p:nvPr/>
        </p:nvSpPr>
        <p:spPr>
          <a:xfrm>
            <a:off x="642960" y="4287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источники звука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571680" y="3857760"/>
            <a:ext cx="378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3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Аппарат небольш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удивительный та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друг мой дале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Говорить мне с ним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лефо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4786200" y="3857760"/>
            <a:ext cx="396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4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Два бра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одно донце стуча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не просто бью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месте песню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раб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4572000" y="1143000"/>
            <a:ext cx="4214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астись корову на л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тправила хозя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весив маленький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Что это? Отгадай-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локольч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428760" y="1143000"/>
            <a:ext cx="4071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 треугольник деревя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тянули три стру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руки взяли, заиграл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ги сами в пляс по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лалай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http://tbn0.google.com/images?q=tbn:g8Exwk-6l6FrGM:http://www.babynote.ru/ECatalog/images/esys_20060802182334.jpg"/>
          <p:cNvPicPr/>
          <p:nvPr/>
        </p:nvPicPr>
        <p:blipFill>
          <a:blip r:embed="rId1"/>
          <a:stretch/>
        </p:blipFill>
        <p:spPr>
          <a:xfrm>
            <a:off x="4859280" y="5229360"/>
            <a:ext cx="1542960" cy="1292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tbn0.google.com/images?q=tbn:SWexAlEUtMQctM:http://goshabagpiper.narod.ru/balalaika0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2565360"/>
            <a:ext cx="800280" cy="1257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tbn0.google.com/images?q=tbn:cBHZNj1o3y1KYM:http://www.centrmag.ru/catalog/suv093964.jpg"/>
          <p:cNvPicPr/>
          <p:nvPr/>
        </p:nvPicPr>
        <p:blipFill>
          <a:blip r:embed="rId4"/>
          <a:stretch/>
        </p:blipFill>
        <p:spPr>
          <a:xfrm>
            <a:off x="4859280" y="2421000"/>
            <a:ext cx="1138320" cy="1506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tbn0.google.com/images?q=tbn:MzgTKnBG-RioTM:http://www.mobidom.ru/pics/photos/nokia_7360_big.jpg"/>
          <p:cNvPicPr/>
          <p:nvPr/>
        </p:nvPicPr>
        <p:blipFill>
          <a:blip r:embed="rId5"/>
          <a:stretch/>
        </p:blipFill>
        <p:spPr>
          <a:xfrm>
            <a:off x="75564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7" descr="http://www.tinylovetoys.ru/mobile/zvuk.jpg"/>
          <p:cNvPicPr/>
          <p:nvPr/>
        </p:nvPicPr>
        <p:blipFill>
          <a:blip r:embed="rId1"/>
          <a:stretch/>
        </p:blipFill>
        <p:spPr>
          <a:xfrm>
            <a:off x="2143080" y="2214720"/>
            <a:ext cx="2606760" cy="2195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physics.uni-altai.ru/journals/physics/2003/18/no18_06.gif"/>
          <p:cNvPicPr/>
          <p:nvPr/>
        </p:nvPicPr>
        <p:blipFill>
          <a:blip r:embed="rId2"/>
          <a:stretch/>
        </p:blipFill>
        <p:spPr>
          <a:xfrm>
            <a:off x="4143240" y="3286080"/>
            <a:ext cx="1571760" cy="18414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http://cat.tmn.fio.ru/works/40x/311/kamen.jpg"/>
          <p:cNvPicPr/>
          <p:nvPr/>
        </p:nvPicPr>
        <p:blipFill>
          <a:blip r:embed="rId3"/>
          <a:stretch/>
        </p:blipFill>
        <p:spPr>
          <a:xfrm>
            <a:off x="428760" y="2071800"/>
            <a:ext cx="1577880" cy="2149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http://www.igrosvit.com.ua/product_thumb.php?img=images/C5859_.jpg&amp;w=400&amp;h=406"/>
          <p:cNvPicPr/>
          <p:nvPr/>
        </p:nvPicPr>
        <p:blipFill>
          <a:blip r:embed="rId4"/>
          <a:stretch/>
        </p:blipFill>
        <p:spPr>
          <a:xfrm>
            <a:off x="1000080" y="4643280"/>
            <a:ext cx="1719360" cy="17449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6"/>
          <p:cNvSpPr/>
          <p:nvPr/>
        </p:nvSpPr>
        <p:spPr>
          <a:xfrm>
            <a:off x="5786280" y="364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енок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сле удара молото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7" descr="zvonica2.jpg"/>
          <p:cNvPicPr/>
          <p:nvPr/>
        </p:nvPicPr>
        <p:blipFill>
          <a:blip r:embed="rId5"/>
          <a:stretch/>
        </p:blipFill>
        <p:spPr>
          <a:xfrm>
            <a:off x="7500960" y="200016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8"/>
          <p:cNvSpPr/>
          <p:nvPr/>
        </p:nvSpPr>
        <p:spPr>
          <a:xfrm>
            <a:off x="6354720" y="22147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2152080" y="4429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гре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>
            <a:off x="431640" y="42148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мер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2"/>
          <p:cNvSpPr/>
          <p:nvPr/>
        </p:nvSpPr>
        <p:spPr>
          <a:xfrm>
            <a:off x="178524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357120" y="11458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Источник звука – это любое тело, совершающее колебания с частотой от 20 до 20000 Гц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4" descr="b2.jpg"/>
          <p:cNvPicPr/>
          <p:nvPr/>
        </p:nvPicPr>
        <p:blipFill>
          <a:blip r:embed="rId6"/>
          <a:stretch/>
        </p:blipFill>
        <p:spPr>
          <a:xfrm>
            <a:off x="385776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fano.jpg"/>
          <p:cNvPicPr/>
          <p:nvPr/>
        </p:nvPicPr>
        <p:blipFill>
          <a:blip r:embed="rId7"/>
          <a:stretch/>
        </p:blipFill>
        <p:spPr>
          <a:xfrm>
            <a:off x="6643800" y="4786200"/>
            <a:ext cx="1500120" cy="1549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rebuchet MS"/>
              </a:rPr>
              <a:t>Частотные диапазо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Скругленный прямоугольник 3"/>
          <p:cNvSpPr/>
          <p:nvPr/>
        </p:nvSpPr>
        <p:spPr>
          <a:xfrm>
            <a:off x="857160" y="3429000"/>
            <a:ext cx="2428920" cy="13431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Инфра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Частота меньше 20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5"/>
          <p:cNvSpPr/>
          <p:nvPr/>
        </p:nvSpPr>
        <p:spPr>
          <a:xfrm>
            <a:off x="3500280" y="4929120"/>
            <a:ext cx="2357640" cy="1357560"/>
          </a:xfrm>
          <a:prstGeom prst="roundRect">
            <a:avLst>
              <a:gd name="adj" fmla="val 1666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Слышимый звук в среде, частота от 20 Гц до 20 кГ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6"/>
          <p:cNvSpPr/>
          <p:nvPr/>
        </p:nvSpPr>
        <p:spPr>
          <a:xfrm>
            <a:off x="5786280" y="3571920"/>
            <a:ext cx="2286000" cy="1285920"/>
          </a:xfrm>
          <a:prstGeom prst="roundRect">
            <a:avLst>
              <a:gd name="adj" fmla="val 2168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Ультра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Частота бо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rebuchet MS"/>
              </a:rPr>
              <a:t>20 000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8"/>
          <p:cNvSpPr/>
          <p:nvPr/>
        </p:nvSpPr>
        <p:spPr>
          <a:xfrm>
            <a:off x="3286080" y="1500120"/>
            <a:ext cx="2643120" cy="114300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трелка вниз 9"/>
          <p:cNvSpPr/>
          <p:nvPr/>
        </p:nvSpPr>
        <p:spPr>
          <a:xfrm>
            <a:off x="4143240" y="2643120"/>
            <a:ext cx="857520" cy="2286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трелка влево 10"/>
          <p:cNvSpPr/>
          <p:nvPr/>
        </p:nvSpPr>
        <p:spPr>
          <a:xfrm rot="19607400">
            <a:off x="2162160" y="2712960"/>
            <a:ext cx="1447920" cy="503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трелка влево 11"/>
          <p:cNvSpPr/>
          <p:nvPr/>
        </p:nvSpPr>
        <p:spPr>
          <a:xfrm rot="13674600">
            <a:off x="5592960" y="2770920"/>
            <a:ext cx="1314360" cy="44928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785880" y="5000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а «нем как рыба»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казалась опровергнутой. Рыбы очень общительны. Звуки одних рыб напоминают свистки футбольных судей, других – стрельбу из винтовки или пистолета, а кое-кто шумит, словно мотоцикл, или издает хлопки. Одна лишь акула всегда мол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2" descr="http://cat.tmn.fio.ru/works/40x/311/okun.jpg"/>
          <p:cNvPicPr/>
          <p:nvPr/>
        </p:nvPicPr>
        <p:blipFill>
          <a:blip r:embed="rId1"/>
          <a:stretch/>
        </p:blipFill>
        <p:spPr>
          <a:xfrm>
            <a:off x="4572000" y="3929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http://cat.tmn.fio.ru/works/40x/311/okun.jpg"/>
          <p:cNvPicPr/>
          <p:nvPr/>
        </p:nvPicPr>
        <p:blipFill>
          <a:blip r:embed="rId2"/>
          <a:stretch/>
        </p:blipFill>
        <p:spPr>
          <a:xfrm>
            <a:off x="1285920" y="3929040"/>
            <a:ext cx="3286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www.tmn.fio.ru/works/89x/308/images/16f-i1.gif"/>
          <p:cNvPicPr/>
          <p:nvPr/>
        </p:nvPicPr>
        <p:blipFill>
          <a:blip r:embed="rId1"/>
          <a:stretch/>
        </p:blipFill>
        <p:spPr>
          <a:xfrm>
            <a:off x="3419640" y="2060640"/>
            <a:ext cx="2066760" cy="216036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2"/>
          <p:cNvSpPr/>
          <p:nvPr/>
        </p:nvSpPr>
        <p:spPr>
          <a:xfrm>
            <a:off x="500040" y="428760"/>
            <a:ext cx="83581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  ♦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3"/>
          <p:cNvSpPr/>
          <p:nvPr/>
        </p:nvSpPr>
        <p:spPr>
          <a:xfrm>
            <a:off x="785880" y="47149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357280" y="1214280"/>
          <a:ext cx="6215400" cy="3597480"/>
        </p:xfrm>
        <a:graphic>
          <a:graphicData uri="http://schemas.openxmlformats.org/drawingml/2006/table">
            <a:tbl>
              <a:tblPr/>
              <a:tblGrid>
                <a:gridCol w="3729240"/>
                <a:gridCol w="24861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1" lang="ru-RU" sz="2400" spc="-1" strike="noStrike" baseline="30000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3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428760" y="49291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 В воздухе при повышении температуры на 1°С скорость звука возрастает приблизительно на 0,60 м/с.</a:t>
            </a:r>
            <a:r>
              <a:rPr b="1" lang="ru-RU" sz="24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1" lang="ru-RU" sz="20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"/>
          <p:cNvSpPr/>
          <p:nvPr/>
        </p:nvSpPr>
        <p:spPr>
          <a:xfrm>
            <a:off x="42876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1.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Скорость звука в различных веществ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4" descr="Playing_a_saw.jpg"/>
          <p:cNvPicPr/>
          <p:nvPr/>
        </p:nvPicPr>
        <p:blipFill>
          <a:blip r:embed="rId2"/>
          <a:stretch/>
        </p:blipFill>
        <p:spPr>
          <a:xfrm>
            <a:off x="642960" y="92880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Cellist.JPG"/>
          <p:cNvPicPr/>
          <p:nvPr/>
        </p:nvPicPr>
        <p:blipFill>
          <a:blip r:embed="rId3"/>
          <a:stretch/>
        </p:blipFill>
        <p:spPr>
          <a:xfrm>
            <a:off x="571680" y="2786040"/>
            <a:ext cx="1571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214720" y="4500720"/>
          <a:ext cx="4786200" cy="1500120"/>
        </p:xfrm>
        <a:graphic>
          <a:graphicData uri="http://schemas.openxmlformats.org/drawingml/2006/table">
            <a:tbl>
              <a:tblPr/>
              <a:tblGrid>
                <a:gridCol w="2393640"/>
                <a:gridCol w="2392560"/>
              </a:tblGrid>
              <a:tr h="15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bf4c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bf4ca"/>
                    </a:solidFill>
                  </a:tcPr>
                </a:tc>
              </a:tr>
            </a:tbl>
          </a:graphicData>
        </a:graphic>
      </p:graphicFrame>
      <p:sp>
        <p:nvSpPr>
          <p:cNvPr id="304" name="Прямоугольник 1"/>
          <p:cNvSpPr/>
          <p:nvPr/>
        </p:nvSpPr>
        <p:spPr>
          <a:xfrm>
            <a:off x="500040" y="642960"/>
            <a:ext cx="8358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вук 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это волна, то для определения скорости звука можно воспользоваться известными 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3214800" y="4572000"/>
                <a:ext cx="30002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0"/>
              <p:cNvSpPr txBox="1"/>
              <p:nvPr/>
            </p:nvSpPr>
            <p:spPr>
              <a:xfrm>
                <a:off x="2428920" y="2500200"/>
                <a:ext cx="435780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324000" y="1341360"/>
          <a:ext cx="8429400" cy="3365640"/>
        </p:xfrm>
        <a:graphic>
          <a:graphicData uri="http://schemas.openxmlformats.org/drawingml/2006/table">
            <a:tbl>
              <a:tblPr/>
              <a:tblGrid>
                <a:gridCol w="2214360"/>
                <a:gridCol w="1857600"/>
                <a:gridCol w="2301840"/>
                <a:gridCol w="2055600"/>
              </a:tblGrid>
              <a:tr h="4208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бр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ары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че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пни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ко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0c226"/>
                      </a:solidFill>
                    </a:lnL>
                    <a:lnR w="5760">
                      <a:solidFill>
                        <a:srgbClr val="90c226"/>
                      </a:solidFill>
                    </a:lnR>
                    <a:lnT w="5760">
                      <a:solidFill>
                        <a:srgbClr val="90c226"/>
                      </a:solidFill>
                    </a:lnT>
                    <a:lnB w="5760">
                      <a:solidFill>
                        <a:srgbClr val="90c22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8" name="Прямоугольник 6"/>
          <p:cNvSpPr/>
          <p:nvPr/>
        </p:nvSpPr>
        <p:spPr>
          <a:xfrm>
            <a:off x="3268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7" descr="823446_900x600.jpg"/>
          <p:cNvPicPr/>
          <p:nvPr/>
        </p:nvPicPr>
        <p:blipFill>
          <a:blip r:embed="rId1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8" descr="823452_900x675.jpg"/>
          <p:cNvPicPr/>
          <p:nvPr/>
        </p:nvPicPr>
        <p:blipFill>
          <a:blip r:embed="rId2"/>
          <a:stretch/>
        </p:blipFill>
        <p:spPr>
          <a:xfrm>
            <a:off x="2556000" y="486900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9" descr="823418_900x604.jpg"/>
          <p:cNvPicPr/>
          <p:nvPr/>
        </p:nvPicPr>
        <p:blipFill>
          <a:blip r:embed="rId3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0" descr="11 - WAP.jpg"/>
          <p:cNvPicPr/>
          <p:nvPr/>
        </p:nvPicPr>
        <p:blipFill>
          <a:blip r:embed="rId4"/>
          <a:stretch/>
        </p:blipFill>
        <p:spPr>
          <a:xfrm>
            <a:off x="4643280" y="4869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3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j0074318.mid" descr=""/>
          <p:cNvPicPr/>
          <p:nvPr/>
        </p:nvPicPr>
        <p:blipFill>
          <a:blip r:embed="rId1"/>
          <a:stretch/>
        </p:blipFill>
        <p:spPr>
          <a:xfrm>
            <a:off x="4857840" y="54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2" name="TextBox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5931000" cy="1792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http://img11.nnm.ru/imagez/gallery/7/2/4/4/7/7244709d0d527f42f5a7013d12d96fb5_full.jpg"/>
          <p:cNvPicPr/>
          <p:nvPr/>
        </p:nvPicPr>
        <p:blipFill>
          <a:blip r:embed="rId3"/>
          <a:stretch/>
        </p:blipFill>
        <p:spPr>
          <a:xfrm>
            <a:off x="642960" y="32148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719 оповещатель звуковой (сирена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429000"/>
            <a:ext cx="174132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http://www.p-marketing.ru/grape/upload/29/Ris02grafofon.jpg"/>
          <p:cNvPicPr/>
          <p:nvPr/>
        </p:nvPicPr>
        <p:blipFill>
          <a:blip r:embed="rId6"/>
          <a:stretch/>
        </p:blipFill>
        <p:spPr>
          <a:xfrm flipH="1" rot="21440400">
            <a:off x="4066560" y="3789360"/>
            <a:ext cx="2097000" cy="25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66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3"/>
          <p:cNvSpPr/>
          <p:nvPr/>
        </p:nvSpPr>
        <p:spPr>
          <a:xfrm>
            <a:off x="428760" y="71424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f217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кой прибор был изобретён для настройки музыкальных инструмент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ля настройки музыкальных инструментов был изобретён камертон. Он способен издавать звук одной частоты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2. Доставляет ли комфорт человеку абсолютная тишина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бсолютная тишина нам не подходит, поскольку держит нервную систему в постоянном напряжении. Начинают беспокоить удары сердца, пульс, дыхание и даже шорох ресни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каких средах звук распространяется быстрее всего. А в каких медленне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3204000" y="2602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928800" y="500652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газах звук распространяется медленнее, чем в других средах. В жидкостях звук распространяется быстрее. В твёрдых телах звук распространяется быстрее всего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4" descr="babochka064.gif"/>
          <p:cNvPicPr/>
          <p:nvPr/>
        </p:nvPicPr>
        <p:blipFill>
          <a:blip r:embed="rId1"/>
          <a:stretch/>
        </p:blipFill>
        <p:spPr>
          <a:xfrm rot="3829800">
            <a:off x="5448960" y="5115600"/>
            <a:ext cx="1212840" cy="127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 rot="18520200">
            <a:off x="7389000" y="4239720"/>
            <a:ext cx="1311120" cy="10746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"/>
          <p:cNvSpPr/>
          <p:nvPr/>
        </p:nvSpPr>
        <p:spPr>
          <a:xfrm>
            <a:off x="428760" y="2858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ни-те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7"/>
          <p:cNvSpPr/>
          <p:nvPr/>
        </p:nvSpPr>
        <p:spPr>
          <a:xfrm>
            <a:off x="571680" y="1071720"/>
            <a:ext cx="828648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f217b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и полёте большинство насекомых издают звук. Чем это вызыва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голосовыми связ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ветр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взмахами крыл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строением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c00000"/>
              </a:buClr>
              <a:buSzPct val="80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2.   Какое насекомое – бабочка или муха – делает большее количество взмахов крыль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) баб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) муха и бабочка делают одинаковое количество взмах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) му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) они не взмахивают крыл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c00000"/>
              </a:buClr>
              <a:buSzPct val="8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3"/>
          <a:stretch/>
        </p:blipFill>
        <p:spPr>
          <a:xfrm rot="893400">
            <a:off x="7106760" y="1723680"/>
            <a:ext cx="1125720" cy="11336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4"/>
          <a:stretch/>
        </p:blipFill>
        <p:spPr>
          <a:xfrm rot="1413600">
            <a:off x="4308480" y="225576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5"/>
          <a:stretch/>
        </p:blipFill>
        <p:spPr>
          <a:xfrm rot="21217200">
            <a:off x="5851080" y="2499840"/>
            <a:ext cx="1359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f217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000" autoRev="1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f217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000" autoRev="1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5"/>
          <p:cNvSpPr/>
          <p:nvPr/>
        </p:nvSpPr>
        <p:spPr>
          <a:xfrm>
            <a:off x="642960" y="271440"/>
            <a:ext cx="757224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тест по теме "Зву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точники зву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Звуковые волны распространяются со скоростью равной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30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 3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3000000 м/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Человек воспринимает звук в пределах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до 16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20-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20000-26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Ультразвуком называют волны с частотой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ниже 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20000 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выше 20000Г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Звук может распространяться в виде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родоль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попереч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продольных и поперечных 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вук распростран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твердых, жидких и газообразных те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лько в газ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лько в твердых те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вук не может распространя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в  воздух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в безвоздушном простран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Отве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Б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Б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Норма оцено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 одной ошибки- «</a:t>
            </a: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5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 или 2 неправильных – «</a:t>
            </a:r>
            <a:r>
              <a:rPr b="1" lang="ru-RU" sz="1800" spc="-1" strike="noStrike">
                <a:solidFill>
                  <a:srgbClr val="0f217b"/>
                </a:solidFill>
                <a:latin typeface="Trebuchet MS"/>
              </a:rPr>
              <a:t>4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ли 3 неправильных ответов- «</a:t>
            </a:r>
            <a:r>
              <a:rPr b="1" lang="ru-RU" sz="1800" spc="-1" strike="noStrike">
                <a:solidFill>
                  <a:srgbClr val="00682f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7" name="Picture 4" descr="7m6"/>
          <p:cNvPicPr/>
          <p:nvPr/>
        </p:nvPicPr>
        <p:blipFill>
          <a:blip r:embed="rId1"/>
          <a:stretch/>
        </p:blipFill>
        <p:spPr>
          <a:xfrm>
            <a:off x="1285920" y="1928880"/>
            <a:ext cx="1800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1071720" y="2784600"/>
            <a:ext cx="7215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Сегодня на уроке я уз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165160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651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"/>
          <p:cNvSpPr/>
          <p:nvPr/>
        </p:nvSpPr>
        <p:spPr>
          <a:xfrm>
            <a:off x="2851920" y="714240"/>
            <a:ext cx="328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"/>
          <p:cNvSpPr/>
          <p:nvPr/>
        </p:nvSpPr>
        <p:spPr>
          <a:xfrm>
            <a:off x="50004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должите фр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5" descr="Lolly1.gif"/>
          <p:cNvPicPr/>
          <p:nvPr/>
        </p:nvPicPr>
        <p:blipFill>
          <a:blip r:embed="rId1"/>
          <a:stretch/>
        </p:blipFill>
        <p:spPr>
          <a:xfrm>
            <a:off x="1071720" y="50004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2"/>
          <p:cNvSpPr/>
          <p:nvPr/>
        </p:nvSpPr>
        <p:spPr>
          <a:xfrm>
            <a:off x="1692360" y="537372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rebuchet MS"/>
              </a:rPr>
              <a:t>Спасибо за работу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"/>
          <p:cNvSpPr/>
          <p:nvPr/>
        </p:nvSpPr>
        <p:spPr>
          <a:xfrm flipV="1" rot="10800000">
            <a:off x="928440" y="569520"/>
            <a:ext cx="671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4, 37, 38, упр. 32 (1,2)  стр 126  Подготовить сообщения  о инфразвуке и ультразв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ёрышкин А.В., Гутник Е.М. Физика.  9 класс. – М.: Дрофа, 201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5" descr="welcome_back.gif"/>
          <p:cNvPicPr/>
          <p:nvPr/>
        </p:nvPicPr>
        <p:blipFill>
          <a:blip r:embed="rId1"/>
          <a:stretch/>
        </p:blipFill>
        <p:spPr>
          <a:xfrm rot="20694000">
            <a:off x="2124000" y="3644640"/>
            <a:ext cx="2381400" cy="12859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6" descr="back_to_school_kids.gif"/>
          <p:cNvPicPr/>
          <p:nvPr/>
        </p:nvPicPr>
        <p:blipFill>
          <a:blip r:embed="rId2"/>
          <a:stretch/>
        </p:blipFill>
        <p:spPr>
          <a:xfrm>
            <a:off x="3071880" y="2928960"/>
            <a:ext cx="2381040" cy="21812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7" descr="school_kids.gif"/>
          <p:cNvPicPr/>
          <p:nvPr/>
        </p:nvPicPr>
        <p:blipFill>
          <a:blip r:embed="rId3"/>
          <a:stretch/>
        </p:blipFill>
        <p:spPr>
          <a:xfrm>
            <a:off x="5435640" y="2565360"/>
            <a:ext cx="2381040" cy="180036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8"/>
          <p:cNvSpPr/>
          <p:nvPr/>
        </p:nvSpPr>
        <p:spPr>
          <a:xfrm>
            <a:off x="4714920" y="4929120"/>
            <a:ext cx="9288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9"/>
          <p:cNvSpPr/>
          <p:nvPr/>
        </p:nvSpPr>
        <p:spPr>
          <a:xfrm rot="20865600">
            <a:off x="7027560" y="4665600"/>
            <a:ext cx="9288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1"/>
          <p:cNvSpPr/>
          <p:nvPr/>
        </p:nvSpPr>
        <p:spPr>
          <a:xfrm>
            <a:off x="3857760" y="4000680"/>
            <a:ext cx="9284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2"/>
          <p:cNvSpPr/>
          <p:nvPr/>
        </p:nvSpPr>
        <p:spPr>
          <a:xfrm rot="20789400">
            <a:off x="3669480" y="3879360"/>
            <a:ext cx="12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Спасибо за уро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3" descr="default.gif"/>
          <p:cNvPicPr/>
          <p:nvPr/>
        </p:nvPicPr>
        <p:blipFill>
          <a:blip r:embed="rId4"/>
          <a:stretch/>
        </p:blipFill>
        <p:spPr>
          <a:xfrm flipH="1">
            <a:off x="-4429440" y="5286240"/>
            <a:ext cx="442908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006.Эргим авай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3" name="005.Чашкы уем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77 -0.0287 L 1.59636 -0.02894 E">
                                      <p:cBhvr>
                                        <p:cTn id="92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66243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7420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Цель нашего уро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Познакомиться источниками звук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Показать причинно-следственную связь между колеблющимся телом и звуковыми колебания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rebuchet MS"/>
              </a:rPr>
              <a:t>Расширить кругозор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План урок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Организационный момент-1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Актуализация знаний- 3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Мотивация и целеполагание- 3 мину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Этап получения нового знания-10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Физкултьминутка-2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Закрепление  учебного материала-15 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Информация о домашнем задании-2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Подведение итогов урока-4ми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571680" y="300024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179280" y="234936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ир, в котором мы живем, полон всевозможных звуков.  Мы слыш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(ответы учащихс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Акустика-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раздел физики, в котором изучаются звуковые явле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ы живем в мире звуков, которые позволяют нам получать информацию о том, что происходит вокру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Picture 6" descr="http://www.computerbooks.ru/books/Music/Book.AdobeAfterEffect6/Glava_01/8.gif"/>
          <p:cNvPicPr/>
          <p:nvPr/>
        </p:nvPicPr>
        <p:blipFill>
          <a:blip r:embed="rId1"/>
          <a:stretch/>
        </p:blipFill>
        <p:spPr>
          <a:xfrm>
            <a:off x="642960" y="500040"/>
            <a:ext cx="7929720" cy="56437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Аристотель"/>
          <p:cNvPicPr/>
          <p:nvPr/>
        </p:nvPicPr>
        <p:blipFill>
          <a:blip r:embed="rId1"/>
          <a:stretch/>
        </p:blipFill>
        <p:spPr>
          <a:xfrm>
            <a:off x="407880" y="3017880"/>
            <a:ext cx="1536840" cy="17366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2000160" y="11991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и начали изучать ещё в далёкой древности. Первые наблюдения по акустике были проведены в VI веке до нашей эры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фагор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установил связь между высотой тона и длиной струны или трубы, издающе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IV в. до н.э.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стотель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ервый правильно представил, как распространяется звук в воздухе. Он сказал, что звучащее тело вызывает сжатие и разрежение воздуха, и объяснил эхо отражением звука от препят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XV веке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онардо да Винчи </a:t>
            </a:r>
            <a:r>
              <a:rPr b="1" lang="ru-RU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формулировал принцип независимости звуковых волн от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6"/>
          <p:cNvSpPr/>
          <p:nvPr/>
        </p:nvSpPr>
        <p:spPr>
          <a:xfrm>
            <a:off x="434880" y="35712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изучения звуков</a:t>
            </a:r>
            <a:r>
              <a:rPr b="0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http://www.piplz.ru/photo/Pifagor.jpg"/>
          <p:cNvPicPr/>
          <p:nvPr/>
        </p:nvPicPr>
        <p:blipFill>
          <a:blip r:embed="rId2"/>
          <a:stretch/>
        </p:blipFill>
        <p:spPr>
          <a:xfrm>
            <a:off x="407880" y="1371600"/>
            <a:ext cx="1530360" cy="1542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Сам Леонардо Да Винчи"/>
          <p:cNvPicPr/>
          <p:nvPr/>
        </p:nvPicPr>
        <p:blipFill>
          <a:blip r:embed="rId3"/>
          <a:stretch/>
        </p:blipFill>
        <p:spPr>
          <a:xfrm>
            <a:off x="407880" y="4876920"/>
            <a:ext cx="1536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7"/>
          <p:cNvSpPr/>
          <p:nvPr/>
        </p:nvSpPr>
        <p:spPr>
          <a:xfrm>
            <a:off x="500040" y="31431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1" lang="ru-RU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  представляет собой металлическую «рогатку», укрепленную на ящичке, у которого нет одной стенки. Если специальным резиновым молоточком ударить по «ножкам» камертона, то он будет издавать звук, называемый музыкальным т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Камертон"/>
          <p:cNvPicPr/>
          <p:nvPr/>
        </p:nvPicPr>
        <p:blipFill>
          <a:blip r:embed="rId1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2" descr="tfl.gif"/>
          <p:cNvPicPr/>
          <p:nvPr/>
        </p:nvPicPr>
        <p:blipFill>
          <a:blip r:embed="rId2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4"/>
          <p:cNvSpPr/>
          <p:nvPr/>
        </p:nvSpPr>
        <p:spPr>
          <a:xfrm>
            <a:off x="2214720" y="564372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был 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9:55:32Z</dcterms:created>
  <dc:creator>Александрова З.В.</dc:creator>
  <dc:description/>
  <dc:language>en-US</dc:language>
  <cp:lastModifiedBy>Пользователь Windows</cp:lastModifiedBy>
  <dcterms:modified xsi:type="dcterms:W3CDTF">2022-04-26T06:48:14Z</dcterms:modified>
  <cp:revision>210</cp:revision>
  <dc:subject/>
  <dc:title>Слайд 1</dc:title>
</cp:coreProperties>
</file>