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20.gif" ContentType="image/gif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24.jpeg" ContentType="image/jpeg"/>
  <Override PartName="/ppt/media/image21.gif" ContentType="image/gif"/>
  <Override PartName="/ppt/media/image1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38.jpeg" ContentType="image/jpeg"/>
  <Override PartName="/ppt/media/image49.gif" ContentType="image/gif"/>
  <Override PartName="/ppt/media/image36.jpeg" ContentType="image/jpeg"/>
  <Override PartName="/ppt/media/image40.jpeg" ContentType="image/jpeg"/>
  <Override PartName="/ppt/media/image51.gif" ContentType="image/gif"/>
  <Override PartName="/ppt/media/image44.png" ContentType="image/png"/>
  <Override PartName="/ppt/media/image41.jpeg" ContentType="image/jpeg"/>
  <Override PartName="/ppt/media/image52.gif" ContentType="image/gif"/>
  <Override PartName="/ppt/media/image45.png" ContentType="image/png"/>
  <Override PartName="/ppt/media/image46.png" ContentType="image/png"/>
  <Override PartName="/ppt/media/image53.gif" ContentType="image/gif"/>
  <Override PartName="/ppt/media/image37.jpeg" ContentType="image/jpeg"/>
  <Override PartName="/ppt/media/image12.jpeg" ContentType="image/jpeg"/>
  <Override PartName="/ppt/media/image50.gif" ContentType="image/gif"/>
  <Override PartName="/ppt/media/image35.png" ContentType="image/png"/>
  <Override PartName="/ppt/media/image31.jpeg" ContentType="image/jpeg"/>
  <Override PartName="/ppt/media/image30.jpeg" ContentType="image/jpeg"/>
  <Override PartName="/ppt/media/image10.png" ContentType="image/png"/>
  <Override PartName="/ppt/media/image47.png" ContentType="image/pn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3.gif" ContentType="image/gif"/>
  <Override PartName="/ppt/media/image6.png" ContentType="image/png"/>
  <Override PartName="/ppt/media/image48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87E6-4A72-4F12-97A9-98386A3C9D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A43F-4BF5-410E-ACB3-4F7A072874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209A-58B8-424F-A51B-9722D7527E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D096-D14E-41E7-912D-A4CA290D09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D3D6-D3F7-4A4C-AF56-E3D9D7A0E5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FDF-79B2-47D1-A100-732C2B4A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AEE-2225-49A4-971E-3B2EBC73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879-4B2D-49A8-830B-0D31594A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1CC-E4A0-4300-998B-C587E113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5871-0FC4-4B91-AB5F-8D6B88A6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370C-6817-45A3-AD36-A8972412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3375-25E2-486A-B673-74346A43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A851-653B-40C5-8195-7B16D3FF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A2FA-ECA3-47C4-83CB-7773712B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D8EB-73A5-42BE-870D-1D422A18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22B6-69F5-4202-8262-072CAB7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177-75F3-4FDB-8A9F-DFA0E325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12C6-6C32-455A-8217-37325A53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CFF6-46FF-4670-8D13-0B78AA2B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CDFC-01BB-4958-9B86-6D45DD8E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7B75-7419-495C-B42C-49CE3D6C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F2BA-15FB-49C1-8B9F-4FFDAB05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B9B7-747C-4F04-AAC2-D504F8E7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CD3F-C970-425A-8940-3AA35665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165A8-C737-445B-A4B6-E9C7EC70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DD85C-BA60-4CD6-BDB9-617D847B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7DAF8-4CA6-438C-A856-8F81C2A1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F4B-9BC7-4F1A-969E-8CF80E00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A31F-9FD7-4253-AEC2-3057CA0A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2AE6-A51A-481D-AF4E-32003502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D7092-ACBB-46C1-899E-58C6DAEF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CCF2-6E56-40E1-A408-4EFA7B18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4EF3-D4B8-4961-B806-756F5AD2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0FD9C-BFD9-4190-9621-2C8835B0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C5AC-0379-4E91-A74B-D8238D5C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5E828-69AD-4F00-A15E-9CD8243E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3CFD-6CAB-49EC-B75B-0A663398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D7CE-7D87-4BDB-9E19-D9BBB6EA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F6D-B254-4942-8C33-B233EBA3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AEFA-DED2-4B00-8E2F-F8B72AB1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30F24-9C8B-47B9-B618-3AA5E0F3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52C5B-7FAA-4836-9E1A-97959DD5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F48A1-7DFF-4024-9A97-5A4CEBC6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99A2-4B9D-49CB-86A4-4B606453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FF96-8B6E-4045-B8EB-0492238A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648E1-D48E-4911-84F0-78391675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89FE-E8EB-4BE5-944A-20BA24D2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56D1A-AC65-4E92-B8C0-4A217A8A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32A-5AC4-48BA-A6B4-68243DD4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F07-7482-45ED-9D21-2FAA840C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E01-9711-4891-98B9-045B6ECD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A17-A151-4970-8DB5-A9AA0796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442-44B8-4C63-9F23-21A8648E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F542-D894-4BF4-AC80-5B31F38511A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3E3C-D29A-4894-8146-3CD16245CC2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0AD3-DF36-4E4D-B359-F2EDC31DBA7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1F0B-67EF-47C1-BCEC-9E9F0735DC2C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google.ru/imgres?imgurl=http://goshabagpiper.narod.ru/balalaika0002.jpg&amp;imgrefurl=http://goshabagpiper.narod.ru/beginning.htm&amp;h=529&amp;w=335&amp;sz=66&amp;hl=ru&amp;start=2&amp;tbnid=SWexAlEUtMQctM:&amp;tbnh=132&amp;tbnw=84&amp;prev=/images%3Fq%3D%25D0%25B1%25D0%25B0%25D0%25BB%25D0%25B0%25D0%25BB%25D0%25B0%25D0%25B9%25D0%25BA%25D0%25B0%2B%25D0%25BA%25D0%25B0%25D1%2580%25D1%2582%25D0%25B8%25D0%25BD%25D0%25BA%25D0%25B0%26hl%3Dru%26newwindow%3D1%26sa%3DG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aktivsb.ru/prod-1683.html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03280" y="1557360"/>
            <a:ext cx="5329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звука и его характеристики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26680" y="4941360"/>
            <a:ext cx="620388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зентация учителя ГБОУ СОШ № 658 Кировского района Санкт- Петербурга Булыгиной В.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571680" y="5047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 распространяющиеся в упругих средах, газах, жидкостях и твердых телах механические колебания, воспринимаемые у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500040" y="507672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(звуковые волны) </a:t>
            </a:r>
            <a:r>
              <a:rPr b="1" i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это упругие волны, способные вызвать у человека слуховые ощущения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3286080" y="2143080"/>
            <a:ext cx="5357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роцесс распространения звука также представляет собой волну. Впервые это предположение сделал знаменитый английский физик Исаак Ньютон (1643–17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http://www.clubmck.ru/pics/41_1171180515.jpg"/>
          <p:cNvPicPr/>
          <p:nvPr/>
        </p:nvPicPr>
        <p:blipFill>
          <a:blip r:embed="rId1"/>
          <a:stretch/>
        </p:blipFill>
        <p:spPr>
          <a:xfrm>
            <a:off x="928800" y="2357280"/>
            <a:ext cx="1643040" cy="20304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8" descr="http://class-fizika.narod.ru/9_class/28/lawyers_talking_md_wht.gif"/>
          <p:cNvPicPr/>
          <p:nvPr/>
        </p:nvPicPr>
        <p:blipFill>
          <a:blip r:embed="rId1"/>
          <a:stretch/>
        </p:blipFill>
        <p:spPr>
          <a:xfrm>
            <a:off x="7143840" y="357120"/>
            <a:ext cx="1487520" cy="128592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8"/>
          <p:cNvSpPr/>
          <p:nvPr/>
        </p:nvSpPr>
        <p:spPr>
          <a:xfrm>
            <a:off x="1642320" y="21420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звука</a:t>
            </a: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500040" y="5574960"/>
            <a:ext cx="8001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бщим во всех случаях является их происхождение. Колебания тел порождают колебания воздуха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http://www.01j.ru/imgs/solovey.bmp"/>
          <p:cNvPicPr/>
          <p:nvPr/>
        </p:nvPicPr>
        <p:blipFill>
          <a:blip r:embed="rId2"/>
          <a:stretch/>
        </p:blipFill>
        <p:spPr>
          <a:xfrm>
            <a:off x="7072200" y="2928960"/>
            <a:ext cx="1649520" cy="1643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http://www.01j.ru/imgs/center.bmp"/>
          <p:cNvPicPr/>
          <p:nvPr/>
        </p:nvPicPr>
        <p:blipFill>
          <a:blip r:embed="rId3"/>
          <a:stretch/>
        </p:blipFill>
        <p:spPr>
          <a:xfrm>
            <a:off x="3643200" y="4071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http://www.sakhalin.ru/Region/korni/sea/Image/fakt/fakt-(52).jpg"/>
          <p:cNvPicPr/>
          <p:nvPr/>
        </p:nvPicPr>
        <p:blipFill>
          <a:blip r:embed="rId4"/>
          <a:stretch/>
        </p:blipFill>
        <p:spPr>
          <a:xfrm>
            <a:off x="2000160" y="3571920"/>
            <a:ext cx="1571760" cy="15476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5" name="Picture 2" descr="http://www.01j.ru/imgs/violin.bmp"/>
          <p:cNvPicPr/>
          <p:nvPr/>
        </p:nvPicPr>
        <p:blipFill>
          <a:blip r:embed="rId5"/>
          <a:stretch/>
        </p:blipFill>
        <p:spPr>
          <a:xfrm>
            <a:off x="357120" y="2786040"/>
            <a:ext cx="1714680" cy="17082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"/>
          <p:cNvSpPr/>
          <p:nvPr/>
        </p:nvSpPr>
        <p:spPr>
          <a:xfrm>
            <a:off x="285840" y="1006920"/>
            <a:ext cx="8429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тественные </a:t>
            </a: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(голос, шелест листье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шум прибоя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кусственные</a:t>
            </a: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(камертон, струна, колокол, мембран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10" descr="rojok_02.jpg"/>
          <p:cNvPicPr/>
          <p:nvPr/>
        </p:nvPicPr>
        <p:blipFill>
          <a:blip r:embed="rId6"/>
          <a:stretch/>
        </p:blipFill>
        <p:spPr>
          <a:xfrm>
            <a:off x="5429160" y="3500280"/>
            <a:ext cx="1587600" cy="157176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8" name="Рисунок 3" descr="http://cat.tmn.fio.ru/works/40x/311/bolki.jpg"/>
          <p:cNvPicPr/>
          <p:nvPr/>
        </p:nvPicPr>
        <p:blipFill>
          <a:blip r:embed="rId7"/>
          <a:stretch/>
        </p:blipFill>
        <p:spPr>
          <a:xfrm>
            <a:off x="3643200" y="2714760"/>
            <a:ext cx="1571760" cy="128592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9" name="Рисунок 2" descr="Ins26.gif"/>
          <p:cNvPicPr/>
          <p:nvPr/>
        </p:nvPicPr>
        <p:blipFill>
          <a:blip r:embed="rId8"/>
          <a:stretch/>
        </p:blipFill>
        <p:spPr>
          <a:xfrm>
            <a:off x="5572080" y="2571840"/>
            <a:ext cx="1238400" cy="92844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Ins26.gif"/>
          <p:cNvPicPr/>
          <p:nvPr/>
        </p:nvPicPr>
        <p:blipFill>
          <a:blip r:embed="rId9"/>
          <a:stretch/>
        </p:blipFill>
        <p:spPr>
          <a:xfrm flipH="1">
            <a:off x="2071800" y="2571840"/>
            <a:ext cx="1428480" cy="928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D:\WINDOWS\Users\Aida\Рабочий стол\зВУКИ\musician45.gif"/>
          <p:cNvPicPr/>
          <p:nvPr/>
        </p:nvPicPr>
        <p:blipFill>
          <a:blip r:embed="rId10"/>
          <a:stretch/>
        </p:blipFill>
        <p:spPr>
          <a:xfrm flipH="1">
            <a:off x="7714800" y="3714840"/>
            <a:ext cx="8305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3"/>
          <p:cNvSpPr/>
          <p:nvPr/>
        </p:nvSpPr>
        <p:spPr>
          <a:xfrm>
            <a:off x="642960" y="42876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источники звука в загад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4"/>
          <p:cNvSpPr/>
          <p:nvPr/>
        </p:nvSpPr>
        <p:spPr>
          <a:xfrm>
            <a:off x="571680" y="3857760"/>
            <a:ext cx="3786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3. </a:t>
            </a: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Аппарат небольш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 удивительный та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Если друг мой дале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Говорить мне с ним лег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елефо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4786200" y="3857760"/>
            <a:ext cx="3962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4. </a:t>
            </a: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Два брат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одно донце стуча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 не просто бью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месте песню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раба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6"/>
          <p:cNvSpPr/>
          <p:nvPr/>
        </p:nvSpPr>
        <p:spPr>
          <a:xfrm>
            <a:off x="4572000" y="1143000"/>
            <a:ext cx="42148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2. </a:t>
            </a: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астись корову на луж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тправила хозяй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весив маленький зво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Что это? Отгадай-к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Колокольчи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428760" y="1143000"/>
            <a:ext cx="40719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а треугольник деревя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атянули три стру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руки взяли, заиграл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ги сами в пляс пош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лалайк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http://tbn0.google.com/images?q=tbn:g8Exwk-6l6FrGM:http://www.babynote.ru/ECatalog/images/esys_20060802182334.jpg"/>
          <p:cNvPicPr/>
          <p:nvPr/>
        </p:nvPicPr>
        <p:blipFill>
          <a:blip r:embed="rId1"/>
          <a:stretch/>
        </p:blipFill>
        <p:spPr>
          <a:xfrm>
            <a:off x="4859280" y="5229360"/>
            <a:ext cx="1542960" cy="1292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http://tbn0.google.com/images?q=tbn:SWexAlEUtMQctM:http://goshabagpiper.narod.ru/balalaika00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565360"/>
            <a:ext cx="800280" cy="1257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http://tbn0.google.com/images?q=tbn:cBHZNj1o3y1KYM:http://www.centrmag.ru/catalog/suv093964.jpg"/>
          <p:cNvPicPr/>
          <p:nvPr/>
        </p:nvPicPr>
        <p:blipFill>
          <a:blip r:embed="rId4"/>
          <a:stretch/>
        </p:blipFill>
        <p:spPr>
          <a:xfrm>
            <a:off x="4859280" y="2421000"/>
            <a:ext cx="1138320" cy="1506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http://tbn0.google.com/images?q=tbn:MzgTKnBG-RioTM:http://www.mobidom.ru/pics/photos/nokia_7360_big.jpg"/>
          <p:cNvPicPr/>
          <p:nvPr/>
        </p:nvPicPr>
        <p:blipFill>
          <a:blip r:embed="rId5"/>
          <a:stretch/>
        </p:blipFill>
        <p:spPr>
          <a:xfrm>
            <a:off x="755640" y="5229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http://www.tinylovetoys.ru/mobile/zvuk.jpg"/>
          <p:cNvPicPr/>
          <p:nvPr/>
        </p:nvPicPr>
        <p:blipFill>
          <a:blip r:embed="rId1"/>
          <a:stretch/>
        </p:blipFill>
        <p:spPr>
          <a:xfrm>
            <a:off x="2143080" y="2214720"/>
            <a:ext cx="2606760" cy="2195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physics.uni-altai.ru/journals/physics/2003/18/no18_06.gif"/>
          <p:cNvPicPr/>
          <p:nvPr/>
        </p:nvPicPr>
        <p:blipFill>
          <a:blip r:embed="rId2"/>
          <a:stretch/>
        </p:blipFill>
        <p:spPr>
          <a:xfrm>
            <a:off x="4143240" y="3286080"/>
            <a:ext cx="1571760" cy="18414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4" descr="http://cat.tmn.fio.ru/works/40x/311/kamen.jpg"/>
          <p:cNvPicPr/>
          <p:nvPr/>
        </p:nvPicPr>
        <p:blipFill>
          <a:blip r:embed="rId3"/>
          <a:stretch/>
        </p:blipFill>
        <p:spPr>
          <a:xfrm>
            <a:off x="428760" y="2071800"/>
            <a:ext cx="1577880" cy="2149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http://www.igrosvit.com.ua/product_thumb.php?img=images/C5859_.jpg&amp;w=400&amp;h=406"/>
          <p:cNvPicPr/>
          <p:nvPr/>
        </p:nvPicPr>
        <p:blipFill>
          <a:blip r:embed="rId4"/>
          <a:stretch/>
        </p:blipFill>
        <p:spPr>
          <a:xfrm>
            <a:off x="1000080" y="4643280"/>
            <a:ext cx="1719360" cy="17449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"/>
          <p:cNvSpPr/>
          <p:nvPr/>
        </p:nvSpPr>
        <p:spPr>
          <a:xfrm>
            <a:off x="5786280" y="36432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олебания стенок ста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сле удара молоточ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7" descr="zvonica2.jpg"/>
          <p:cNvPicPr/>
          <p:nvPr/>
        </p:nvPicPr>
        <p:blipFill>
          <a:blip r:embed="rId5"/>
          <a:stretch/>
        </p:blipFill>
        <p:spPr>
          <a:xfrm>
            <a:off x="7500960" y="200016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8"/>
          <p:cNvSpPr/>
          <p:nvPr/>
        </p:nvSpPr>
        <p:spPr>
          <a:xfrm>
            <a:off x="6354720" y="22147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ол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2152080" y="44290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грем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1"/>
          <p:cNvSpPr/>
          <p:nvPr/>
        </p:nvSpPr>
        <p:spPr>
          <a:xfrm>
            <a:off x="431640" y="421488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амерт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2"/>
          <p:cNvSpPr/>
          <p:nvPr/>
        </p:nvSpPr>
        <p:spPr>
          <a:xfrm>
            <a:off x="1785240" y="21420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звука</a:t>
            </a: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357120" y="114588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Источник звука – это любое тело, совершающее колебания с частотой от 20 до 20000 Гц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14" descr="b2.jpg"/>
          <p:cNvPicPr/>
          <p:nvPr/>
        </p:nvPicPr>
        <p:blipFill>
          <a:blip r:embed="rId6"/>
          <a:stretch/>
        </p:blipFill>
        <p:spPr>
          <a:xfrm>
            <a:off x="3857760" y="464328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fano.jpg"/>
          <p:cNvPicPr/>
          <p:nvPr/>
        </p:nvPicPr>
        <p:blipFill>
          <a:blip r:embed="rId7"/>
          <a:stretch/>
        </p:blipFill>
        <p:spPr>
          <a:xfrm>
            <a:off x="6643800" y="4786200"/>
            <a:ext cx="1500120" cy="15494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rebuchet MS"/>
              </a:rPr>
              <a:t>Частотные диапазон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Скругленный прямоугольник 3"/>
          <p:cNvSpPr/>
          <p:nvPr/>
        </p:nvSpPr>
        <p:spPr>
          <a:xfrm>
            <a:off x="857160" y="3429000"/>
            <a:ext cx="2428920" cy="134316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Инфра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Частота меньше 20 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5"/>
          <p:cNvSpPr/>
          <p:nvPr/>
        </p:nvSpPr>
        <p:spPr>
          <a:xfrm>
            <a:off x="3500280" y="4929120"/>
            <a:ext cx="2357640" cy="135756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Слышимый звук в среде, частота от 20 Гц до 20 кГ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6"/>
          <p:cNvSpPr/>
          <p:nvPr/>
        </p:nvSpPr>
        <p:spPr>
          <a:xfrm>
            <a:off x="5786280" y="3571920"/>
            <a:ext cx="2286000" cy="1285920"/>
          </a:xfrm>
          <a:prstGeom prst="roundRect">
            <a:avLst>
              <a:gd name="adj" fmla="val 2168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Ультра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Частота боль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20 000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8"/>
          <p:cNvSpPr/>
          <p:nvPr/>
        </p:nvSpPr>
        <p:spPr>
          <a:xfrm>
            <a:off x="3286080" y="1500120"/>
            <a:ext cx="2643120" cy="114300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rebuchet MS"/>
              </a:rPr>
              <a:t>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трелка вниз 9"/>
          <p:cNvSpPr/>
          <p:nvPr/>
        </p:nvSpPr>
        <p:spPr>
          <a:xfrm>
            <a:off x="4143240" y="2643120"/>
            <a:ext cx="857520" cy="2286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трелка влево 10"/>
          <p:cNvSpPr/>
          <p:nvPr/>
        </p:nvSpPr>
        <p:spPr>
          <a:xfrm rot="19607400">
            <a:off x="2162160" y="2712960"/>
            <a:ext cx="1447920" cy="503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трелка влево 11"/>
          <p:cNvSpPr/>
          <p:nvPr/>
        </p:nvSpPr>
        <p:spPr>
          <a:xfrm rot="13674600">
            <a:off x="5592960" y="2770920"/>
            <a:ext cx="1314360" cy="44928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785880" y="500040"/>
            <a:ext cx="8072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говорка «нем как рыба»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казалась опровергнутой. Рыбы очень общительны. Звуки одних рыб напоминают свистки футбольных судей, других – стрельбу из винтовки или пистолета, а кое-кто шумит, словно мотоцикл, или издает хлопки. Одна лишь акула всегда мол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2" descr="http://cat.tmn.fio.ru/works/40x/311/okun.jpg"/>
          <p:cNvPicPr/>
          <p:nvPr/>
        </p:nvPicPr>
        <p:blipFill>
          <a:blip r:embed="rId1"/>
          <a:stretch/>
        </p:blipFill>
        <p:spPr>
          <a:xfrm>
            <a:off x="4572000" y="392904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2" descr="http://cat.tmn.fio.ru/works/40x/311/okun.jpg"/>
          <p:cNvPicPr/>
          <p:nvPr/>
        </p:nvPicPr>
        <p:blipFill>
          <a:blip r:embed="rId2"/>
          <a:stretch/>
        </p:blipFill>
        <p:spPr>
          <a:xfrm>
            <a:off x="1285920" y="3929040"/>
            <a:ext cx="3286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ttp://www.tmn.fio.ru/works/89x/308/images/16f-i1.gif"/>
          <p:cNvPicPr/>
          <p:nvPr/>
        </p:nvPicPr>
        <p:blipFill>
          <a:blip r:embed="rId1"/>
          <a:stretch/>
        </p:blipFill>
        <p:spPr>
          <a:xfrm>
            <a:off x="3419640" y="2060640"/>
            <a:ext cx="2066760" cy="216036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2"/>
          <p:cNvSpPr/>
          <p:nvPr/>
        </p:nvSpPr>
        <p:spPr>
          <a:xfrm>
            <a:off x="500040" y="428760"/>
            <a:ext cx="83581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  ♦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чему нельзя услышать звон колокола, находящегося внутри сосуда, из которого откачан возду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3"/>
          <p:cNvSpPr/>
          <p:nvPr/>
        </p:nvSpPr>
        <p:spPr>
          <a:xfrm>
            <a:off x="785880" y="471492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распространяется в любой упругой среде – твердой, жидкой и газообразной, но не может распространяться в пространстве, где нет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2357280" y="1214280"/>
          <a:ext cx="6215400" cy="3597480"/>
        </p:xfrm>
        <a:graphic>
          <a:graphicData uri="http://schemas.openxmlformats.org/drawingml/2006/table">
            <a:tbl>
              <a:tblPr/>
              <a:tblGrid>
                <a:gridCol w="3729240"/>
                <a:gridCol w="2486160"/>
              </a:tblGrid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орость звука, 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здух  (при 0</a:t>
                      </a:r>
                      <a:r>
                        <a:rPr b="1" lang="ru-RU" sz="2400" spc="-1" strike="noStrike" baseline="30000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Гел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Морская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Железо и ста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Стек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5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Тяжелая древес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428760" y="492912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корость звука зависит от свойств среды,  в которой распространяется звук.  В воздухе при повышении температуры на 1°С скорость звука возрастает приблизительно на 0,60 м/с.</a:t>
            </a:r>
            <a:r>
              <a:rPr b="1" lang="ru-RU" sz="2400" spc="-1" strike="noStrike">
                <a:solidFill>
                  <a:srgbClr val="0f217b"/>
                </a:solidFill>
                <a:latin typeface="Arial"/>
                <a:ea typeface="Times New Roman"/>
              </a:rPr>
              <a:t>  </a:t>
            </a:r>
            <a:r>
              <a:rPr b="1" lang="ru-RU" sz="2000" spc="-1" strike="noStrike">
                <a:solidFill>
                  <a:srgbClr val="0f21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6"/>
          <p:cNvSpPr/>
          <p:nvPr/>
        </p:nvSpPr>
        <p:spPr>
          <a:xfrm>
            <a:off x="428760" y="35712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Таблица 1.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Скорость звука в различных вещества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4" descr="Playing_a_saw.jpg"/>
          <p:cNvPicPr/>
          <p:nvPr/>
        </p:nvPicPr>
        <p:blipFill>
          <a:blip r:embed="rId2"/>
          <a:stretch/>
        </p:blipFill>
        <p:spPr>
          <a:xfrm>
            <a:off x="642960" y="92880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5" descr="Cellist.JPG"/>
          <p:cNvPicPr/>
          <p:nvPr/>
        </p:nvPicPr>
        <p:blipFill>
          <a:blip r:embed="rId3"/>
          <a:stretch/>
        </p:blipFill>
        <p:spPr>
          <a:xfrm>
            <a:off x="571680" y="2786040"/>
            <a:ext cx="1571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2214720" y="4500720"/>
          <a:ext cx="4786200" cy="1500120"/>
        </p:xfrm>
        <a:graphic>
          <a:graphicData uri="http://schemas.openxmlformats.org/drawingml/2006/table">
            <a:tbl>
              <a:tblPr/>
              <a:tblGrid>
                <a:gridCol w="2393640"/>
                <a:gridCol w="2392560"/>
              </a:tblGrid>
              <a:tr h="1500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bf4c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bf4ca"/>
                    </a:solidFill>
                  </a:tcPr>
                </a:tc>
              </a:tr>
            </a:tbl>
          </a:graphicData>
        </a:graphic>
      </p:graphicFrame>
      <p:sp>
        <p:nvSpPr>
          <p:cNvPr id="304" name="Прямоугольник 1"/>
          <p:cNvSpPr/>
          <p:nvPr/>
        </p:nvSpPr>
        <p:spPr>
          <a:xfrm>
            <a:off x="500040" y="642960"/>
            <a:ext cx="83581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Если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звук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 это волна, то для определения скорости звука можно воспользоваться известными  формула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3214800" y="4572000"/>
                <a:ext cx="30002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t xml:space="preserve">⋅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20"/>
              <p:cNvSpPr txBox="1"/>
              <p:nvPr/>
            </p:nvSpPr>
            <p:spPr>
              <a:xfrm>
                <a:off x="2428920" y="2500200"/>
                <a:ext cx="435780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324000" y="1341360"/>
          <a:ext cx="8429400" cy="3365640"/>
        </p:xfrm>
        <a:graphic>
          <a:graphicData uri="http://schemas.openxmlformats.org/drawingml/2006/table">
            <a:tbl>
              <a:tblPr/>
              <a:tblGrid>
                <a:gridCol w="2214360"/>
                <a:gridCol w="1857600"/>
                <a:gridCol w="2301840"/>
                <a:gridCol w="2055600"/>
              </a:tblGrid>
              <a:tr h="420840">
                <a:tc gridSpan="4">
                  <a:txBody>
                    <a:bodyPr lIns="68760" rIns="68760" tIns="0" bIns="0" anchor="t">
                      <a:noAutofit/>
                    </a:bodyPr>
                    <a:p>
                      <a:pPr marL="1193760" indent="-110160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0c226"/>
                      </a:solidFill>
                    </a:lnL>
                    <a:lnR w="5760">
                      <a:solidFill>
                        <a:srgbClr val="90c226"/>
                      </a:solidFill>
                    </a:lnR>
                    <a:lnT w="5760">
                      <a:solidFill>
                        <a:srgbClr val="90c226"/>
                      </a:solidFill>
                    </a:lnT>
                    <a:lnB w="5760">
                      <a:solidFill>
                        <a:srgbClr val="90c226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и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о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бьи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н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бри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ары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0c226"/>
                      </a:solidFill>
                    </a:lnL>
                    <a:lnR w="5760">
                      <a:solidFill>
                        <a:srgbClr val="90c226"/>
                      </a:solidFill>
                    </a:lnR>
                    <a:lnT w="5760">
                      <a:solidFill>
                        <a:srgbClr val="90c226"/>
                      </a:solidFill>
                    </a:lnT>
                    <a:lnB w="5760">
                      <a:solidFill>
                        <a:srgbClr val="90c22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0c226"/>
                      </a:solidFill>
                    </a:lnL>
                    <a:lnR w="5760">
                      <a:solidFill>
                        <a:srgbClr val="90c226"/>
                      </a:solidFill>
                    </a:lnR>
                    <a:lnT w="5760">
                      <a:solidFill>
                        <a:srgbClr val="90c226"/>
                      </a:solidFill>
                    </a:lnT>
                    <a:lnB w="5760">
                      <a:solidFill>
                        <a:srgbClr val="90c22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че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анч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пни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коз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м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0c226"/>
                      </a:solidFill>
                    </a:lnL>
                    <a:lnR w="5760">
                      <a:solidFill>
                        <a:srgbClr val="90c226"/>
                      </a:solidFill>
                    </a:lnR>
                    <a:lnT w="5760">
                      <a:solidFill>
                        <a:srgbClr val="90c226"/>
                      </a:solidFill>
                    </a:lnT>
                    <a:lnB w="5760">
                      <a:solidFill>
                        <a:srgbClr val="90c22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0c226"/>
                      </a:solidFill>
                    </a:lnL>
                    <a:lnR w="5760">
                      <a:solidFill>
                        <a:srgbClr val="90c226"/>
                      </a:solidFill>
                    </a:lnR>
                    <a:lnT w="5760">
                      <a:solidFill>
                        <a:srgbClr val="90c226"/>
                      </a:solidFill>
                    </a:lnT>
                    <a:lnB w="5760">
                      <a:solidFill>
                        <a:srgbClr val="90c22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08" name="Прямоугольник 6"/>
          <p:cNvSpPr/>
          <p:nvPr/>
        </p:nvSpPr>
        <p:spPr>
          <a:xfrm>
            <a:off x="326880" y="40464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Таблиц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7" descr="823446_900x600.jpg"/>
          <p:cNvPicPr/>
          <p:nvPr/>
        </p:nvPicPr>
        <p:blipFill>
          <a:blip r:embed="rId1"/>
          <a:stretch/>
        </p:blipFill>
        <p:spPr>
          <a:xfrm>
            <a:off x="324000" y="4869000"/>
            <a:ext cx="2214360" cy="157140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8" descr="823452_900x675.jpg"/>
          <p:cNvPicPr/>
          <p:nvPr/>
        </p:nvPicPr>
        <p:blipFill>
          <a:blip r:embed="rId2"/>
          <a:stretch/>
        </p:blipFill>
        <p:spPr>
          <a:xfrm>
            <a:off x="2556000" y="4869000"/>
            <a:ext cx="2095200" cy="157140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9" descr="823418_900x604.jpg"/>
          <p:cNvPicPr/>
          <p:nvPr/>
        </p:nvPicPr>
        <p:blipFill>
          <a:blip r:embed="rId3"/>
          <a:stretch/>
        </p:blipFill>
        <p:spPr>
          <a:xfrm>
            <a:off x="6732720" y="4869000"/>
            <a:ext cx="2143080" cy="15714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0" descr="11 - WAP.jpg"/>
          <p:cNvPicPr/>
          <p:nvPr/>
        </p:nvPicPr>
        <p:blipFill>
          <a:blip r:embed="rId4"/>
          <a:stretch/>
        </p:blipFill>
        <p:spPr>
          <a:xfrm>
            <a:off x="4643280" y="4869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23"/>
          <p:cNvSpPr/>
          <p:nvPr/>
        </p:nvSpPr>
        <p:spPr>
          <a:xfrm>
            <a:off x="2489760" y="281160"/>
            <a:ext cx="564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астота колебаний крыльев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секомых и птиц в полете, Г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j0074318.mid" descr=""/>
          <p:cNvPicPr/>
          <p:nvPr/>
        </p:nvPicPr>
        <p:blipFill>
          <a:blip r:embed="rId1"/>
          <a:stretch/>
        </p:blipFill>
        <p:spPr>
          <a:xfrm>
            <a:off x="4857840" y="5429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2" name="TextBox 3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5931000" cy="1792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http://img11.nnm.ru/imagez/gallery/7/2/4/4/7/7244709d0d527f42f5a7013d12d96fb5_full.jpg"/>
          <p:cNvPicPr/>
          <p:nvPr/>
        </p:nvPicPr>
        <p:blipFill>
          <a:blip r:embed="rId3"/>
          <a:stretch/>
        </p:blipFill>
        <p:spPr>
          <a:xfrm>
            <a:off x="642960" y="321480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719 оповещатель звуковой (сирена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6720" y="3429000"/>
            <a:ext cx="1741320" cy="15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http://www.p-marketing.ru/grape/upload/29/Ris02grafofon.jpg"/>
          <p:cNvPicPr/>
          <p:nvPr/>
        </p:nvPicPr>
        <p:blipFill>
          <a:blip r:embed="rId6"/>
          <a:stretch/>
        </p:blipFill>
        <p:spPr>
          <a:xfrm flipH="1" rot="21440400">
            <a:off x="4066560" y="3789360"/>
            <a:ext cx="2097000" cy="25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466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3"/>
          <p:cNvSpPr/>
          <p:nvPr/>
        </p:nvSpPr>
        <p:spPr>
          <a:xfrm>
            <a:off x="428760" y="714240"/>
            <a:ext cx="8358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f217b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акой прибор был изобретён для настройки музыкальных инструмент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ля настройки музыкальных инструментов был изобретён камертон. Он способен издавать звук одной частоты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2. Доставляет ли комфорт человеку абсолютная тишина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Абсолютная тишина нам не подходит, поскольку держит нервную систему в постоянном напряжении. Начинают беспокоить удары сердца, пульс, дыхание и даже шорох ресниц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каких средах звук распространяется быстрее всего. А в каких медленне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3204000" y="26028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928800" y="500652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 газах звук распространяется медленнее, чем в других средах. В жидкостях звук распространяется быстрее. В твёрдых телах звук распространяется быстрее всего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4" descr="babochka064.gif"/>
          <p:cNvPicPr/>
          <p:nvPr/>
        </p:nvPicPr>
        <p:blipFill>
          <a:blip r:embed="rId1"/>
          <a:stretch/>
        </p:blipFill>
        <p:spPr>
          <a:xfrm rot="3829800">
            <a:off x="5448960" y="5115600"/>
            <a:ext cx="1212840" cy="1278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2"/>
          <a:stretch/>
        </p:blipFill>
        <p:spPr>
          <a:xfrm rot="18520200">
            <a:off x="7389000" y="4239720"/>
            <a:ext cx="1311120" cy="10746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"/>
          <p:cNvSpPr/>
          <p:nvPr/>
        </p:nvSpPr>
        <p:spPr>
          <a:xfrm>
            <a:off x="428760" y="2858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ни-те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7"/>
          <p:cNvSpPr/>
          <p:nvPr/>
        </p:nvSpPr>
        <p:spPr>
          <a:xfrm>
            <a:off x="571680" y="1071720"/>
            <a:ext cx="82864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f217b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ри полёте большинство насекомых издают звук. Чем это вызыв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) голосовыми связ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) ветр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взмахами крыл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) строением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00000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2.   Какое насекомое – бабочка или муха – делает большее количество взмахов крыль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) бабо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) муха и бабочка делают одинаковое количество взмах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м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) они не взмахивают крыл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c00000"/>
              </a:buClr>
              <a:buSzPct val="8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3"/>
          <a:stretch/>
        </p:blipFill>
        <p:spPr>
          <a:xfrm rot="893400">
            <a:off x="7106760" y="1723680"/>
            <a:ext cx="1125720" cy="1133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"/>
          <p:cNvPicPr/>
          <p:nvPr/>
        </p:nvPicPr>
        <p:blipFill>
          <a:blip r:embed="rId4"/>
          <a:stretch/>
        </p:blipFill>
        <p:spPr>
          <a:xfrm rot="1413600">
            <a:off x="4308480" y="2255760"/>
            <a:ext cx="1143000" cy="1067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"/>
          <p:cNvPicPr/>
          <p:nvPr/>
        </p:nvPicPr>
        <p:blipFill>
          <a:blip r:embed="rId5"/>
          <a:stretch/>
        </p:blipFill>
        <p:spPr>
          <a:xfrm rot="21217200">
            <a:off x="5851080" y="2499840"/>
            <a:ext cx="13590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f217b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1000" autoRev="1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f217b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000" autoRev="1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5"/>
          <p:cNvSpPr/>
          <p:nvPr/>
        </p:nvSpPr>
        <p:spPr>
          <a:xfrm>
            <a:off x="642960" y="271440"/>
            <a:ext cx="7572240" cy="59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тест по теме "Зву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точники зву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Звуковые волны распространяются со скоростью равной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300 м/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 30 м/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3000000 м/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Человек воспринимает звук в пределах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до 16 Г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20-20000 Г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20000-26000 Г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Ультразвуком называют волны с частотой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ниже 20000 Г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20000 Г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выше 20000Г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Звук может распространяться в виде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продольных вол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поперечных вол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продольных и поперечных вол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вук распростран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в твердых, жидких и газообразных те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только в газ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только в твердых те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Звук не может распространя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в  воздух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в безвоздушном простран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Ответ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 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2Б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3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5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6Б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Норма оценок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 одной ошибки- «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5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»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 или 2 неправильных – «</a:t>
            </a:r>
            <a:r>
              <a:rPr b="1" lang="ru-RU" sz="1800" spc="-1" strike="noStrike">
                <a:solidFill>
                  <a:srgbClr val="0f217b"/>
                </a:solidFill>
                <a:latin typeface="Trebuchet MS"/>
              </a:rPr>
              <a:t>4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»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Если 3 неправильных ответов- «</a:t>
            </a:r>
            <a:r>
              <a:rPr b="1" lang="ru-RU" sz="1800" spc="-1" strike="noStrike">
                <a:solidFill>
                  <a:srgbClr val="00682f"/>
                </a:solidFill>
                <a:latin typeface="Trebuchet MS"/>
              </a:rPr>
              <a:t>3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7" name="Picture 4" descr="7m6"/>
          <p:cNvPicPr/>
          <p:nvPr/>
        </p:nvPicPr>
        <p:blipFill>
          <a:blip r:embed="rId1"/>
          <a:stretch/>
        </p:blipFill>
        <p:spPr>
          <a:xfrm>
            <a:off x="1285920" y="1928880"/>
            <a:ext cx="1800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1071720" y="2784600"/>
            <a:ext cx="72151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Arial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165160"/>
                </a:solidFill>
                <a:latin typeface="Arial"/>
                <a:ea typeface="Times New Roman"/>
              </a:rPr>
              <a:t>Сегодня на уроке я уз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651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5160"/>
                </a:solidFill>
                <a:latin typeface="Arial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165160"/>
                </a:solidFill>
                <a:latin typeface="Arial"/>
                <a:ea typeface="Times New Roman"/>
              </a:rPr>
              <a:t>Было интерес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651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"/>
          <p:cNvSpPr/>
          <p:nvPr/>
        </p:nvSpPr>
        <p:spPr>
          <a:xfrm>
            <a:off x="2851920" y="714240"/>
            <a:ext cx="328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"/>
          <p:cNvSpPr/>
          <p:nvPr/>
        </p:nvSpPr>
        <p:spPr>
          <a:xfrm>
            <a:off x="500040" y="2286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должите фраз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5" descr="Lolly1.gif"/>
          <p:cNvPicPr/>
          <p:nvPr/>
        </p:nvPicPr>
        <p:blipFill>
          <a:blip r:embed="rId1"/>
          <a:stretch/>
        </p:blipFill>
        <p:spPr>
          <a:xfrm>
            <a:off x="1071720" y="50004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2"/>
          <p:cNvSpPr/>
          <p:nvPr/>
        </p:nvSpPr>
        <p:spPr>
          <a:xfrm>
            <a:off x="1692360" y="5373720"/>
            <a:ext cx="692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rebuchet MS"/>
              </a:rPr>
              <a:t>Спасибо за работу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"/>
          <p:cNvSpPr/>
          <p:nvPr/>
        </p:nvSpPr>
        <p:spPr>
          <a:xfrm flipV="1" rot="10800000">
            <a:off x="928440" y="569520"/>
            <a:ext cx="67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 §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4, 37, 38, упр. 32 (1,2)  стр 126  Подготовить сообщения  о инфразвуке и ультразв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ёрышкин А.В., Гутник Е.М. Физика.  9 класс. – М.: Дрофа, 201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5" descr="welcome_back.gif"/>
          <p:cNvPicPr/>
          <p:nvPr/>
        </p:nvPicPr>
        <p:blipFill>
          <a:blip r:embed="rId1"/>
          <a:stretch/>
        </p:blipFill>
        <p:spPr>
          <a:xfrm rot="20694000">
            <a:off x="2124000" y="3644640"/>
            <a:ext cx="2381400" cy="12859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6" descr="back_to_school_kids.gif"/>
          <p:cNvPicPr/>
          <p:nvPr/>
        </p:nvPicPr>
        <p:blipFill>
          <a:blip r:embed="rId2"/>
          <a:stretch/>
        </p:blipFill>
        <p:spPr>
          <a:xfrm>
            <a:off x="3071880" y="2928960"/>
            <a:ext cx="2381040" cy="21812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7" descr="school_kids.gif"/>
          <p:cNvPicPr/>
          <p:nvPr/>
        </p:nvPicPr>
        <p:blipFill>
          <a:blip r:embed="rId3"/>
          <a:stretch/>
        </p:blipFill>
        <p:spPr>
          <a:xfrm>
            <a:off x="5435640" y="2565360"/>
            <a:ext cx="2381040" cy="180036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8"/>
          <p:cNvSpPr/>
          <p:nvPr/>
        </p:nvSpPr>
        <p:spPr>
          <a:xfrm>
            <a:off x="4714920" y="4929120"/>
            <a:ext cx="9288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9"/>
          <p:cNvSpPr/>
          <p:nvPr/>
        </p:nvSpPr>
        <p:spPr>
          <a:xfrm rot="20865600">
            <a:off x="7027560" y="4665600"/>
            <a:ext cx="9288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1"/>
          <p:cNvSpPr/>
          <p:nvPr/>
        </p:nvSpPr>
        <p:spPr>
          <a:xfrm>
            <a:off x="3857760" y="4000680"/>
            <a:ext cx="92844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2"/>
          <p:cNvSpPr/>
          <p:nvPr/>
        </p:nvSpPr>
        <p:spPr>
          <a:xfrm rot="20789400">
            <a:off x="3669480" y="3879360"/>
            <a:ext cx="12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Спасибо за уро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13" descr="default.gif"/>
          <p:cNvPicPr/>
          <p:nvPr/>
        </p:nvPicPr>
        <p:blipFill>
          <a:blip r:embed="rId4"/>
          <a:stretch/>
        </p:blipFill>
        <p:spPr>
          <a:xfrm flipH="1">
            <a:off x="-4429440" y="5286240"/>
            <a:ext cx="4429080" cy="571680"/>
          </a:xfrm>
          <a:prstGeom prst="rect">
            <a:avLst/>
          </a:prstGeom>
          <a:ln w="0">
            <a:noFill/>
          </a:ln>
        </p:spPr>
      </p:pic>
      <p:pic>
        <p:nvPicPr>
          <p:cNvPr id="342" name="006.Эргим авай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43" name="005.Чашкы уем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677 -0.0287 L 1.59636 -0.02894 E">
                                      <p:cBhvr>
                                        <p:cTn id="92" dur="5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66243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7420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Цель нашего уро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rebuchet MS"/>
              </a:rPr>
              <a:t>Познакомиться источниками зву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rebuchet MS"/>
              </a:rPr>
              <a:t>Показать причинно-следственную связь между колеблющимся телом и звуковыми колебани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rebuchet MS"/>
              </a:rPr>
              <a:t>Расширить кругозор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План уро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Организационный момент-1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Актуализация знаний- 3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Мотивация и целеполагание- 3 мину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Этап получения нового знания-10 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Физкултьминутка-2 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Закрепление  учебного материала-15 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Информация о домашнем задании-2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Подведение итогов урока-4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571680" y="300024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"/>
          <p:cNvSpPr/>
          <p:nvPr/>
        </p:nvSpPr>
        <p:spPr>
          <a:xfrm>
            <a:off x="179280" y="234936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ир, в котором мы живем, полон всевозможных звуков.  Мы слыш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(ответы учащихс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rebuchet MS"/>
              </a:rPr>
              <a:t>Акустика-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1928520"/>
            <a:ext cx="64008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раздел физики, в котором изучаются звуковые явлени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ы живем в мире звуков, которые позволяют нам получать информацию о том, что происходит вокру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Picture 6" descr="http://www.computerbooks.ru/books/Music/Book.AdobeAfterEffect6/Glava_01/8.gif"/>
          <p:cNvPicPr/>
          <p:nvPr/>
        </p:nvPicPr>
        <p:blipFill>
          <a:blip r:embed="rId1"/>
          <a:stretch/>
        </p:blipFill>
        <p:spPr>
          <a:xfrm>
            <a:off x="642960" y="500040"/>
            <a:ext cx="7929720" cy="564372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Аристотель"/>
          <p:cNvPicPr/>
          <p:nvPr/>
        </p:nvPicPr>
        <p:blipFill>
          <a:blip r:embed="rId1"/>
          <a:stretch/>
        </p:blipFill>
        <p:spPr>
          <a:xfrm>
            <a:off x="407880" y="3017880"/>
            <a:ext cx="1536840" cy="17366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2000160" y="119916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Звуки начали изучать ещё в далёкой древности. Первые наблюдения по акустике были проведены в VI веке до нашей эры.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фагор</a:t>
            </a: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установил связь между высотой тона и длиной струны или трубы, издающей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IV в. до н.э.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истотель </a:t>
            </a: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ервый правильно представил, как распространяется звук в воздухе. Он сказал, что звучащее тело вызывает сжатие и разрежение воздуха, и объяснил эхо отражением звука от препят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XV веке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онардо да Винчи </a:t>
            </a: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формулировал принцип независимости звуковых волн от различ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434880" y="357120"/>
            <a:ext cx="832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изучения звуков</a:t>
            </a: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http://www.piplz.ru/photo/Pifagor.jpg"/>
          <p:cNvPicPr/>
          <p:nvPr/>
        </p:nvPicPr>
        <p:blipFill>
          <a:blip r:embed="rId2"/>
          <a:stretch/>
        </p:blipFill>
        <p:spPr>
          <a:xfrm>
            <a:off x="407880" y="1371600"/>
            <a:ext cx="1530360" cy="1542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Сам Леонардо Да Винчи"/>
          <p:cNvPicPr/>
          <p:nvPr/>
        </p:nvPicPr>
        <p:blipFill>
          <a:blip r:embed="rId3"/>
          <a:stretch/>
        </p:blipFill>
        <p:spPr>
          <a:xfrm>
            <a:off x="407880" y="4876920"/>
            <a:ext cx="15368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7"/>
          <p:cNvSpPr/>
          <p:nvPr/>
        </p:nvSpPr>
        <p:spPr>
          <a:xfrm>
            <a:off x="500040" y="3143160"/>
            <a:ext cx="84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  представляет собой металлическую «рогатку», укрепленную на ящичке, у которого нет одной стенки. Если специальным резиновым молоточком ударить по «ножкам» камертона, то он будет издавать звук, называемый музыкальным то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Камертон"/>
          <p:cNvPicPr/>
          <p:nvPr/>
        </p:nvPicPr>
        <p:blipFill>
          <a:blip r:embed="rId1"/>
          <a:stretch/>
        </p:blipFill>
        <p:spPr>
          <a:xfrm>
            <a:off x="500040" y="428760"/>
            <a:ext cx="2495520" cy="25318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" descr="tfl.gif"/>
          <p:cNvPicPr/>
          <p:nvPr/>
        </p:nvPicPr>
        <p:blipFill>
          <a:blip r:embed="rId2"/>
          <a:stretch/>
        </p:blipFill>
        <p:spPr>
          <a:xfrm>
            <a:off x="3357720" y="500040"/>
            <a:ext cx="5072040" cy="25718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4"/>
          <p:cNvSpPr/>
          <p:nvPr/>
        </p:nvSpPr>
        <p:spPr>
          <a:xfrm>
            <a:off x="2214720" y="564372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 был  изобретен в 18 веке для настройки музык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09:55:32Z</dcterms:created>
  <dc:creator>Александрова З.В.</dc:creator>
  <dc:description/>
  <dc:language>en-US</dc:language>
  <cp:lastModifiedBy>Пользователь Windows</cp:lastModifiedBy>
  <dcterms:modified xsi:type="dcterms:W3CDTF">2022-04-26T06:48:14Z</dcterms:modified>
  <cp:revision>210</cp:revision>
  <dc:subject/>
  <dc:title>Слайд 1</dc:title>
</cp:coreProperties>
</file>