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163-04C7-4D77-B260-5CF8D797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BA0-DF4B-4310-8DB1-4EECB04E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2BD-FC46-489B-B7D3-E08A3F87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3F3-825E-4503-BEDF-6D01D23D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575-11C5-4CF1-8E3E-EE387AD2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28E3-91FD-4F9A-AF09-3FBB616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8F0-023F-443A-BA17-7F91BC1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F626-C61B-4AEF-8D64-84CFC0E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726E-211E-4328-94B2-443C483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8F8-7A28-438F-800A-D47AD1B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2C19-36CE-4EF2-9923-8E84EBC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93D-C6F6-43DA-A827-6E8DEC50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934-C18A-47DE-B498-E0A0F11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56A2-E547-4F97-B361-D2FA412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9982-D09F-4B92-8307-2B19F54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FB80-3636-4ACD-BD44-B0C5DFEB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663-5F4D-4C1D-B52A-1CE1DDC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F38-BE71-4E6D-8ABC-5944E8C4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CE8-2575-4175-9411-623194C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BBA-E019-41CD-BFD3-1F26D639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01E-A42F-4A8B-805A-EBC2F173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5E5-1E5E-4B4D-A71A-0822444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094-7057-476C-9078-A6C837A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0E9-8190-4701-A01C-B97F558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DA6-8938-4141-84AD-CB85BB43B3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ECCB-A5A6-43D1-AD32-3180F454BB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8280" y="2438280"/>
            <a:ext cx="78674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фологический разбор причаст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ветлый день, отсыревший хлеб, потемневшее небо, старый замок, сырой дом, свежий огурец, темная туча, посвежевший воздух, отдохнувший путник, умывающийся ребенок, видимый бере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кажите словосочетания с причастием по его признакам: действительное, прошедшее время, совершенного вида, И.п., ед. ч., ж.р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прибывший поезд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слушающая музы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читаемая книг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) потерянное врем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) сжатый возду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) остывшая зем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дательное , прошедшее время, совершенного вида, И.п., ед.ч., м.р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освещенный до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заходящее солнц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расколовшийся оре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отерянное врем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сжатый возду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) остывшая зем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ства сорва…ая с дерева закружилась в вихре и стала подниматься кверх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 вь…щаяся тонкой лентой по темному хвойному лесу привела к оз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 было загроможд…о клочьями снежно-белых обла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лаем вам быть в этой жизни думающими, ликующими, занимающимися, дарующими всем тепло и радость, улыбающимися, светящимися, горящими, излучающими свет и добро, идущими вперед, знающими, читающими, любящими, не сдающимися, не унывающими перед неудачами и трудностями, вечно стремящимися к знаниям, к самоусовершенствованию, самоутверждению, самопознанию (себя и мира) – всегда и во всем ( несмотря, вопреки, невзирая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8T23:56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