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DBF-87F3-4882-BD8C-9108ED9B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3AA-5EB1-4DFA-A955-93634648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958-3D0F-4C97-B05F-13FB30C0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777-193C-4ADF-BEEB-C395EEF2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7E62B-8292-4727-ABBD-2C4A9948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AF78B-270C-4D6E-8A8F-15588525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5940E-6BCC-44C0-9EB7-DE7B8028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3B2F0-C1DE-40AC-8244-7525D00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8246B-6523-4A2E-A81F-80046BB3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81A92-F7E2-4E34-A07F-F6720E55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A82EC-8282-4338-A181-E1419E26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1AF-81D2-4AE3-B0AF-3BD1E0CD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D215D-5322-480F-88FF-B1E2EF8E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10A9A-7D7B-46C3-8C68-FDB389E6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0B405-8270-418D-BA6D-DFB84B92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F5655-791F-4F5F-B63C-6046E46F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036E8-9FFB-4E11-9407-4CE26632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9723-3B96-408A-9597-3728F414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353A-6E8B-4CD8-98C9-C94F97C7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6307-59CF-420F-AB22-C24332A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DF2D-FFA6-4FE2-9308-5AAE67C9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56FD3-AEDE-4D0A-B20C-EF711BA1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971-3720-46CE-9F74-BAEB1068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81ED-0497-42DF-AEC9-439DD5F3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A056-0A65-45CC-A54B-6D67D17F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41B85-F2F4-4F3C-97D8-D4D443F6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A25AF-2C49-4BD8-BB13-FE20E974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F5FD-FF5D-4F6A-8609-DCC81368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4C23-9285-4A32-9715-D9644733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D5D7-ED58-4657-B051-7D356161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F9C7E-21B8-486A-972B-73383AB1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B4927-AB70-4E26-882F-E457CF6E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F17BF-810D-4579-A175-EF701A05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1F0-7E5D-4757-AB1D-EB961FAB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2E63F-C689-4AE0-9D31-DACBBF76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334C2-B258-49F1-8922-1016E4F1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FFCC7-6B6C-4878-B010-364EE28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91B36-65C0-49AE-8AEF-1A06E00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AF6B8-EC0F-4365-AFA1-BD93982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A1331-15A3-453D-AA49-79B7FD1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16D95-DA74-47CC-9616-86ED1418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6C6F4-F8E7-44B0-9C74-7A517E2B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96642-AAB7-4935-8686-D048AA58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F2837-EEDA-4E77-BEE4-1C5AE99C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66A-4289-4A1F-A69C-2956A07F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B59F5-190F-46B0-99E3-FC73A4BF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5715F-BCDC-4A03-AB05-59F1AFCB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964F2-B5E9-404D-898D-4CAC3802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D9444-829E-414F-9AE7-3F0D4860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0ACA-911C-4BCC-824D-49EE0621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D5B1A-6753-49EF-A15E-D301B669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C8C7-BDC1-4EF8-BD6A-9D889BD2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6AC3-162A-4A2A-B223-9C88A071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44367-25F8-404D-B6DB-DA8AFEAE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5AD1D-A808-4203-9746-6C81BDE8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AC8-F5AE-4ECF-B940-78F5D2E4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4E369-B06A-4617-84FF-C29D70FC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950-30DE-4E2D-9717-40AD121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8CE-3DAB-4269-9036-59618DBF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488-E39A-4E75-947B-4FB10A92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5505-8013-4FDA-A19F-5741CD4416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74AF-CD6F-4875-B117-AFB4D8BF9528}" type="slidenum">
              <a:rPr b="0" lang="en-US" sz="16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470D-7831-4B5C-9F7A-C726D19721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7598d9"/>
          </a:solidFill>
          <a:ln w="38160">
            <a:solidFill>
              <a:srgbClr val="7598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768C-71C4-4B9F-A144-C5C0E668AE76}" type="slidenum">
              <a:rPr b="0" lang="en-US" sz="16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2DD7-6851-4D08-B150-231BDFF602F5}" type="slidenum">
              <a:rPr b="0" lang="en-US" sz="16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oshkolnik.ru/pedagogika/1129-solnechny-luchik.html" TargetMode="External"/><Relationship Id="rId2" Type="http://schemas.openxmlformats.org/officeDocument/2006/relationships/hyperlink" Target="http://doshkolnik.ru/pedagogika/1129-solnechny-luchik.html" TargetMode="External"/><Relationship Id="rId3" Type="http://schemas.openxmlformats.org/officeDocument/2006/relationships/hyperlink" Target="http://doshkolnik.ru/pedagogika/1129-solnechny-luchik.html" TargetMode="External"/><Relationship Id="rId4" Type="http://schemas.openxmlformats.org/officeDocument/2006/relationships/hyperlink" Target="http://doshkolnik.ru/pedagogika/1129-solnechny-luchik.html" TargetMode="External"/><Relationship Id="rId5" Type="http://schemas.openxmlformats.org/officeDocument/2006/relationships/hyperlink" Target="http://doshkolnik.ru/pedagogika/1129-solnechny-luchik.html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0004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униципальное бюджетное дошкольное образовательное учреждение Детский сад №16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роектная деятельность в первой 1 групп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« Солнечный лучик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Выполнила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Лебедева Екатерина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Владириров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Воспитатель первой младшей групп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28440"/>
            <a:ext cx="40593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5.Наблюдение з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изменениями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в природе, связанных с солнцем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Содержимое 4" descr="i (5).jpg"/>
          <p:cNvPicPr/>
          <p:nvPr/>
        </p:nvPicPr>
        <p:blipFill>
          <a:blip r:embed="rId1"/>
          <a:stretch/>
        </p:blipFill>
        <p:spPr>
          <a:xfrm>
            <a:off x="5143680" y="1789200"/>
            <a:ext cx="3500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Текст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4035600" cy="9381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9" descr="P1080187.JPG"/>
          <p:cNvPicPr/>
          <p:nvPr/>
        </p:nvPicPr>
        <p:blipFill>
          <a:blip r:embed="rId2"/>
          <a:stretch/>
        </p:blipFill>
        <p:spPr>
          <a:xfrm>
            <a:off x="457200" y="2413080"/>
            <a:ext cx="4040280" cy="3549600"/>
          </a:xfrm>
          <a:prstGeom prst="rect">
            <a:avLst/>
          </a:prstGeom>
          <a:ln w="0">
            <a:noFill/>
          </a:ln>
        </p:spPr>
      </p:pic>
      <p:pic>
        <p:nvPicPr>
          <p:cNvPr id="305" name="Содержимое 11" descr="P1080189.JPG"/>
          <p:cNvPicPr/>
          <p:nvPr/>
        </p:nvPicPr>
        <p:blipFill>
          <a:blip r:embed="rId3"/>
          <a:stretch/>
        </p:blipFill>
        <p:spPr>
          <a:xfrm>
            <a:off x="4645080" y="2413080"/>
            <a:ext cx="4041720" cy="3549600"/>
          </a:xfrm>
          <a:prstGeom prst="rect">
            <a:avLst/>
          </a:prstGeom>
          <a:ln w="0">
            <a:noFill/>
          </a:ln>
        </p:spPr>
      </p:pic>
      <p:pic>
        <p:nvPicPr>
          <p:cNvPr id="306" name="Заголовок 1" descr=""/>
          <p:cNvPicPr/>
          <p:nvPr/>
        </p:nvPicPr>
        <p:blipFill>
          <a:blip r:embed="rId4"/>
          <a:stretch/>
        </p:blipFill>
        <p:spPr>
          <a:xfrm>
            <a:off x="298440" y="152280"/>
            <a:ext cx="8394840" cy="11527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714920" y="214200"/>
            <a:ext cx="40226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e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4" descr="P1080190.JPG"/>
          <p:cNvPicPr/>
          <p:nvPr/>
        </p:nvPicPr>
        <p:blipFill>
          <a:blip r:embed="rId2"/>
          <a:stretch/>
        </p:blipFill>
        <p:spPr>
          <a:xfrm>
            <a:off x="457200" y="2343240"/>
            <a:ext cx="4038480" cy="3330360"/>
          </a:xfrm>
          <a:prstGeom prst="rect">
            <a:avLst/>
          </a:prstGeom>
          <a:ln w="0">
            <a:noFill/>
          </a:ln>
        </p:spPr>
      </p:pic>
      <p:pic>
        <p:nvPicPr>
          <p:cNvPr id="310" name="Содержимое 5" descr="P1080191.JPG"/>
          <p:cNvPicPr/>
          <p:nvPr/>
        </p:nvPicPr>
        <p:blipFill>
          <a:blip r:embed="rId3"/>
          <a:stretch/>
        </p:blipFill>
        <p:spPr>
          <a:xfrm>
            <a:off x="4648320" y="2343240"/>
            <a:ext cx="40384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Содержимое 3" descr="i (4).jpg"/>
          <p:cNvPicPr/>
          <p:nvPr/>
        </p:nvPicPr>
        <p:blipFill>
          <a:blip r:embed="rId1"/>
          <a:stretch/>
        </p:blipFill>
        <p:spPr>
          <a:xfrm>
            <a:off x="928800" y="2273400"/>
            <a:ext cx="7715160" cy="3666960"/>
          </a:xfrm>
          <a:prstGeom prst="rect">
            <a:avLst/>
          </a:prstGeom>
          <a:ln w="0">
            <a:noFill/>
          </a:ln>
        </p:spPr>
      </p:pic>
      <p:pic>
        <p:nvPicPr>
          <p:cNvPr id="312" name="Заголовок 1" descr=""/>
          <p:cNvPicPr/>
          <p:nvPr/>
        </p:nvPicPr>
        <p:blipFill>
          <a:blip r:embed="rId2"/>
          <a:stretch/>
        </p:blipFill>
        <p:spPr>
          <a:xfrm>
            <a:off x="1341360" y="469800"/>
            <a:ext cx="76010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Заключительный этап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72920"/>
            <a:ext cx="40593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дведение итогов проекта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дготовка презентации по фотография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5" name="Содержимое 4" descr="P1080207.JPG"/>
          <p:cNvPicPr/>
          <p:nvPr/>
        </p:nvPicPr>
        <p:blipFill>
          <a:blip r:embed="rId1"/>
          <a:stretch/>
        </p:blipFill>
        <p:spPr>
          <a:xfrm>
            <a:off x="4643280" y="2786040"/>
            <a:ext cx="4059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Цель  проек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989000"/>
            <a:ext cx="82296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формирование у детей активного словаря через организацию разных видов деятельности: игровой; познавательной (наблюдения, эксперимент, художественное слово); музыкально-эстетической, продуктивн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4360" y="1628640"/>
            <a:ext cx="82296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Дать детям элементарные представления о природном объекте – солнце, его влиянии на окружающий ми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 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Формировать познавательную активность детей при проведении экспериментов, наблюд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Обогатить словарный запас детей по данной теме. Закрепить понятия «желтый», «круглый», «похоже», «не похоже» «Познание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78920" y="333000"/>
            <a:ext cx="4348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Тип проект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формационно исследовательск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Участники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едагоги – воспитатель группы, дети первой младшей группы, родите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Длительность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дна неделя (краткосрочный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Содержимое 4" descr="i.jpg"/>
          <p:cNvPicPr/>
          <p:nvPr/>
        </p:nvPicPr>
        <p:blipFill>
          <a:blip r:embed="rId1"/>
          <a:stretch/>
        </p:blipFill>
        <p:spPr>
          <a:xfrm>
            <a:off x="4859280" y="1197000"/>
            <a:ext cx="3857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1672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обогащение активного и пассивного словаря детей за счет слов: «яркое», «светлое», «теплое», «светит», «улыбается», «греет» и т. 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познавательный интерес к экспериментам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звитие у детей наблюдатель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одготовительный эта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8360" y="1699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Беседы с детьми, для выявления знаний детей  о солнце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дготовка стихотворений, потешек, загадок, игр, с использованием «солнца», иллюстративный материал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дготовка атрибутов для игр, занят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новной эта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341000"/>
            <a:ext cx="478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Чтение и заучивание потешки «Солнышко»,  физкультминутки – песни «Я на солнышке лежу»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движная игра «Солнышко и дождик»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Содержимое 3" descr="i (1).jpg"/>
          <p:cNvPicPr/>
          <p:nvPr/>
        </p:nvPicPr>
        <p:blipFill>
          <a:blip r:embed="rId1"/>
          <a:stretch/>
        </p:blipFill>
        <p:spPr>
          <a:xfrm>
            <a:off x="1285920" y="2413080"/>
            <a:ext cx="7000920" cy="3527280"/>
          </a:xfrm>
          <a:prstGeom prst="rect">
            <a:avLst/>
          </a:prstGeom>
          <a:ln w="0">
            <a:noFill/>
          </a:ln>
        </p:spPr>
      </p:pic>
      <p:pic>
        <p:nvPicPr>
          <p:cNvPr id="297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Содержимое 3" descr="P1080184.JPG"/>
          <p:cNvPicPr/>
          <p:nvPr/>
        </p:nvPicPr>
        <p:blipFill>
          <a:blip r:embed="rId1"/>
          <a:stretch/>
        </p:blipFill>
        <p:spPr>
          <a:xfrm>
            <a:off x="1523880" y="167328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299" name="Заголовок 1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4852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2T17:09:52Z</dcterms:created>
  <dc:creator>User</dc:creator>
  <dc:description/>
  <dc:language>en-US</dc:language>
  <cp:lastModifiedBy>NB asus</cp:lastModifiedBy>
  <dcterms:modified xsi:type="dcterms:W3CDTF">2022-04-26T16:32:27Z</dcterms:modified>
  <cp:revision>18</cp:revision>
  <dc:subject/>
  <dc:title>Слайд 1</dc:title>
</cp:coreProperties>
</file>