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51F-BFA2-4446-869A-C850DE93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EB8-125C-4D68-8C80-9BD0C1AF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8D8-7BE4-4DCC-8F05-F2CA59C6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5DB-7714-4DB5-A0D6-C8A9DA7F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88F27-31A2-4622-94BB-EDA46404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D20F0-FD99-405A-BAFC-196B6098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2A6BA-EAD2-4D00-BDE0-EBB24C8C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4FB0B-9E80-4446-82CF-CDDEAA10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90581-0DBC-4B2A-B256-4A9AA64F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136F0-B0FB-4FA6-8367-01C8114C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A272B-8065-4365-A326-A498A09C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A3E-F26E-472C-B846-01E7E276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03EBC-839F-4A59-AB3F-317D4EE1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08738-EF54-4CF7-9EA0-1451019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FCC53-218E-45E3-A6CB-5A4884CC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6EC1D-C4BD-4E6A-BB1A-A9FD354F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36DCC-CF07-434F-8EDB-67F221FF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CE83-8163-4240-A381-9EF85659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6AFD-01FE-4C91-BDFA-3C2920EB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8DC6-5769-4025-BD73-DA63A54A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7DE91-E239-404A-A3AF-0F704C25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4773-3B10-4B22-962E-A9D8734E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8D4-9055-4CAC-B88C-437A8FD6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A369D-C5EA-44D5-9B19-3D90A220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D102-3373-4167-8C02-BD31F929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80CE-F6C3-4054-B21C-30A0D83B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0119-0366-4A74-A5EA-B3F5196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FBEF-49F4-44AB-BD3E-4991EE1C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82B0-87D1-40C6-838B-49B6E704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111A-106C-4A2C-BFD1-6B24B3F7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33F3EE-1758-4F67-ABAF-D392FC94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F4918-D626-4427-9E3D-843EEDF9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E74CA-FC87-4B4C-A076-DB2C87BE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CD3-1438-422D-A725-C69E88AC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AFAA7-42BD-46F7-8909-0B06DB0E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01556-8B07-469F-8468-DF9C53B7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4FF4E-F863-40D6-BE5B-EC94571B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C3D54-1262-467C-AB10-BF3B0F2E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093A0-A116-43B7-8610-235C0ACB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20DBD-0D16-4C5A-959F-78D4BC2D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134BA-B2AD-46DE-BECD-B69E9F41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28BE7-C847-4567-8A15-112B7C08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F7537-B311-4F73-8CBA-ADB36816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3FEBD-BC11-4250-883D-0D118601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2AF-25BC-4C8D-908C-2A41C394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4BC53-DC20-4801-9CE4-BF810ABB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F06B4-E91D-42A6-949E-FF3CE856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074B4-9AE6-4893-962A-44F7F74E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2893B-2957-4F1F-90A5-77AB7D69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F29D4-4750-4DCA-875F-2D20F952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F813A-5132-4C87-A2AD-2C68C6E2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61CF-90CF-43D1-ABF9-9ECD4F25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8B2D9-8DFC-477C-80EE-577C0F0C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1EF61-1BF9-4B48-B814-34A47F99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10B8-357F-40C0-A32F-445E5C6D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71D-5D67-4BC7-A05E-4D873B61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52D57-03B0-44BA-860E-CBF71D2F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8B1-1FAB-4567-99BD-4DDC6221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784-6BC6-465B-B522-7D032B84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67C-BDE2-471F-BA45-74F2DF88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381F-F303-43AB-91BC-AC1EE1C872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6C21-5A6A-4EEA-9B82-D919B648D807}" type="slidenum">
              <a:rPr b="0" lang="en-US" sz="16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4D64-2371-4EC9-A17D-BF94BF98CC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7598d9"/>
          </a:solidFill>
          <a:ln w="38160">
            <a:solidFill>
              <a:srgbClr val="7598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D6AA-AFB5-4243-97EB-3A3AE6F9E860}" type="slidenum">
              <a:rPr b="0" lang="en-US" sz="16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8BEB-4EA1-47C8-AFC2-99ED9647D926}" type="slidenum">
              <a:rPr b="0" lang="en-US" sz="16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oshkolnik.ru/pedagogika/1129-solnechny-luchik.html" TargetMode="External"/><Relationship Id="rId2" Type="http://schemas.openxmlformats.org/officeDocument/2006/relationships/hyperlink" Target="http://doshkolnik.ru/pedagogika/1129-solnechny-luchik.html" TargetMode="External"/><Relationship Id="rId3" Type="http://schemas.openxmlformats.org/officeDocument/2006/relationships/hyperlink" Target="http://doshkolnik.ru/pedagogika/1129-solnechny-luchik.html" TargetMode="External"/><Relationship Id="rId4" Type="http://schemas.openxmlformats.org/officeDocument/2006/relationships/hyperlink" Target="http://doshkolnik.ru/pedagogika/1129-solnechny-luchik.html" TargetMode="External"/><Relationship Id="rId5" Type="http://schemas.openxmlformats.org/officeDocument/2006/relationships/hyperlink" Target="http://doshkolnik.ru/pedagogika/1129-solnechny-luchik.html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00040" y="6426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униципальное бюджетное дошкольное образовательное учреждение Детский сад №16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роектная деятельность в первой 1 групп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Тем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« Солнечный лучик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Выполнила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Лебедева Екатерина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Владириров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Воспитатель первой младшей групп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928440"/>
            <a:ext cx="40593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5.Наблюдение з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изменениями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в природе, связанных с солнцем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Содержимое 4" descr="i (5).jpg"/>
          <p:cNvPicPr/>
          <p:nvPr/>
        </p:nvPicPr>
        <p:blipFill>
          <a:blip r:embed="rId1"/>
          <a:stretch/>
        </p:blipFill>
        <p:spPr>
          <a:xfrm>
            <a:off x="5143680" y="1789200"/>
            <a:ext cx="3500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Текст 2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4035600" cy="93816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9" descr="P1080187.JPG"/>
          <p:cNvPicPr/>
          <p:nvPr/>
        </p:nvPicPr>
        <p:blipFill>
          <a:blip r:embed="rId2"/>
          <a:stretch/>
        </p:blipFill>
        <p:spPr>
          <a:xfrm>
            <a:off x="457200" y="2413080"/>
            <a:ext cx="4040280" cy="3549600"/>
          </a:xfrm>
          <a:prstGeom prst="rect">
            <a:avLst/>
          </a:prstGeom>
          <a:ln w="0">
            <a:noFill/>
          </a:ln>
        </p:spPr>
      </p:pic>
      <p:pic>
        <p:nvPicPr>
          <p:cNvPr id="305" name="Содержимое 11" descr="P1080189.JPG"/>
          <p:cNvPicPr/>
          <p:nvPr/>
        </p:nvPicPr>
        <p:blipFill>
          <a:blip r:embed="rId3"/>
          <a:stretch/>
        </p:blipFill>
        <p:spPr>
          <a:xfrm>
            <a:off x="4645080" y="2413080"/>
            <a:ext cx="4041720" cy="3549600"/>
          </a:xfrm>
          <a:prstGeom prst="rect">
            <a:avLst/>
          </a:prstGeom>
          <a:ln w="0">
            <a:noFill/>
          </a:ln>
        </p:spPr>
      </p:pic>
      <p:pic>
        <p:nvPicPr>
          <p:cNvPr id="306" name="Заголовок 1" descr=""/>
          <p:cNvPicPr/>
          <p:nvPr/>
        </p:nvPicPr>
        <p:blipFill>
          <a:blip r:embed="rId4"/>
          <a:stretch/>
        </p:blipFill>
        <p:spPr>
          <a:xfrm>
            <a:off x="298440" y="152280"/>
            <a:ext cx="8394840" cy="11527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714920" y="214200"/>
            <a:ext cx="40226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pic>
        <p:nvPicPr>
          <p:cNvPr id="309" name="Содержимое 4" descr="P1080190.JPG"/>
          <p:cNvPicPr/>
          <p:nvPr/>
        </p:nvPicPr>
        <p:blipFill>
          <a:blip r:embed="rId2"/>
          <a:stretch/>
        </p:blipFill>
        <p:spPr>
          <a:xfrm>
            <a:off x="457200" y="2343240"/>
            <a:ext cx="4038480" cy="3330360"/>
          </a:xfrm>
          <a:prstGeom prst="rect">
            <a:avLst/>
          </a:prstGeom>
          <a:ln w="0">
            <a:noFill/>
          </a:ln>
        </p:spPr>
      </p:pic>
      <p:pic>
        <p:nvPicPr>
          <p:cNvPr id="310" name="Содержимое 5" descr="P1080191.JPG"/>
          <p:cNvPicPr/>
          <p:nvPr/>
        </p:nvPicPr>
        <p:blipFill>
          <a:blip r:embed="rId3"/>
          <a:stretch/>
        </p:blipFill>
        <p:spPr>
          <a:xfrm>
            <a:off x="4648320" y="2343240"/>
            <a:ext cx="403848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Содержимое 3" descr="i (4).jpg"/>
          <p:cNvPicPr/>
          <p:nvPr/>
        </p:nvPicPr>
        <p:blipFill>
          <a:blip r:embed="rId1"/>
          <a:stretch/>
        </p:blipFill>
        <p:spPr>
          <a:xfrm>
            <a:off x="928800" y="2273400"/>
            <a:ext cx="7715160" cy="3666960"/>
          </a:xfrm>
          <a:prstGeom prst="rect">
            <a:avLst/>
          </a:prstGeom>
          <a:ln w="0">
            <a:noFill/>
          </a:ln>
        </p:spPr>
      </p:pic>
      <p:pic>
        <p:nvPicPr>
          <p:cNvPr id="312" name="Заголовок 1" descr=""/>
          <p:cNvPicPr/>
          <p:nvPr/>
        </p:nvPicPr>
        <p:blipFill>
          <a:blip r:embed="rId2"/>
          <a:stretch/>
        </p:blipFill>
        <p:spPr>
          <a:xfrm>
            <a:off x="1341360" y="469800"/>
            <a:ext cx="76010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Заключительный этап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72920"/>
            <a:ext cx="40593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дведение итогов проект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дготовка презентации по фотография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5" name="Содержимое 4" descr="P1080207.JPG"/>
          <p:cNvPicPr/>
          <p:nvPr/>
        </p:nvPicPr>
        <p:blipFill>
          <a:blip r:embed="rId1"/>
          <a:stretch/>
        </p:blipFill>
        <p:spPr>
          <a:xfrm>
            <a:off x="4643280" y="2786040"/>
            <a:ext cx="4059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Цель 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360" y="1989000"/>
            <a:ext cx="82296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формирование у детей активного словаря через организацию разных видов деятельности: игровой; познавательной (наблюдения, эксперимент, художественное слово); музыкально-эстетической, продуктивн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4360" y="1628640"/>
            <a:ext cx="82296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Дать детям элементарные представления о природном объекте – солнце, его влиянии на окружающий ми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 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Формировать познавательную активность детей при проведении экспериментов, наблюде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Обогатить словарный запас детей по данной теме. Закрепить понятия «желтый», «круглый», «похоже», «не похоже» «Познание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78920" y="333000"/>
            <a:ext cx="4348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Тип проек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формационно исследовательск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Участники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едагоги – воспитатель группы, дети первой младшей группы, родите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Длительность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дна неделя (краткосрочный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Содержимое 4" descr="i.jpg"/>
          <p:cNvPicPr/>
          <p:nvPr/>
        </p:nvPicPr>
        <p:blipFill>
          <a:blip r:embed="rId1"/>
          <a:stretch/>
        </p:blipFill>
        <p:spPr>
          <a:xfrm>
            <a:off x="4859280" y="1197000"/>
            <a:ext cx="3857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жидаемый результа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16729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обогащение активного и пассивного словаря детей за счет слов: «яркое», «светлое», «теплое», «светит», «улыбается», «греет» и т. 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познавательный интерес к эксперимента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звитие у детей наблюдатель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одготовительный эта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8360" y="16999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Беседы с детьми, для выявления знаний детей  о солнце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дготовка стихотворений, потешек, загадок, игр, с использованием «солнца», иллюстративный материал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дготовка атрибутов для игр, занят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новной эта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341000"/>
            <a:ext cx="4788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Чтение и заучивание потешки «Солнышко»,  физкультминутки – песни «Я на солнышке лежу»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движная игра «Солнышко и дождик»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Содержимое 3" descr="i (1).jpg"/>
          <p:cNvPicPr/>
          <p:nvPr/>
        </p:nvPicPr>
        <p:blipFill>
          <a:blip r:embed="rId1"/>
          <a:stretch/>
        </p:blipFill>
        <p:spPr>
          <a:xfrm>
            <a:off x="1285920" y="2413080"/>
            <a:ext cx="7000920" cy="3527280"/>
          </a:xfrm>
          <a:prstGeom prst="rect">
            <a:avLst/>
          </a:prstGeom>
          <a:ln w="0">
            <a:noFill/>
          </a:ln>
        </p:spPr>
      </p:pic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Содержимое 3" descr="P1080184.JPG"/>
          <p:cNvPicPr/>
          <p:nvPr/>
        </p:nvPicPr>
        <p:blipFill>
          <a:blip r:embed="rId1"/>
          <a:stretch/>
        </p:blipFill>
        <p:spPr>
          <a:xfrm>
            <a:off x="1523880" y="1673280"/>
            <a:ext cx="6096240" cy="4429080"/>
          </a:xfrm>
          <a:prstGeom prst="rect">
            <a:avLst/>
          </a:prstGeom>
          <a:ln w="0">
            <a:noFill/>
          </a:ln>
        </p:spPr>
      </p:pic>
      <p:pic>
        <p:nvPicPr>
          <p:cNvPr id="299" name="Заголовок 1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485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17:09:52Z</dcterms:created>
  <dc:creator>User</dc:creator>
  <dc:description/>
  <dc:language>en-US</dc:language>
  <cp:lastModifiedBy>NB asus</cp:lastModifiedBy>
  <dcterms:modified xsi:type="dcterms:W3CDTF">2022-04-26T16:32:27Z</dcterms:modified>
  <cp:revision>18</cp:revision>
  <dc:subject/>
  <dc:title>Слайд 1</dc:title>
</cp:coreProperties>
</file>