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7C9-AF69-4EFE-94B5-7A007781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824-1932-40B6-BEB3-96F20CF8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F32-D155-4E87-940D-3E6AFB36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000-E5F0-41B9-AFAC-71F9D6C9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7C9D-8631-4866-8861-9348A396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8787-A31A-411E-BF1C-510267B5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97C5-5381-4BC5-80D2-D255246F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37AB-05F6-47C0-9244-CA548DB1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6C0B-0AF8-44C2-A9D2-26AC7D76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2A8A-851D-4B2B-9D08-663005D0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DDDA-CE56-4D16-9265-0683323F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E04-4F01-48A3-B51C-183E0EE2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1072-C861-499A-BBD7-BEA84680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F7B7-52DA-4C45-8A04-67B718EE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228D-D91E-494F-93B9-8CAAAE65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C9AB-3C57-4D2C-A9CA-6F37FD5C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7D59-06C4-41CC-9517-95867949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38EE1-7154-47C1-A992-E4E40ECB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0054F-7F44-4676-8722-791ACAC3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E2BD-587E-45E0-9F58-F412D408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7A35-A9A4-4BA6-954A-36FB2E57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BA34-B727-4F6E-A5AA-3F9CE2AB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A6B-E8BE-4A32-9B1F-BFD24DFA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5137-7779-4C97-B104-618F90FF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8F6C-270F-488D-A593-3DA33CA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69C4-C521-498B-9028-DB9CBEC9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8651-3732-43E3-AB90-0FF2B865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EE6F6-2FBC-48D6-A049-EC56094E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F45F-1A18-4AFB-BC90-CA1D4A8C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ABF71-77C3-4013-A424-855FEAED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96335-719C-46EC-8747-4F88BDD3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B78AF-71EE-4FB3-9E98-C3C3A908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537CF-F166-4F85-B762-8C1846F0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BEA-3BFD-42A1-AC07-75A224C7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30A4-D23C-4829-98AF-214FE317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58837-D7DE-4C05-9BE0-08C7681B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9B09B-2022-49A8-950C-47BB65B7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C8D54-3684-4F75-86F0-477B13B7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980B-F6D5-4525-AB35-5EF6264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4A2E7-CBFA-46EE-A734-1DB1A385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8BBD-9573-4F71-83A9-69C55F16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86651-7D9E-4568-B5EF-E89C5961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2AF97-12E6-4321-B6A1-B52A6019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A0EAF-3174-4892-95AB-215D85CB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521-0785-4A9F-BDCF-1AEE36EA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C3BC0-9D35-4D5E-9C85-B859D678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A7C0A-1C79-452A-A5A3-C040BF79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D5F6C-2DE2-438D-8265-4F9F0D20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DEBDD-3775-4800-BE08-9621EE2A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38CB7-2C35-48CF-B24F-05F8ACF8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C55BB-32BD-42C7-8E80-48B00764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1B915-BE2D-4B06-9C0F-7FFA7258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1296A-98D6-4F78-A9CB-CFB49ECB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5EDAB-3190-4CF2-97B0-3A7E818C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79DA6-67EC-47BF-9498-FE08FD1C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045-B84E-4F76-9B7B-94015C40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4DEE4-665A-4245-8486-89AB73B6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4AA34-BC30-4110-B40B-73BBC6D3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BA7E0-A61A-43C5-9199-2D9C91B1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9EF87-E510-439D-A3C9-C2E6DA76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9F91E-F8A0-4C07-83C4-01FB4177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F3EE7-2E90-4267-A5C7-23D6E3F6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ADAF8-6B6C-4656-BA89-DCAABE71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09B91-F614-4E84-AE4F-036F10D7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359B0-B2B4-40E8-806E-B3B71A28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9D751-01FF-4208-87E0-BF9FB299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A00-8EC7-40A9-B7D7-A52CD9C5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58C65-4B0A-45EC-B9F4-548FB869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4CA54-2BB4-47CD-B5E9-9D889E4B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9010A-DDD3-4051-9A44-D695927B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7F0A6-367C-486F-A0E5-0CA76399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E6BB2-05EB-4E73-A1B2-57C184CB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EF0D6-BC5C-4076-9815-98511FEE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96A42-B71E-42E8-9A5F-DFCC0D0B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597FC-156B-4DD2-A7FB-AE762B83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BF0C8-FEC8-4514-8273-BAEACFDE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CB6B9-43D3-445A-9BF2-3DEA82D7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E9D-4AC7-48EB-BD43-5B346523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4D950-9CE5-4FBF-B2A8-F856DF41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45275-C5B8-4E37-9C12-3E305C6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ED5CD-112C-4925-8FCF-1074F435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0231D-F407-43F9-887D-8E7BBE24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7D12A-9F5A-4B61-B3A2-C14F85C2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F9F-A45D-4BB2-B297-AFFBABC1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B7A6-0FDA-4859-92D7-669EA9E01B5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ED0A-D2C8-49B1-8FFA-50643DA1F01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2713-1A4E-427E-B38B-D1E0BC7E998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9795-D19A-46FE-983A-06E96680152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59C2-E38D-4BE6-9F38-69F9E6E1015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0B73-8821-43B3-8033-BD722E4E38F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B1D6-083F-4BDB-B727-E38D789BF7A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Артикуляционная гимнастика в картинках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13072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БДОУ Детский сад №22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уворина Н.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WordArt 6"/>
          <p:cNvSpPr txBox="1"/>
          <p:nvPr/>
        </p:nvSpPr>
        <p:spPr>
          <a:xfrm>
            <a:off x="2195640" y="907920"/>
            <a:ext cx="4743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Приоткрыть ро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Слегка улыбнуть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Поцокать кончиком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язы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246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Лошадк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Picture 6" descr="C:\Users\User\Desktop\loshadka-db507.png"/>
          <p:cNvPicPr/>
          <p:nvPr/>
        </p:nvPicPr>
        <p:blipFill>
          <a:blip r:embed="rId1"/>
          <a:stretch/>
        </p:blipFill>
        <p:spPr>
          <a:xfrm>
            <a:off x="4336920" y="2708280"/>
            <a:ext cx="39132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Широко открыть ро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кошко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Picture 12" descr="C:\Users\User\Desktop\4098362a2151f53a75845e4041277b44.jpg"/>
          <p:cNvPicPr/>
          <p:nvPr/>
        </p:nvPicPr>
        <p:blipFill>
          <a:blip r:embed="rId1"/>
          <a:stretch/>
        </p:blipFill>
        <p:spPr>
          <a:xfrm>
            <a:off x="4356000" y="2421000"/>
            <a:ext cx="4195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Улыбнуться с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пряжение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Сомкнуть зуб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борчик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Picture 4" descr="C:\Users\User\Desktop\zabor.png"/>
          <p:cNvPicPr/>
          <p:nvPr/>
        </p:nvPicPr>
        <p:blipFill>
          <a:blip r:embed="rId1"/>
          <a:stretch/>
        </p:blipFill>
        <p:spPr>
          <a:xfrm>
            <a:off x="3635280" y="2637000"/>
            <a:ext cx="461484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Губы округлены 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ыдвинуты вперед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Зубы сомкну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Бублик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6" descr="C:\Users\User\Desktop\1646990638_35-krot-info-p-bublik-smeshnoi-smeshnie-foto-39.jpg"/>
          <p:cNvPicPr/>
          <p:nvPr/>
        </p:nvPicPr>
        <p:blipFill>
          <a:blip r:embed="rId1"/>
          <a:stretch/>
        </p:blipFill>
        <p:spPr>
          <a:xfrm>
            <a:off x="4302000" y="2708280"/>
            <a:ext cx="4149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удочк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73520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С напряжением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ытянуть губ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перед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Зубы сомкну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9" name="Picture 8" descr="C:\Users\User\Desktop\images.jpg"/>
          <p:cNvPicPr/>
          <p:nvPr/>
        </p:nvPicPr>
        <p:blipFill>
          <a:blip r:embed="rId1"/>
          <a:stretch/>
        </p:blipFill>
        <p:spPr>
          <a:xfrm>
            <a:off x="5006880" y="2276640"/>
            <a:ext cx="33004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Рот откры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Широкий язы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ложить на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ижнюю губ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Блинчик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4" descr="C:\Users\User\Desktop\Без названия.jpg"/>
          <p:cNvPicPr/>
          <p:nvPr/>
        </p:nvPicPr>
        <p:blipFill>
          <a:blip r:embed="rId1"/>
          <a:stretch/>
        </p:blipFill>
        <p:spPr>
          <a:xfrm>
            <a:off x="3924360" y="2781360"/>
            <a:ext cx="4335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Улыбнуть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Пошлепать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языком между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убами «пя-пя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Покусать кончик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языка зуба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есим тесто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5" descr="C:\Users\User\Desktop\thumb1-840x440.jpg"/>
          <p:cNvPicPr/>
          <p:nvPr/>
        </p:nvPicPr>
        <p:blipFill>
          <a:blip r:embed="rId1"/>
          <a:stretch/>
        </p:blipFill>
        <p:spPr>
          <a:xfrm>
            <a:off x="3924360" y="2708280"/>
            <a:ext cx="4360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Открыть ро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Улыбнуть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Кончиком язы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внутренней сторон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очередно «почистить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ерхние и нижние зуб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Чистим зубки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Picture 7" descr="C:\Users\User\Desktop\ExternalImage.Jpeg"/>
          <p:cNvPicPr/>
          <p:nvPr/>
        </p:nvPicPr>
        <p:blipFill>
          <a:blip r:embed="rId1"/>
          <a:stretch/>
        </p:blipFill>
        <p:spPr>
          <a:xfrm>
            <a:off x="4643280" y="2637000"/>
            <a:ext cx="37450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Рот широко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ткры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Улыбнуть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Высунуть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широкий язы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придать ему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орму чаш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Чашечк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4" descr="C:\Users\User\Desktop\932932_12.jpeg"/>
          <p:cNvPicPr/>
          <p:nvPr/>
        </p:nvPicPr>
        <p:blipFill>
          <a:blip r:embed="rId1"/>
          <a:stretch/>
        </p:blipFill>
        <p:spPr>
          <a:xfrm>
            <a:off x="3924360" y="2708280"/>
            <a:ext cx="4438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5:36:26Z</dcterms:created>
  <dc:creator>User</dc:creator>
  <dc:description/>
  <dc:language>en-US</dc:language>
  <cp:lastModifiedBy>User</cp:lastModifiedBy>
  <dcterms:modified xsi:type="dcterms:W3CDTF">2022-04-26T07:24:10Z</dcterms:modified>
  <cp:revision>10</cp:revision>
  <dc:subject/>
  <dc:title>Слайд 1</dc:title>
</cp:coreProperties>
</file>