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A01-B547-4059-AD5F-616A0189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68B-E68C-4D32-98D5-EBD3DE57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F16-BB52-4BB2-85B8-4873FBFB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E39-5229-4FFC-851B-A3751C17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0FF9-060F-427B-B0C7-2AE65138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5813-78D2-497C-889D-3CA4ECD5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7DC3-CF90-40F5-9908-BA289EA7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5187-CE93-4622-9A0E-B26EE17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4BA1-A8BC-4A7C-829A-D69720A7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35B2-AEC4-4372-8381-D6AB6ECC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1CFF-509E-4CF6-AC87-B7FE0AA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3F6-F43A-49AF-8905-2D3E616A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330E-64DB-4968-9CC5-7662554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539-FCA2-4995-8711-46AD0A4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CF0-DA82-4689-B0E7-C34A6B02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0C8E-D529-4509-89E9-6914849B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EAF8-1CC3-4984-8653-347F4C2C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CA99-484F-4CF3-8F01-23E789A8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14D2-00F7-4E41-8A34-2620FBE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CB3C-854F-4E66-8A7A-B849D26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8BE3-AA86-43F4-9E0E-E287979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F6EA-09E4-4A92-A564-CA551CB6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D70-270C-49E7-AF9D-8781B52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A9D9-E00E-42CD-BF53-231506C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3730-3145-4A1B-977E-EA52774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80862-FA0E-4E51-8465-E8181BC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11B7-794A-4B76-A1F4-061B39D9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BBD5-FB5D-44B9-B91D-A0723E01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2DC9-EE93-4CDD-A38C-A29310CB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E5292-570B-4658-BF99-B312917F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233D-46B6-4608-849D-A449CFD8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05AA-409C-4D90-98F0-7E8D201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BD9A-911C-4359-8C43-AFE45ABF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DC0-94EE-413C-92C1-C1081418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6F56-2AD2-4FB8-80A2-F900EC8A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44A3-3110-44B5-9023-E72C7DC5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9F37-24F6-44F9-BCEE-8914B06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4D4F-294A-418D-A669-0DCCD2FC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A4DD-3506-4F5C-9749-A6CBE09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4D550-3759-4289-AEF2-3DDDFD6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A470-2620-4A1E-86F6-D8B68D29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B6ED4-6502-4DD9-968C-A351C83D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B7D0-CEAF-4B68-B0C1-EEDE92F6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4E15-0F53-4B93-9044-F05479BE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0FF-3CC3-481F-8107-C97DFC4C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2255B-01CA-43E4-9C88-D30E1191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C18E-03CA-40E3-8964-98B38515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3C81-AC14-4F34-971B-3C9F3E41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1C004-61BE-4670-B2A7-B9C10C60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B7E0-30F8-43B9-9F8A-43D6D2DE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5111-BB0F-428D-8677-80E3024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910B-D27C-4DF4-BACB-BFBB1BCB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1E2E-389A-4491-8524-227241BD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1B36-FD65-49C2-998C-0511E020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C58A-78C5-4D02-AF76-F95EB984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DDFD-E0F9-42F7-B293-CCC20C5A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D31CC-5BBD-44A8-A1B1-B58E9381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37D61-7889-4959-AFF0-2FE35B66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86A0C-63AC-4E7C-8DCD-83878E6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5112-A978-42EB-A25B-ECF142DF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5CEF-9B9A-40E9-BD50-6389D55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DCD94-3D6D-40E4-9ED5-A153135E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19C8-0D7F-4630-B433-93F1700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FDA0-7DF6-4C16-B14F-EF12A41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86C0-A8F6-45B4-BA3C-4B891229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439C-36EB-4443-A1C9-BEDB9A9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C63-A562-4DE5-89E3-ADC13831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AF2A-8271-4554-9D7A-C7E17C5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18EFC-128E-47A8-9431-21BD998A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96B51-2586-4D35-9A16-BB87FDD1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E2610-C7C8-4024-9BAB-703F144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8CDC2-89F2-4796-AE50-C1A6F3EB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E4F2-6A6A-4934-9429-A3B68DCF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9EDE-65B4-4E68-950C-0CFA8F95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B1CFA-C6AF-4237-B485-6BC507A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21BA-93AF-4DA9-BD6C-4344544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1A01-8DE7-44C9-8F01-43D1FF4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A1A-8872-4B74-84C9-0C585B4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D45BD-6DA8-4FF7-B81B-A4C29DC8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6E7B-1960-47AD-B7F6-F48E0EB2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39385-5C88-49A6-9F9B-BD9E0C7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A7166-72B9-4E54-B038-EF7AD282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6F3B8-373A-4A54-A347-8B06B490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50B-34A1-4CA2-9C61-FE04906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65D3-327D-4C0A-8441-5EE9583D55D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4761-A3DD-4A61-888C-F0BB1DA46EF9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1854-D913-4BF5-A2CC-BDF1FE69FF9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AF63-A8A1-40AF-9CFE-2AF637ED503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3994-98D4-4D0B-A509-17F7944C6DD7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AB75-E0DA-44CF-BBAB-8976A30342B4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5209-87AB-46A1-9245-841C4E5D009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Артикуляционная гимнастика в картинках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13072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БДОУ Детский сад №224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уворина Н.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WordArt 6"/>
          <p:cNvSpPr txBox="1"/>
          <p:nvPr/>
        </p:nvSpPr>
        <p:spPr>
          <a:xfrm>
            <a:off x="2195640" y="907920"/>
            <a:ext cx="4743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Приоткрыть ро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легка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цокать кончико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ошад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Picture 6" descr="C:\Users\User\Desktop\loshadka-db507.png"/>
          <p:cNvPicPr/>
          <p:nvPr/>
        </p:nvPicPr>
        <p:blipFill>
          <a:blip r:embed="rId1"/>
          <a:stretch/>
        </p:blipFill>
        <p:spPr>
          <a:xfrm>
            <a:off x="4336920" y="2708280"/>
            <a:ext cx="39132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Широко открыть ро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кошко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12" descr="C:\Users\User\Desktop\4098362a2151f53a75845e4041277b44.jpg"/>
          <p:cNvPicPr/>
          <p:nvPr/>
        </p:nvPicPr>
        <p:blipFill>
          <a:blip r:embed="rId1"/>
          <a:stretch/>
        </p:blipFill>
        <p:spPr>
          <a:xfrm>
            <a:off x="4356000" y="2421000"/>
            <a:ext cx="4195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Улыбнуться с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пряж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Сомкнуть зуб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борч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4" descr="C:\Users\User\Desktop\zabor.png"/>
          <p:cNvPicPr/>
          <p:nvPr/>
        </p:nvPicPr>
        <p:blipFill>
          <a:blip r:embed="rId1"/>
          <a:stretch/>
        </p:blipFill>
        <p:spPr>
          <a:xfrm>
            <a:off x="3635280" y="2637000"/>
            <a:ext cx="461484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Губы округлены 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двинуты впере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Зубы сомкну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убл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6" descr="C:\Users\User\Desktop\1646990638_35-krot-info-p-bublik-smeshnoi-smeshnie-foto-39.jpg"/>
          <p:cNvPicPr/>
          <p:nvPr/>
        </p:nvPicPr>
        <p:blipFill>
          <a:blip r:embed="rId1"/>
          <a:stretch/>
        </p:blipFill>
        <p:spPr>
          <a:xfrm>
            <a:off x="4302000" y="2708280"/>
            <a:ext cx="4149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удочк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3520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С напряжение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тянуть губ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пере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Зубы сомкну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Picture 8" descr="C:\Users\User\Desktop\images.jpg"/>
          <p:cNvPicPr/>
          <p:nvPr/>
        </p:nvPicPr>
        <p:blipFill>
          <a:blip r:embed="rId1"/>
          <a:stretch/>
        </p:blipFill>
        <p:spPr>
          <a:xfrm>
            <a:off x="5006880" y="2276640"/>
            <a:ext cx="33004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Рот откры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Широкий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ожить н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ижнюю губ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Блинчик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4" descr="C:\Users\User\Desktop\Без названия.jpg"/>
          <p:cNvPicPr/>
          <p:nvPr/>
        </p:nvPicPr>
        <p:blipFill>
          <a:blip r:embed="rId1"/>
          <a:stretch/>
        </p:blipFill>
        <p:spPr>
          <a:xfrm>
            <a:off x="3924360" y="2781360"/>
            <a:ext cx="4335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Пошлепа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ом межд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убами «пя-пя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Покусать кончик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языка зуб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есим тесто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5" descr="C:\Users\User\Desktop\thumb1-840x440.jpg"/>
          <p:cNvPicPr/>
          <p:nvPr/>
        </p:nvPicPr>
        <p:blipFill>
          <a:blip r:embed="rId1"/>
          <a:stretch/>
        </p:blipFill>
        <p:spPr>
          <a:xfrm>
            <a:off x="3924360" y="2708280"/>
            <a:ext cx="4360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Открыть ро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Кончиком язык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внутренней сторон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очередно «почистить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ерхние и нижние зуб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Чистим зубки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Picture 7" descr="C:\Users\User\Desktop\ExternalImage.Jpeg"/>
          <p:cNvPicPr/>
          <p:nvPr/>
        </p:nvPicPr>
        <p:blipFill>
          <a:blip r:embed="rId1"/>
          <a:stretch/>
        </p:blipFill>
        <p:spPr>
          <a:xfrm>
            <a:off x="4643280" y="2637000"/>
            <a:ext cx="37450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Рот широк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ткры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Улыбну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Высуну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ирокий язы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придать ем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орму чашк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Чашечк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4" descr="C:\Users\User\Desktop\932932_12.jpeg"/>
          <p:cNvPicPr/>
          <p:nvPr/>
        </p:nvPicPr>
        <p:blipFill>
          <a:blip r:embed="rId1"/>
          <a:stretch/>
        </p:blipFill>
        <p:spPr>
          <a:xfrm>
            <a:off x="3924360" y="2708280"/>
            <a:ext cx="4438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5:36:26Z</dcterms:created>
  <dc:creator>User</dc:creator>
  <dc:description/>
  <dc:language>en-US</dc:language>
  <cp:lastModifiedBy>User</cp:lastModifiedBy>
  <dcterms:modified xsi:type="dcterms:W3CDTF">2022-04-26T07:24:10Z</dcterms:modified>
  <cp:revision>10</cp:revision>
  <dc:subject/>
  <dc:title>Слайд 1</dc:title>
</cp:coreProperties>
</file>